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77A-9D6E-494B-AF3B-8761595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1AF-6E9C-4863-A048-015C87F0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30A-6578-43AF-B2D8-9E286AA6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097-A6EA-44AB-8300-9A02E6A8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6C64-1DD4-46F9-ABFE-A8D09AC1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ADE-DC55-4C98-B26F-01D7D6D6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4FA3-9FDA-47B7-B650-1B8F10D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8780-5A81-4751-8ECE-3D3363DB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ECD0-6920-4FAB-BA87-FE06203A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DCB8-73C7-4E9F-AA98-F1D87388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67B-BEEE-4D88-9062-2EC9EE5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433-5EF3-45AF-AF95-9F0AB05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43E0-BEBA-48DE-9769-FD96D76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7116-41FA-4620-AEE2-EE80305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41A4-076A-47D2-8A0D-1A430AF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E3C7-8BF7-48C8-9120-78C23FD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343-3862-40F6-94A7-EDEF5E53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383-B4EE-48F1-AA0D-52D08AFC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5B4-EA63-4A92-B5B5-F8FCF8AA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675-2843-4C6F-9152-97D69FD2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468-D374-462C-8CF7-3D5BCE4C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CC3-3DE0-4A3F-A511-A777E7A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BEE-54D8-441F-A1D6-05D996D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44F-BDAD-4AC4-AC66-91A47756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F266-8A6D-4121-A677-8B97FE196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F1BC-C7B5-4E3E-A4DA-BBD63C568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image" Target="../media/image2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ОБЛЕМНЫЕ СИТУАЦИИ НА УРОКАХ ОКРУЖАЮЩЕГО МИР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втор: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Ересько Т.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учитель начальных классов                   МОУ «СОШ № 62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076400" cy="77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21478800">
            <a:off x="7956360" y="26028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85080" y="450864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2920" cy="146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РОБЛЕМНЫЕ СИТУАЦИИ НА УРОКАХ ОКРУЖАЮЩЕГО МИ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Цель и назначение проблемного обучения – преодолеть элементы   механического усвоения знаний в обучении, активизировать мыслительную деятельность учащихся и ознакомить их с методами научного исследования. Толчком к продуктивному мышлению служит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блемная ситуац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Средством создания любой проблемной ситуации в учебно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цессе являются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ые проблемы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ые проблем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оказывают  положительное воздействие на эмоциональную сферу ребят. Ребятам нравится спорить, приятно решить проблем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ые проблем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создают благоприятные условия для развития коммуникативных способностей детей, развития индивидуальност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27640" y="573408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85080" y="580536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70800" y="189000"/>
            <a:ext cx="1573200" cy="16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95280" y="566100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9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 урок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«Живая и неживая природа»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416592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.Можно ли сказать, что живая и нежив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ирода и окружающий нас мир одно и тож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.Горшок с цветком – это объекты природы 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едметы окружающего нас мир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Может ли природа быть учителе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.Смогут ли существовать на Земле водоросли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если исчезнет солнц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.Какой объект живой природы может стать д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ироды лучшим другом или враго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.Верно ли, что вьюнок, цепляющийся за забор,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это животное, а паутина паучка – растение?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Проблемная задач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Когда старое дерево сгниёт, образуется удобрение, 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когда камень разрушится, образуется песок. Какой вывод можно сделать об объектах живой и неживой природ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Проблемные зад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Докажи, что кактус, за которым не ухажива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месяцев, - живой организ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Определи: что общего у бабочки с камнем и че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они отличаю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Перед вами два пластмассовых стаканчика: с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водой и землей, блюдце и вата, семена пшеницы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епчатый лук, морковь. Какие объекты живо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рироды можно соединить с объектами нежив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рироды, чтобы через 5(7)дней убедиться в то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что растение – живой организ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Проблемная задач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Известно: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очва, солнце, осадки – объекты неживой природы. Цветок, пчела и человек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объекты живой природы. Какие из указанны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объектов зависят  друг от друг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685800" cy="1390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rot="21460200">
            <a:off x="0" y="5229000"/>
            <a:ext cx="1066680" cy="109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72000" y="5734080"/>
            <a:ext cx="936720" cy="833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516720" y="126828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77320" y="692280"/>
            <a:ext cx="106668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«Термометр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Почему термометр иногда называю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измеритель или градусник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Можно ли уличным термометром измерить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у человеческого тел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Чем опасен медицинский термометр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Верно ли, что без термометра некоторые люд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гут стать плохими специалистам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В каком случае исправный водный термомет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ажет неверную температур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Есть ли разница между термометрами, ес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висит в столовой, а другой – в сталеварн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х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Когда может произойти такое, что два одн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ника, посмотрев на один и тот же  терм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р в одно и то же время, увидят разные показания температур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Проблемные задач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Осенью по радио метеорологи сообщили, чт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воздуха +5С. Нина решила прове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ить их сообщение. Она взяла комнатны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метр и вышла на улицу. Подержав в ру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метр 5 мин., она заметила, что столбик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азывал +20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чему термометр показывал температуру выш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м было на самом дел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Лена очень любила свой красочный комнат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метр. Он ей во многом помогал. Коту Вась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е тоже нравился забавный прибор. Однажды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снувшись утром, Лена заметила, что всезнаю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щий розовый ручеёк исчез из термомет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умай, что случилось с термометром и чем он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гал девочк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Части раст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24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Почему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изкорослую чернику назыв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старником, а высокий василёк (цикорий) трав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Зачем нужно знать, из чего состоять растени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Может ли быть на одной веточке цветок и плод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Почему на лугу, где паслись козы, никогда н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вели цвет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Можно ли сказать, что люди, часами сидя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д растениями, работаю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Проблемные задач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В корзине лежат редис и лук, яблоки и перс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ородина и малина. Верно ли, что это раст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не овощи? Кто, кроме биологов, мог их вырастить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Плод и цветок хвастались друг перед другом свои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ями. Угадай, какими? Чем не может похвас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ться цветок перед плодом, а плод перед цветком?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2017800"/>
            <a:ext cx="403236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Проблемные зад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Сравни стебель и корень. Что у них общего 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м различи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Рассмотри клубень картофеля. Найди ча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ний. Чем клубень картофеля отличается о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ёкл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Рассмотри проросшие семена пшеницы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росший репчатый лук. Найди корен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стья. Почему листья зеленые, а кореш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ые? Почему корешки растут вниз, 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сточки вверх? (Посади их в горшочки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Наблюдай за ростом растений. Проводи наблю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ния через три дня, измеряя высоту растен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нейкой. Объясни, почему у растений, посажен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ых в одно и то же время разная быстрота рост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писывай в тетрадь дату появления новых листьев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бегов. Сделай рисунки растений. Подумай, что у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их общего и в чем отличи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1090800">
            <a:off x="1186920" y="0"/>
            <a:ext cx="17161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64000" y="5667480"/>
            <a:ext cx="1439640" cy="119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4000" y="5805360"/>
            <a:ext cx="1009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«Осень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388764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блемные вопрос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Что приблизит наступление осени: затяжны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тние дожди или изменения положения солнц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ебосклон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Почему поздней осенью календула загрустил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стройный одуванчик был спокоен? И стоило 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й грустить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Почему озеленители в сквере посадили вместе 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зами и пионами дуб, ведь у него нет красив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ветов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Почему за выращенное тобой растение, которо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ветет и плодоносит, люди называют тебя би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гом, а не цветоводо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Можно ли задержать перелетных птиц, ес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есить везде утепленные птичьи домик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облемные зада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Рассмотри плоды клена и березы. Сравни их размеры, найди семена и крылышки, с пом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щью которых семена летают. Подумай, почему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нней весной на данной территории было боль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е всходов клена, а не березы, хотя семян у 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много больше, чем у клен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Рассмртри внимательно плоды клена, березы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пуха. Подумай, какие осенние изменения 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роде радуют эти растения, а какие печаля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Рассмотри и потрогай листья березы, клен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льхи. Подумай, листья какого дерева лучш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греют растения зимой?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ее перегниют и обогатят почв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льше сохранят влаг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43640" y="18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715160" y="5229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40360" y="566100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79280" y="558972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омендации по использованию учебных проблем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построении проблемных уроков необходимо соблюдать дидактические принципы: научность и доступно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ность и последовательность, сознательность 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ь учащихся при разрешении учебной пробл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я уроки, выбирать наиболее эффективное мес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облем в процессе об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уроке учитель должен быть внимательным к эмоциональному состоянию ученика при решении учеб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, вовремя выяснить причины затруднения 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и проблемной ситуации и оказывать своевременную помощ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885080" y="515772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790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0:28Z</dcterms:created>
  <dc:creator>ТАМАРА-ПК</dc:creator>
  <dc:description/>
  <dc:language>en-US</dc:language>
  <cp:lastModifiedBy>ТАМАРА-ПК</cp:lastModifiedBy>
  <dcterms:modified xsi:type="dcterms:W3CDTF">2010-09-04T12:36:41Z</dcterms:modified>
  <cp:revision>7</cp:revision>
  <dc:subject/>
  <dc:title>Слайд 1</dc:title>
</cp:coreProperties>
</file>