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EE6-4B9E-46FE-877E-0407DE6E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B62-187C-4FD7-AB23-0D8A2AF8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35C-C306-454E-A643-3BB092C0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4D4-3D32-4B39-BA82-3653B8EC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A81-D83D-4D0F-8728-D0B15E05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A95B-5B87-4849-B1DC-ADC81614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45BD-91AC-4497-93A1-FB8F20CE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8CF6-CB24-4FB1-A4CD-D5C32724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5216-BABA-4901-B499-B6D02385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BECA-4AE3-43F4-8105-E3056382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9CA4-2D0B-4520-9EF8-CBFA3819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D14-F248-4A7F-ABB6-1DD88451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BBC9-0657-4078-BDC8-1D61C3B0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F978-90B6-45C6-987E-89417E3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B89F-28BE-4870-AE34-7EE3223F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E792-D4D6-454C-8EE0-4A6D43B7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9311-238D-49B0-9451-9E19938A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338-6653-4D55-9CCB-CEE1FB88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F2D-0F80-44C0-9F57-63E1A88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7EA-BDEF-4772-BB5B-F861DA0C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B8C-311A-4401-B72D-E83AFA5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86A-FCEE-4E0E-8752-029954F5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A84-EE07-497C-A63F-B17209B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115-01AB-4FF2-B199-831D1B7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3D0E-97B8-41C3-941B-6A24063B70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A576-AE5A-4C65-852E-DFDD3B6DE3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image" Target="../media/image20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11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ОБЛЕМНЫЕ СИТУАЦИИ НА УРОКАХ ОКРУЖАЮЩЕГО МИР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Автор: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Ересько Т.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учитель начальных классов                   МОУ «СОШ № 62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076400" cy="771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21478800">
            <a:off x="7956360" y="260280"/>
            <a:ext cx="59040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885080" y="450864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92920" cy="146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РОБЛЕМНЫЕ СИТУАЦИИ НА УРОКАХ ОКРУЖАЮЩЕГО МИ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Цель и назначение проблемного обучения – преодолеть элементы   механического усвоения знаний в обучении, активизировать мыслительную деятельность учащихся и ознакомить их с методами научного исследования. Толчком к продуктивному мышлению служит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блемная ситуаци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Средством создания любой проблемной ситуации в учебно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цессе являются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ебные проблемы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ебные проблемы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оказывают  положительное воздействие на эмоциональную сферу ребят. Ребятам нравится спорить, приятно решить проблем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ебные проблемы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создают благоприятные условия для развития коммуникативных способностей детей, развития индивидуальност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27640" y="573408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885080" y="580536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70800" y="189000"/>
            <a:ext cx="1573200" cy="16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95280" y="5661000"/>
            <a:ext cx="790560" cy="800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0796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ема урока: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«Живая и неживая природа»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416592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Проблемны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.Можно ли сказать, что живая и нежив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рирода и окружающий нас мир одно и тож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.Горшок с цветком – это объекты природы 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редметы окружающего нас мир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.Может ли природа быть учителем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.Смогут ли существовать на Земле водоросли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если исчезнет солнц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.Какой объект живой природы может стать д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рироды лучшим другом или врагом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.Верно ли, что вьюнок, цепляющийся за забор,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это животное, а паутина паучка – растение?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Проблемная задач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Когда старое дерево сгниёт, образуется удобрение, 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когда камень разрушится, образуется песок. Какой вывод можно сделать об объектах живой и неживой природы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Проблемные зада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Докажи, что кактус, за которым не ухажива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месяцев, - живой организ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.Определи: что общего у бабочки с камнем и че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они отличаю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.Перед вами два пластмассовых стаканчика: с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водой и землей, блюдце и вата, семена пшеницы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епчатый лук, морковь. Какие объекты живо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рироды можно соединить с объектами нежив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рироды, чтобы через 5(7)дней убедиться в то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что растение – живой организм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Проблемная задач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.Известно: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очва, солнце, осадки – объекты неживой природы. Цветок, пчела и человек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объекты живой природы. Какие из указанны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объектов зависят  друг от друг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685800" cy="1390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rot="21460200">
            <a:off x="0" y="5229000"/>
            <a:ext cx="1066680" cy="109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572000" y="5734080"/>
            <a:ext cx="936720" cy="833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516720" y="126828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77320" y="692280"/>
            <a:ext cx="1066680" cy="1400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ема: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«Термометр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Проблемны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Почему термометр иногда называю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оизмеритель или градусник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Можно ли уличным термометром измерить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у человеческого тел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Чем опасен медицинский термометр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Верно ли, что без термометра некоторые люд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гут стать плохими специалистами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В каком случае исправный водный термомет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ажет неверную температуру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Есть ли разница между термометрами, ес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висит в столовой, а другой – в сталеварн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ху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Когда может произойти такое, что два одно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ника, посмотрев на один и тот же  термо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р в одно и то же время, увидят разные показания температуры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Проблемные задач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Осенью по радио метеорологи сообщили, чт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воздуха +5С. Нина решила прове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ить их сообщение. Она взяла комнатны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ометр и вышла на улицу. Подержав в ру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ометр 5 мин., она заметила, что столбик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азывал +20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чему термометр показывал температуру выш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м было на самом дел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Лена очень любила свой красочный комнат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ометр. Он ей во многом помогал. Коту Вась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е тоже нравился забавный прибор. Однажды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снувшись утром, Лена заметила, что всезнаю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щий розовый ручеёк исчез из термомет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умай, что случилось с термометром и чем он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гал девочк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530064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812000" y="5805360"/>
            <a:ext cx="1009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ема: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Части растен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4248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облемные вопро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Почему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изкорослую чернику назыв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старником, а высокий василёк (цикорий) трав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Зачем нужно знать, из чего состоять растения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Может ли быть на одной веточке цветок и плод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Почему на лугу, где паслись козы, никогда н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вели цветы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Можно ли сказать, что люди, часами сидя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д растениями, работают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Проблемные задач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В корзине лежат редис и лук, яблоки и перс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ородина и малина. Верно ли, что это раст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не овощи? Кто, кроме биологов, мог их вырастить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Плод и цветок хвастались друг перед другом свои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ями. Угадай, какими? Чем не может похвас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ться цветок перед плодом, а плод перед цветком?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2017800"/>
            <a:ext cx="403236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Проблемные зада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Сравни стебель и корень. Что у них общего 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м различия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Рассмотри клубень картофеля. Найди ча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ний. Чем клубень картофеля отличается о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ёклы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Рассмотри проросшие семена пшеницы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росший репчатый лук. Найди корен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стья. Почему листья зеленые, а кореш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ые? Почему корешки растут вниз, 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сточки вверх? (Посади их в горшочки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Наблюдай за ростом растений. Проводи наблю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ния через три дня, измеряя высоту растен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нейкой. Объясни, почему у растений, посажен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ых в одно и то же время разная быстрота рост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писывай в тетрадь дату появления новых листьев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бегов. Сделай рисунки растений. Подумай, что у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их общего и в чем отличи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 rot="1090800">
            <a:off x="1186920" y="0"/>
            <a:ext cx="171612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101080" y="476280"/>
            <a:ext cx="790560" cy="799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64000" y="5667480"/>
            <a:ext cx="1439640" cy="1190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812000" y="587700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4000" y="5805360"/>
            <a:ext cx="10094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Тема: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«Осень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388764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облемные вопрос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Что приблизит наступление осени: затяжны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тние дожди или изменения положения солнц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ебосклоне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Почему поздней осенью календула загрустил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стройный одуванчик был спокоен? И стоило 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й грустить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Почему озеленители в сквере посадили вместе 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зами и пионами дуб, ведь у него нет красив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ветов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Почему за выращенное тобой растение, которо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ветет и плодоносит, люди называют тебя био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гом, а не цветоводом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Можно ли задержать перелетных птиц, ес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есить везде утепленные птичьи домики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облемные задан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Рассмотри плоды клена и березы. Сравни их размеры, найди семена и крылышки, с помо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щью которых семена летают. Подумай, почему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нней весной на данной территории было боль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е всходов клена, а не березы, хотя семян у 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много больше, чем у клена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Рассмртри внимательно плоды клена, березы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пуха. Подумай, какие осенние изменения 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роде радуют эти растения, а какие печалят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Рассмотри и потрогай листья березы, клен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льхи. Подумай, листья какого дерева лучш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греют растения зимой?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ее перегниют и обогатят почву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льше сохранят влагу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43640" y="189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82872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715160" y="5229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40360" y="566100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79280" y="5589720"/>
            <a:ext cx="8287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комендации по использованию учебных проблем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построении проблемных уроков необходимо соблюдать дидактические принципы: научность и доступнос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тичность и последовательность, сознательность 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ктивность учащихся при разрешении учебной пробл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я уроки, выбирать наиболее эффективное мес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проблем в процессе об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 уроке учитель должен быть внимательным к эмоциональному состоянию ученика при решении учеб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лем, вовремя выяснить причины затруднения 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ешении проблемной ситуации и оказывать своевременную помощ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885080" y="515772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419640" y="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7905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0:20:28Z</dcterms:created>
  <dc:creator>ТАМАРА-ПК</dc:creator>
  <dc:description/>
  <dc:language>en-US</dc:language>
  <cp:lastModifiedBy>ТАМАРА-ПК</cp:lastModifiedBy>
  <dcterms:modified xsi:type="dcterms:W3CDTF">2010-09-04T12:36:41Z</dcterms:modified>
  <cp:revision>7</cp:revision>
  <dc:subject/>
  <dc:title>Слайд 1</dc:title>
</cp:coreProperties>
</file>