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EA4-7880-4AE1-96C8-3EC4AB5E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EA8-51A3-42B2-8884-AFF7B8BC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849EB-AB0E-4169-B0F6-187395B6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3A7B0-5D85-42FA-93AD-86B27747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015BB-793B-4537-8EEC-660F36E6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7EAEB-C690-4F68-915E-36AF5A8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61EC7-66C6-480A-8C8E-77AFEC92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17624-FC6C-4B8D-8678-1AFB061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BB504-7065-46EE-8C15-99139FFF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FF94E-5124-4ECB-9904-84DD2965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C1AFB-E368-4EBB-9A40-2E61AF7D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7A8-0520-49B8-B4CB-D1932C51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754-052F-4054-B2C6-242BAEDE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FBE6-188C-4E7D-87F1-6F92C0F0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E0FF-DA24-4331-85A9-324C060D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39F8-72BD-4FFB-9BD7-AC92A321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4BF9-6F72-48E6-ADF0-4988B644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3A8E-81AC-44E0-A04C-9E42F47B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1378-ACF9-40D6-8369-BF358919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E84F-774A-43BA-9038-B8CD9642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6F3-37A9-44C0-A2CC-AADBDBFF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E060-2834-40A5-9EEB-21EF7EDD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1762-C793-4E94-8578-535F2586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3CCE-9B0B-4B2F-8B1A-7E76250D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4350-79C9-469C-9C05-651C0B81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03E5-C8E8-4CE2-912B-B9EB581E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B849-27FA-4D16-B269-E6627E89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48AA-A2EA-4069-AB25-5A5F5334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6FCA5-C90A-4486-88BC-8EE6ADF5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F010-4B93-48AF-A30A-9A108653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DA6AC-1C41-45BF-AAAA-A03126A7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C87-EA72-4B74-A8C6-49452F4C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DA9E-853D-4038-974F-A08FE975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1FF2-1E90-4FBC-A587-5B0D85B3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0001-6238-4EBE-AAF9-9E843721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3216-1189-4942-8E28-34E8E979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B65C-B46D-4EAC-A41C-6102246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26E3-ABAB-43C1-B986-097538D3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B1AF-78A2-4AC2-9BDB-FE00F625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7A715-138A-45C7-A411-7AAEEA8C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53C77-9CF4-4A12-85B8-2FC98E7E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B549-EEFC-4D93-B45F-96C4791B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239-1E52-42C6-B13B-EE84EFCF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42E5-C7EE-4D94-8F50-40421C80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42ED-0818-4F43-8AB3-E586A7F3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3A179-E9A5-490D-94C8-89BDF7B1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8952-BA1D-47BA-AA92-0DEA6683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A62F0-39EF-45DC-9E92-5D5120EE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1CFBE-3230-4F91-B7E4-E7AAE6C5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ACEF-5D3E-431A-B0FC-F76F2B27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4049C-FDA9-4903-85C6-535A9CFE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9C5D7-71E9-4A45-B1E5-EBD631BC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B94CB-6DEA-40EE-9F88-D527D278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DCB-463C-4B83-8416-3C13AD4F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F80B1-706F-4162-A2D3-FAEABA57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2D300-C6CE-4239-B370-B7033864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A298-A562-41B7-A3EC-9BB81D4F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E55BA-B724-4CF4-8DDA-F0B29305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E2C1D-8E3D-4B85-8E08-F92644A0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ED36-9B93-47BC-9497-D59A4862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7DD1C-C6F4-41FE-8008-050AE07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97ED-DBF2-4B3B-AE21-97AB655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50189-B880-4625-B364-7082C08B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29A36-59E9-4F45-897E-16EB624C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791-0BDB-43C5-ADE0-267F89DB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1CE86-1B1D-40A7-AE94-7BB84FCF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FEB7C-35CD-4F6D-AFC4-42BC1800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86F2-AB02-4F49-9E64-0852895E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D5D48-0C2D-4DB0-9F40-EF83E710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2EBA8-E0D9-437D-B823-8CE3984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565D4-8E24-4728-A738-D7C013DA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1763-1E03-47CB-853F-529514A3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5373A-0FE7-483B-90AB-BAB01B39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2B383-DA2E-4898-B0EB-2B530461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0564D-CFC2-4C08-AEE7-DFACE8C6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967-7AAD-46D9-9334-118FB50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AB6E-C5DF-46A7-96AB-D6AAB1A7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B365D-872B-4DF8-A3B3-8920BA1A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0CABC-6CAA-41CB-8F5E-C0143A06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372CF-6ADC-46B0-9195-D97F520F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0A3B8-6E97-48AF-AB49-0EBD97C3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F4CCE-15E7-4639-8576-BBBF609B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F4960-8063-43A1-8C25-52F75AC9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521E7-5299-40A2-B6AD-5E57E0B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B6067-19EA-468E-9208-7AB24652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FA0D3-C7E1-451E-B310-AB635422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A2F-9364-445A-B849-25739E2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18EBB-F319-4514-BF9C-1381C10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4DF9C-F804-4B07-BE99-018F0CCB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59E3D-EA64-479E-8E00-3CA0848B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9B537-31E8-4C55-97AE-905218FC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D8D67-6963-4EC5-A933-45FBBCCC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8250C-DB45-49FC-AD4A-6D89A417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7FDC1-B0A3-482F-AFE8-7C1C6DAC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38817-8A5C-4384-9586-2430C3A8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FAE32-9AE5-47AF-BB1B-6A3D03B4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60BF4-A12E-4CD4-A871-BE40FC0C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D40-0F04-4987-B8EB-732358E9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035FB-582B-4FF7-AC41-2AF66EB5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61319-34E7-44DA-A84B-17AA9AA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D7BEF-DFD9-4752-951D-6FA3628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C043C-49D8-4C98-916E-13407A9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BF625-E4AF-42B9-9076-109B75FE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02A4F-C87A-4593-8EE9-9267323A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934F4-5F5B-48E3-A21A-74E7748E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95EC3-8397-4EFD-B542-99C6A593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AB614-691B-4159-BE6E-8589D648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A1454-E00E-441A-8E64-66224A75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043D-E407-4C16-A40E-CDEFE18523E2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7BAF-27EC-474D-98ED-319422AE7B36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4544-2DC4-403A-AE34-010831B8C211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86EC-D253-4AC3-A07B-E1A01175D381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FCDF-0627-4B1A-A967-B5BE529CD226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D8C8-0064-4AE8-B63A-BA5334B227BC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B746-A7B9-47A3-94D2-A7F5B6DE81C7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31F-922D-457C-BE75-465CBA693224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571F-986B-45D1-B00B-C603729AA0EF}" type="slidenum">
              <a:rPr b="0" lang="ru-RU" sz="1200" spc="-1" strike="noStrike">
                <a:solidFill>
                  <a:srgbClr val="268e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" descr="42-17219493.jpg"/>
          <p:cNvPicPr/>
          <p:nvPr/>
        </p:nvPicPr>
        <p:blipFill>
          <a:blip r:embed="rId2"/>
          <a:stretch/>
        </p:blipFill>
        <p:spPr>
          <a:xfrm>
            <a:off x="3143160" y="571680"/>
            <a:ext cx="52974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86464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Franklin Gothic Book"/>
              </a:rPr>
              <a:t>Расположение:</a:t>
            </a:r>
            <a:r>
              <a:rPr b="0" lang="ru-RU" sz="2000" spc="-1" strike="noStrike">
                <a:solidFill>
                  <a:srgbClr val="464646"/>
                </a:solidFill>
                <a:latin typeface="Franklin Gothic Book"/>
              </a:rPr>
              <a:t>  держать постоянно в поле зрения, поближе к педагогу,  сажать со спокойными детьми, систематический контроль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Franklin Gothic Book"/>
              </a:rPr>
              <a:t>Поручения: </a:t>
            </a:r>
            <a:r>
              <a:rPr b="0" lang="ru-RU" sz="2000" spc="-1" strike="noStrike">
                <a:solidFill>
                  <a:srgbClr val="464646"/>
                </a:solidFill>
                <a:latin typeface="Franklin Gothic Book"/>
              </a:rPr>
              <a:t>временные, постепенно удлинять, успокаивающего характера, не требующие контакта с детьм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Franklin Gothic Book"/>
              </a:rPr>
              <a:t>Учебная деятельность:  </a:t>
            </a:r>
            <a:r>
              <a:rPr b="0" lang="ru-RU" sz="2000" spc="-1" strike="noStrike">
                <a:solidFill>
                  <a:srgbClr val="464646"/>
                </a:solidFill>
                <a:latin typeface="Franklin Gothic Book"/>
              </a:rPr>
              <a:t>приучать проговаривать задания про себя, поощрение, похвала, стимулирование перед каждой частью работы, дополнительная инструкция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Franklin Gothic Book"/>
              </a:rPr>
              <a:t>Внеучебная  деятельность:</a:t>
            </a:r>
            <a:r>
              <a:rPr b="0" lang="ru-RU" sz="2000" spc="-1" strike="noStrike">
                <a:solidFill>
                  <a:srgbClr val="464646"/>
                </a:solidFill>
                <a:latin typeface="Franklin Gothic Book"/>
              </a:rPr>
              <a:t> спокойные занятия, кружки (неспортивные), ни минуты без дела, при негативной реакции – метод игнорирования, дать возможность «остыть», успокоиться. Обсуждение поведения, критика на фоне положительного. Главное – предоставить возможность увидеть результаты труда, продемонстрировать успех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2142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Franklin Gothic Book"/>
              </a:rPr>
              <a:t>1. Изменение окружения: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работу с гиперактивным ребенком стройте индивидуально. Гиперактивный  ребенок  всегда должен находиться перед глазами учителя, в центре класса, прямо у доски;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разрешайте гиперактивному ребенку через каждые 20 минут вставать и ходить в конце класса;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предоставьте  ребенку возможность быстро обращаться к вам за помощью в случае затруднения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направляйте энергию гиперактивных детей в полезное русло: вымыть доску, раздать тетради и т. д.                                    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285840"/>
            <a:ext cx="8686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64646"/>
                </a:solidFill>
                <a:latin typeface="Franklin Gothic Book"/>
              </a:rPr>
              <a:t>2. Создание положительной мотивации на успех: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введите знаковую систему оценивания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чаще хвалите ребенка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избегайте завышенных или заниженных требований  к ученику с гиперактивностью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 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используйте на уроке элементы игры и соревнования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 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давайте задания в соответствии со способностями ребенка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 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большие задания разбивайте на последовательные части, контролируя каждое из них;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 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создавайте ситуации, в которых гиперактивный ребенок может показать свои сильные стороны и стать экспертом в классе по некоторым областям знаний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игнорируйте негативные поступки и поощряйте  позитивные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226080" indent="-226080">
              <a:lnSpc>
                <a:spcPct val="80000"/>
              </a:lnSpc>
              <a:spcBef>
                <a:spcPts val="624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—</a:t>
            </a:r>
            <a:r>
              <a:rPr b="0" lang="ru-RU" sz="2500" spc="-1" strike="noStrike">
                <a:solidFill>
                  <a:srgbClr val="464646"/>
                </a:solidFill>
                <a:latin typeface="Franklin Gothic Book"/>
              </a:rPr>
              <a:t>помните, что с ребенком необходимо договариваться, а не стараться сломить его!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285480"/>
            <a:ext cx="8686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Franklin Gothic Book"/>
              </a:rPr>
              <a:t>3. Коррекция негативных форм поведения:                               </a:t>
            </a: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способствуйте элиминации агрессии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обучайте необходимым социальным нормам и навыкам  общения;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регулируйте его взаимоотношения с одноклассниками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 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Помните, что прикосновение является сильным стимулятором для формирования поведения и развития навыков обучения. Прикосновение помогает поставить якорь ни положительном опыте. 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 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Franklin Gothic Book"/>
              </a:rPr>
              <a:t>Игры для детей с СДВГ должны быть направлены на: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Book"/>
              </a:rPr>
              <a:t>на развитие внимания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Book"/>
              </a:rPr>
              <a:t>на преодоление расторможенности и тренировку усидчивости (мышечный контроль)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Franklin Gothic Book"/>
              </a:rPr>
              <a:t>на тренировку выдержки и контроль импульсивности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22200" indent="-32220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69976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"/>
          <p:cNvGraphicFramePr/>
          <p:nvPr/>
        </p:nvGraphicFramePr>
        <p:xfrm>
          <a:off x="428760" y="1714680"/>
          <a:ext cx="8286480" cy="5057640"/>
        </p:xfrm>
        <a:graphic>
          <a:graphicData uri="http://schemas.openxmlformats.org/drawingml/2006/table">
            <a:tbl>
              <a:tblPr/>
              <a:tblGrid>
                <a:gridCol w="2762280"/>
                <a:gridCol w="2761920"/>
                <a:gridCol w="2762280"/>
              </a:tblGrid>
              <a:tr h="571320"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фун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 иг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иг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 отли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домный за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0120" rIns="60120" tIns="0" bIns="0" anchor="t">
                      <a:noAutofit/>
                    </a:bodyPr>
                    <a:p>
                      <a:pPr marL="1760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ечный (двигательный) 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очек, Архео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й 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0120" rIns="60120" tIns="0" bIns="0" anchor="t">
                      <a:noAutofit/>
                    </a:bodyPr>
                    <a:p>
                      <a:pPr marL="1760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0120" rIns="60120" tIns="0" bIns="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 + мышечный 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шай тиши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шай тиши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0120" rIns="60120" tIns="0" bIns="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 + импульс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тельные картинки: «Архитектор и строител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тельные картинки «Парные картин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0120" rIns="60120" tIns="0" bIns="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ечный контроль + импульс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енькая пти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енькая пти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0120" rIns="60120" tIns="0" bIns="0" anchor="t">
                      <a:noAutofit/>
                    </a:bodyPr>
                    <a:p>
                      <a:pPr marL="84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 + мышечный контроль+ импульс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айте поздороваем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ские волны, Колпак мой треуг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Дорогие учителя!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Чтобы Вам было легче с нами жить, а мы Вас любили: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Не загружайте нас скучной и нудной работой. Больше жизни, больше динамики!  Нам нужно двигаться!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Не вздумайте давать нам длинных инструкций! На пятнадцатом слове нас больше интересует, какого цвета носки у соседа, чем Ваша речь.  Говорите конкретно, по делу, не более 10 слов.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Не требуйте от нас, чтобы мы были одновременно внимательными, аккуратными и усидчивыми. Это выше наших сил!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Franklin Gothic Book"/>
              </a:rPr>
              <a:t>А вообще – запомните: похвала и порицание действуют на нас сильнее, чем на других.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«Активный» - от лат. «</a:t>
            </a:r>
            <a:r>
              <a:rPr b="0" lang="en-US" sz="2800" spc="-1" strike="noStrike">
                <a:solidFill>
                  <a:srgbClr val="464646"/>
                </a:solidFill>
                <a:latin typeface="Franklin Gothic Book"/>
              </a:rPr>
              <a:t>aktivus</a:t>
            </a: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 « - деятельный, действенный. «Гипер» - от греч. « </a:t>
            </a:r>
            <a:r>
              <a:rPr b="0" lang="en-US" sz="2800" spc="-1" strike="noStrike">
                <a:solidFill>
                  <a:srgbClr val="464646"/>
                </a:solidFill>
                <a:latin typeface="Franklin Gothic Book"/>
              </a:rPr>
              <a:t>hyper</a:t>
            </a: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» - над, сверху – указывает на превышение нормы. Гиперактивность проявляется невнимательностью, отвлекаемостью, импульсивностью и гиперактивностью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«Синдром гиперактивности» или «СДВГ» - медицинский диагноз, который устанавливается только врачом  и подлежит обязательному медикаментозному лечению.  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« Гиперактивному ребенку трудно сидеть, он суетлив,много двигается, вертится на месте, иногда чрезмерно говорлив.Часто у него плохая координация или недостаточный мышечный контроль. Такому ребенку трудно концентрировать свое внимание,он легко отвлекается,часто задает множество вопросов, но редко дожидается ответа»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Генетические факторы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Особенности строения и функционирования головного мозга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Родовые травмы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Инфекционные заболевания,перенесенные ребенком в первые месяцы жизни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Алкоголизм родителей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Асоциальная психопатия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Franklin Gothic Book"/>
              </a:rPr>
              <a:t>Аффективные расстройства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4840" indent="-294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37960" y="341280"/>
            <a:ext cx="8759880" cy="592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071360"/>
            <a:ext cx="8400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бщие признаки: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сегда находит быстрый ответ, когда его о чем-то спрашивают (возможно, неверный, но быстрый)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 него часто меняется настроение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ногие вещи его раздражают, выводят из себя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Ему нравится работа, которую можно сделать быстро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бидчив, но не злопамятен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Часто чувствуется, что ему все надоело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Быстро, не колеблясь  принимает решения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ожет резко отказаться от еды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Нередко отвлекается на занятиях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Когда кто-нибудь из ребят кричит на него, то тоже кричит в ответ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бычно уверен, что справится с любым заданием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Может нагрубить родителям, педагогу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ременами кажется, что переполнен  энергией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Человек действия, который не умеет и не любит рассуждать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Требует к себе внимания, не хочет ждать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 играх не подчиняется общим правилам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Горячиться во время разговора, часто повышает голос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Легко забывает поручения взрослого, увлекается игрой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Любит организовывать и предводительствовать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охвала и порицание действуют на него сильнее, чем на других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15-20 баллов – высокая степень импульсивности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7-14 – средняя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0-5 - низкая</a:t>
            </a: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34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Беспокоен в движениях (барабанит пальцами, болтает ногами и т. д.)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Ерзает на месте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Находится в постоянном движении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Очень говорлив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Спит меньше, чем полагается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Непоследователен в поведении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Имеет трудности в организации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Не заканчивает начатое дело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Не слышит, когда к нему обращается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Теряет вещи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Избегает задач, которые требуют умственных усилий и скучных заданий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Часто бывает забывчив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21392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Не может регулировать свои действия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Не умеет подчиняться правилам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Отвечает до того, как его спросят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Не может дождаться своей очереди в игре, на занятиях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Часто вмешивается в разговор, перебивает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Плохо сосредотачивает внимание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Не может отложить вознаграждение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Book"/>
              </a:rPr>
              <a:t>Вариативность поведения (на одних занятиях спокоен, на других – нет)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08520" indent="-30852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3320" y="371520"/>
            <a:ext cx="8894520" cy="1847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85840" y="2000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Медикаментозное лечение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Благоприятная обстановка без интеллектуальных перегрузок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Соблюдение режима дня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Ровная эмоциональная атмосфер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зьминых</cp:lastModifiedBy>
  <dcterms:modified xsi:type="dcterms:W3CDTF">2010-11-25T06:35:57Z</dcterms:modified>
  <cp:revision>19</cp:revision>
  <dc:subject/>
  <dc:title>Коррекционная работа с детьми с нейродинамическими нарушениями </dc:title>
</cp:coreProperties>
</file>