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7EE-4789-4D30-811E-F3BD072D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AD7-B365-412F-A20C-DD48DB23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CDDF4-C9F1-46DC-AA7E-0C9144F8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D8C7C-61D3-416B-93D3-9B31F29C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80B86-2FF2-4598-A6D1-F688F561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0A88C-AFB6-4998-AE1B-7B1554E0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01ACF-7842-4FBA-97DB-37C9D58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D3D4D-987C-4920-B184-7E1D572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C135-E91E-4A44-8CEB-6FA75A17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C87C4-FC58-465B-8410-36364CC4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B39B5-FB62-4C95-B5B8-F9BF6E89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E32-FB1E-4597-B93F-E5953519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F52-5DA7-4E3E-9BDA-86491817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66DB-8579-40D8-A4BF-AA80284B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F3F2-27A0-415D-9F56-8612D1C2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21DE-66C6-4854-A464-46D2BF5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3AA4-558B-47B9-A6AE-F0FF1F4D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BDD1-91E0-4212-BBBF-6E5AA2F6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F567-7516-4E67-8F49-ABCC8A0E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097C-B3D4-45BA-9481-D8FD445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6D8-012B-4B19-8A7B-B061254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AAAE-9ABF-40EB-9A76-A5DC77C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D6EC-DE55-4B42-A18A-CB35ED5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9F0-B4E7-4E1F-8298-EFE8C36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CB20-61D1-4105-9B32-BC85DE62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AA8-9D6A-42C7-93E2-68C6619B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84B9-6A71-4DBD-A08E-FF9E89D9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5933-14D4-4187-8EB3-67E663FF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9FFF-DE4E-48BF-B1B0-1E0C584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8193-6B0B-4D6C-9B3C-463F906D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C7AC-3182-4127-8F2C-C20F4DC5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DC1-35F0-40DA-BF9B-5B8FF2BB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393D-534E-4A4B-8602-606E4245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22A6-CDFD-4D9A-95A6-0B4FCD6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04C3-13A4-43B4-B2BB-FE6909C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E955-83C4-490C-ADD2-F9D8E65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12C8-195E-4B63-9D6D-9530547B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5113-55AB-4C95-BF5A-EECB0586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0193-2A38-4634-B370-43875F76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0862-08C9-4141-B1B0-1FF8FA03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EFC8-1B1B-4305-B47D-FA6E87F4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B9A7-EE75-47B4-B9F9-74D9BBE7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B09-E9A2-4663-8093-80273EEB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0754-0CBD-4999-96E3-3C9F9092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8AFA-B4C2-4176-8E7C-6C2B40B8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F6CF-65D0-4CF9-95B2-548A506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DF54-5C11-498F-8249-DFE7DE2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6C7C-6C73-4B3D-AF82-35D8D82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7CF1-3E82-48D0-B6D3-AF30352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3F45-970E-4D40-8F65-70F4266F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81BD-0D76-445D-A05D-4DED575F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668D-496F-4A63-84C2-F2F6D039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8CA0-ED27-4E67-A476-7ED420EB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F73-AA8F-4014-87F9-8CA9B894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E063-CFBB-4B1D-B06D-747B3514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E145-486A-4A28-A5EA-8EFA967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D05C-83B6-437E-A406-CC8039E8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C6C4-BA58-429B-BED6-87E705B5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CD429-F71C-433F-9C95-599C790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B071C-BA1D-4B4B-AE6E-7D96702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C7C6-EC9B-4D3E-8EB4-AD42A94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40CF2-9CA3-4299-A59D-30667F31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E816-5FAA-4212-8BFC-DA30FD6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E151B-584F-4A91-AE84-85F776E8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DF7-078F-4A20-8B67-8D71C97D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272D-93F8-47B6-A26E-5AF98C4C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BBDA-5655-4073-9EE4-DE5D43F4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B695-77D8-4699-AD33-62F9B23D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28214-1C85-42AA-B2DD-A6462AC7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0C16-DE16-4C58-9CCB-CD42CC3D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EFA19-2D81-4EBC-915D-F6662411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FB55-9FCC-49C4-AEB6-E2F0110E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DD4F-D95D-406F-A935-066F78F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F6471-5162-46B0-8E61-265C4B23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E2C9-63FB-49FF-8580-B7C99695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B29-72C4-43B6-A1D5-8035C0F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50B1-1F16-46B8-8364-356AB2D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7DD7-8376-47F4-86E5-F3A0899F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C176-815E-4184-A99D-9840147A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01825-3BFC-419A-94B0-17EC684C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34FCC-D1C3-4DFF-9EBE-83BBB7F9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630A-4E62-40C2-8A74-7F7C6A41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8300-0798-4C20-85CB-5E11CB7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F63A-EF71-4E1F-A1D3-05400776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76D85-1BB3-472E-820B-2D20C95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FE42D-AEBA-4911-93C6-446CCE9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565-3D4A-4D9F-9926-5E4CDDD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20F84-EB91-43E7-97E1-DD602DF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FB1D9-1FDD-4533-B533-30F7542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81E2D-DD92-44B2-87AA-9EC7193E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785A-E5BB-44D7-873A-94C11774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1C0C-7E97-47AA-AF68-5C94D26C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8468-6648-434B-9350-109F8128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A5CC3-5713-4DEE-9E4B-FBD2F242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7EAA-EFFA-4F16-BF42-3DF6D0FA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6B89C-9A57-43DF-81B6-8BAA265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4A2E0-17B5-489B-AFDE-4F78BC11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308-48E2-4B8F-A6B8-D1621DFA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47D13-DD5B-4D28-B252-C4433C61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137DD-375E-4A19-A65D-E39C4E7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21283-C5BD-48D2-87D8-2EDDEF23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F1383-6489-4B3C-A9D7-F6790D7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453B-D556-4BB1-8355-1DFC820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FC352-9176-4ECE-B986-74691980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BC2F-7DFE-4FA7-865C-F1C934DC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D1F6A-93D7-4D13-AF4E-61DF5338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C587D-AC18-4CAB-891B-90053F7F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0EA81-E3A4-4546-849B-526D8F6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432A-8866-4FF5-9482-A7E64B3C3AD5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95BC-CC64-40B9-BB5A-12C3F236EC8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AA74-0EAA-4AF9-8EF2-EC8B13D4E27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A53-52B8-4272-920B-F7EA8D752F00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552A-AE22-45D5-A6C0-7FCE103775D1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FACF-9DE3-459F-B138-4531987842A2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8632-F43B-4673-A508-6890A302EAA9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6C24-0EEF-4954-9E71-D09D002BFDFA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A72-43A2-41EB-A26F-F6CAB54211B4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42-17219493.jpg"/>
          <p:cNvPicPr/>
          <p:nvPr/>
        </p:nvPicPr>
        <p:blipFill>
          <a:blip r:embed="rId2"/>
          <a:stretch/>
        </p:blipFill>
        <p:spPr>
          <a:xfrm>
            <a:off x="3143160" y="571680"/>
            <a:ext cx="52974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86464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Расположение: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  держать постоянно в поле зрения, поближе к педагогу,  сажать со спокойными детьми, систематический контроль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Поручения: 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временные, постепенно удлинять, успокаивающего характера, не требующие контакта с детьм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Учебная деятельность:  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приучать проговаривать задания про себя, поощрение, похвала, стимулирование перед каждой частью работы, дополнительная инструкция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Внеучебная  деятельность: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 спокойные занятия, кружки (неспортивные), ни минуты без дела, при негативной реакции – метод игнорирования, дать возможность «остыть», успокоиться. Обсуждение поведения, критика на фоне положительного. Главное – предоставить возможность увидеть результаты труда, продемонстрировать успех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2142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Franklin Gothic Book"/>
              </a:rPr>
              <a:t>1. Изменение окружения: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работу с гиперактивным ребенком стройте индивидуально. Гиперактивный  ребенок  всегда должен находиться перед глазами учителя, в центре класса, прямо у доски;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разрешайте гиперактивному ребенку через каждые 20 минут вставать и ходить в конце класса;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предоставьте  ребенку возможность быстро обращаться к вам за помощью в случае затруднения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направляйте энергию гиперактивных детей в полезное русло: вымыть доску, раздать тетради и т. д.   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285840"/>
            <a:ext cx="8686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46"/>
                </a:solidFill>
                <a:latin typeface="Franklin Gothic Book"/>
              </a:rPr>
              <a:t>2. Создание положительной мотивации на успех: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введите знаковую систему оценивания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чаще хвалите ребенка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избегайте завышенных или заниженных требований  к ученику с гиперактивностью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используйте на уроке элементы игры и соревнования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давайте задания в соответствии со способностями ребенка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большие задания разбивайте на последовательные части, контролируя каждое из них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создавайте ситуации, в которых гиперактивный ребенок может показать свои сильные стороны и стать экспертом в классе по некоторым областям знаний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игнорируйте негативные поступки и поощряйте  позитивные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помните, что с ребенком необходимо договариваться, а не стараться сломить его!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285480"/>
            <a:ext cx="8686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Franklin Gothic Book"/>
              </a:rPr>
              <a:t>3. Коррекция негативных форм поведения:                               </a:t>
            </a: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способствуйте элиминации агрессии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обучайте необходимым социальным нормам и навыкам  общения;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регулируйте его взаимоотношения с одноклассниками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Помните, что прикосновение является сильным стимулятором для формирования поведения и развития навыков обучения. Прикосновение помогает поставить якорь ни положительном опыте.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Franklin Gothic Book"/>
              </a:rPr>
              <a:t>Игры для детей с СДВГ должны быть направлены на: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Book"/>
              </a:rPr>
              <a:t>на развитие внимания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Book"/>
              </a:rPr>
              <a:t>на преодоление расторможенности и тренировку усидчивости (мышечный контроль)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Book"/>
              </a:rPr>
              <a:t>на тренировку выдержки и контроль импульсивности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69976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"/>
          <p:cNvGraphicFramePr/>
          <p:nvPr/>
        </p:nvGraphicFramePr>
        <p:xfrm>
          <a:off x="428760" y="1714680"/>
          <a:ext cx="8286480" cy="5057640"/>
        </p:xfrm>
        <a:graphic>
          <a:graphicData uri="http://schemas.openxmlformats.org/drawingml/2006/table">
            <a:tbl>
              <a:tblPr/>
              <a:tblGrid>
                <a:gridCol w="2762280"/>
                <a:gridCol w="2761920"/>
                <a:gridCol w="2762280"/>
              </a:tblGrid>
              <a:tr h="571320"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 от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домный за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0120" rIns="60120" tIns="0" bIns="0" anchor="t">
                      <a:noAutofit/>
                    </a:bodyPr>
                    <a:p>
                      <a:pPr marL="1760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ечный (двигательный) 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очек, Архео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й 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0120" rIns="60120" tIns="0" bIns="0" anchor="t">
                      <a:noAutofit/>
                    </a:bodyPr>
                    <a:p>
                      <a:pPr marL="1760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+ мышечный 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й тиши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й тиши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+ 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ые картинки: «Архитектор и строител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ые картинки «Парные картин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ечный контроль + 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енькая пти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енькая пти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+ мышечный контроль+ 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йте поздороваем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ские волны, Колпак мой треуг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Дорогие учителя!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Чтобы Вам было легче с нами жить, а мы Вас любили: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Не загружайте нас скучной и нудной работой. Больше жизни, больше динамики!  Нам нужно двигаться!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Не вздумайте давать нам длинных инструкций! На пятнадцатом слове нас больше интересует, какого цвета носки у соседа, чем Ваша речь.  Говорите конкретно, по делу, не более 10 слов.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Не требуйте от нас, чтобы мы были одновременно внимательными, аккуратными и усидчивыми. Это выше наших сил!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А вообще – запомните: похвала и порицание действуют на нас сильнее, чем на других.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«Активный» - от лат. «</a:t>
            </a:r>
            <a:r>
              <a:rPr b="0" lang="en-US" sz="2800" spc="-1" strike="noStrike">
                <a:solidFill>
                  <a:srgbClr val="464646"/>
                </a:solidFill>
                <a:latin typeface="Franklin Gothic Book"/>
              </a:rPr>
              <a:t>aktivus</a:t>
            </a: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 « - деятельный, действенный. «Гипер» - от греч. « </a:t>
            </a:r>
            <a:r>
              <a:rPr b="0" lang="en-US" sz="2800" spc="-1" strike="noStrike">
                <a:solidFill>
                  <a:srgbClr val="464646"/>
                </a:solidFill>
                <a:latin typeface="Franklin Gothic Book"/>
              </a:rPr>
              <a:t>hyper</a:t>
            </a: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» - над, сверху – указывает на превышение нормы. Гиперактивность проявляется невнимательностью, отвлекаемостью, импульсивностью и гиперактивностью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«Синдром гиперактивности» или «СДВГ» - медицинский диагноз, который устанавливается только врачом  и подлежит обязательному медикаментозному лечению.  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« Гиперактивному ребенку трудно сидеть, он суетлив,много двигается, вертится на месте, иногда чрезмерно говорлив.Часто у него плохая координация или недостаточный мышечный контроль. Такому ребенку трудно концентрировать свое внимание,он легко отвлекается,часто задает множество вопросов, но редко дожидается ответа»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Генетические факторы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Особенности строения и функционирования головного мозга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Родовые травмы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Инфекционные заболевания,перенесенные ребенком в первые месяцы жизн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Алкоголизм родителей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Асоциальная психопати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Аффективные расстройства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37960" y="341280"/>
            <a:ext cx="8759880" cy="592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071360"/>
            <a:ext cx="8400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щие признаки: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сегда находит быстрый ответ, когда его о чем-то спрашивают (возможно, неверный, но быстрый)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 него часто меняется настроение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ногие вещи его раздражают, выводят из себ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Ему нравится работа, которую можно сделать быстро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идчив, но не злопамятен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Часто чувствуется, что ему все надоело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Быстро, не колеблясь  принимает решени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ожет резко отказаться от еды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ередко отвлекается на занятиях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Когда кто-нибудь из ребят кричит на него, то тоже кричит в ответ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ычно уверен, что справится с любым заданием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ожет нагрубить родителям, педагогу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ременами кажется, что переполнен  энергией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Человек действия, который не умеет и не любит рассуждать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Требует к себе внимания, не хочет ждать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 играх не подчиняется общим правилам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Горячиться во время разговора, часто повышает голос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Легко забывает поручения взрослого, увлекается игрой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Любит организовывать и предводительствовать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охвала и порицание действуют на него сильнее, чем на других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15-20 баллов – высокая степень импульсивности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7-14 – средня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0-5 - низка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Беспокоен в движениях (барабанит пальцами, болтает ногами и т. д.)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Ерзает на месте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аходится в постоянном движени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Очень говорлив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Спит меньше, чем полагаетс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епоследователен в поведени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Имеет трудности в организаци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е заканчивает начатое дело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е слышит, когда к нему обращаетс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Теряет вещ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Избегает задач, которые требуют умственных усилий и скучных заданий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Часто бывает забывчив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21392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может регулировать свои действия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умеет подчиняться правилам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Отвечает до того, как его спросят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может дождаться своей очереди в игре, на занятиях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Часто вмешивается в разговор, перебивает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Плохо сосредотачивает внимание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может отложить вознаграждение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Вариативность поведения (на одних занятиях спокоен, на других – нет)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371520"/>
            <a:ext cx="8894520" cy="1847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8584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Медикаментозное лечение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Благоприятная обстановка без интеллектуальных перегрузок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Соблюдение режима дн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Ровная эмоциональная атмосфер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зьминых</cp:lastModifiedBy>
  <dcterms:modified xsi:type="dcterms:W3CDTF">2010-11-25T06:35:57Z</dcterms:modified>
  <cp:revision>19</cp:revision>
  <dc:subject/>
  <dc:title>Коррекционная работа с детьми с нейродинамическими нарушениями </dc:title>
</cp:coreProperties>
</file>