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743-611A-4EAD-B69F-BBBABDD9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AAB-890E-4C0D-8D88-C4780130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1F3-3383-4A66-A541-212361A3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33F-E0BB-4EAB-9113-05AEEE9E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D534-EECE-4604-8243-BCB6A438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1CF6-C5BF-4F5F-904A-EFCA1EE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05DD-3B0A-4927-850A-5519924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B6B-C9B2-445B-9D8C-443EDBB9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F4F-8A74-4C25-BBB4-BBC6B0D4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F5C-2D6F-4944-A4B7-E466D111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26B-9541-420D-B840-BEA86A0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615-9E79-49DC-A520-29B0198D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B048-6E5E-44C2-97BD-1129FC8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7FA-F687-42C1-9040-513EDAD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0348-18DF-4A66-92BE-A0DBFCC9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6D6-F015-40F4-BBBE-3364C210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FC0-0D46-4B61-8DC9-75E8F224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022-56A4-4597-BBA2-CFA3500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3B8-9BFC-4029-A8A6-7FBD9A9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B61-657B-4E1C-8A69-29000912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CCA-240B-4945-A9EA-E76A18F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32C-BA87-4C07-AEB5-EE588C4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EAC-BD83-4703-9732-38815C85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2A4-0313-4527-AA8C-5821FD8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B80C-6847-41CA-94A6-557F06054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4149-F7E2-4230-B00D-83ABC053B8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одительское собрание</a:t>
            </a:r>
            <a:br>
              <a:rPr sz="20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Стили семейного воспитани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20" descr="8_9"/>
          <p:cNvPicPr/>
          <p:nvPr/>
        </p:nvPicPr>
        <p:blipFill>
          <a:blip r:embed="rId1"/>
          <a:stretch/>
        </p:blipFill>
        <p:spPr>
          <a:xfrm>
            <a:off x="250920" y="1773360"/>
            <a:ext cx="2950920" cy="276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8_9"/>
          <p:cNvPicPr/>
          <p:nvPr/>
        </p:nvPicPr>
        <p:blipFill>
          <a:blip r:embed="rId2"/>
          <a:stretch/>
        </p:blipFill>
        <p:spPr>
          <a:xfrm>
            <a:off x="3780000" y="1700280"/>
            <a:ext cx="2895480" cy="30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2" descr="8_9"/>
          <p:cNvPicPr/>
          <p:nvPr/>
        </p:nvPicPr>
        <p:blipFill>
          <a:blip r:embed="rId3"/>
          <a:stretch/>
        </p:blipFill>
        <p:spPr>
          <a:xfrm>
            <a:off x="2124000" y="3429000"/>
            <a:ext cx="2521080" cy="308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8_9"/>
          <p:cNvPicPr/>
          <p:nvPr/>
        </p:nvPicPr>
        <p:blipFill>
          <a:blip r:embed="rId4"/>
          <a:stretch/>
        </p:blipFill>
        <p:spPr>
          <a:xfrm>
            <a:off x="6084720" y="3357720"/>
            <a:ext cx="244800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684360" y="3213000"/>
            <a:ext cx="7775280" cy="1440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Девиз воспитания</a:t>
            </a: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ДЕЛАЙ, КАК СКАЗАН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ВТОРИТ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ужасный ребенок, мучител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козел отпущения, Золушка, паинь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33360"/>
            <a:ext cx="259092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ие своб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бо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08000" y="5734080"/>
            <a:ext cx="3240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ревога, одино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комплексы неполноценност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ины за что-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564000" y="5734080"/>
            <a:ext cx="28083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Лжив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добострасти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годничество, забит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6588000" y="5734080"/>
            <a:ext cx="24498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ститель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грессивность, оби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злобл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32000" y="333360"/>
            <a:ext cx="3095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норирование нуж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лани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457200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6732720" y="537372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 flipV="1">
            <a:off x="6156360" y="1484280"/>
            <a:ext cx="1008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 flipH="1" flipV="1">
            <a:off x="2195280" y="1413000"/>
            <a:ext cx="647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 flipV="1">
            <a:off x="4572000" y="12682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6443640" y="260280"/>
            <a:ext cx="244800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сокие требова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ного обязанносте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сутствие поддерж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1979640" y="4869000"/>
            <a:ext cx="5545080" cy="620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6696000" y="2060640"/>
            <a:ext cx="226872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спотизм, тиран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эмоцион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вер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108000" y="1989000"/>
            <a:ext cx="2340000" cy="10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к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нкций,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0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48400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572000" y="4437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: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АВТОРИТАРНЫ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7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граничение свободы, выбора, самосто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норирование нужд, желаний, потребност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ысокие требова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 обязанносте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сутствие поддер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ая система запретов, санкций, наказани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ое обращение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потизм, тир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моциональное отверж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увство тревоги, одиночества, комплекс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полноценности, вины за что-то, лживость, подобострастие, угодничество, забитость, пессимизм, демонстративность, бунтарство, мстительность, агрессивность, обида, нерешительность, озлобленность, безынициативность, недоверчивость, неуверенность, формирование невротических расстройств у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8_9"/>
          <p:cNvPicPr/>
          <p:nvPr/>
        </p:nvPicPr>
        <p:blipFill>
          <a:blip r:embed="rId1"/>
          <a:stretch/>
        </p:blipFill>
        <p:spPr>
          <a:xfrm>
            <a:off x="826920" y="1844640"/>
            <a:ext cx="3346560" cy="3992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398520" y="1412280"/>
            <a:ext cx="44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виз воспитания: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«ДЕЛАЙ, КАК СКАЗАНО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67280" y="5949360"/>
            <a:ext cx="418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ль ребенка в семь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ужасный ребено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читель, козел отпущения, забиты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олушка, паинь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ИПЕРОП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826920" y="2492280"/>
            <a:ext cx="5283360" cy="86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684360" y="4581360"/>
            <a:ext cx="5292720" cy="1008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25"/>
          <p:cNvSpPr/>
          <p:nvPr/>
        </p:nvSpPr>
        <p:spPr>
          <a:xfrm flipH="1">
            <a:off x="6443640" y="2852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2"/>
          <p:cNvSpPr/>
          <p:nvPr/>
        </p:nvSpPr>
        <p:spPr>
          <a:xfrm>
            <a:off x="684360" y="3213000"/>
            <a:ext cx="77752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ae8"/>
                </a:solidFill>
                <a:latin typeface="Arial"/>
              </a:rPr>
              <a:t>Девиз воспитания: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«ВМЕСТО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ИПЕРОП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маменькин сынок, болезн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79280" y="333360"/>
            <a:ext cx="24116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вобо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 труд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неприят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бязан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39640" y="5734080"/>
            <a:ext cx="22305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ждивенче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ребователь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419640" y="5734080"/>
            <a:ext cx="259236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приз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6443640" y="5734080"/>
            <a:ext cx="2232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Эгоцентриз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грессив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жестк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2987640" y="333360"/>
            <a:ext cx="3095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 регламентиру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57200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6443640" y="5373720"/>
            <a:ext cx="7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6300720" y="1628280"/>
            <a:ext cx="64944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 flipH="1" flipV="1">
            <a:off x="2626920" y="155700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298764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V="1">
            <a:off x="4643280" y="3645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6516720" y="333360"/>
            <a:ext cx="244800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лан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1692360" y="4724280"/>
            <a:ext cx="5832360" cy="621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6696000" y="2060640"/>
            <a:ext cx="2340000" cy="1079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довлетво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хо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179280" y="2060640"/>
            <a:ext cx="2305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кровитель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0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2555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4572000" y="429264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ГИПЕРОПЕ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довлетворение прихо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ровитель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вобождение от трудностей и неприятных обязанн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увеличение талантов и способн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бо или совсем не регламентируется поведение 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уются черты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гоцентризм, иждивенчество, тунеядств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ительство, требовательн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призность, зависимость, хамство, нерешительность, безынициативность, склонность к непослушанию, буйство, агрессивность, жесткость, на людях ведут себя неадекватно и импульсивно, нетребовательны к се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8_9"/>
          <p:cNvPicPr/>
          <p:nvPr/>
        </p:nvPicPr>
        <p:blipFill>
          <a:blip r:embed="rId1"/>
          <a:stretch/>
        </p:blipFill>
        <p:spPr>
          <a:xfrm>
            <a:off x="971640" y="1844640"/>
            <a:ext cx="3006720" cy="40654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831240" y="141228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из воспитан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МЕСТО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19440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мир, сокровищ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менькин сынок, болезненный, малень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ПООП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900000" y="2276640"/>
            <a:ext cx="5327640" cy="1008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900000" y="4508640"/>
            <a:ext cx="529272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 flipH="1">
            <a:off x="6443640" y="2565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val 2"/>
          <p:cNvSpPr/>
          <p:nvPr/>
        </p:nvSpPr>
        <p:spPr>
          <a:xfrm>
            <a:off x="684360" y="3213000"/>
            <a:ext cx="77752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ae8"/>
                </a:solidFill>
                <a:latin typeface="Arial"/>
              </a:rPr>
              <a:t>Девиз воспитания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«ЖИВИ, КАК ХОЧЕШ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ИПООП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ль ребенка в семье: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козел отпущен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путающийся под ногами, беспризорник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79280" y="260280"/>
            <a:ext cx="241164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сутствие забо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 здоровь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ужда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нешнем обл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79280" y="5734080"/>
            <a:ext cx="259092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оровство, праздн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бродяжни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иск удоволь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276720" y="5734080"/>
            <a:ext cx="280800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Грубость, гнев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грессивно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стительнос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6516720" y="5805360"/>
            <a:ext cx="244944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тсутствие сты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чувства вин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эгоизм, лжив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2843280" y="333360"/>
            <a:ext cx="3240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нори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ланий, интересов, нуж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4643280" y="530064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6659640" y="5445000"/>
            <a:ext cx="7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2484360" y="5373720"/>
            <a:ext cx="287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9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6372360" y="333360"/>
            <a:ext cx="2627280" cy="1077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Эмоциона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авнодуши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олодность, отвер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1763640" y="4724280"/>
            <a:ext cx="5688000" cy="621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6588000" y="213372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прёк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воих бе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108000" y="206064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дозволенно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есткие требован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>
            <a:off x="6156360" y="2637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25"/>
          <p:cNvSpPr/>
          <p:nvPr/>
        </p:nvSpPr>
        <p:spPr>
          <a:xfrm flipH="1">
            <a:off x="262692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28"/>
          <p:cNvSpPr/>
          <p:nvPr/>
        </p:nvSpPr>
        <p:spPr>
          <a:xfrm flipV="1">
            <a:off x="6300720" y="1557360"/>
            <a:ext cx="649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 flipV="1">
            <a:off x="2484000" y="1483920"/>
            <a:ext cx="289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4643280" y="429264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ГИПООПЕКА (равнодушие, безнадзорн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284720" y="134136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сутствие заботы о здоровье, нуждах, внешнем облике, успеш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норирование потребностей, желаний, интересов, нужд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моциональное равнодушие, холодность, отверже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пустительство в сфере контроля за поведе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едозволенн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сткие требования;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деспотизм,  тир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преки  во всех своих бед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ость, склонность к асоциальным формам поведения: воровство, праздность, бродяжничество, поиск удовольствий (токсины, алкоголь, наркотики, секс), грубость, гневность, раздражительность, агрессивность, мстительность, задиристость, озлобление, демонстративность (как попытка привлечь к себе внимание), жестокость, бесстрашие, отсутствие стыда, чувства вины, эгоизм, лживость,  манипулирование (вызывает жалость, дает обещания, прикинется дурачком или обворожительным, красноречиво раскаивается)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8_9"/>
          <p:cNvPicPr/>
          <p:nvPr/>
        </p:nvPicPr>
        <p:blipFill>
          <a:blip r:embed="rId1"/>
          <a:stretch/>
        </p:blipFill>
        <p:spPr>
          <a:xfrm>
            <a:off x="1042920" y="2060640"/>
            <a:ext cx="2876760" cy="39607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175680" y="1715040"/>
            <a:ext cx="40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виз воспит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ЖИВИ, КАК ХОЧЕШ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43360" y="6021000"/>
            <a:ext cx="43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зел отпущен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утающийся под ногами, мальчик для бить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Хаотич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ь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8002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«Я хороший родитель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потому что …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действовать пониманию родителями проблем, вытекающих из неправильно выбранного стиля семейного воспитания, способствовать повышению эффективности взаимоотношений между ребенком и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« Чтобы сделать детей хорошими – надо сделать их счастливыми.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О. Уайл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« Цель воспитания – научить детей обходиться без нас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Эрнст Легу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истема семейных отношени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родители + родител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родители + дет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 дети + дет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a6081f"/>
                </a:solidFill>
                <a:latin typeface="Times New Roman"/>
              </a:rPr>
              <a:t>Классификац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081f"/>
                </a:solidFill>
                <a:latin typeface="Times New Roman"/>
              </a:rPr>
              <a:t>стилей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2708280"/>
            <a:ext cx="3985920" cy="10699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МОКРАТИЧЕСКИ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859280" y="2708280"/>
            <a:ext cx="4176720" cy="1008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ВТОРИТА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50920" y="4581360"/>
            <a:ext cx="3887640" cy="1008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ПЕР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111640" y="4508640"/>
            <a:ext cx="403236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ПООП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4500720" y="162864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52293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4211640" y="5229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6948360" y="1916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2268360" y="1916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ЕМОКРАТИЧЕ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900000" y="4581360"/>
            <a:ext cx="5327640" cy="1008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Высокая поддер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826920" y="2133720"/>
            <a:ext cx="5292720" cy="1008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948360" y="27082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 flipH="1">
            <a:off x="6443640" y="2637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6443640" y="50846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250920" y="3213000"/>
            <a:ext cx="8642160" cy="1368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ae8"/>
                </a:solidFill>
                <a:latin typeface="Arial"/>
              </a:rPr>
              <a:t>Девиз воспитания: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«ВМЕСТ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ль воспитательных отношений :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ЕМОКР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оль ребенка в семье: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равноправный член коллект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476280"/>
            <a:ext cx="25909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ет возрас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обенност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требностей, нуж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4000" y="5805360"/>
            <a:ext cx="244620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брожела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крыт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ници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276720" y="5805360"/>
            <a:ext cx="273528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ботлив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ветствен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амостоятельность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443640" y="5805360"/>
            <a:ext cx="2521080" cy="93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веренн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рудолюб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132000" y="476280"/>
            <a:ext cx="3095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вноправ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4643280" y="436572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6804000" y="5445000"/>
            <a:ext cx="7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6227640" y="1484280"/>
            <a:ext cx="7225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4643280" y="29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 flipH="1" flipV="1">
            <a:off x="2411280" y="1483920"/>
            <a:ext cx="43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 flipH="1">
            <a:off x="2340000" y="5445000"/>
            <a:ext cx="287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0"/>
          <p:cNvSpPr/>
          <p:nvPr/>
        </p:nvSpPr>
        <p:spPr>
          <a:xfrm flipV="1">
            <a:off x="4572000" y="134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916360" y="1700280"/>
            <a:ext cx="3240000" cy="1222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6516720" y="476280"/>
            <a:ext cx="244800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ёт интере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жел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1908000" y="4797360"/>
            <a:ext cx="5759640" cy="620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ормирующиеся черты характ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6659640" y="1989000"/>
            <a:ext cx="2340000" cy="93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держ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179280" y="1989000"/>
            <a:ext cx="226872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заимная з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ответствен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 flipH="1">
            <a:off x="248400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22764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>
            <a:off x="4788000" y="5373720"/>
            <a:ext cx="0" cy="404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тиль воспитательных отношений : ДЕМОКРАТИЧЕСКИЙ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т возрастных особенностей, потребностей, нужд, интересов и желаний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ноправ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ная забота и ответств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держка, помощь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Формирующиеся черты харак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брожелательность, открытость, инициативность, воля, заботливость, ответственность, самостоятельность, уверенность, трудолюбие и т.п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8_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15960" y="1267560"/>
            <a:ext cx="36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виз воспитания:  «ВМЕСТ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8440" y="5589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ребенка в семь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ОПРАВНЫЙ ЧЛЕН КОЛЛЕКТ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9640" y="189000"/>
            <a:ext cx="7848720" cy="11253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>
            <a:off x="6948360" y="155736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55640" y="2205000"/>
            <a:ext cx="5283360" cy="86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ысоки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55640" y="4076640"/>
            <a:ext cx="5327640" cy="1008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изкая поддер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948360" y="21337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443640" y="2637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 flipH="1">
            <a:off x="6443640" y="4581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Пользователь Windows</cp:lastModifiedBy>
  <dcterms:modified xsi:type="dcterms:W3CDTF">2018-03-04T04:24:44Z</dcterms:modified>
  <cp:revision>64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