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E158A-5816-4C03-B9F8-72486C3CE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8CF04-8B7B-415A-92E0-76D4D7C6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CD1D9-6B67-4389-A1B6-23B49A402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8EE57-F18C-40E0-B8FF-F863F3925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4CDE-2505-4520-B73A-D4CEBAF58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3FC97-B43C-4677-ACE2-1635E8C2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39A0-BDA9-4469-804D-51C924F2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65390-AF79-4A77-AE7C-35A6AC61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6BC6-9038-41DB-8294-7E6448FA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D521-F816-4B4A-905E-D2B49130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9C8C-2B4D-4667-B664-3DCD3763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C094E-2C36-49C6-A9AA-6FF529B4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432E-D135-4FA6-86F9-6B78228F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A2B15-B026-47F8-8BE1-C130B95A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0065-2CD0-4182-B2FF-EDDC4774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4B0E-11AD-436D-A503-BC8C99F5C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AF98C-695C-4F12-8C1E-BFFFB21CA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0D51F-97C6-4048-9364-64C10EDD4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3986E-2BFD-4C82-926C-904E56FF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EFF7A-3E90-42E5-B4D0-B47EE211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211D2-B20A-42A9-A145-8CE6F797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6290B-8272-40A9-964C-AA269DB0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6FA1C-33C3-44E7-B3A7-0C9ED77C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83F91-4C8D-430B-8BA1-09A6537F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AA80F-3328-459B-8F98-558FFD70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D8FD9-7792-48C1-B81C-1CBA059B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09C55-BFB3-4DAC-9547-41B63B79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5AA40-B24E-4AD0-877B-ABFF2941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B9144-DC5A-4499-AC85-FD60AFB55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CFF2B-F121-4555-8B96-4D9E76165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AB78B-E728-4789-ACE8-E2200544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6B2BD-4593-4315-B100-C1F7066E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DCF76-8646-49DC-A317-7BB0196E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22F29-2B95-4BCE-BB60-4BF63824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7271D-FA06-45BE-B83D-69E6EE5C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2BDAA-DD97-405F-8777-B65BC53D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15B7-FC9F-4BF1-8E49-BA564806A93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9A92-B382-4AB6-87B2-6EE7C034DF5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EBB2-3005-4939-AEB2-78F50B394EA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7.xml"/><Relationship Id="rId3" Type="http://schemas.openxmlformats.org/officeDocument/2006/relationships/slide" Target="slide16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6000" y="2205000"/>
            <a:ext cx="80280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2f2f2"/>
                </a:solidFill>
                <a:latin typeface="Georgia"/>
              </a:rPr>
              <a:t>Моё время – </a:t>
            </a:r>
            <a:br>
              <a:rPr sz="5400"/>
            </a:br>
            <a:r>
              <a:rPr b="1" i="1" lang="ru-RU" sz="5400" spc="-1" strike="noStrike">
                <a:solidFill>
                  <a:srgbClr val="f2f2f2"/>
                </a:solidFill>
                <a:latin typeface="Georgia"/>
              </a:rPr>
              <a:t>мой выбо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94920" y="333360"/>
            <a:ext cx="81392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4. Интересуйтесь друзьями своего ребенка, общайтесь с ними, в тактичной форме объясните возможные последствия их поведения, если вы видите в нем негатив.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178920" y="475920"/>
            <a:ext cx="83552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5. Интересуйтесь не только школьной жизнью ребенка, переведите плоскость вашего общения на оценку тех или иных событий, происходящих в стране, мире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250920" y="620280"/>
            <a:ext cx="8283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6. Контролируйте свободное время ребенка, то, в какие компьютерные игры он играет, какие фильмы и телепередачи смотрит, в какое время возвращается домой, где бывает, с кем.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78920" y="476280"/>
            <a:ext cx="835524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7. Доверяйте учителям в их оценке поступков ваших детей. Станьте другом не только своему ребенку, но и классному руководителю - ведь вы делаете общее дело.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250920" y="620280"/>
            <a:ext cx="8283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8. Повышайте свой уровень педагогической культуры. Не жалейте времени на чтение книг по семейному воспитанию. Они помогут избежать ошибок в общении с ребенком.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713880"/>
            <a:ext cx="8748720" cy="55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«В огне, оживляющем юность, </a:t>
            </a:r>
            <a:br>
              <a:rPr sz="3500"/>
            </a:br>
            <a:r>
              <a:rPr b="1" i="1" lang="ru-RU" sz="35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отливается характер человека.  </a:t>
            </a:r>
            <a:br>
              <a:rPr sz="3500"/>
            </a:br>
            <a:r>
              <a:rPr b="1" i="1" lang="ru-RU" sz="35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Вот почему не следует ни тушить огня этого,  не бояться его, </a:t>
            </a:r>
            <a:br>
              <a:rPr sz="3500"/>
            </a:br>
            <a:r>
              <a:rPr b="1" i="1" lang="ru-RU" sz="35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ни смотреть на него </a:t>
            </a:r>
            <a:br>
              <a:rPr sz="3500"/>
            </a:br>
            <a:r>
              <a:rPr b="1" i="1" lang="ru-RU" sz="35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как на нечто опасное для общества, </a:t>
            </a:r>
            <a:br>
              <a:rPr sz="3500"/>
            </a:br>
            <a:r>
              <a:rPr b="1" i="1" lang="ru-RU" sz="35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ни стеснять его свободного горения, </a:t>
            </a:r>
            <a:br>
              <a:rPr sz="3500"/>
            </a:br>
            <a:r>
              <a:rPr b="1" i="1" lang="ru-RU" sz="35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а только заботиться о том, </a:t>
            </a:r>
            <a:br>
              <a:rPr sz="3500"/>
            </a:br>
            <a:r>
              <a:rPr b="1" i="1" lang="ru-RU" sz="35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чтобы материал, который в это время   </a:t>
            </a:r>
            <a:br>
              <a:rPr sz="3500"/>
            </a:br>
            <a:r>
              <a:rPr b="1" i="1" lang="ru-RU" sz="35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вливается   в   душу   юности,  </a:t>
            </a:r>
            <a:br>
              <a:rPr sz="3500"/>
            </a:br>
            <a:r>
              <a:rPr b="1" i="1" lang="ru-RU" sz="35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 был   хорошего   качества».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6261120" y="6237360"/>
            <a:ext cx="288288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К.Д. Ушин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Управляющая кнопка: назад 1">
            <a:hlinkClick r:id="rId1" action="ppaction://hlinksldjump"/>
          </p:cNvPr>
          <p:cNvSpPr/>
          <p:nvPr/>
        </p:nvSpPr>
        <p:spPr>
          <a:xfrm>
            <a:off x="250920" y="6165720"/>
            <a:ext cx="1512720" cy="692280"/>
          </a:xfrm>
          <a:custGeom>
            <a:avLst/>
            <a:gdLst>
              <a:gd name="textAreaLeft" fmla="*/ 44640 w 1512720"/>
              <a:gd name="textAreaRight" fmla="*/ 1468080 w 15127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47185" h="21600">
                <a:moveTo>
                  <a:pt x="0" y="0"/>
                </a:moveTo>
                <a:lnTo>
                  <a:pt x="47185" y="0"/>
                </a:lnTo>
                <a:lnTo>
                  <a:pt x="47185" y="21600"/>
                </a:lnTo>
                <a:lnTo>
                  <a:pt x="0" y="21600"/>
                </a:lnTo>
                <a:close/>
              </a:path>
              <a:path fill="lightenLess" w="47185" h="21600">
                <a:moveTo>
                  <a:pt x="0" y="0"/>
                </a:moveTo>
                <a:lnTo>
                  <a:pt x="47185" y="0"/>
                </a:lnTo>
                <a:lnTo>
                  <a:pt x="45785" y="1400"/>
                </a:lnTo>
                <a:lnTo>
                  <a:pt x="1400" y="1400"/>
                </a:lnTo>
                <a:close/>
              </a:path>
              <a:path fill="darken" w="47185" h="21600">
                <a:moveTo>
                  <a:pt x="47185" y="0"/>
                </a:moveTo>
                <a:lnTo>
                  <a:pt x="47185" y="21600"/>
                </a:lnTo>
                <a:lnTo>
                  <a:pt x="45785" y="20200"/>
                </a:lnTo>
                <a:lnTo>
                  <a:pt x="45785" y="1400"/>
                </a:lnTo>
                <a:close/>
              </a:path>
              <a:path fill="darkenLess" w="47185" h="21600">
                <a:moveTo>
                  <a:pt x="47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785" y="20200"/>
                </a:lnTo>
                <a:close/>
              </a:path>
              <a:path fill="lighten" w="47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185" h="21600">
                <a:moveTo>
                  <a:pt x="16586" y="10800"/>
                </a:moveTo>
                <a:lnTo>
                  <a:pt x="30599" y="3794"/>
                </a:lnTo>
                <a:lnTo>
                  <a:pt x="30599" y="17806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840"/>
                            </p:stCondLst>
                            <p:childTnLst>
                              <p:par>
                                <p:cTn id="1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467840" cy="4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ужки и се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395280" y="907920"/>
          <a:ext cx="8424720" cy="5761080"/>
        </p:xfrm>
        <a:graphic>
          <a:graphicData uri="http://schemas.openxmlformats.org/drawingml/2006/table">
            <a:tbl>
              <a:tblPr/>
              <a:tblGrid>
                <a:gridCol w="2257560"/>
                <a:gridCol w="2286000"/>
                <a:gridCol w="1857240"/>
                <a:gridCol w="2023920"/>
              </a:tblGrid>
              <a:tr h="578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уководител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нь нед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ремя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ьютерный круж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бедев В.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:30 – 15: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ннис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цева Н.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бо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:00 – 18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ейбо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цева Н.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тверг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:00 – 18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мся танцев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вченко Ю.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тверг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:00 – 17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ный корреспонд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ноградова А.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ятни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:00 – 17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лые руч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ньжина И.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твер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:00 – 16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ёлые нот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ньжина И.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:00 – 16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- Вожат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жаева Ю.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бо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:30 – 15: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ейное де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жаев А.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:00 – 17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уб «Патриот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уев М.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бо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:00 – 17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0f2"/>
                    </a:solidFill>
                  </a:tcPr>
                </a:tc>
              </a:tr>
            </a:tbl>
          </a:graphicData>
        </a:graphic>
      </p:graphicFrame>
      <p:sp>
        <p:nvSpPr>
          <p:cNvPr id="199" name="Управляющая кнопка: назад 3">
            <a:hlinkClick r:id="rId1" action="ppaction://hlinksldjump"/>
          </p:cNvPr>
          <p:cNvSpPr/>
          <p:nvPr/>
        </p:nvSpPr>
        <p:spPr>
          <a:xfrm>
            <a:off x="168120" y="115920"/>
            <a:ext cx="1511280" cy="693720"/>
          </a:xfrm>
          <a:custGeom>
            <a:avLst/>
            <a:gdLst>
              <a:gd name="textAreaLeft" fmla="*/ 44640 w 1511280"/>
              <a:gd name="textAreaRight" fmla="*/ 1466640 w 1511280"/>
              <a:gd name="textAreaTop" fmla="*/ 44640 h 693720"/>
              <a:gd name="textAreaBottom" fmla="*/ 649080 h 693720"/>
            </a:gdLst>
            <a:ahLst/>
            <a:rect l="textAreaLeft" t="textAreaTop" r="textAreaRight" b="textAreaBottom"/>
            <a:pathLst>
              <a:path w="47043" h="21600">
                <a:moveTo>
                  <a:pt x="0" y="0"/>
                </a:moveTo>
                <a:lnTo>
                  <a:pt x="47043" y="0"/>
                </a:lnTo>
                <a:lnTo>
                  <a:pt x="47043" y="21600"/>
                </a:lnTo>
                <a:lnTo>
                  <a:pt x="0" y="21600"/>
                </a:lnTo>
                <a:close/>
              </a:path>
              <a:path fill="lightenLess" w="47043" h="21600">
                <a:moveTo>
                  <a:pt x="0" y="0"/>
                </a:moveTo>
                <a:lnTo>
                  <a:pt x="47043" y="0"/>
                </a:lnTo>
                <a:lnTo>
                  <a:pt x="45643" y="1400"/>
                </a:lnTo>
                <a:lnTo>
                  <a:pt x="1400" y="1400"/>
                </a:lnTo>
                <a:close/>
              </a:path>
              <a:path fill="darken" w="47043" h="21600">
                <a:moveTo>
                  <a:pt x="47043" y="0"/>
                </a:moveTo>
                <a:lnTo>
                  <a:pt x="47043" y="21600"/>
                </a:lnTo>
                <a:lnTo>
                  <a:pt x="45643" y="20200"/>
                </a:lnTo>
                <a:lnTo>
                  <a:pt x="45643" y="1400"/>
                </a:lnTo>
                <a:close/>
              </a:path>
              <a:path fill="darkenLess" w="47043" h="21600">
                <a:moveTo>
                  <a:pt x="470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643" y="20200"/>
                </a:lnTo>
                <a:close/>
              </a:path>
              <a:path fill="lighten" w="470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043" h="21600">
                <a:moveTo>
                  <a:pt x="16515" y="10800"/>
                </a:moveTo>
                <a:lnTo>
                  <a:pt x="30528" y="3794"/>
                </a:lnTo>
                <a:lnTo>
                  <a:pt x="30528" y="17806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08000" y="260280"/>
            <a:ext cx="9036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школьный оздоровительный лагерь с дневным пребыванием на осенних каникул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30 октября по 03 ноябр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92240" y="1989000"/>
          <a:ext cx="8785080" cy="2880000"/>
        </p:xfrm>
        <a:graphic>
          <a:graphicData uri="http://schemas.openxmlformats.org/drawingml/2006/table">
            <a:tbl>
              <a:tblPr/>
              <a:tblGrid>
                <a:gridCol w="2197080"/>
                <a:gridCol w="2195280"/>
                <a:gridCol w="2195640"/>
                <a:gridCol w="2197080"/>
              </a:tblGrid>
              <a:tr h="640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пр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уковод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ц.защи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50 мес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на род. пл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1193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ртивное  (1 – 3 к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цева Н.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ужаев А.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явление (заполняется в школ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равка о доходах всех членов сем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равка о составе сем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пия свид. о рож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пия паспо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р род. Пл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я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 род. пл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1046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ворческое (4 – 7 к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вгалёва О.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бедева Н.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2" name="TextBox 2"/>
          <p:cNvSpPr/>
          <p:nvPr/>
        </p:nvSpPr>
        <p:spPr>
          <a:xfrm>
            <a:off x="324000" y="54450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ОКУМЕНТЫ И ОПЛАТА ПРЕДОСТАВЛЯЮТСЯ ДО 20.10.2017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ружаевой Юлии Владимировн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Управляющая кнопка: назад 4">
            <a:hlinkClick r:id="rId1" action="ppaction://hlinksldjump"/>
          </p:cNvPr>
          <p:cNvSpPr/>
          <p:nvPr/>
        </p:nvSpPr>
        <p:spPr>
          <a:xfrm>
            <a:off x="7631280" y="6022800"/>
            <a:ext cx="1512720" cy="694080"/>
          </a:xfrm>
          <a:custGeom>
            <a:avLst/>
            <a:gdLst>
              <a:gd name="textAreaLeft" fmla="*/ 45000 w 1512720"/>
              <a:gd name="textAreaRight" fmla="*/ 1467720 w 1512720"/>
              <a:gd name="textAreaTop" fmla="*/ 45000 h 694080"/>
              <a:gd name="textAreaBottom" fmla="*/ 649080 h 694080"/>
            </a:gdLst>
            <a:ahLst/>
            <a:rect l="textAreaLeft" t="textAreaTop" r="textAreaRight" b="textAreaBottom"/>
            <a:pathLst>
              <a:path w="47063" h="21600">
                <a:moveTo>
                  <a:pt x="0" y="0"/>
                </a:moveTo>
                <a:lnTo>
                  <a:pt x="47063" y="0"/>
                </a:lnTo>
                <a:lnTo>
                  <a:pt x="47063" y="21600"/>
                </a:lnTo>
                <a:lnTo>
                  <a:pt x="0" y="21600"/>
                </a:lnTo>
                <a:close/>
              </a:path>
              <a:path fill="lightenLess" w="47063" h="21600">
                <a:moveTo>
                  <a:pt x="0" y="0"/>
                </a:moveTo>
                <a:lnTo>
                  <a:pt x="47063" y="0"/>
                </a:lnTo>
                <a:lnTo>
                  <a:pt x="45663" y="1400"/>
                </a:lnTo>
                <a:lnTo>
                  <a:pt x="1400" y="1400"/>
                </a:lnTo>
                <a:close/>
              </a:path>
              <a:path fill="darken" w="47063" h="21600">
                <a:moveTo>
                  <a:pt x="47063" y="0"/>
                </a:moveTo>
                <a:lnTo>
                  <a:pt x="47063" y="21600"/>
                </a:lnTo>
                <a:lnTo>
                  <a:pt x="45663" y="20200"/>
                </a:lnTo>
                <a:lnTo>
                  <a:pt x="45663" y="1400"/>
                </a:lnTo>
                <a:close/>
              </a:path>
              <a:path fill="darkenLess" w="47063" h="21600">
                <a:moveTo>
                  <a:pt x="470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663" y="20200"/>
                </a:lnTo>
                <a:close/>
              </a:path>
              <a:path fill="lighten" w="470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063" h="21600">
                <a:moveTo>
                  <a:pt x="16525" y="10800"/>
                </a:moveTo>
                <a:lnTo>
                  <a:pt x="30538" y="3794"/>
                </a:lnTo>
                <a:lnTo>
                  <a:pt x="30538" y="17806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 собр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57120" y="856800"/>
            <a:ext cx="746784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лекать родителей для проведения общешкольных меропри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сти неделю профориентации (мар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одить  День открытых дверей для родителей 1 раза в год (мар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лекать родителей для оказания спонсорской поморщи (овощи для школьной столово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судить в семейном кругу, вместе с детьми, проблем вос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одить  с детьми беседы по разъяснению правил дорожного дви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вес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68360" y="131256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ытие собр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орческий подарок от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Доклад по т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 анкет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ытый микроф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ное  (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каникул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итание, обеспеченность учебниками, дневник.ру, 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кружки и секции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я о ДДТ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Подведение ито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Содержимое 2" descr="CCF07052009_00000.jpg"/>
          <p:cNvPicPr/>
          <p:nvPr/>
        </p:nvPicPr>
        <p:blipFill>
          <a:blip r:embed="rId1"/>
          <a:srcRect l="33415" t="28512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Содержимое 2" descr="CCF07052009_00000.jpg"/>
          <p:cNvPicPr/>
          <p:nvPr/>
        </p:nvPicPr>
        <p:blipFill>
          <a:blip r:embed="rId2"/>
          <a:srcRect l="59877" t="47833" r="27638" b="25747"/>
          <a:stretch/>
        </p:blipFill>
        <p:spPr>
          <a:xfrm>
            <a:off x="0" y="4429080"/>
            <a:ext cx="1714680" cy="2428920"/>
          </a:xfrm>
          <a:prstGeom prst="rect">
            <a:avLst/>
          </a:prstGeom>
          <a:ln w="0">
            <a:noFill/>
          </a:ln>
        </p:spPr>
      </p:pic>
      <p:pic>
        <p:nvPicPr>
          <p:cNvPr id="172" name="Содержимое 2" descr="CCF07052009_00000.jpg"/>
          <p:cNvPicPr/>
          <p:nvPr/>
        </p:nvPicPr>
        <p:blipFill>
          <a:blip r:embed="rId3"/>
          <a:srcRect l="59877" t="37732" r="27638" b="48286"/>
          <a:stretch/>
        </p:blipFill>
        <p:spPr>
          <a:xfrm>
            <a:off x="7429680" y="0"/>
            <a:ext cx="1714320" cy="1857240"/>
          </a:xfrm>
          <a:prstGeom prst="rect">
            <a:avLst/>
          </a:prstGeom>
          <a:ln w="0">
            <a:noFill/>
          </a:ln>
        </p:spPr>
      </p:pic>
      <p:pic>
        <p:nvPicPr>
          <p:cNvPr id="173" name="Содержимое 2" descr="CCF07052009_00000.jpg"/>
          <p:cNvPicPr/>
          <p:nvPr/>
        </p:nvPicPr>
        <p:blipFill>
          <a:blip r:embed="rId4"/>
          <a:srcRect l="47983" t="41722" r="40055" b="46627"/>
          <a:stretch/>
        </p:blipFill>
        <p:spPr>
          <a:xfrm>
            <a:off x="5000760" y="0"/>
            <a:ext cx="1643040" cy="1071720"/>
          </a:xfrm>
          <a:prstGeom prst="rect">
            <a:avLst/>
          </a:prstGeom>
          <a:ln w="0">
            <a:noFill/>
          </a:ln>
        </p:spPr>
      </p:pic>
      <p:pic>
        <p:nvPicPr>
          <p:cNvPr id="174" name="Содержимое 2" descr="CCF07052009_00000.jpg"/>
          <p:cNvPicPr/>
          <p:nvPr/>
        </p:nvPicPr>
        <p:blipFill>
          <a:blip r:embed="rId5"/>
          <a:srcRect l="47983" t="56486" r="40055" b="34190"/>
          <a:stretch/>
        </p:blipFill>
        <p:spPr>
          <a:xfrm>
            <a:off x="7500960" y="6000840"/>
            <a:ext cx="1643040" cy="857160"/>
          </a:xfrm>
          <a:prstGeom prst="rect">
            <a:avLst/>
          </a:prstGeom>
          <a:ln w="0">
            <a:noFill/>
          </a:ln>
        </p:spPr>
      </p:pic>
      <p:pic>
        <p:nvPicPr>
          <p:cNvPr id="175" name="Содержимое 2" descr="CCF07052009_00000.jpg"/>
          <p:cNvPicPr/>
          <p:nvPr/>
        </p:nvPicPr>
        <p:blipFill>
          <a:blip r:embed="rId6"/>
          <a:srcRect l="47983" t="54936" r="40055" b="19426"/>
          <a:stretch/>
        </p:blipFill>
        <p:spPr>
          <a:xfrm>
            <a:off x="5857920" y="4500720"/>
            <a:ext cx="1643040" cy="2357280"/>
          </a:xfrm>
          <a:prstGeom prst="rect">
            <a:avLst/>
          </a:prstGeom>
          <a:ln w="0">
            <a:noFill/>
          </a:ln>
        </p:spPr>
      </p:pic>
      <p:pic>
        <p:nvPicPr>
          <p:cNvPr id="176" name="Содержимое 2" descr="CCF07052009_00000.jpg"/>
          <p:cNvPicPr/>
          <p:nvPr/>
        </p:nvPicPr>
        <p:blipFill>
          <a:blip r:embed="rId7"/>
          <a:srcRect l="47983" t="51823" r="40055" b="36526"/>
          <a:stretch/>
        </p:blipFill>
        <p:spPr>
          <a:xfrm>
            <a:off x="6215040" y="0"/>
            <a:ext cx="1643040" cy="1071720"/>
          </a:xfrm>
          <a:prstGeom prst="rect">
            <a:avLst/>
          </a:prstGeom>
          <a:ln w="0">
            <a:noFill/>
          </a:ln>
        </p:spPr>
      </p:pic>
      <p:pic>
        <p:nvPicPr>
          <p:cNvPr id="177" name="Содержимое 2" descr="CCF07052009_00000.jpg"/>
          <p:cNvPicPr/>
          <p:nvPr/>
        </p:nvPicPr>
        <p:blipFill>
          <a:blip r:embed="rId8"/>
          <a:srcRect l="36536" t="37060" r="47858" b="33418"/>
          <a:stretch/>
        </p:blipFill>
        <p:spPr>
          <a:xfrm>
            <a:off x="428760" y="1071720"/>
            <a:ext cx="2143080" cy="2714400"/>
          </a:xfrm>
          <a:prstGeom prst="rect">
            <a:avLst/>
          </a:prstGeom>
          <a:ln w="0">
            <a:noFill/>
          </a:ln>
        </p:spPr>
      </p:pic>
      <p:pic>
        <p:nvPicPr>
          <p:cNvPr id="178" name="Содержимое 2" descr="CCF07052009_00000.jpg"/>
          <p:cNvPicPr/>
          <p:nvPr/>
        </p:nvPicPr>
        <p:blipFill>
          <a:blip r:embed="rId9"/>
          <a:srcRect l="36536" t="57263" r="47858" b="33418"/>
          <a:stretch/>
        </p:blipFill>
        <p:spPr>
          <a:xfrm>
            <a:off x="1714680" y="6000840"/>
            <a:ext cx="21430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Правила общ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1.Каждый имеет право высказаться и быть услышан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2.Мы не актеры, здесь нет зрителей. Работают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3.Мы - друзья, нас волнует одна проблема и мы обязательно найдем ее реш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78920" y="549000"/>
            <a:ext cx="39610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ти - те, кто хочет попробовать встать на позицию детей и прожить заново ситуацию выбо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427640" y="620640"/>
            <a:ext cx="4248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одители - те, кто готов попробовать изменить свою точку зрения, относительно выбора ребенка 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1"/>
          <p:cNvSpPr/>
          <p:nvPr/>
        </p:nvSpPr>
        <p:spPr>
          <a:xfrm>
            <a:off x="324000" y="40464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 что же может привести к потере контакта с ребенком.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Прямоугольник 2"/>
          <p:cNvSpPr/>
          <p:nvPr/>
        </p:nvSpPr>
        <p:spPr>
          <a:xfrm>
            <a:off x="352440" y="1074600"/>
            <a:ext cx="8612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8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безнадзорность, бесконтрольность. 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2.     воспитание по типу «золушки» 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3.     жестокое воспитание 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4.     скучно дома, все интересно 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5.     заласкивание, внушение ребенку его исключительности 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547640" y="475920"/>
            <a:ext cx="701064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 родительских запове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2"/>
          <p:cNvSpPr/>
          <p:nvPr/>
        </p:nvSpPr>
        <p:spPr>
          <a:xfrm>
            <a:off x="250920" y="1844640"/>
            <a:ext cx="874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1.Всегда интересуйтесь жизнью своего ребенка. Слушайте музыку, которую слушает он, читайте журналы, которые он читает, смотрите фильмы, которые ему понравились. В общем, живите жизнью своего ребенка. 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250920" y="620280"/>
            <a:ext cx="8283600" cy="58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аладьте взаимоотношения со своим ребенком так, чтобы он чувствовал себя с вами спокойно и уверенно, был готов рассказать вам обо всем.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23640" y="450720"/>
            <a:ext cx="8210520" cy="64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3. Показывайте пример своей доброжелательностью, стремление всегда идти навстречу желаниям ребенк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8T15:46:35Z</dcterms:created>
  <dc:creator>---</dc:creator>
  <dc:description/>
  <dc:language>en-US</dc:language>
  <cp:lastModifiedBy>ЭВМ</cp:lastModifiedBy>
  <dcterms:modified xsi:type="dcterms:W3CDTF">2017-10-09T23:01:07Z</dcterms:modified>
  <cp:revision>172</cp:revision>
  <dc:subject/>
  <dc:title>Неформальные молодежные объединения и их субкультуры</dc:title>
</cp:coreProperties>
</file>