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E551-A4DC-42FA-B481-D1994E77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A285-023B-4EDA-A569-338C4681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DCF4-1CF5-4B1C-BDE0-837F8C88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5222-C832-4C70-AAFD-3FD10130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5369-F97F-450F-9F9D-7480CF7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E71F-B0E4-4E3F-B51F-CA2D5C6B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F99-6C21-4FFE-B73C-9445464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694D-6530-41BE-9BED-FC99E0C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6A66-A310-46D1-94B7-8EC4B9A2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70C9-9919-4389-B51D-EAE384B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7D90-09EA-41CD-8E59-923FDD5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8DBD-0F1C-4BEE-A84C-2A962C0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C01-F044-446D-AD2C-EC4C4C7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B4F7-307E-407C-829F-FD8D743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9F0-DF32-40CB-9508-46DA02F0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71B-B998-43B8-8592-480984E0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2708-53B9-4DC9-8D58-EFCAD5A7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4FEA-C7B5-4272-BDCC-3C159FD6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7BA4-A569-4E80-8A9D-21F87A8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0E5B-3ECD-4B58-B15E-9B77EA1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4320-0787-4541-8412-AABD3FE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EF67-D6D5-4C62-9CEA-4C28638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E1A2-C51E-4535-BBAA-54C2DED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75FD-CC0E-4508-A9A5-5493D61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1556-AA6A-449D-8C26-67CEB60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91CC-72A4-4768-B5D4-D0A7FC6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CDB5-04D5-4615-91FB-82F2E80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E249-1950-41B6-963C-E168D97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4C60-A9F1-4006-98B7-DA6871E4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EA94-18D3-477A-83D3-F239AC13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FB14-5CFA-4B0B-AECC-6127B7F0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389-A9EF-4291-8E8A-D9F238B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FD6B-6B50-469D-B58B-4404547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2525-D4BA-483D-B2B7-65852CE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28C8-08A4-4A75-9B9E-DFD6B2D5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B452-D848-466D-BA31-FCF5557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F17-DE69-4494-80F3-05B488E32C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685-9011-4E24-9FF7-5AAB9F07EA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792-B079-4A3F-A6A9-63D4D9CF1E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8028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Моё время – </a:t>
            </a:r>
            <a:br>
              <a:rPr sz="5400"/>
            </a:b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мой выб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333360"/>
            <a:ext cx="81392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. Интересуйтесь друзьями своего ребенка, общайтесь с ними, в тактичной форме объясните возможные последствия их поведения, если вы видите в нем негатив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78920" y="475920"/>
            <a:ext cx="83552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. Интересуйтесь не только школьной жизнью ребенка, переведите плоскость вашего общения на оценку тех или иных событий, происходящих в стране, ми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50920" y="620280"/>
            <a:ext cx="8283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. Контролируйте свободное время ребенка, то, в какие компьютерные игры он играет, какие фильмы и телепередачи смотрит, в какое время возвращается домой, где бывает, с ке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8920" y="476280"/>
            <a:ext cx="8355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. Доверяйте учителям в их оценке поступков ваших детей. Станьте другом не только своему ребенку, но и классному руководителю - ведь вы делаете общее дело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50920" y="620280"/>
            <a:ext cx="8283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. Повышайте свой уровень педагогической культуры. Не жалейте времени на чтение книг по семейному воспитанию. Они помогут избежать ошибок в общении с ребенко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«В огне, оживляющем юность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отливается характер человека.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от почему не следует ни тушить огня этого,  не бояться его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и смотреть на него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как на нечто опасное для общества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и стеснять его свободного горения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а только заботиться о том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чтобы материал, который в это время 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ливается   в   душу   юности,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был   хорошего   качества»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261120" y="6237360"/>
            <a:ext cx="288288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.Д. Ушин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назад 1">
            <a:hlinkClick r:id="rId1" action="ppaction://hlinksldjump"/>
          </p:cNvPr>
          <p:cNvSpPr/>
          <p:nvPr/>
        </p:nvSpPr>
        <p:spPr>
          <a:xfrm>
            <a:off x="250920" y="6165720"/>
            <a:ext cx="1512720" cy="692280"/>
          </a:xfrm>
          <a:custGeom>
            <a:avLst/>
            <a:gdLst>
              <a:gd name="textAreaLeft" fmla="*/ 44640 w 1512720"/>
              <a:gd name="textAreaRight" fmla="*/ 1468080 w 1512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7185" h="21600">
                <a:moveTo>
                  <a:pt x="0" y="0"/>
                </a:moveTo>
                <a:lnTo>
                  <a:pt x="47185" y="0"/>
                </a:lnTo>
                <a:lnTo>
                  <a:pt x="47185" y="21600"/>
                </a:lnTo>
                <a:lnTo>
                  <a:pt x="0" y="21600"/>
                </a:lnTo>
                <a:close/>
              </a:path>
              <a:path fill="lightenLess" w="47185" h="21600">
                <a:moveTo>
                  <a:pt x="0" y="0"/>
                </a:moveTo>
                <a:lnTo>
                  <a:pt x="47185" y="0"/>
                </a:lnTo>
                <a:lnTo>
                  <a:pt x="45785" y="1400"/>
                </a:lnTo>
                <a:lnTo>
                  <a:pt x="1400" y="1400"/>
                </a:lnTo>
                <a:close/>
              </a:path>
              <a:path fill="darken" w="47185" h="21600">
                <a:moveTo>
                  <a:pt x="47185" y="0"/>
                </a:moveTo>
                <a:lnTo>
                  <a:pt x="47185" y="21600"/>
                </a:lnTo>
                <a:lnTo>
                  <a:pt x="45785" y="20200"/>
                </a:lnTo>
                <a:lnTo>
                  <a:pt x="45785" y="1400"/>
                </a:lnTo>
                <a:close/>
              </a:path>
              <a:path fill="darkenLess" w="47185" h="21600">
                <a:moveTo>
                  <a:pt x="47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85" y="20200"/>
                </a:lnTo>
                <a:close/>
              </a:path>
              <a:path fill="lighten" w="47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85" h="21600">
                <a:moveTo>
                  <a:pt x="16586" y="10800"/>
                </a:moveTo>
                <a:lnTo>
                  <a:pt x="30599" y="3794"/>
                </a:lnTo>
                <a:lnTo>
                  <a:pt x="30599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46784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жки и с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907920"/>
          <a:ext cx="8424720" cy="5761080"/>
        </p:xfrm>
        <a:graphic>
          <a:graphicData uri="http://schemas.openxmlformats.org/drawingml/2006/table">
            <a:tbl>
              <a:tblPr/>
              <a:tblGrid>
                <a:gridCol w="2257560"/>
                <a:gridCol w="2286000"/>
                <a:gridCol w="1857240"/>
                <a:gridCol w="202392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й круж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 В.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30 – 15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ни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цева Н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ейб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цева Н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мся танце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ченко Ю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й корреспон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ова А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лые ру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ьжин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6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н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ьжин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6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- Вожа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аева Ю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30 – 15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но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аев А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«Патрио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ев М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sp>
        <p:nvSpPr>
          <p:cNvPr id="199" name="Управляющая кнопка: назад 3">
            <a:hlinkClick r:id="rId1" action="ppaction://hlinksldjump"/>
          </p:cNvPr>
          <p:cNvSpPr/>
          <p:nvPr/>
        </p:nvSpPr>
        <p:spPr>
          <a:xfrm>
            <a:off x="168120" y="115920"/>
            <a:ext cx="1511280" cy="693720"/>
          </a:xfrm>
          <a:custGeom>
            <a:avLst/>
            <a:gdLst>
              <a:gd name="textAreaLeft" fmla="*/ 44640 w 1511280"/>
              <a:gd name="textAreaRight" fmla="*/ 1466640 w 151128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47043" h="21600">
                <a:moveTo>
                  <a:pt x="0" y="0"/>
                </a:moveTo>
                <a:lnTo>
                  <a:pt x="47043" y="0"/>
                </a:lnTo>
                <a:lnTo>
                  <a:pt x="47043" y="21600"/>
                </a:lnTo>
                <a:lnTo>
                  <a:pt x="0" y="21600"/>
                </a:lnTo>
                <a:close/>
              </a:path>
              <a:path fill="lightenLess" w="47043" h="21600">
                <a:moveTo>
                  <a:pt x="0" y="0"/>
                </a:moveTo>
                <a:lnTo>
                  <a:pt x="47043" y="0"/>
                </a:lnTo>
                <a:lnTo>
                  <a:pt x="45643" y="1400"/>
                </a:lnTo>
                <a:lnTo>
                  <a:pt x="1400" y="1400"/>
                </a:lnTo>
                <a:close/>
              </a:path>
              <a:path fill="darken" w="47043" h="21600">
                <a:moveTo>
                  <a:pt x="47043" y="0"/>
                </a:moveTo>
                <a:lnTo>
                  <a:pt x="47043" y="21600"/>
                </a:lnTo>
                <a:lnTo>
                  <a:pt x="45643" y="20200"/>
                </a:lnTo>
                <a:lnTo>
                  <a:pt x="45643" y="1400"/>
                </a:lnTo>
                <a:close/>
              </a:path>
              <a:path fill="darkenLess" w="47043" h="21600">
                <a:moveTo>
                  <a:pt x="47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43" y="20200"/>
                </a:lnTo>
                <a:close/>
              </a:path>
              <a:path fill="lighten" w="47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43" h="21600">
                <a:moveTo>
                  <a:pt x="16515" y="10800"/>
                </a:moveTo>
                <a:lnTo>
                  <a:pt x="30528" y="3794"/>
                </a:lnTo>
                <a:lnTo>
                  <a:pt x="30528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260280"/>
            <a:ext cx="903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школьный оздоровительный лагерь с дневным пребыванием на осенних канику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30 октября по 03 но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92240" y="1989000"/>
          <a:ext cx="8785080" cy="2880000"/>
        </p:xfrm>
        <a:graphic>
          <a:graphicData uri="http://schemas.openxmlformats.org/drawingml/2006/table">
            <a:tbl>
              <a:tblPr/>
              <a:tblGrid>
                <a:gridCol w="2197080"/>
                <a:gridCol w="2195280"/>
                <a:gridCol w="2195640"/>
                <a:gridCol w="2197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.защ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0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на род.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ое  (1 – 3 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ц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жаев А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ение (заполняется в школ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ка о доходах всех членов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ка о состав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я свид. о рож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я па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р род.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род.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4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ое (4 – 7 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галёва О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TextBox 2"/>
          <p:cNvSpPr/>
          <p:nvPr/>
        </p:nvSpPr>
        <p:spPr>
          <a:xfrm>
            <a:off x="324000" y="544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КУМЕНТЫ И ОПЛАТА ПРЕДОСТАВЛЯЮТСЯ ДО 20.10.20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ужаевой Юлии Владимиров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Управляющая кнопка: назад 4">
            <a:hlinkClick r:id="rId1" action="ppaction://hlinksldjump"/>
          </p:cNvPr>
          <p:cNvSpPr/>
          <p:nvPr/>
        </p:nvSpPr>
        <p:spPr>
          <a:xfrm>
            <a:off x="7631280" y="6022800"/>
            <a:ext cx="1512720" cy="694080"/>
          </a:xfrm>
          <a:custGeom>
            <a:avLst/>
            <a:gdLst>
              <a:gd name="textAreaLeft" fmla="*/ 45000 w 1512720"/>
              <a:gd name="textAreaRight" fmla="*/ 1467720 w 1512720"/>
              <a:gd name="textAreaTop" fmla="*/ 45000 h 694080"/>
              <a:gd name="textAreaBottom" fmla="*/ 649080 h 694080"/>
            </a:gdLst>
            <a:ahLst/>
            <a:rect l="textAreaLeft" t="textAreaTop" r="textAreaRight" b="textAreaBottom"/>
            <a:pathLst>
              <a:path w="47063" h="21600">
                <a:moveTo>
                  <a:pt x="0" y="0"/>
                </a:moveTo>
                <a:lnTo>
                  <a:pt x="47063" y="0"/>
                </a:lnTo>
                <a:lnTo>
                  <a:pt x="47063" y="21600"/>
                </a:lnTo>
                <a:lnTo>
                  <a:pt x="0" y="21600"/>
                </a:lnTo>
                <a:close/>
              </a:path>
              <a:path fill="lightenLess" w="47063" h="21600">
                <a:moveTo>
                  <a:pt x="0" y="0"/>
                </a:moveTo>
                <a:lnTo>
                  <a:pt x="47063" y="0"/>
                </a:lnTo>
                <a:lnTo>
                  <a:pt x="45663" y="1400"/>
                </a:lnTo>
                <a:lnTo>
                  <a:pt x="1400" y="1400"/>
                </a:lnTo>
                <a:close/>
              </a:path>
              <a:path fill="darken" w="47063" h="21600">
                <a:moveTo>
                  <a:pt x="47063" y="0"/>
                </a:moveTo>
                <a:lnTo>
                  <a:pt x="47063" y="21600"/>
                </a:lnTo>
                <a:lnTo>
                  <a:pt x="45663" y="20200"/>
                </a:lnTo>
                <a:lnTo>
                  <a:pt x="45663" y="1400"/>
                </a:lnTo>
                <a:close/>
              </a:path>
              <a:path fill="darkenLess" w="47063" h="21600">
                <a:moveTo>
                  <a:pt x="47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63" y="20200"/>
                </a:lnTo>
                <a:close/>
              </a:path>
              <a:path fill="lighten" w="47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63" h="21600">
                <a:moveTo>
                  <a:pt x="16525" y="10800"/>
                </a:moveTo>
                <a:lnTo>
                  <a:pt x="30538" y="3794"/>
                </a:lnTo>
                <a:lnTo>
                  <a:pt x="30538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собр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7120" y="856800"/>
            <a:ext cx="7467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родителей для проведения общешко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и неделю профориентации (ма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День открытых дверей для родителей 1 раза в год (мар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родителей для оказания спонсорской поморщи (овощи для школьной столов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ь в семейном кругу, вместе с детьми, проблем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с детьми беседы по разъяснению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 подарок 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оклад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анке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й микр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е  (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кани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итание, обеспеченность учебниками, дневник.ру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кружки и секции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о ДДТ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Подведение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2" descr="CCF07052009_00000.jpg"/>
          <p:cNvPicPr/>
          <p:nvPr/>
        </p:nvPicPr>
        <p:blipFill>
          <a:blip r:embed="rId1"/>
          <a:srcRect l="33415" t="2851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CCF07052009_00000.jpg"/>
          <p:cNvPicPr/>
          <p:nvPr/>
        </p:nvPicPr>
        <p:blipFill>
          <a:blip r:embed="rId2"/>
          <a:srcRect l="59877" t="47833" r="27638" b="25747"/>
          <a:stretch/>
        </p:blipFill>
        <p:spPr>
          <a:xfrm>
            <a:off x="0" y="442908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2" descr="CCF07052009_00000.jpg"/>
          <p:cNvPicPr/>
          <p:nvPr/>
        </p:nvPicPr>
        <p:blipFill>
          <a:blip r:embed="rId3"/>
          <a:srcRect l="59877" t="37732" r="27638" b="48286"/>
          <a:stretch/>
        </p:blipFill>
        <p:spPr>
          <a:xfrm>
            <a:off x="7429680" y="0"/>
            <a:ext cx="1714320" cy="185724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" descr="CCF07052009_00000.jpg"/>
          <p:cNvPicPr/>
          <p:nvPr/>
        </p:nvPicPr>
        <p:blipFill>
          <a:blip r:embed="rId4"/>
          <a:srcRect l="47983" t="41722" r="40055" b="46627"/>
          <a:stretch/>
        </p:blipFill>
        <p:spPr>
          <a:xfrm>
            <a:off x="5000760" y="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2" descr="CCF07052009_00000.jpg"/>
          <p:cNvPicPr/>
          <p:nvPr/>
        </p:nvPicPr>
        <p:blipFill>
          <a:blip r:embed="rId5"/>
          <a:srcRect l="47983" t="56486" r="40055" b="34190"/>
          <a:stretch/>
        </p:blipFill>
        <p:spPr>
          <a:xfrm>
            <a:off x="7500960" y="6000840"/>
            <a:ext cx="1643040" cy="85716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2" descr="CCF07052009_00000.jpg"/>
          <p:cNvPicPr/>
          <p:nvPr/>
        </p:nvPicPr>
        <p:blipFill>
          <a:blip r:embed="rId6"/>
          <a:srcRect l="47983" t="54936" r="40055" b="19426"/>
          <a:stretch/>
        </p:blipFill>
        <p:spPr>
          <a:xfrm>
            <a:off x="5857920" y="4500720"/>
            <a:ext cx="164304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2" descr="CCF07052009_00000.jpg"/>
          <p:cNvPicPr/>
          <p:nvPr/>
        </p:nvPicPr>
        <p:blipFill>
          <a:blip r:embed="rId7"/>
          <a:srcRect l="47983" t="51823" r="40055" b="36526"/>
          <a:stretch/>
        </p:blipFill>
        <p:spPr>
          <a:xfrm>
            <a:off x="6215040" y="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2" descr="CCF07052009_00000.jpg"/>
          <p:cNvPicPr/>
          <p:nvPr/>
        </p:nvPicPr>
        <p:blipFill>
          <a:blip r:embed="rId8"/>
          <a:srcRect l="36536" t="37060" r="47858" b="33418"/>
          <a:stretch/>
        </p:blipFill>
        <p:spPr>
          <a:xfrm>
            <a:off x="428760" y="1071720"/>
            <a:ext cx="2143080" cy="271440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2" descr="CCF07052009_00000.jpg"/>
          <p:cNvPicPr/>
          <p:nvPr/>
        </p:nvPicPr>
        <p:blipFill>
          <a:blip r:embed="rId9"/>
          <a:srcRect l="36536" t="57263" r="47858" b="33418"/>
          <a:stretch/>
        </p:blipFill>
        <p:spPr>
          <a:xfrm>
            <a:off x="1714680" y="6000840"/>
            <a:ext cx="2143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авила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.Каждый имеет право высказаться и быть услыш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.Мы не актеры, здесь нет зрителей. Работают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.Мы - друзья, нас волнует одна проблема и мы обязательно найдем е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8920" y="549000"/>
            <a:ext cx="3961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и - те, кто хочет попробовать встать на позицию детей и прожить заново ситуацию выб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427640" y="620640"/>
            <a:ext cx="4248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ители - те, кто готов попробовать изменить свою точку зрения, относительно выбора ребенка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24000" y="40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что же может привести к потере контакта с ребенком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352440" y="1074600"/>
            <a:ext cx="8612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безнадзорность, бесконтрольность.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.     воспитание по типу «золушки»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.     жестокое воспитание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.     скучно дома, все интересно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.     заласкивание, внушение ребенку его исключительности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47640" y="475920"/>
            <a:ext cx="7010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родительских запове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250920" y="184464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Всегда интересуйтесь жизнью своего ребенка. Слушайте музыку, которую слушает он, читайте журналы, которые он читает, смотрите фильмы, которые ему понравились. В общем, живите жизнью своего ребенка.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50920" y="620280"/>
            <a:ext cx="82836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ладьте взаимоотношения со своим ребенком так, чтобы он чувствовал себя с вами спокойно и уверенно, был готов рассказать вам обо все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3640" y="450720"/>
            <a:ext cx="821052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. Показывайте пример своей доброжелательностью, стремление всегда идти навстречу желаниям ребен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5:46:35Z</dcterms:created>
  <dc:creator>---</dc:creator>
  <dc:description/>
  <dc:language>en-US</dc:language>
  <cp:lastModifiedBy>ЭВМ</cp:lastModifiedBy>
  <dcterms:modified xsi:type="dcterms:W3CDTF">2017-10-09T23:01:07Z</dcterms:modified>
  <cp:revision>172</cp:revision>
  <dc:subject/>
  <dc:title>Неформальные молодежные объединения и их субкультуры</dc:title>
</cp:coreProperties>
</file>