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EB3-3E10-43DC-A497-F1B0B738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6E7-0EF7-4444-BC8B-387E0441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4DA-5D21-427C-91E7-B3723CE5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4BD-23D3-4A0C-8ED9-6D5C17DD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3FBD-0A9F-4504-B4F4-04F70206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94D2-B08D-4503-A806-51F0F813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B15F-EDAE-4368-9958-F82718C8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C49B-26ED-4D96-B8E5-31867D4E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0C57-52D6-48C2-BDDA-3C1D2D80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977C-2AAB-413D-85B3-9B9889D4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07CB-6561-4405-A587-48F6730D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D09-EE19-4F97-8159-3980FB06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42B9-9E71-4F6C-93BA-3519A76A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73EA-249B-4594-829E-820DC03C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DF74-339B-4703-A970-641F6A47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3748-FED8-497E-A325-466DED13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77A4-6372-40D3-95E5-FE30AB15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CFC-98C0-4CE0-9A68-C63EBF66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2C9-4068-4C13-B5CB-3C679030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22E-F575-4D7D-BB93-31E0F44B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DAF-766F-487A-AC8F-278A41E5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532-F55F-4B48-816C-2A143980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31C-D1E3-4F91-95AF-64D4330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362-C28E-4238-BF9E-E4166705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23F5-F62A-46FA-AABE-043E90E68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0C50-9076-407E-9FEE-265F6AD5C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Tahoma"/>
              </a:rPr>
              <a:t>ТЕЛЕПАШКА</a:t>
            </a:r>
            <a:br>
              <a:rPr sz="4400"/>
            </a:br>
            <a:r>
              <a:rPr b="1" lang="en-US" sz="4400" spc="-1" strike="noStrike">
                <a:solidFill>
                  <a:srgbClr val="00ccff"/>
                </a:solidFill>
                <a:latin typeface="Tahoma"/>
              </a:rPr>
              <a:t>ЧЕРЕПАШ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тский сад №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уппа №1 «Ромашк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Это что за телепашка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Это чудо-черепашка!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ся из снега, и большая,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украшена шарам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А шары-то не простые,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А шары-то – ледяные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4038480" cy="302904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0286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Маленькие и большие,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Разноцветные какие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81480" y="1905120"/>
            <a:ext cx="2641680" cy="19810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2641680" cy="19810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Нос и хвост – сердечком,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анцирь – весь в колечках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038840" cy="302904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0286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Лапки расписные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И глаза большие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Мило улыбается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И бежит, старается: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Деткам в сад несёт дары,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Разноцветные шары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0310" t="13745" r="14407" b="31266"/>
          <a:stretch/>
        </p:blipFill>
        <p:spPr>
          <a:xfrm>
            <a:off x="2209680" y="2133720"/>
            <a:ext cx="4800600" cy="35812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16:00:18Z</dcterms:created>
  <dc:creator>Мамулька</dc:creator>
  <dc:description/>
  <dc:language>en-US</dc:language>
  <cp:lastModifiedBy>Мамулька</cp:lastModifiedBy>
  <dcterms:modified xsi:type="dcterms:W3CDTF">2018-05-05T05:19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