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5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362-57F3-4874-B247-6084868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1CB-3F13-40EA-8181-BA76487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38A-4B05-4994-9EEB-A33D6C44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06B-3B51-4216-99E8-2E068B28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7F1F-06F4-4C16-9C7F-8BFC9B7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8451-6DDE-4783-9060-37399A2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A6B9-043A-4934-9B61-ED66BD4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CE2C-5BC5-477C-B2CE-63A16B4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87E-D3DB-43E1-8575-518ADB4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E319-4B4E-43DC-BCC1-D3C833FD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525-6186-4402-84E2-B9FA622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9CF-C00A-44DA-B5F4-DE8075E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3A5E-BBFA-4D86-8337-0A6720E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C81D-F88D-4530-9ED2-436B5E4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47B3-82FA-49A8-A985-E7FE7601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A51-BA48-403F-845F-F11C0553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45E-B894-4086-9D9A-4B91D97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445-07DC-41DD-8731-08B677DF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A2C-252F-4B3E-B8EB-A2DBF53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936-685E-41F5-900E-DD4674C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84E-F7EA-4144-BFC9-B7A80EF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198-C69A-4F21-B287-21323BE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D18-4BF0-4539-91BE-358DB22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10D-78C9-47AB-9B93-EBF7FB9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C8C5-4691-4571-A0D1-79EC3AC5E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852-57DD-401E-8BB0-72DD28404D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475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1280" y="601560"/>
            <a:ext cx="8137440" cy="580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OYGO"/>
          <p:cNvPicPr/>
          <p:nvPr/>
        </p:nvPicPr>
        <p:blipFill>
          <a:blip r:embed="rId1"/>
          <a:stretch/>
        </p:blipFill>
        <p:spPr>
          <a:xfrm>
            <a:off x="395280" y="2276640"/>
            <a:ext cx="237636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Стихи о прав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85680" y="1628280"/>
            <a:ext cx="635796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По извилистой дорож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Шли по миру чьи-то нож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Вдаль смотря широкими  глаз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Шел малыш знакомиться с пра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Рядом мама крепко за руку держа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В путь-дорогу умницу свою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сопровожд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Знать должны и взрослые, и де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О правах, что защищают их на св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butterfly13"/>
          <p:cNvPicPr/>
          <p:nvPr/>
        </p:nvPicPr>
        <p:blipFill>
          <a:blip r:embed="rId2"/>
          <a:stretch/>
        </p:blipFill>
        <p:spPr>
          <a:xfrm>
            <a:off x="8001000" y="521496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butterfly13"/>
          <p:cNvPicPr/>
          <p:nvPr/>
        </p:nvPicPr>
        <p:blipFill>
          <a:blip r:embed="rId3"/>
          <a:stretch/>
        </p:blipFill>
        <p:spPr>
          <a:xfrm rot="20214000">
            <a:off x="2484360" y="213336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utterfly13"/>
          <p:cNvPicPr/>
          <p:nvPr/>
        </p:nvPicPr>
        <p:blipFill>
          <a:blip r:embed="rId4"/>
          <a:stretch/>
        </p:blipFill>
        <p:spPr>
          <a:xfrm rot="19196400">
            <a:off x="2050920" y="148392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butterfly13"/>
          <p:cNvPicPr/>
          <p:nvPr/>
        </p:nvPicPr>
        <p:blipFill>
          <a:blip r:embed="rId5"/>
          <a:stretch/>
        </p:blipFill>
        <p:spPr>
          <a:xfrm rot="1551600">
            <a:off x="0" y="386028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butterfly13"/>
          <p:cNvPicPr/>
          <p:nvPr/>
        </p:nvPicPr>
        <p:blipFill>
          <a:blip r:embed="rId6"/>
          <a:stretch/>
        </p:blipFill>
        <p:spPr>
          <a:xfrm rot="20379600">
            <a:off x="8100720" y="170028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butterfly13"/>
          <p:cNvPicPr/>
          <p:nvPr/>
        </p:nvPicPr>
        <p:blipFill>
          <a:blip r:embed="rId7"/>
          <a:stretch/>
        </p:blipFill>
        <p:spPr>
          <a:xfrm rot="20307600">
            <a:off x="2987640" y="4723920"/>
            <a:ext cx="800280" cy="4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37R3"/>
          <p:cNvPicPr/>
          <p:nvPr/>
        </p:nvPicPr>
        <p:blipFill>
          <a:blip r:embed="rId8"/>
          <a:stretch/>
        </p:blipFill>
        <p:spPr>
          <a:xfrm>
            <a:off x="8172360" y="404640"/>
            <a:ext cx="571680" cy="54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9"/>
          <a:stretch/>
        </p:blipFill>
        <p:spPr>
          <a:xfrm>
            <a:off x="4932360" y="4410000"/>
            <a:ext cx="203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аждый ребёнок имеет право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 жизнь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11280" y="1700280"/>
            <a:ext cx="4932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Я расту на радость мам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Но приходится призна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чтоб Я вырос лучшим сам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99ff66"/>
                </a:solidFill>
                <a:latin typeface="Arial"/>
              </a:rPr>
              <a:t>Как мне много нужно 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ights11"/>
          <p:cNvPicPr/>
          <p:nvPr/>
        </p:nvPicPr>
        <p:blipFill>
          <a:blip r:embed="rId1"/>
          <a:stretch/>
        </p:blipFill>
        <p:spPr>
          <a:xfrm>
            <a:off x="0" y="1557360"/>
            <a:ext cx="40672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5080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3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Право на жильё и его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 Black"/>
              </a:rPr>
              <a:t>неприкосновенност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b0bd9eec51cc79795505c304ffb2bcc"/>
          <p:cNvPicPr/>
          <p:nvPr/>
        </p:nvPicPr>
        <p:blipFill>
          <a:blip r:embed="rId1"/>
          <a:stretch/>
        </p:blipFill>
        <p:spPr>
          <a:xfrm>
            <a:off x="1187280" y="1484280"/>
            <a:ext cx="7129800" cy="514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37R3"/>
          <p:cNvPicPr/>
          <p:nvPr/>
        </p:nvPicPr>
        <p:blipFill>
          <a:blip r:embed="rId2"/>
          <a:stretch/>
        </p:blipFill>
        <p:spPr>
          <a:xfrm>
            <a:off x="8172360" y="404640"/>
            <a:ext cx="571680" cy="54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butterfly13"/>
          <p:cNvPicPr/>
          <p:nvPr/>
        </p:nvPicPr>
        <p:blipFill>
          <a:blip r:embed="rId3"/>
          <a:stretch/>
        </p:blipFill>
        <p:spPr>
          <a:xfrm rot="20214000">
            <a:off x="755640" y="69192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butterfly13"/>
          <p:cNvPicPr/>
          <p:nvPr/>
        </p:nvPicPr>
        <p:blipFill>
          <a:blip r:embed="rId4"/>
          <a:stretch/>
        </p:blipFill>
        <p:spPr>
          <a:xfrm rot="20214000">
            <a:off x="468360" y="299736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utterfly13"/>
          <p:cNvPicPr/>
          <p:nvPr/>
        </p:nvPicPr>
        <p:blipFill>
          <a:blip r:embed="rId5"/>
          <a:stretch/>
        </p:blipFill>
        <p:spPr>
          <a:xfrm rot="20214000">
            <a:off x="8344080" y="443700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butterfly13"/>
          <p:cNvPicPr/>
          <p:nvPr/>
        </p:nvPicPr>
        <p:blipFill>
          <a:blip r:embed="rId6"/>
          <a:stretch/>
        </p:blipFill>
        <p:spPr>
          <a:xfrm rot="20214000">
            <a:off x="8344080" y="162864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utterfly13"/>
          <p:cNvPicPr/>
          <p:nvPr/>
        </p:nvPicPr>
        <p:blipFill>
          <a:blip r:embed="rId7"/>
          <a:stretch/>
        </p:blipFill>
        <p:spPr>
          <a:xfrm rot="20214000">
            <a:off x="324000" y="48690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utterfly13"/>
          <p:cNvPicPr/>
          <p:nvPr/>
        </p:nvPicPr>
        <p:blipFill>
          <a:blip r:embed="rId8"/>
          <a:stretch/>
        </p:blipFill>
        <p:spPr>
          <a:xfrm rot="20214000">
            <a:off x="7164360" y="764640"/>
            <a:ext cx="800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1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Лишь появится ребенок, и дышать начнет ед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У него уже с пеленок веские прав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Он имеет право жить, развиваться и друж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Иметь просторный, добрый д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идеть тихий мирный с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рачей помощь получ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Обучаться, отдых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Быть веселым и здоровы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Восхищаться чем-то но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ff66"/>
                </a:solidFill>
                <a:latin typeface="Arial"/>
              </a:rPr>
              <a:t>И любить, и быть люб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508720" y="2857680"/>
            <a:ext cx="33908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Любовь</cp:lastModifiedBy>
  <dcterms:modified xsi:type="dcterms:W3CDTF">2016-10-25T13:42:45Z</dcterms:modified>
  <cp:revision>22</cp:revision>
  <dc:subject/>
  <dc:title>Слайд 1</dc:title>
</cp:coreProperties>
</file>