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5.gif" ContentType="image/gif"/>
  <Override PartName="/ppt/media/image1.png" ContentType="image/png"/>
  <Override PartName="/ppt/media/image14.png" ContentType="image/png"/>
  <Override PartName="/ppt/media/image5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5E8-EA14-4304-83C7-42EA21D4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D43-FB3C-4E19-BF80-2EF033B6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8C0-FF65-40FD-8484-7C771AAD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BDA-1970-4913-A0D0-EA0009C5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34A4-75D2-460A-AEDD-BE7C98EE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85E0-B077-40E2-8E48-1A23F630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56EA-115E-4BCA-9076-082C2F67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CDE2-D9DB-4715-AF47-4B8AD00C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B360-68BF-4E8C-898E-E4394712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9529-05E3-420C-8AED-7A9A9E4C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12F0-4B0A-49B5-ABA8-3F648BAC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AE8-2907-4D0C-AB5D-E65055AB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07C9-CACF-4D03-B843-6BABE6AE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D2F5-41CD-4225-B0C8-970F1BA4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C12F-1AE7-4E3B-BDA7-1FDA6EED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8685-2AAA-4C39-BADB-0D9B417E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D844-E1D4-4DE7-9984-1C9E338B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B68-6740-4366-A537-BA27DC2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A63-7BD2-4C21-A617-0E86CFB1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CD3-0BDE-409C-B922-62AA2E8A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947-05CB-420C-860B-02854926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0A3-D640-4034-9C7C-891521B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09B-F7C1-4955-ABE2-715D8C4F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9EC-A551-484D-BA92-81F7BA9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1E1C-AED3-43E9-A41F-34FE0C5DA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9882-DFE2-426A-9D7D-451B7A8745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1557360"/>
            <a:ext cx="8785440" cy="475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9520" y="404640"/>
            <a:ext cx="75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 Black"/>
              </a:rPr>
              <a:t>Права  ребён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11280" y="601560"/>
            <a:ext cx="8137440" cy="580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3171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OYGO"/>
          <p:cNvPicPr/>
          <p:nvPr/>
        </p:nvPicPr>
        <p:blipFill>
          <a:blip r:embed="rId1"/>
          <a:stretch/>
        </p:blipFill>
        <p:spPr>
          <a:xfrm>
            <a:off x="395280" y="2276640"/>
            <a:ext cx="2376360" cy="3671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Стихи о прав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85680" y="1628280"/>
            <a:ext cx="635796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По извилистой дорож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Шли по миру чьи-то нож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Вдаль смотря широкими  глаз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Шел малыш знакомиться с прав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Рядом мама крепко за руку держал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В путь-дорогу умницу свою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сопровожд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Знать должны и взрослые, и де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О правах, что защищают их на св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butterfly13"/>
          <p:cNvPicPr/>
          <p:nvPr/>
        </p:nvPicPr>
        <p:blipFill>
          <a:blip r:embed="rId2"/>
          <a:stretch/>
        </p:blipFill>
        <p:spPr>
          <a:xfrm>
            <a:off x="8001000" y="5214960"/>
            <a:ext cx="800280" cy="46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butterfly13"/>
          <p:cNvPicPr/>
          <p:nvPr/>
        </p:nvPicPr>
        <p:blipFill>
          <a:blip r:embed="rId3"/>
          <a:stretch/>
        </p:blipFill>
        <p:spPr>
          <a:xfrm rot="20214000">
            <a:off x="2484360" y="2133360"/>
            <a:ext cx="800280" cy="46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utterfly13"/>
          <p:cNvPicPr/>
          <p:nvPr/>
        </p:nvPicPr>
        <p:blipFill>
          <a:blip r:embed="rId4"/>
          <a:stretch/>
        </p:blipFill>
        <p:spPr>
          <a:xfrm rot="19196400">
            <a:off x="2050920" y="1483920"/>
            <a:ext cx="80028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butterfly13"/>
          <p:cNvPicPr/>
          <p:nvPr/>
        </p:nvPicPr>
        <p:blipFill>
          <a:blip r:embed="rId5"/>
          <a:stretch/>
        </p:blipFill>
        <p:spPr>
          <a:xfrm rot="1551600">
            <a:off x="0" y="3860280"/>
            <a:ext cx="800280" cy="46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butterfly13"/>
          <p:cNvPicPr/>
          <p:nvPr/>
        </p:nvPicPr>
        <p:blipFill>
          <a:blip r:embed="rId6"/>
          <a:stretch/>
        </p:blipFill>
        <p:spPr>
          <a:xfrm rot="20379600">
            <a:off x="8100720" y="170028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butterfly13"/>
          <p:cNvPicPr/>
          <p:nvPr/>
        </p:nvPicPr>
        <p:blipFill>
          <a:blip r:embed="rId7"/>
          <a:stretch/>
        </p:blipFill>
        <p:spPr>
          <a:xfrm rot="20307600">
            <a:off x="2987640" y="4723920"/>
            <a:ext cx="800280" cy="46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37R3"/>
          <p:cNvPicPr/>
          <p:nvPr/>
        </p:nvPicPr>
        <p:blipFill>
          <a:blip r:embed="rId8"/>
          <a:stretch/>
        </p:blipFill>
        <p:spPr>
          <a:xfrm>
            <a:off x="8172360" y="404640"/>
            <a:ext cx="571680" cy="54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9"/>
          <a:stretch/>
        </p:blipFill>
        <p:spPr>
          <a:xfrm>
            <a:off x="4932360" y="4410000"/>
            <a:ext cx="2030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аждый ребёнок имеет право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 жизнь</a:t>
            </a: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11280" y="1700280"/>
            <a:ext cx="4932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Я расту на радость мам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Но приходится призна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чтоб Я вырос лучшим самы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Как мне много нужно д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rights11"/>
          <p:cNvPicPr/>
          <p:nvPr/>
        </p:nvPicPr>
        <p:blipFill>
          <a:blip r:embed="rId1"/>
          <a:stretch/>
        </p:blipFill>
        <p:spPr>
          <a:xfrm>
            <a:off x="0" y="1557360"/>
            <a:ext cx="4067280" cy="50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36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33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Право на жильё и его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неприкосновенность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5" descr="0b0bd9eec51cc79795505c304ffb2bcc"/>
          <p:cNvPicPr/>
          <p:nvPr/>
        </p:nvPicPr>
        <p:blipFill>
          <a:blip r:embed="rId1"/>
          <a:stretch/>
        </p:blipFill>
        <p:spPr>
          <a:xfrm>
            <a:off x="1187280" y="1484280"/>
            <a:ext cx="7129800" cy="514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37R3"/>
          <p:cNvPicPr/>
          <p:nvPr/>
        </p:nvPicPr>
        <p:blipFill>
          <a:blip r:embed="rId2"/>
          <a:stretch/>
        </p:blipFill>
        <p:spPr>
          <a:xfrm>
            <a:off x="8172360" y="404640"/>
            <a:ext cx="571680" cy="543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butterfly13"/>
          <p:cNvPicPr/>
          <p:nvPr/>
        </p:nvPicPr>
        <p:blipFill>
          <a:blip r:embed="rId3"/>
          <a:stretch/>
        </p:blipFill>
        <p:spPr>
          <a:xfrm rot="20214000">
            <a:off x="755640" y="691920"/>
            <a:ext cx="800280" cy="4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butterfly13"/>
          <p:cNvPicPr/>
          <p:nvPr/>
        </p:nvPicPr>
        <p:blipFill>
          <a:blip r:embed="rId4"/>
          <a:stretch/>
        </p:blipFill>
        <p:spPr>
          <a:xfrm rot="20214000">
            <a:off x="468360" y="299736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butterfly13"/>
          <p:cNvPicPr/>
          <p:nvPr/>
        </p:nvPicPr>
        <p:blipFill>
          <a:blip r:embed="rId5"/>
          <a:stretch/>
        </p:blipFill>
        <p:spPr>
          <a:xfrm rot="20214000">
            <a:off x="8344080" y="4437000"/>
            <a:ext cx="799920" cy="466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butterfly13"/>
          <p:cNvPicPr/>
          <p:nvPr/>
        </p:nvPicPr>
        <p:blipFill>
          <a:blip r:embed="rId6"/>
          <a:stretch/>
        </p:blipFill>
        <p:spPr>
          <a:xfrm rot="20214000">
            <a:off x="8344080" y="1628640"/>
            <a:ext cx="799920" cy="46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butterfly13"/>
          <p:cNvPicPr/>
          <p:nvPr/>
        </p:nvPicPr>
        <p:blipFill>
          <a:blip r:embed="rId7"/>
          <a:stretch/>
        </p:blipFill>
        <p:spPr>
          <a:xfrm rot="20214000">
            <a:off x="324000" y="486900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utterfly13"/>
          <p:cNvPicPr/>
          <p:nvPr/>
        </p:nvPicPr>
        <p:blipFill>
          <a:blip r:embed="rId8"/>
          <a:stretch/>
        </p:blipFill>
        <p:spPr>
          <a:xfrm rot="20214000">
            <a:off x="7164360" y="764640"/>
            <a:ext cx="8002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1"/>
          <p:cNvPicPr/>
          <p:nvPr/>
        </p:nvPicPr>
        <p:blipFill>
          <a:blip r:embed="rId1"/>
          <a:stretch/>
        </p:blipFill>
        <p:spPr>
          <a:xfrm>
            <a:off x="179280" y="189000"/>
            <a:ext cx="8748720" cy="64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Лишь появится ребенок, и дышать начнет ед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У него уже с пеленок веские права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Он имеет право жить, развиваться и дружи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Иметь просторный, добрый д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Видеть тихий мирный с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Врачей помощь получ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Обучаться, отдых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Быть веселым и здоровы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Восхищаться чем-то нов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И любить, и быть люб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508720" y="2857680"/>
            <a:ext cx="339084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39"/>
          <p:cNvPicPr/>
          <p:nvPr/>
        </p:nvPicPr>
        <p:blipFill>
          <a:blip r:embed="rId1"/>
          <a:stretch/>
        </p:blipFill>
        <p:spPr>
          <a:xfrm>
            <a:off x="395280" y="376200"/>
            <a:ext cx="84247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6:17:41Z</dcterms:created>
  <dc:creator>Берюхова</dc:creator>
  <dc:description/>
  <dc:language>en-US</dc:language>
  <cp:lastModifiedBy>Любовь</cp:lastModifiedBy>
  <dcterms:modified xsi:type="dcterms:W3CDTF">2016-10-25T13:42:45Z</dcterms:modified>
  <cp:revision>22</cp:revision>
  <dc:subject/>
  <dc:title>Слайд 1</dc:title>
</cp:coreProperties>
</file>