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774-9F62-448F-A3FA-076B43AF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998-FD13-45FC-BCA6-A6F6A3D6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503-9B6E-4DA1-A0DB-56756831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0B7-4DA0-4C62-AD44-94974AE5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6BC-C95E-47D7-9FEB-DB6B3AA7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F0F-05FD-4E70-B64A-22DA9C73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6CA-795C-4069-8D4D-EA5CA2F0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4A9-9715-4E44-BA5D-8D8003F7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5D9-1259-4EC6-B6E5-3E87D90C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53F-EF47-4C49-82B2-8AB30D76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BD4-D658-4265-9321-98CF5B73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75E-983B-41CC-ABA5-A93E9EF1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CD7A-4CCE-4D7A-BFB7-BB4E3133F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ная исследовательская работ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кружающему ми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ма исслед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«Внешность обманч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ученица 4 класса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БОУ «Гимназии № 17» Мытищинского муниципального района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з Елиза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уководитель  О.Г. Гогули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сультант Г.А. Пр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018 год</a:t>
            </a:r>
            <a:r>
              <a:rPr b="1" lang="ru-RU" sz="2400" spc="-1" strike="noStrike">
                <a:solidFill>
                  <a:srgbClr val="89898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амом деле, слоны не боятся мышей. Абсолютно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жужжание медоносной пчелы обращает их в бегство. А все из – за того, что у слона хотя и толстая, но очень чувствительная ко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Слон_и_мышь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ире растений тоже есть примеры обманчивой внешности. «Безвременник осенний» – невысокий нежно – розовый цветок, который вызывает умиление. Но мало кто знает, что данное растение содержит опасный яд колхицин, способный убить живое сущ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безвременник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менее опасно «кропило шафрановое»,  чье действие было описано еще древним поэтом Гомером в 8 веке до н.э. Яд этого  внешне безобидного растения расслабляет мышцы губ, создавая облик ужасной улыбки. Гомер придумал особый термин для ее описания  - «язвительный оска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ропило"/>
          <p:cNvPicPr/>
          <p:nvPr/>
        </p:nvPicPr>
        <p:blipFill>
          <a:blip r:embed="rId1"/>
          <a:stretch/>
        </p:blipFill>
        <p:spPr>
          <a:xfrm>
            <a:off x="1219320" y="1676520"/>
            <a:ext cx="6933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анчивая свое исследование, я пришла к выводу о том, что не всегда внешность дает нам полное представление о том, каким на самом деле является то или иное животное или растение. Природа задает нам много загадок, и каждая из них заслуживает отдельного исследования, в процессе которого мы получаем удовольствие от познания нов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oto-zakony-vospriyatiya-i-poznaniya-istiny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images"/>
          <p:cNvPicPr/>
          <p:nvPr/>
        </p:nvPicPr>
        <p:blipFill>
          <a:blip r:embed="rId1"/>
          <a:stretch/>
        </p:blipFill>
        <p:spPr>
          <a:xfrm>
            <a:off x="2286000" y="2209680"/>
            <a:ext cx="4952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и задачи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Arial"/>
              </a:rPr>
              <a:t>Цель проекта - узнать, как обманчива внешность некоторых животных и раст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Arial"/>
              </a:rPr>
              <a:t>Задачи проекта – выяснить, какие животные и растения и в чем проявляют себя совсем не так, как выглядя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умывались ли Вы когда – нибудь над тем, как обманчива внешность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жды, когда я смотрела свой любимый мультфильм «Король Лев», я решила выяснить, а действительно ли один из героев мультфильма такой пугливый и слабый, как это кажется на первый взгляд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, конечно же, догадались, что речь идет о сурикате по имени Тимон, забавном и смешном зверьк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09926_760500jpg"/>
          <p:cNvPicPr/>
          <p:nvPr/>
        </p:nvPicPr>
        <p:blipFill>
          <a:blip r:embed="rId1"/>
          <a:stretch/>
        </p:blipFill>
        <p:spPr>
          <a:xfrm>
            <a:off x="1066680" y="243828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mage"/>
          <p:cNvPicPr/>
          <p:nvPr/>
        </p:nvPicPr>
        <p:blipFill>
          <a:blip r:embed="rId1"/>
          <a:stretch/>
        </p:blipFill>
        <p:spPr>
          <a:xfrm>
            <a:off x="1695600" y="1800360"/>
            <a:ext cx="5752800" cy="4124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рироде сурикаты выглядят такими же милыми и симпатичны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так ли они беззащитны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виду такие милые и беззащитные сурикаты являются одними из наиболее отважных животных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ни обладают повышенным иммунитетом к яду змей и сильным иммунитетом к яду скорпионов, а потому регулярно едят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сурикат и скорпион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мея изготовилась к нападению на сурика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это сурикаты охотятся на змею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Вы думаете: кто победит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85"/>
          <p:cNvPicPr/>
          <p:nvPr/>
        </p:nvPicPr>
        <p:blipFill>
          <a:blip r:embed="rId1"/>
          <a:stretch/>
        </p:blipFill>
        <p:spPr>
          <a:xfrm>
            <a:off x="1295280" y="1447920"/>
            <a:ext cx="6858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 на этот вопрос далеко не так однозначе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boj_s_kobroj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икаты – это сильные, умные, смелые суще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ажные охотники,  заботящиеся о своей семь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милой внешностью которых скрывается хищн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uricata_7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еперь взглянем на слона… Есть мнение, что слоны боятся мышей. Многие уверены, что большой и сильный слон, едва завидев маленькую мышку, готов броситься науте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d5слон боится мышей"/>
          <p:cNvPicPr/>
          <p:nvPr/>
        </p:nvPicPr>
        <p:blipFill>
          <a:blip r:embed="rId1"/>
          <a:stretch/>
        </p:blipFill>
        <p:spPr>
          <a:xfrm>
            <a:off x="2209680" y="1447920"/>
            <a:ext cx="5029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Геннадиевна</cp:lastModifiedBy>
  <dcterms:modified xsi:type="dcterms:W3CDTF">2018-05-03T11:24:1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