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1F3-6191-49C1-B5AA-1D4BFEA9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CEB-B9FD-4BA6-AEDC-A8B0FC1E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FD3-C70A-4F3D-B875-DCAA4A3C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1A2-0CD0-44DF-9146-F66167CC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68F-EFF6-451F-9E1B-1BAB45ED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CF8-D95F-44CB-9020-6B69AD2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6EB-618D-4D27-A097-1ECDC56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771-AED8-4AF4-B423-4849333E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311-04E8-43E1-A94D-F7E4D8A6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4B4-0126-4F9F-BD88-C6BFDC3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9C4-74AF-4A60-BCF2-E29E0545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BB2-F027-41B9-BEEF-929A304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F03-A5E5-4503-BA80-8C2B68D38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nocgroup.ru/pics/41920-matematicheskiy-slovar-dlya-nachalnoy-shkoly.jpg"/>
          <p:cNvPicPr/>
          <p:nvPr/>
        </p:nvPicPr>
        <p:blipFill>
          <a:blip r:embed="rId1"/>
          <a:stretch/>
        </p:blipFill>
        <p:spPr>
          <a:xfrm>
            <a:off x="6299280" y="2720880"/>
            <a:ext cx="2658960" cy="3637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219240" y="168120"/>
            <a:ext cx="8762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темати́ческая моде́л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— математическое представление реальности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19240" y="297180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сс построения и изучения математических моделей называетс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матическим моделирование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23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25560" y="2895480"/>
            <a:ext cx="9129960" cy="200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630760" y="3394080"/>
            <a:ext cx="3473640" cy="3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12600" y="3765600"/>
            <a:ext cx="2105280" cy="39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5029200" y="4195800"/>
            <a:ext cx="266688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-365040" y="-115920"/>
            <a:ext cx="963756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39600" y="2014560"/>
            <a:ext cx="898200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39600" y="3657600"/>
            <a:ext cx="345276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412920" y="5919840"/>
            <a:ext cx="8372160" cy="504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5"/>
          <a:stretch/>
        </p:blipFill>
        <p:spPr>
          <a:xfrm>
            <a:off x="1536840" y="3809880"/>
            <a:ext cx="140796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6"/>
          <a:stretch/>
        </p:blipFill>
        <p:spPr>
          <a:xfrm>
            <a:off x="2036880" y="4863960"/>
            <a:ext cx="179208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0.1573 -0.13681 E">
                                      <p:cBhvr>
                                        <p:cTn id="13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425 -0.31111 E">
                                      <p:cBhvr>
                                        <p:cTn id="1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9600" y="128520"/>
            <a:ext cx="8982000" cy="398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9600" y="4175280"/>
            <a:ext cx="345276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3"/>
          <a:stretch/>
        </p:blipFill>
        <p:spPr>
          <a:xfrm>
            <a:off x="3456000" y="1736640"/>
            <a:ext cx="1407960" cy="14511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4"/>
          <a:stretch/>
        </p:blipFill>
        <p:spPr>
          <a:xfrm>
            <a:off x="6608880" y="1736640"/>
            <a:ext cx="1792080" cy="145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5"/>
          <a:stretch/>
        </p:blipFill>
        <p:spPr>
          <a:xfrm>
            <a:off x="-17640" y="139680"/>
            <a:ext cx="9161640" cy="8510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6"/>
          <a:stretch/>
        </p:blipFill>
        <p:spPr>
          <a:xfrm>
            <a:off x="3193920" y="5443560"/>
            <a:ext cx="335916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0" descr=""/>
          <p:cNvPicPr/>
          <p:nvPr/>
        </p:nvPicPr>
        <p:blipFill>
          <a:blip r:embed="rId7"/>
          <a:stretch/>
        </p:blipFill>
        <p:spPr>
          <a:xfrm>
            <a:off x="3376440" y="4327560"/>
            <a:ext cx="410400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1" descr=""/>
          <p:cNvPicPr/>
          <p:nvPr/>
        </p:nvPicPr>
        <p:blipFill>
          <a:blip r:embed="rId8"/>
          <a:stretch/>
        </p:blipFill>
        <p:spPr>
          <a:xfrm>
            <a:off x="6192720" y="2773440"/>
            <a:ext cx="265284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2" descr=""/>
          <p:cNvPicPr/>
          <p:nvPr/>
        </p:nvPicPr>
        <p:blipFill>
          <a:blip r:embed="rId9"/>
          <a:stretch/>
        </p:blipFill>
        <p:spPr>
          <a:xfrm>
            <a:off x="2852640" y="2773440"/>
            <a:ext cx="27194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3" descr=""/>
          <p:cNvPicPr/>
          <p:nvPr/>
        </p:nvPicPr>
        <p:blipFill>
          <a:blip r:embed="rId10"/>
          <a:stretch/>
        </p:blipFill>
        <p:spPr>
          <a:xfrm>
            <a:off x="2243160" y="4340160"/>
            <a:ext cx="1407960" cy="14572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4" descr=""/>
          <p:cNvPicPr/>
          <p:nvPr/>
        </p:nvPicPr>
        <p:blipFill>
          <a:blip r:embed="rId11"/>
          <a:stretch/>
        </p:blipFill>
        <p:spPr>
          <a:xfrm>
            <a:off x="1573200" y="5467320"/>
            <a:ext cx="1792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39600" y="128520"/>
            <a:ext cx="8982000" cy="39862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3456000" y="1736640"/>
            <a:ext cx="140796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3"/>
          <a:stretch/>
        </p:blipFill>
        <p:spPr>
          <a:xfrm>
            <a:off x="6608880" y="1736640"/>
            <a:ext cx="1792080" cy="1451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1" descr=""/>
          <p:cNvPicPr/>
          <p:nvPr/>
        </p:nvPicPr>
        <p:blipFill>
          <a:blip r:embed="rId4"/>
          <a:stretch/>
        </p:blipFill>
        <p:spPr>
          <a:xfrm>
            <a:off x="6192720" y="2773440"/>
            <a:ext cx="265284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2" descr=""/>
          <p:cNvPicPr/>
          <p:nvPr/>
        </p:nvPicPr>
        <p:blipFill>
          <a:blip r:embed="rId5"/>
          <a:stretch/>
        </p:blipFill>
        <p:spPr>
          <a:xfrm>
            <a:off x="2852640" y="2773440"/>
            <a:ext cx="27194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6"/>
          <a:stretch/>
        </p:blipFill>
        <p:spPr>
          <a:xfrm>
            <a:off x="1805040" y="3967200"/>
            <a:ext cx="5035320" cy="289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533520" y="128520"/>
            <a:ext cx="7075440" cy="712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8"/>
          <a:stretch/>
        </p:blipFill>
        <p:spPr>
          <a:xfrm>
            <a:off x="3986280" y="1530360"/>
            <a:ext cx="4230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48720" cy="13143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590400" y="2073240"/>
            <a:ext cx="76154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1536840" y="628560"/>
            <a:ext cx="5681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31080" y="258840"/>
            <a:ext cx="802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ление уравнен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ючевой этап решения зада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ом моделир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ля этого ну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23280" y="3089160"/>
            <a:ext cx="8562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жде всего зн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ул зависимос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 величинами, ум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зить  на математическ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зыке соотношение между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0" y="412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щё важны собственный опыт составления уравне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нтазия, смекалка, вообра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16360" y="2590920"/>
            <a:ext cx="459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старый со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8200" y="3360600"/>
            <a:ext cx="909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Пробуй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а если не получаетс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-пробуй ещё!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-401760" y="-212760"/>
            <a:ext cx="9545760" cy="2193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-274680" y="1457280"/>
            <a:ext cx="8680320" cy="20178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-274680" y="4986360"/>
            <a:ext cx="892512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4"/>
          <a:stretch/>
        </p:blipFill>
        <p:spPr>
          <a:xfrm>
            <a:off x="-274680" y="3206880"/>
            <a:ext cx="92059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09800" y="239760"/>
            <a:ext cx="7932600" cy="604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811080" y="847800"/>
            <a:ext cx="7137360" cy="1749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60480" y="24444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1240" y="484020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760" y="193212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6" descr=""/>
          <p:cNvPicPr/>
          <p:nvPr/>
        </p:nvPicPr>
        <p:blipFill>
          <a:blip r:embed="rId3"/>
          <a:stretch/>
        </p:blipFill>
        <p:spPr>
          <a:xfrm>
            <a:off x="-171360" y="3986280"/>
            <a:ext cx="9723240" cy="114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1060560" y="2397240"/>
            <a:ext cx="770400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1600200" y="5340240"/>
            <a:ext cx="49752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47840" y="2666880"/>
            <a:ext cx="25826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28680" y="228600"/>
            <a:ext cx="2584440" cy="2117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542880" y="4800600"/>
            <a:ext cx="24876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vyazaniekryuchkom.com/uploads/posts/2013-04-19/image_2556.gif"/>
          <p:cNvPicPr/>
          <p:nvPr/>
        </p:nvPicPr>
        <p:blipFill>
          <a:blip r:embed="rId3"/>
          <a:stretch/>
        </p:blipFill>
        <p:spPr>
          <a:xfrm>
            <a:off x="658800" y="4495680"/>
            <a:ext cx="2158920" cy="1943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4"/>
          <a:stretch/>
        </p:blipFill>
        <p:spPr>
          <a:xfrm>
            <a:off x="3316320" y="2925720"/>
            <a:ext cx="587700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5"/>
          <a:stretch/>
        </p:blipFill>
        <p:spPr>
          <a:xfrm>
            <a:off x="3322800" y="781200"/>
            <a:ext cx="5078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6"/>
          <a:stretch/>
        </p:blipFill>
        <p:spPr>
          <a:xfrm>
            <a:off x="3139920" y="4668840"/>
            <a:ext cx="62294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39680" y="457200"/>
            <a:ext cx="891864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22600" y="2438280"/>
            <a:ext cx="755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Arial"/>
              </a:rPr>
              <a:t>-6х+3х=3х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851480" y="154080"/>
            <a:ext cx="5037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-4х+7=-2-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-4х+х=-2-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-3х=-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=-9 : (-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=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201600" y="838080"/>
            <a:ext cx="8753400" cy="1101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056600" y="2666880"/>
            <a:ext cx="704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Arial"/>
              </a:rPr>
              <a:t>6х+3х=9х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30T23:13:36Z</dcterms:created>
  <dc:creator>Светлана Викторовна</dc:creator>
  <dc:description/>
  <dc:language>en-US</dc:language>
  <cp:lastModifiedBy>Светлана Викторовна</cp:lastModifiedBy>
  <dcterms:modified xsi:type="dcterms:W3CDTF">2016-01-17T15:08:2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