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190-158F-4259-9D67-06DA66E6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804-620B-41E0-B0D5-596ACE1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43F-DB10-4BB9-AEDC-62B80BE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C60-6770-4348-A956-C93DEF6F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1C1-6E8C-4943-B960-B420150A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0D02-DF0E-42AB-AC76-D1DDCDD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05E-88D4-4AAF-B3FE-B2DAD003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8B9-B951-474A-B2D3-44DB1CD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D77-0304-4A45-919A-3B1841A7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56FF-A399-47D7-A6E8-A4F5EEF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78A-C073-4D86-95E0-CE17DCC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B4A-B86D-4812-95C0-E4F640BF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BB9-CFCD-4CF5-8A8E-414841D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9949-F540-4B10-9453-2C4A5BC7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711-A615-41FF-A53E-D4A10F47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7B87-A7B2-48FC-B324-F3FF8E7D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0CE7-CFF0-4609-9569-7B8C5EA9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61A-1BCD-43C1-9DBF-C2D45A2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B78-547E-42BE-88CF-986C43D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CBA-F8E1-45A2-9A3E-BF3DF293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CF0-ACE5-4415-82D1-1AA538F6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78A-E10A-4CEB-8FE1-FC5CD92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E22-5997-40D9-A012-53F5FA4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57C-C1A5-4E8A-9335-488CC62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C51F-214C-4358-86B7-7DEC262D06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0A8-CB25-467B-A49C-B641FA93A0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ая идея программы «Перспективная начальная школа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принципы концепции «Перспективная начальная школа»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нцип непрерывного общего развития каждого ребенка. - Принцип целостности картины мира. - Принцип учета индивидуальных возможностей и способностей школьников. - Принципы прочности и наглядности. - Принцип охраны и укрепления психического и физического здоровья дете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ипические свойства программы «Перспективная начальная школа»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плектно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струмента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рактивно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особенности УМК "Перспективная начальная школа"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 (методиста). -Меж предметные связи: 2 часть русского языка включает в себя ряд словарей для использования на всех предметах. -Занятия в форме заседания клуба. -Задания направленны на самостоятельную деятельность ученик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ВТОР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язык. Азбука. Авторы: Агаркова Н.Г., Агарков Ю.А. Русский язык. Авторы: Чуракова Н.А., Каленчук М.Л., Малаховская О.В., Байкова Т.А. - Литературное чтение. Автор: Чуракова Н.А. - Математика. Автор: Чекин А.Л. - Информатика (2-4 классы). Авторы: Бененсон Е.П., Паутова А.Г. - Окружающий мир. Авторы: Федотова О.Н., Трафимова Г.В., Трафимов С.А., Царева Л. А. - Музыка. Авторы: Челышева Т.В., Кузнецова В.В. - Технология. Авторы: Рагозина Т.М., Гринева А.А., Голованова И.Л., Мылова И.Б. - Английский язык (2-4 классы). Авторы: Тер-Минасова С.Г., Узунова Л.М., Обукаускайте Д.С., Сухина Е.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: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4T14:32:14Z</dcterms:created>
  <dc:creator>Искандер</dc:creator>
  <dc:description/>
  <dc:language>en-US</dc:language>
  <cp:lastModifiedBy>Искандер</cp:lastModifiedBy>
  <dcterms:modified xsi:type="dcterms:W3CDTF">2017-05-24T15:46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