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38E-9FAD-451D-8FA4-6DE92AC4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2BF-A868-4682-BEF6-6496AA99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6E3-D254-4F83-B707-04949577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741-A3BF-4074-8F13-EF07EF96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7342-A6DA-4E8E-8D8A-AAF63FAE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07B9-E34A-43DE-9EB9-25575B9C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F10E-AC7E-431A-9665-32C07698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51F6-C946-4DF0-9C1B-D369DC89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8AFA-4D88-4E4F-9BCE-219D925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6085-E2D6-45C1-8AF2-E034B485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09D8-B642-4B9B-ADF0-4A13B7B5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EF6-B5C7-4DC9-97E9-7BC6DB46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D6AA-9893-45F5-A100-05C7BC9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2263-126D-46F9-BBA4-C463881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C84F-58F2-4556-9033-D3B2646E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E5FA-7D6D-4BB3-910C-78AC2439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3CE9-B234-4097-BB9D-CA8B0FB7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441-6B3F-4A8E-BE28-4D2FD427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38B-F068-4BD9-BC06-E1AFDAC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C1F-C882-4CCA-AD0E-D3877CF9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E5A-A4F0-4B84-877A-665F7714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951-9057-4330-8699-87AB9C83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7A9-6B6F-41F5-9C3D-B191CF7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1EA-F171-46A1-BF78-D5A8728E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0470-F1DD-4E33-BED4-AB544B57B5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5722-01DD-4641-9B1A-6E05681E6F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ая идея программы «Перспективная начальная школ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тимальное развитие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, где ученик выступает то в роли обучаемого, то в роли обучающего, то в роли организатора учебной ситуац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принципы концепции «Перспективная начальная школа»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нцип непрерывного общего развития каждого ребенка. - Принцип целостности картины мира. - Принцип учета индивидуальных возможностей и способностей школьников. - Принципы прочности и наглядности. - Принцип охраны и укрепления психического и физического здоровья дет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ипические свойства программы «Перспективная начальная школа»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мплектно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струмента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терактивно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особенности УМК "Перспективная начальная школа"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МК по каждому учебному предмету, как правило, включает в себя учебник, хрестоматию, тетрадь для самостоятельной работы, методическое пособие для учителя (методиста). -Меж предметные связи: 2 часть русского языка включает в себя ряд словарей для использования на всех предметах. -Занятия в форме заседания клуба. -Задания направленны на самостоятельную деятельность ученик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ВТОР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язык. Азбука. Авторы: Агаркова Н.Г., Агарков Ю.А. Русский язык. Авторы: Чуракова Н.А., Каленчук М.Л., Малаховская О.В., Байкова Т.А. - Литературное чтение. Автор: Чуракова Н.А. - Математика. Автор: Чекин А.Л. - Информатика (2-4 классы). Авторы: Бененсон Е.П., Паутова А.Г. - Окружающий мир. Авторы: Федотова О.Н., Трафимова Г.В., Трафимов С.А., Царева Л. А. - Музыка. Авторы: Челышева Т.В., Кузнецова В.В. - Технология. Авторы: Рагозина Т.М., Гринева А.А., Голованова И.Л., Мылова И.Б. - Английский язык (2-4 классы). Авторы: Тер-Минасова С.Г., Узунова Л.М., Обукаускайте Д.С., Сухина Е.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ывод: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аким образом учебно-методический комплект «Перспективная начальная школа» позволяет достичь оптимального индивидуального развития каждого ребён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4T14:32:14Z</dcterms:created>
  <dc:creator>Искандер</dc:creator>
  <dc:description/>
  <dc:language>en-US</dc:language>
  <cp:lastModifiedBy>Искандер</cp:lastModifiedBy>
  <dcterms:modified xsi:type="dcterms:W3CDTF">2017-05-24T15:46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