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9454-EB6D-4E2D-BA4F-80A3718C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FA32-AA28-42EF-BDED-BAB68E65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F6DB-B32E-439D-9117-AB470620B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9B9F-6A29-4508-8521-6F987AA87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3947-D2A1-495A-803E-A822CBD1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16BC-2176-42C1-B585-98E82BF1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F2D6-6EAF-4FA8-AF63-4481CCC3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EB98-2EA6-412A-B796-3B3272A8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22D0-9C37-41B3-AE7E-D5D86BE0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B90F-AA17-491F-AAC9-46E0CDC4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52D9-6551-4997-B2B4-F16CAE52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FC28-7D47-459E-AD31-58DEA54E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231B-EF4F-4B9A-BA0C-8CF4E315B6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dcff"/>
            </a:gs>
            <a:gs pos="50000">
              <a:srgbClr val="fcc0f3"/>
            </a:gs>
            <a:gs pos="100000">
              <a:srgbClr val="b9d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0000"/>
                </a:solidFill>
                <a:latin typeface="Monotype Corsiva"/>
              </a:rPr>
              <a:t>Павлин – птица горда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00000" y="3933360"/>
            <a:ext cx="511164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Автор: Богданова Елизавета, 11л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Руководитель:  Кузнецова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8f8f"/>
            </a:gs>
            <a:gs pos="100000">
              <a:srgbClr val="fcc0f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Monotype Corsiva"/>
              </a:rPr>
              <a:t>Надхвостье из картона </a:t>
            </a:r>
            <a:r>
              <a:rPr b="0" i="1" lang="en-US" sz="4400" spc="-1" strike="noStrike">
                <a:solidFill>
                  <a:srgbClr val="000000"/>
                </a:solidFill>
                <a:latin typeface="Monotype Corsiva"/>
              </a:rPr>
              <a:t>d=18</a:t>
            </a:r>
            <a:r>
              <a:rPr b="0" i="1" lang="ru-RU" sz="4400" spc="-1" strike="noStrike">
                <a:solidFill>
                  <a:srgbClr val="000000"/>
                </a:solidFill>
                <a:latin typeface="Monotype Corsiva"/>
              </a:rPr>
              <a:t>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IMG_1009"/>
          <p:cNvPicPr/>
          <p:nvPr/>
        </p:nvPicPr>
        <p:blipFill>
          <a:blip r:embed="rId1"/>
          <a:stretch/>
        </p:blipFill>
        <p:spPr>
          <a:xfrm>
            <a:off x="541440" y="1600200"/>
            <a:ext cx="748656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fa99"/>
            </a:gs>
            <a:gs pos="100000">
              <a:srgbClr val="7a5fe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Ленты шириной 2,5 см и длинной 6 см,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59 шт.- фиолетового цвета,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48 шт. –желтого цвета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 88 шт. светло-сиреневого ц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IMG_0996"/>
          <p:cNvPicPr/>
          <p:nvPr/>
        </p:nvPicPr>
        <p:blipFill>
          <a:blip r:embed="rId1"/>
          <a:stretch/>
        </p:blipFill>
        <p:spPr>
          <a:xfrm>
            <a:off x="1763640" y="1844640"/>
            <a:ext cx="5140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c6c6"/>
            </a:gs>
            <a:gs pos="100000">
              <a:srgbClr val="cdf2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Украшаем обе части картона надхвостья, начиная с верху по кругу приклеивать лепест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Копия IMG_1002"/>
          <p:cNvPicPr/>
          <p:nvPr/>
        </p:nvPicPr>
        <p:blipFill>
          <a:blip r:embed="rId1"/>
          <a:stretch/>
        </p:blipFill>
        <p:spPr>
          <a:xfrm>
            <a:off x="1976400" y="1600200"/>
            <a:ext cx="5189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6fa99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11280" y="404280"/>
            <a:ext cx="453708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Для хохолка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берем ленту желтого цвета шириной 2,5 см и длинной 6 см;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разрезаем ленту вдоль и выдергиваем нитки с одного края;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приготовим 3 заготовки; каждую приклеим на проволочку тонкую  длинной 2 см по кругу</a:t>
            </a: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IMG_0998"/>
          <p:cNvPicPr/>
          <p:nvPr/>
        </p:nvPicPr>
        <p:blipFill>
          <a:blip r:embed="rId1"/>
          <a:stretch/>
        </p:blipFill>
        <p:spPr>
          <a:xfrm>
            <a:off x="755640" y="765000"/>
            <a:ext cx="3095640" cy="4526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Копия IMG_1001"/>
          <p:cNvPicPr/>
          <p:nvPr/>
        </p:nvPicPr>
        <p:blipFill>
          <a:blip r:embed="rId2"/>
          <a:stretch/>
        </p:blipFill>
        <p:spPr>
          <a:xfrm>
            <a:off x="5148360" y="4292640"/>
            <a:ext cx="180000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Вид сзади            Вид спере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IMG_1002"/>
          <p:cNvPicPr/>
          <p:nvPr/>
        </p:nvPicPr>
        <p:blipFill>
          <a:blip r:embed="rId2"/>
          <a:stretch/>
        </p:blipFill>
        <p:spPr>
          <a:xfrm>
            <a:off x="250920" y="1125360"/>
            <a:ext cx="4351320" cy="4526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IMG_1001"/>
          <p:cNvPicPr/>
          <p:nvPr/>
        </p:nvPicPr>
        <p:blipFill>
          <a:blip r:embed="rId3"/>
          <a:stretch/>
        </p:blipFill>
        <p:spPr>
          <a:xfrm>
            <a:off x="4643280" y="1125360"/>
            <a:ext cx="424044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374472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Не зря павлина называют гордой птицей       и птицей счасть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IMG_1000"/>
          <p:cNvPicPr/>
          <p:nvPr/>
        </p:nvPicPr>
        <p:blipFill>
          <a:blip r:embed="rId1"/>
          <a:stretch/>
        </p:blipFill>
        <p:spPr>
          <a:xfrm>
            <a:off x="4502160" y="549360"/>
            <a:ext cx="35640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b0e9"/>
            </a:gs>
            <a:gs pos="50000">
              <a:srgbClr val="b4fac5"/>
            </a:gs>
            <a:gs pos="100000">
              <a:srgbClr val="f2b0e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влин – птица счаст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1"/>
          <a:stretch/>
        </p:blipFill>
        <p:spPr>
          <a:xfrm>
            <a:off x="250920" y="1425600"/>
            <a:ext cx="5041800" cy="2843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2"/>
          <a:stretch/>
        </p:blipFill>
        <p:spPr>
          <a:xfrm>
            <a:off x="4211640" y="2933640"/>
            <a:ext cx="432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29a"/>
            </a:gs>
            <a:gs pos="100000">
              <a:srgbClr val="86e6b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Monotype Corsiva"/>
              </a:rPr>
              <a:t>Цели и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Цель: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 Оценить свои возможности в области проект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разработать и выполнить 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изготовить птицу пав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применить знания и умения, полученные в объединении «мастера родного       кра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продолжить работу в технике «канзаши», освоив приемы создания объемных издел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оценить проделанную работу, сравнив с разными техниками изготовления пав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защитить прое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ff75"/>
            </a:gs>
            <a:gs pos="50000">
              <a:srgbClr val="4fa7ff"/>
            </a:gs>
            <a:gs pos="100000">
              <a:srgbClr val="75ff7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Monotype Corsiva"/>
              </a:rPr>
              <a:t>Работа должна бы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аккуратно выполнен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ривлекать вниман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ригинальна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едорога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озникшие дефекты должны быть устранены в процессе выполнения издел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50000">
              <a:srgbClr val="f9b9bf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Monotype Corsiva"/>
              </a:rPr>
              <a:t>Организация рабочего ме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IMG_1012"/>
          <p:cNvPicPr/>
          <p:nvPr/>
        </p:nvPicPr>
        <p:blipFill>
          <a:blip r:embed="rId1"/>
          <a:stretch/>
        </p:blipFill>
        <p:spPr>
          <a:xfrm>
            <a:off x="1042920" y="1193760"/>
            <a:ext cx="691380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f0dd"/>
            </a:gs>
            <a:gs pos="50000">
              <a:srgbClr val="fd8f8f"/>
            </a:gs>
            <a:gs pos="100000">
              <a:srgbClr val="c6f0d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Monotype Corsiva"/>
              </a:rPr>
              <a:t>Каркас павл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IMG_0992"/>
          <p:cNvPicPr/>
          <p:nvPr/>
        </p:nvPicPr>
        <p:blipFill>
          <a:blip r:embed="rId1"/>
          <a:stretch/>
        </p:blipFill>
        <p:spPr>
          <a:xfrm>
            <a:off x="538200" y="1600200"/>
            <a:ext cx="387504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IMG_1004"/>
          <p:cNvPicPr/>
          <p:nvPr/>
        </p:nvPicPr>
        <p:blipFill>
          <a:blip r:embed="rId2"/>
          <a:stretch/>
        </p:blipFill>
        <p:spPr>
          <a:xfrm>
            <a:off x="4856040" y="1600200"/>
            <a:ext cx="3621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Ленты шириной 1 см и длиной 4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IMG_0994"/>
          <p:cNvPicPr/>
          <p:nvPr/>
        </p:nvPicPr>
        <p:blipFill>
          <a:blip r:embed="rId2"/>
          <a:stretch/>
        </p:blipFill>
        <p:spPr>
          <a:xfrm>
            <a:off x="457200" y="1639800"/>
            <a:ext cx="822960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ff75"/>
            </a:gs>
            <a:gs pos="50000">
              <a:srgbClr val="fd8f8f"/>
            </a:gs>
            <a:gs pos="100000">
              <a:srgbClr val="75ff7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IMG_1010"/>
          <p:cNvPicPr/>
          <p:nvPr/>
        </p:nvPicPr>
        <p:blipFill>
          <a:blip r:embed="rId1"/>
          <a:stretch/>
        </p:blipFill>
        <p:spPr>
          <a:xfrm>
            <a:off x="1974960" y="1600200"/>
            <a:ext cx="5192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1c6"/>
            </a:gs>
            <a:gs pos="50000">
              <a:srgbClr val="f65c5c"/>
            </a:gs>
            <a:gs pos="100000">
              <a:srgbClr val="b1f1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Monotype Corsiva"/>
              </a:rPr>
              <a:t>Глазки- бус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IMG_1011"/>
          <p:cNvPicPr/>
          <p:nvPr/>
        </p:nvPicPr>
        <p:blipFill>
          <a:blip r:embed="rId1"/>
          <a:stretch/>
        </p:blipFill>
        <p:spPr>
          <a:xfrm>
            <a:off x="2178000" y="1600200"/>
            <a:ext cx="4786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4T15:37:02Z</dcterms:created>
  <dc:creator>LAN_OS</dc:creator>
  <dc:description/>
  <dc:language>en-US</dc:language>
  <cp:lastModifiedBy>31</cp:lastModifiedBy>
  <dcterms:modified xsi:type="dcterms:W3CDTF">2018-05-10T08:39:37Z</dcterms:modified>
  <cp:revision>7</cp:revision>
  <dc:subject/>
  <dc:title>Павлин</dc:title>
</cp:coreProperties>
</file>