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271-73D6-44F2-815B-5BBDD98B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0E4-7C06-4595-B55E-D03F753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B3C-6CE4-4859-8C75-A619CBD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C73-8507-4DF9-8CA4-598C5A83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FCF-09F5-42DD-8C74-76AAF7D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3A1-47F1-4EAF-AB5E-EF54587A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F03-8606-4868-905E-80B6485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F94-052D-442E-9BCA-C1088E4C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407-D694-4DC5-8913-4459D9C8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AE3-BD1F-45F0-9C69-B0C361A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E40-9E69-48AC-9437-68EABAF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5C6-56DA-4408-A4FA-4F99087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09F-C66A-413D-81E3-28A1BDED7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dcff"/>
            </a:gs>
            <a:gs pos="50000">
              <a:srgbClr val="fcc0f3"/>
            </a:gs>
            <a:gs pos="100000">
              <a:srgbClr val="b9d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Павлин – птица горд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933360"/>
            <a:ext cx="51116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Автор: Богданова Елизавета, 11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:  Кузнец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8f8f"/>
            </a:gs>
            <a:gs pos="100000">
              <a:srgbClr val="fcc0f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Надхвостье из картона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d=18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IMG_1009"/>
          <p:cNvPicPr/>
          <p:nvPr/>
        </p:nvPicPr>
        <p:blipFill>
          <a:blip r:embed="rId1"/>
          <a:stretch/>
        </p:blipFill>
        <p:spPr>
          <a:xfrm>
            <a:off x="541440" y="1600200"/>
            <a:ext cx="74865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a99"/>
            </a:gs>
            <a:gs pos="100000">
              <a:srgbClr val="7a5fe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Ленты шириной 2,5 см и длинной 6 см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59 шт.- фиолетового цвета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48 шт. –желтого цвет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88 шт. светло-сиренев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G_0996"/>
          <p:cNvPicPr/>
          <p:nvPr/>
        </p:nvPicPr>
        <p:blipFill>
          <a:blip r:embed="rId1"/>
          <a:stretch/>
        </p:blipFill>
        <p:spPr>
          <a:xfrm>
            <a:off x="1763640" y="1844640"/>
            <a:ext cx="51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6c6"/>
            </a:gs>
            <a:gs pos="100000">
              <a:srgbClr val="cdf2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крашаем обе части картона надхвостья, начиная с верху по кругу приклеивать лепест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опия IMG_1002"/>
          <p:cNvPicPr/>
          <p:nvPr/>
        </p:nvPicPr>
        <p:blipFill>
          <a:blip r:embed="rId1"/>
          <a:stretch/>
        </p:blipFill>
        <p:spPr>
          <a:xfrm>
            <a:off x="1976400" y="1600200"/>
            <a:ext cx="518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6fa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11280" y="404280"/>
            <a:ext cx="4537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Для хохол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берем ленту желтого цвета шириной 2,5 см и длинной 6 см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разрезаем ленту вдоль и выдергиваем нитки с одного края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иготовим 3 заготовки; каждую приклеим на проволочку тонкую  длинной 2 см по кругу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G_0998"/>
          <p:cNvPicPr/>
          <p:nvPr/>
        </p:nvPicPr>
        <p:blipFill>
          <a:blip r:embed="rId1"/>
          <a:stretch/>
        </p:blipFill>
        <p:spPr>
          <a:xfrm>
            <a:off x="755640" y="765000"/>
            <a:ext cx="3095640" cy="452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Копия IMG_1001"/>
          <p:cNvPicPr/>
          <p:nvPr/>
        </p:nvPicPr>
        <p:blipFill>
          <a:blip r:embed="rId2"/>
          <a:stretch/>
        </p:blipFill>
        <p:spPr>
          <a:xfrm>
            <a:off x="5148360" y="4292640"/>
            <a:ext cx="1800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Вид сзади            Вид спер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_1002"/>
          <p:cNvPicPr/>
          <p:nvPr/>
        </p:nvPicPr>
        <p:blipFill>
          <a:blip r:embed="rId2"/>
          <a:stretch/>
        </p:blipFill>
        <p:spPr>
          <a:xfrm>
            <a:off x="250920" y="1125360"/>
            <a:ext cx="4351320" cy="452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G_1001"/>
          <p:cNvPicPr/>
          <p:nvPr/>
        </p:nvPicPr>
        <p:blipFill>
          <a:blip r:embed="rId3"/>
          <a:stretch/>
        </p:blipFill>
        <p:spPr>
          <a:xfrm>
            <a:off x="4643280" y="1125360"/>
            <a:ext cx="4240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3744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е зря павлина называют гордой птицей       и птицей счасть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1000"/>
          <p:cNvPicPr/>
          <p:nvPr/>
        </p:nvPicPr>
        <p:blipFill>
          <a:blip r:embed="rId1"/>
          <a:stretch/>
        </p:blipFill>
        <p:spPr>
          <a:xfrm>
            <a:off x="4502160" y="549360"/>
            <a:ext cx="356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b0e9"/>
            </a:gs>
            <a:gs pos="50000">
              <a:srgbClr val="b4fac5"/>
            </a:gs>
            <a:gs pos="100000">
              <a:srgbClr val="f2b0e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лин – птица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50920" y="1425600"/>
            <a:ext cx="5041800" cy="28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4211640" y="293364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29a"/>
            </a:gs>
            <a:gs pos="100000">
              <a:srgbClr val="86e6b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Оценить свои возможности в области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зработать и выполнить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готовить птицу пав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менить знания и умения, полученные в объединении «мастера родного      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должить работу в технике «канзаши», освоив приемы создания объемных изд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ценить проделанную работу, сравнив с разными техниками изготовления пав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щитить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ff75"/>
            </a:gs>
            <a:gs pos="50000">
              <a:srgbClr val="4fa7ff"/>
            </a:gs>
            <a:gs pos="100000">
              <a:srgbClr val="75ff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Работа должна бы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ккуратно выполне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влекать вним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ригиналь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едорог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зникшие дефекты должны быть устранены в процессе выполнения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f9b9bf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Организация рабочего м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IMG_1012"/>
          <p:cNvPicPr/>
          <p:nvPr/>
        </p:nvPicPr>
        <p:blipFill>
          <a:blip r:embed="rId1"/>
          <a:stretch/>
        </p:blipFill>
        <p:spPr>
          <a:xfrm>
            <a:off x="1042920" y="1193760"/>
            <a:ext cx="6913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f0dd"/>
            </a:gs>
            <a:gs pos="50000">
              <a:srgbClr val="fd8f8f"/>
            </a:gs>
            <a:gs pos="100000">
              <a:srgbClr val="c6f0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Каркас пав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0992"/>
          <p:cNvPicPr/>
          <p:nvPr/>
        </p:nvPicPr>
        <p:blipFill>
          <a:blip r:embed="rId1"/>
          <a:stretch/>
        </p:blipFill>
        <p:spPr>
          <a:xfrm>
            <a:off x="538200" y="1600200"/>
            <a:ext cx="387504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G_1004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Ленты шириной 1 см и длиной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G_0994"/>
          <p:cNvPicPr/>
          <p:nvPr/>
        </p:nvPicPr>
        <p:blipFill>
          <a:blip r:embed="rId2"/>
          <a:stretch/>
        </p:blipFill>
        <p:spPr>
          <a:xfrm>
            <a:off x="457200" y="1639800"/>
            <a:ext cx="8229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ff75"/>
            </a:gs>
            <a:gs pos="50000">
              <a:srgbClr val="fd8f8f"/>
            </a:gs>
            <a:gs pos="100000">
              <a:srgbClr val="75ff7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1010"/>
          <p:cNvPicPr/>
          <p:nvPr/>
        </p:nvPicPr>
        <p:blipFill>
          <a:blip r:embed="rId1"/>
          <a:stretch/>
        </p:blipFill>
        <p:spPr>
          <a:xfrm>
            <a:off x="1974960" y="1600200"/>
            <a:ext cx="519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1c6"/>
            </a:gs>
            <a:gs pos="50000">
              <a:srgbClr val="f65c5c"/>
            </a:gs>
            <a:gs pos="100000">
              <a:srgbClr val="b1f1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Глазки- бу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_1011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5:37:02Z</dcterms:created>
  <dc:creator>LAN_OS</dc:creator>
  <dc:description/>
  <dc:language>en-US</dc:language>
  <cp:lastModifiedBy>31</cp:lastModifiedBy>
  <dcterms:modified xsi:type="dcterms:W3CDTF">2018-05-10T08:39:37Z</dcterms:modified>
  <cp:revision>7</cp:revision>
  <dc:subject/>
  <dc:title>Павлин</dc:title>
</cp:coreProperties>
</file>