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0A7-851E-4F14-A8A8-BFC5C8CA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D9D-8F4E-4FED-855E-00563E4A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68E-67C0-45FD-9535-01465DF9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AA8-193F-470B-9572-87EDABFC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B779-66F3-49FC-8E3C-6B53C0B4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F831-BA3B-41B5-B57E-DE1872EE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4A64-9F48-4A09-B1A3-3DEC6FA3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9EC5-FB9D-412E-977A-FDD780E3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8D9E-3BD4-4BDE-81B9-8763B9B6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954C-DFDB-4FC6-9F83-191C0937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FF89-CFE3-4B32-86D0-618ABD9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79F-FACE-44C7-8F90-D5694F34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FE14-55BF-43A1-B493-BABFE490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3A1F-DE52-4D0C-BB1A-87FAD5F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8B4D-F2B9-4A42-9C83-DF079538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46B1-383E-476F-AA3E-3BF8272B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C5E3-0FAE-4A83-AFEB-2BB86B9F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E62-B191-4161-9BF2-164BB7EA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5EC-3A5B-4FBC-93A7-DF7F1634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A7E-8513-424F-B858-BDBD8834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50F-EBD8-4035-8693-B7080344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7B8-CC1C-4041-9DE3-4A03F1E3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CF0-E8C0-4903-86DB-F4721660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E54-E6C8-458A-A6A2-AF883771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2B4A-1B90-4964-9D58-6B8C3D2E4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6D7D-D5BC-417C-A134-6824F3BA5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809720" y="1243080"/>
            <a:ext cx="5243400" cy="2938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979280" y="4220640"/>
            <a:ext cx="58323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Подготовка  к ОГЭ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23760" y="-195120"/>
            <a:ext cx="9101160" cy="191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ходят общий знаменатель дроб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Умножают обе части уравнения на это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мен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Решают получившееся целое у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Исключают из его корней те, которые обращают в нуль общий знаменатель дроб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740720" y="508464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группа: работа по кар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решение уравнений 1 части ОГ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группа: разбор и решение урав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части ОГЭ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596360" y="1628640"/>
            <a:ext cx="9363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по кар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755640" y="1413000"/>
            <a:ext cx="76327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1.Решить  уравнения из карточки   ( которые не успели)- 2груп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2.Учебник стр.176-177 №35-4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( нечетные номер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овторить способы решения систем уравн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380360" y="479736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1800000" cy="183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0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0" y="1255680"/>
            <a:ext cx="8894880" cy="4900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324000" y="5300640"/>
            <a:ext cx="936360" cy="10447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9"/>
          <p:cNvSpPr/>
          <p:nvPr/>
        </p:nvSpPr>
        <p:spPr>
          <a:xfrm>
            <a:off x="8317080" y="6021360"/>
            <a:ext cx="43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ить и  систематизировать 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 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ть 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ть 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451640" y="472428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ное уравнение: ах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дратное уравнение: а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+ с = 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циональное уравнение: р(х) = 0, где р(х) – рациональное выраж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ррациональное уравнение:          =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квадратное уравнение: а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я с модулем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x| = 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6840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Мои документы\Мои рисунки\Рисунок16.png"/>
          <p:cNvPicPr/>
          <p:nvPr/>
        </p:nvPicPr>
        <p:blipFill>
          <a:blip r:embed="rId3"/>
          <a:stretch/>
        </p:blipFill>
        <p:spPr>
          <a:xfrm>
            <a:off x="7740720" y="5300640"/>
            <a:ext cx="9367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14360" y="139680"/>
            <a:ext cx="8242200" cy="1244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ожение на 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 новой перем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едение в степ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бинированный спосо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фический спосо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6372360" y="4129200"/>
            <a:ext cx="1728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pic>
        <p:nvPicPr>
          <p:cNvPr id="99" name="Объект 2" descr=""/>
          <p:cNvPicPr/>
          <p:nvPr/>
        </p:nvPicPr>
        <p:blipFill>
          <a:blip r:embed="rId2"/>
          <a:stretch/>
        </p:blipFill>
        <p:spPr>
          <a:xfrm>
            <a:off x="1122480" y="1566720"/>
            <a:ext cx="8369280" cy="458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Мои документы\Мои рисунки\Рисунок16.png"/>
          <p:cNvPicPr/>
          <p:nvPr/>
        </p:nvPicPr>
        <p:blipFill>
          <a:blip r:embed="rId3"/>
          <a:stretch/>
        </p:blipFill>
        <p:spPr>
          <a:xfrm>
            <a:off x="324000" y="5300640"/>
            <a:ext cx="9363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4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те уравнен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– 3*(2х + 2) = 5 – 4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– 6х – 6 = 5 – 4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6х + 4х =5 – 6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х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= 1 : (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= -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F2D1-9994-4F20-9D66-6769692D556B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7020000" y="5805360"/>
            <a:ext cx="43164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6372360" y="5805360"/>
            <a:ext cx="43164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5796000" y="5805360"/>
            <a:ext cx="43164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5219640" y="5805360"/>
            <a:ext cx="432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468360" y="4540320"/>
            <a:ext cx="13921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3" descr=""/>
          <p:cNvPicPr/>
          <p:nvPr/>
        </p:nvPicPr>
        <p:blipFill>
          <a:blip r:embed="rId1"/>
          <a:stretch/>
        </p:blipFill>
        <p:spPr>
          <a:xfrm>
            <a:off x="426960" y="-195120"/>
            <a:ext cx="8229600" cy="1914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2х – 15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= 1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2; с = -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4*1*(-15) = 64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, 2 кор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             = -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            = 5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 - 3;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236000" y="5210280"/>
            <a:ext cx="936360" cy="1044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0159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1258920" y="4508640"/>
            <a:ext cx="91440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6480" y="139680"/>
            <a:ext cx="9088200" cy="124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 Все члены переносятся в левую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я, в правой должен быть 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 Левая часть раскладывается на 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 Каждый множитель приравнивается к 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 Решается каждое из получе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 Записывается ответ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Математика 2</cp:lastModifiedBy>
  <dcterms:modified xsi:type="dcterms:W3CDTF">2018-05-11T12:24:07Z</dcterms:modified>
  <cp:revision>87</cp:revision>
  <dc:subject/>
  <dc:title>Слайд 1</dc:title>
</cp:coreProperties>
</file>