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23D-0254-4C90-8E25-9B65C4DF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7619-2F7F-4693-B01D-8D593C6A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90A-94AE-492D-AAE4-73B176BF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9040-9F45-432D-B959-6A6791CF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E81E-82C7-461B-8ED0-8115C6F1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5AB6-AE41-4B76-8D1E-47EE94BF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A8CB-F725-4AD5-A490-EBAF1D4A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8F5A-30EC-4467-A974-8FBD9E6A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8E22-045E-4BE7-81B9-F92179DA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6F58-4D2E-4F06-8CB6-3A79DFE0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179E-A014-449C-889A-F0348A26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06D-98DA-4027-8DEC-0E1654BB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B24A-4151-4AE1-A9F8-0C509695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C125-4CE4-4F05-8BDF-386B1022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60AA-D3BE-4626-9E71-84A47ED4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DFAF-6D47-4B7A-9F17-FF6163F1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12EA-DDDA-4C12-AC42-B5869082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E87-D9CA-445C-B106-3A337F2A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5F7-5495-410E-9C67-37AC9A75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19A-48A6-4F28-BB44-9931F559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F656-1FFB-4CB8-BFFC-3939F2BB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E75-7259-4ED7-9178-91370A5C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847-3E5A-48E5-A7B6-51AF6A98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287C-ED80-4BCD-9261-2923A4F7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9681-E195-40D9-B345-B22462CD44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0E2F-EB2D-49F7-9BE7-BE122145FA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809720" y="1243080"/>
            <a:ext cx="5243400" cy="2938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979280" y="4220640"/>
            <a:ext cx="583236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6228"/>
                </a:solidFill>
                <a:latin typeface="Calibri"/>
              </a:rPr>
              <a:t>Подготовка  к ОГЭ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23760" y="-195120"/>
            <a:ext cx="9101160" cy="1914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Находят общий знаменатель дроб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Умножают обе части уравнения на это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мена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Решают получившееся целое урав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Исключают из его корней те, которые обращают в нуль общий знаменатель дроб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7740720" y="5084640"/>
            <a:ext cx="93672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44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группа: работа по карточ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решение уравнений 1 части ОГЭ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группа: разбор и решение уравн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части ОГЭ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7596360" y="1628640"/>
            <a:ext cx="9363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44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стоятельная работа по карточ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44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755640" y="1413000"/>
            <a:ext cx="763272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1.Решить  уравнения из карточки   ( которые не успели)- 2групп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2.Учебник стр.176-177 №35-4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( нечетные номер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Повторить способы решения систем уравнен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7380360" y="4797360"/>
            <a:ext cx="93672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28800" y="1428840"/>
            <a:ext cx="7758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работу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4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1800000" cy="1833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5651640" y="4365720"/>
            <a:ext cx="1584360" cy="20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0" y="1255680"/>
            <a:ext cx="8894880" cy="4900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324000" y="5300640"/>
            <a:ext cx="936360" cy="1044720"/>
          </a:xfrm>
          <a:prstGeom prst="rect">
            <a:avLst/>
          </a:prstGeom>
          <a:ln w="0">
            <a:noFill/>
          </a:ln>
        </p:spPr>
      </p:pic>
      <p:sp>
        <p:nvSpPr>
          <p:cNvPr id="86" name="Номер слайда 9"/>
          <p:cNvSpPr/>
          <p:nvPr/>
        </p:nvSpPr>
        <p:spPr>
          <a:xfrm>
            <a:off x="8317080" y="6021360"/>
            <a:ext cx="431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44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бщить и  систематизировать 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торить 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ить 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ть  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7451640" y="4724280"/>
            <a:ext cx="93672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44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нейное уравнение: ах 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дратное уравнение: а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 + с = 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циональное уравнение: р(х) = 0, где р(х) – рациональное выраж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ррациональное уравнение:          =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квадратное уравнение: а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авнения с модулем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x| = 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684000" cy="43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d:\Мои документы\Мои рисунки\Рисунок16.png"/>
          <p:cNvPicPr/>
          <p:nvPr/>
        </p:nvPicPr>
        <p:blipFill>
          <a:blip r:embed="rId3"/>
          <a:stretch/>
        </p:blipFill>
        <p:spPr>
          <a:xfrm>
            <a:off x="7740720" y="5300640"/>
            <a:ext cx="93672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14360" y="139680"/>
            <a:ext cx="8242200" cy="1244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ложение на множит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едение новой перемен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ведение в степ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бинированный спосо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фический спосо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6372360" y="4129200"/>
            <a:ext cx="1728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44520"/>
          </a:xfrm>
          <a:prstGeom prst="rect">
            <a:avLst/>
          </a:prstGeom>
          <a:ln w="0">
            <a:noFill/>
          </a:ln>
        </p:spPr>
      </p:pic>
      <p:pic>
        <p:nvPicPr>
          <p:cNvPr id="99" name="Объект 2" descr=""/>
          <p:cNvPicPr/>
          <p:nvPr/>
        </p:nvPicPr>
        <p:blipFill>
          <a:blip r:embed="rId2"/>
          <a:stretch/>
        </p:blipFill>
        <p:spPr>
          <a:xfrm>
            <a:off x="1122480" y="1566720"/>
            <a:ext cx="8369280" cy="458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d:\Мои документы\Мои рисунки\Рисунок16.png"/>
          <p:cNvPicPr/>
          <p:nvPr/>
        </p:nvPicPr>
        <p:blipFill>
          <a:blip r:embed="rId3"/>
          <a:stretch/>
        </p:blipFill>
        <p:spPr>
          <a:xfrm>
            <a:off x="324000" y="5300640"/>
            <a:ext cx="9363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44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ите уравнен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– 3*(2х + 2) = 5 – 4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– 6х – 6 = 5 – 4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6х + 4х =5 – 6 +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х =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 = 1 : (-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= - 0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70FF-9B37-4642-AC3E-376FF7735CC8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7020000" y="5805360"/>
            <a:ext cx="43164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6372360" y="5805360"/>
            <a:ext cx="43164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5796000" y="5805360"/>
            <a:ext cx="43164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0"/>
          <p:cNvSpPr/>
          <p:nvPr/>
        </p:nvSpPr>
        <p:spPr>
          <a:xfrm>
            <a:off x="5219640" y="5805360"/>
            <a:ext cx="432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468360" y="4540320"/>
            <a:ext cx="139212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3" descr=""/>
          <p:cNvPicPr/>
          <p:nvPr/>
        </p:nvPicPr>
        <p:blipFill>
          <a:blip r:embed="rId1"/>
          <a:stretch/>
        </p:blipFill>
        <p:spPr>
          <a:xfrm>
            <a:off x="426960" y="-195120"/>
            <a:ext cx="8229600" cy="1914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2х – 15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= 1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2; с = -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4*1*(-15) = 64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&gt;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, 2 кор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              = -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            = 5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:  - 3;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7236000" y="5210280"/>
            <a:ext cx="936360" cy="10443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1258920" y="3284640"/>
            <a:ext cx="1015920" cy="7207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4"/>
          <a:stretch/>
        </p:blipFill>
        <p:spPr>
          <a:xfrm>
            <a:off x="1258920" y="4508640"/>
            <a:ext cx="91440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6480" y="139680"/>
            <a:ext cx="9088200" cy="1244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 Все члены переносятся в левую ча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авнения, в правой должен быть 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 Левая часть раскладывается на множит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 Каждый множитель приравнивается к 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 Решается каждое из получен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авн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 Записывается ответ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7:30:24Z</dcterms:created>
  <dc:creator>Comp</dc:creator>
  <dc:description/>
  <dc:language>en-US</dc:language>
  <cp:lastModifiedBy>Математика 2</cp:lastModifiedBy>
  <dcterms:modified xsi:type="dcterms:W3CDTF">2018-05-11T12:24:07Z</dcterms:modified>
  <cp:revision>87</cp:revision>
  <dc:subject/>
  <dc:title>Слайд 1</dc:title>
</cp:coreProperties>
</file>