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B96-F354-444C-9DE4-4A728740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CEF-4E45-4306-A305-6B1AE7D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454-912C-4D47-AE1F-32D2BBC2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F2D-B3BC-48BE-A6F9-2B497EA8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2D0E-ED43-4C23-B2F0-537BBD7C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A6FD-81FB-42BC-8153-E710F39E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7440-3BAF-4B2C-9876-7B466220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5234-F10B-47A7-90CE-E5B62E90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672-6979-49BF-9BE4-D9857009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AED9-4880-457C-9331-3DB0E0F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4B3-ED22-464F-891A-56C39EE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323-40D9-4A9E-9323-FC66616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AEC-386D-4907-8177-3E6E656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D720-0076-4F17-AC75-379CA83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A60-FFF4-424D-A7B2-8BA0AAF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BF9-8938-4ED6-9BB9-C867B6DF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88E7-ADEA-4A80-8A9E-C6C53877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878-D9D4-4700-A62C-B736F2BD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399-D53D-4E42-A993-8677AD4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B49-D46A-40F7-83A5-699CF485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565-871A-4F72-8700-E232E19D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535-2291-43FF-8EC8-600D9E3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8A8-1071-4673-AB3C-624A0F4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1F-58D0-418B-AAC5-94B47307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96E4-6B10-4669-AABA-ADF39E662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D959-BFFA-434A-83ED-909732950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809720" y="1243080"/>
            <a:ext cx="5243400" cy="2938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79280" y="4220640"/>
            <a:ext cx="5832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Подготовка  к ОГ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3760" y="-195120"/>
            <a:ext cx="9101160" cy="191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ходят общий знаменатель дро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Умножают обе части уравнения на это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мен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Решают получившееся целое у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Исключают из его корней те, которые обращают в нуль общий знаменатель дро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740720" y="508464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группа: 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решение уравнений 1 части ОГ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группа: разбор и 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части ОГ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596360" y="1628640"/>
            <a:ext cx="9363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55640" y="1413000"/>
            <a:ext cx="76327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1.Решить  уравнения из карточки   ( которые не успели)- 2груп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.Учебник стр.176-177 №35-4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( нечетные номер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вторить способы решения систем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380360" y="479736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800000" cy="183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0" y="1255680"/>
            <a:ext cx="8894880" cy="490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324000" y="5300640"/>
            <a:ext cx="936360" cy="10447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9"/>
          <p:cNvSpPr/>
          <p:nvPr/>
        </p:nvSpPr>
        <p:spPr>
          <a:xfrm>
            <a:off x="8317080" y="6021360"/>
            <a:ext cx="43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и  систематизировать 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ь 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ть 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451640" y="472428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ое уравнение: ах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тное уравнение: а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+ с =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циональное уравнение: р(х) = 0, где р(х) – рациональное выраж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рациональное уравнение:          =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квадратное уравнение: а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 с модулем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x| = 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6840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Мои документы\Мои рисунки\Рисунок16.png"/>
          <p:cNvPicPr/>
          <p:nvPr/>
        </p:nvPicPr>
        <p:blipFill>
          <a:blip r:embed="rId3"/>
          <a:stretch/>
        </p:blipFill>
        <p:spPr>
          <a:xfrm>
            <a:off x="7740720" y="530064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14360" y="139680"/>
            <a:ext cx="82422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ожение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новой перем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едение в степ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ированный спосо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фический спосо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6372360" y="4129200"/>
            <a:ext cx="1728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2" descr=""/>
          <p:cNvPicPr/>
          <p:nvPr/>
        </p:nvPicPr>
        <p:blipFill>
          <a:blip r:embed="rId2"/>
          <a:stretch/>
        </p:blipFill>
        <p:spPr>
          <a:xfrm>
            <a:off x="1122480" y="1566720"/>
            <a:ext cx="8369280" cy="458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Мои документы\Мои рисунки\Рисунок16.png"/>
          <p:cNvPicPr/>
          <p:nvPr/>
        </p:nvPicPr>
        <p:blipFill>
          <a:blip r:embed="rId3"/>
          <a:stretch/>
        </p:blipFill>
        <p:spPr>
          <a:xfrm>
            <a:off x="324000" y="5300640"/>
            <a:ext cx="9363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е уравне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3*(2х + 2) = 5 – 4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6х – 6 = 5 – 4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6х + 4х =5 – 6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х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= 1 : (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= -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3202-28BD-4205-ACF1-A3C130C2909C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702000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637236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579600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5219640" y="5805360"/>
            <a:ext cx="43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468360" y="4540320"/>
            <a:ext cx="13921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3" descr=""/>
          <p:cNvPicPr/>
          <p:nvPr/>
        </p:nvPicPr>
        <p:blipFill>
          <a:blip r:embed="rId1"/>
          <a:stretch/>
        </p:blipFill>
        <p:spPr>
          <a:xfrm>
            <a:off x="426960" y="-195120"/>
            <a:ext cx="8229600" cy="191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х – 15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= 1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; с = -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4*1*(-15) = 6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 2 кор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             =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            = 5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 - 3;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236000" y="5210280"/>
            <a:ext cx="936360" cy="1044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0159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9144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6480" y="139680"/>
            <a:ext cx="9088200" cy="124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Все члены переносятся в лев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, в правой должен быть 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Левая часть раскладывается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 Каждый множитель приравнивается к 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 Решается каждое из получе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 Записывается ответ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Математика 2</cp:lastModifiedBy>
  <dcterms:modified xsi:type="dcterms:W3CDTF">2018-05-11T12:24:07Z</dcterms:modified>
  <cp:revision>87</cp:revision>
  <dc:subject/>
  <dc:title>Слайд 1</dc:title>
</cp:coreProperties>
</file>