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317-3ED3-4F27-8CC9-1D3B5AE8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3CC-57CB-4674-9AF0-21897A18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178C-3814-4EA4-BA96-3114E3E1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87D-BF0A-4FAA-B93A-2BEC8AB1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5C6E-9384-4232-BE60-B25D9438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D1CD-84B8-4E00-8B73-E0D6B54B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4DF4-C60E-4488-96DE-D953E445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EE95-CA01-43BF-949F-CC711CBA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F38A-724E-4213-83DD-AF40EDC4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A70E-8113-47FC-8D10-CAA96152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F12B-F7EF-47B7-BB4F-3ABFE8BF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F210-9E14-4D47-BC18-5716EF9C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38BD-E75D-4114-BB1C-27F2FB22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7F18-86A9-463D-A66A-06FC3B29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D592-2495-4702-890C-62958E20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4402-7680-4D6D-91E6-1EDE5FBE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A02B-64B2-4035-BE8E-740FB219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54589-2980-4006-BC6B-2BD2606B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DAF40-ACDF-4E4D-9622-20FA5816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D90F0-B5E2-4B99-8735-4125D65E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F72F8-04A4-4B2A-9830-E5E528C9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A4325-97EB-4356-83D1-73B5DE87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3CA-5AAC-4942-B3AF-B290502E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8D331-6ACA-4F63-8FFB-39556F68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628C6-FE33-4A78-97DF-45999AB4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925A-FC56-444F-9A4C-6030CAC8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710B-07C4-4A00-824B-7D977A2E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8E516-FCCB-4B70-8A9A-C900B79D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B68C1-55B6-49CA-9279-E60AB0D4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CDFC1-312D-439C-BADE-EAEA2366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69E8A-D9B7-4C44-A85E-71DDECD0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E6D41-371F-4961-8A98-3E832E3E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CD680-52A4-49E3-B7FD-3D712693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A6C-66EF-422B-B8AE-4A64F2FD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16084-3C79-4B3E-BC94-F47C68F3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A7168-A103-44E9-BD5C-7E4751F8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F84B7-BBAF-4A39-9502-DEB9F18B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D5AB0-23C0-47B4-86C1-2A9B8BFE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AE4D3-6ED1-483B-B735-C63C8F78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B9E25-E623-4022-9458-FF6A8008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16617-6067-4CA2-9021-99AD6A27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0D4D4-C82A-4885-8035-CEF525EF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3A5AC-AB5D-47E9-B326-FC1325BF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A1A1-5DBA-4270-884F-EAF5208E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59C9-C914-4AF4-8B74-FD325B71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43E-F018-4A30-9BF6-D571D259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9DB-78F6-4E49-9CA7-7FB569A1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4DA-C784-464B-8F64-166AF9C9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ff0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80000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6728-8BA4-4534-9AB2-5E1581FD219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ff0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80000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4094-7D02-40A6-98EF-E135E874935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ff0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80000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3D82-EBFF-4886-A4B3-11EF6B96374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ff0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d80000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3A89-1550-465A-A0E3-C9984BFD250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-6480"/>
            <a:ext cx="7907400" cy="28051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5" descr="img0.jpg"/>
          <p:cNvPicPr/>
          <p:nvPr/>
        </p:nvPicPr>
        <p:blipFill>
          <a:blip r:embed="rId2"/>
          <a:stretch/>
        </p:blipFill>
        <p:spPr>
          <a:xfrm>
            <a:off x="1928880" y="2571840"/>
            <a:ext cx="50004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2209680" cy="31672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икто не забыт! Ничто не забыто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D:\Мои документы\Downloads\images (19).jpg"/>
          <p:cNvPicPr/>
          <p:nvPr/>
        </p:nvPicPr>
        <p:blipFill>
          <a:blip r:embed="rId1"/>
          <a:srcRect l="0" t="7626" r="0" b="7626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2743200" cy="54118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5000"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На фотографии в газете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Нечетко изображены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Бойцы, еще почти что дети,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Герои мировой войны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Они снимались перед боем –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В обнимку, четверо у рва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И было небо голубое,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Была зеленая трава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Никто не знает их фамилий,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О них ни песен нет, ни книг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Здесь чей-то сын и чей-то милый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И чей-то первый ученик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Они легли на поле боя,-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Жить начинавшие едва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И было небо голубое,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Была зеленая трава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Забыть тот горький год неблизкий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Мы никогда бы не смогли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По всей России обелиски,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Как души, рвутся из земли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...Они прикрыли жизнь собою,-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Жить начинавшие едва,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Чтоб было небо голубое,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Была зеленая трава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D:\Мои документы\Downloads\images (17).jpg"/>
          <p:cNvPicPr/>
          <p:nvPr/>
        </p:nvPicPr>
        <p:blipFill>
          <a:blip r:embed="rId1"/>
          <a:stretch/>
        </p:blipFill>
        <p:spPr>
          <a:xfrm>
            <a:off x="3708360" y="1557360"/>
            <a:ext cx="4248360" cy="36003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41528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Георгиевская лент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743200" cy="35272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Цвета ленты — черный и жёлтый — означают «дым и пламя» являются знаком личной доблести солдата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 поле 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о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D:\Мои документы\Downloads\images (14).jpg"/>
          <p:cNvPicPr/>
          <p:nvPr/>
        </p:nvPicPr>
        <p:blipFill>
          <a:blip r:embed="rId1"/>
          <a:stretch/>
        </p:blipFill>
        <p:spPr>
          <a:xfrm>
            <a:off x="4067280" y="1700280"/>
            <a:ext cx="4176720" cy="3457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Мои документы\Downloads\images (20).jpg"/>
          <p:cNvPicPr/>
          <p:nvPr/>
        </p:nvPicPr>
        <p:blipFill>
          <a:blip r:embed="rId1"/>
          <a:stretch/>
        </p:blipFill>
        <p:spPr>
          <a:xfrm>
            <a:off x="539640" y="2060640"/>
            <a:ext cx="3888000" cy="309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D:\Мои документы\Downloads\images (21).jpg"/>
          <p:cNvPicPr/>
          <p:nvPr/>
        </p:nvPicPr>
        <p:blipFill>
          <a:blip r:embed="rId2"/>
          <a:stretch/>
        </p:blipFill>
        <p:spPr>
          <a:xfrm>
            <a:off x="4932360" y="2060640"/>
            <a:ext cx="3600360" cy="3097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09120" y="1483920"/>
            <a:ext cx="2210040" cy="33130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ойна закончилась Победой!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9 мая 1945 год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2" descr="D:\Мои документы\Downloads\загруженное (9).jpg"/>
          <p:cNvPicPr/>
          <p:nvPr/>
        </p:nvPicPr>
        <p:blipFill>
          <a:blip r:embed="rId1"/>
          <a:srcRect l="10913" t="0" r="10913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0000"/>
                </a:solidFill>
                <a:latin typeface="Monotype Corsiva"/>
              </a:rPr>
              <a:t>Парад Победы 9 ма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2" descr="D:\Мои документы\Downloads\загруженное (11).jpg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3745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Мои документы\Downloads\images (29).jpg"/>
          <p:cNvPicPr/>
          <p:nvPr/>
        </p:nvPicPr>
        <p:blipFill>
          <a:blip r:embed="rId2"/>
          <a:stretch/>
        </p:blipFill>
        <p:spPr>
          <a:xfrm>
            <a:off x="4859280" y="220500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D:\Мои документы\Downloads\загруженное (1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2" descr="1368110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1" descr="40.jpg"/>
          <p:cNvPicPr/>
          <p:nvPr/>
        </p:nvPicPr>
        <p:blipFill>
          <a:blip r:embed="rId1"/>
          <a:stretch/>
        </p:blipFill>
        <p:spPr>
          <a:xfrm>
            <a:off x="2268360" y="765000"/>
            <a:ext cx="4248360" cy="568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2743200" cy="4680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ного лет назад 22 июня 1945 года на нашу страну напали фашисты. И не только  армия, но и весь народ, вся могущественная страна встала на защиту нашей Родин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D:\Мои документы\Downloads\images (3).jpg"/>
          <p:cNvPicPr/>
          <p:nvPr/>
        </p:nvPicPr>
        <p:blipFill>
          <a:blip r:embed="rId1"/>
          <a:stretch/>
        </p:blipFill>
        <p:spPr>
          <a:xfrm>
            <a:off x="4140360" y="1628640"/>
            <a:ext cx="4032000" cy="424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D:\Мои документы\Downloads\загруженное.jpg"/>
          <p:cNvPicPr/>
          <p:nvPr/>
        </p:nvPicPr>
        <p:blipFill>
          <a:blip r:embed="rId1"/>
          <a:stretch/>
        </p:blipFill>
        <p:spPr>
          <a:xfrm>
            <a:off x="4643280" y="1557360"/>
            <a:ext cx="3889440" cy="3672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D:\Мои документы\Downloads\images (4).jpg"/>
          <p:cNvPicPr/>
          <p:nvPr/>
        </p:nvPicPr>
        <p:blipFill>
          <a:blip r:embed="rId2"/>
          <a:stretch/>
        </p:blipFill>
        <p:spPr>
          <a:xfrm>
            <a:off x="1000080" y="1571760"/>
            <a:ext cx="2952720" cy="3744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D:\Мои документы\Downloads\загруженное (1).jpg"/>
          <p:cNvPicPr/>
          <p:nvPr/>
        </p:nvPicPr>
        <p:blipFill>
          <a:blip r:embed="rId1"/>
          <a:stretch/>
        </p:blipFill>
        <p:spPr>
          <a:xfrm>
            <a:off x="684360" y="1484280"/>
            <a:ext cx="4032000" cy="4392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D:\Мои документы\Downloads\images.jpg"/>
          <p:cNvPicPr/>
          <p:nvPr/>
        </p:nvPicPr>
        <p:blipFill>
          <a:blip r:embed="rId2"/>
          <a:stretch/>
        </p:blipFill>
        <p:spPr>
          <a:xfrm>
            <a:off x="5292720" y="1557360"/>
            <a:ext cx="3106800" cy="424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D:\Мои документы\Downloads\images (1).jpg"/>
          <p:cNvPicPr/>
          <p:nvPr/>
        </p:nvPicPr>
        <p:blipFill>
          <a:blip r:embed="rId1"/>
          <a:stretch/>
        </p:blipFill>
        <p:spPr>
          <a:xfrm>
            <a:off x="395280" y="1844640"/>
            <a:ext cx="3960720" cy="3240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D:\Мои документы\Downloads\images (2).jpg"/>
          <p:cNvPicPr/>
          <p:nvPr/>
        </p:nvPicPr>
        <p:blipFill>
          <a:blip r:embed="rId2"/>
          <a:stretch/>
        </p:blipFill>
        <p:spPr>
          <a:xfrm>
            <a:off x="5003640" y="1844640"/>
            <a:ext cx="3678480" cy="3240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09120" y="1052280"/>
            <a:ext cx="2210040" cy="38163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4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о многих семьях сохранились солдатские треугольники – письма, которые присылали с фронта домой отцы и брать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D:\Мои документы\Downloads\загруженное (5).jpg"/>
          <p:cNvPicPr/>
          <p:nvPr/>
        </p:nvPicPr>
        <p:blipFill>
          <a:blip r:embed="rId1"/>
          <a:srcRect l="6164" t="0" r="6164" b="0"/>
          <a:stretch/>
        </p:blipFill>
        <p:spPr>
          <a:xfrm rot="420000">
            <a:off x="4001760" y="526680"/>
            <a:ext cx="4618080" cy="39322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08" name="Picture 5" descr="D:\Мои документы\Downloads\images (30).jpg"/>
          <p:cNvPicPr/>
          <p:nvPr/>
        </p:nvPicPr>
        <p:blipFill>
          <a:blip r:embed="rId2"/>
          <a:stretch/>
        </p:blipFill>
        <p:spPr>
          <a:xfrm>
            <a:off x="900000" y="4508640"/>
            <a:ext cx="2610000" cy="175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D:\Мои документы\Downloads\images (12).jpg"/>
          <p:cNvPicPr/>
          <p:nvPr/>
        </p:nvPicPr>
        <p:blipFill>
          <a:blip r:embed="rId1"/>
          <a:stretch/>
        </p:blipFill>
        <p:spPr>
          <a:xfrm>
            <a:off x="468360" y="1557360"/>
            <a:ext cx="3887640" cy="4392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D:\Мои документы\Downloads\загруженное (2).jpg"/>
          <p:cNvPicPr/>
          <p:nvPr/>
        </p:nvPicPr>
        <p:blipFill>
          <a:blip r:embed="rId2"/>
          <a:stretch/>
        </p:blipFill>
        <p:spPr>
          <a:xfrm>
            <a:off x="5003640" y="1628640"/>
            <a:ext cx="3313440" cy="432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D:\Мои документы\Downloads\загруженное (7).jpg"/>
          <p:cNvPicPr/>
          <p:nvPr/>
        </p:nvPicPr>
        <p:blipFill>
          <a:blip r:embed="rId1"/>
          <a:stretch/>
        </p:blipFill>
        <p:spPr>
          <a:xfrm>
            <a:off x="611280" y="1484280"/>
            <a:ext cx="3673440" cy="3816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D:\Мои документы\Downloads\images (13).jpg"/>
          <p:cNvPicPr/>
          <p:nvPr/>
        </p:nvPicPr>
        <p:blipFill>
          <a:blip r:embed="rId2"/>
          <a:stretch/>
        </p:blipFill>
        <p:spPr>
          <a:xfrm>
            <a:off x="4788000" y="1484280"/>
            <a:ext cx="3671640" cy="3745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2:00:17Z</dcterms:created>
  <dc:creator>Kristina</dc:creator>
  <dc:description/>
  <dc:language>en-US</dc:language>
  <cp:lastModifiedBy>Name</cp:lastModifiedBy>
  <dcterms:modified xsi:type="dcterms:W3CDTF">2018-05-12T16:03:04Z</dcterms:modified>
  <cp:revision>41</cp:revision>
  <dc:subject/>
  <dc:title>«День победы»</dc:title>
</cp:coreProperties>
</file>