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CF6-E0EF-4AF7-BB8A-6035038F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9B0-6942-4708-AF13-C2E4684D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0D9-0217-4DA5-A37F-EA92BDA1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FDB-D351-4B9F-A3BE-7C0103D4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E5A7-3839-4AB9-B36A-C432CB2C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B423-ACF5-4B80-AE9A-8B975B08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DAB5-945A-4EE0-8D2B-E0881D1F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0BBD-C82D-4BD0-8EA7-F365A57B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E0FB-16C2-49B4-8E2B-A0E960A2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119D-804A-4474-A9E3-388465C0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1768-6AC9-4502-8CD9-45DB57BC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705-88FB-4998-A5C5-46381C16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C1B1-E028-4E3A-A94D-29C3CB2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5AC0-BB45-4122-BD40-CEDCC1F3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B6D9-0585-44BE-B022-33C58E5E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4796-2400-4CB4-A911-FD6C5F8B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EE56-D525-4983-860B-6D4B9A55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962D-B6D0-4568-B17B-F898E322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D26D-85B6-4A00-8734-BFBE6EEE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4AEDA-3E63-4265-B665-EA08EC85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8D73-0775-4183-80A4-44BD965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9145-FF3B-43F5-9478-E17BA3CB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F1F-C780-4340-BDBC-409B0E21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87090-A3E7-4B41-B294-F9D65232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AE3F-1A99-4B89-8B0B-BBE09365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1610-A34E-466B-9051-ABDD8543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605C3-EE0A-41C5-B40C-B16F9BF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A819C-1F62-4F4A-AA44-C6F8BBC5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B085-15DD-4C12-B752-921779CF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7EEA-DAD4-4B0A-948E-6D3CFE02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AA32-352B-4406-AC79-C32252D4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39DD0-F0D8-4224-9ADE-CC479CA6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8FED-60F1-444F-BAF2-E10939E4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618-A03A-4134-90BB-FD9DD405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F59E8-2F52-4923-A852-BE854048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04CB-9092-4C8A-B913-8F4A13F4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30655-A86C-4AC6-8288-B55C4576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40E1-73BF-4E7C-AB75-BE1A0AF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12B2E-4E7C-4EDE-AAC7-F0342165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D11F-95E7-422E-BE49-96B97076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F81F-2456-4E4F-A7C1-48AE77FD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7897E-4D6C-4019-9ADC-95AC981C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A9236-ED92-4523-B594-B3565C3F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7B4-93E8-43D9-93B8-E93AEE87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532-966E-4F90-8ABD-AD362685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290-6B96-422F-9E7D-92946B35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D11-C1AE-4136-94A3-33B0D4E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0E2-F077-4D16-8C2B-5A94D9DC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0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800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FF65-0AA7-46CC-BEFA-E708858885E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0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800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971E-DF11-4AF2-BF88-A5C2A202C12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0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800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028F-40F6-4DE2-B6DC-E0D97D92125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ce0000">
                  <a:alpha val="45098"/>
                </a:srgbClr>
              </a:gs>
              <a:gs pos="100000">
                <a:srgbClr val="ff0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80000">
                  <a:alpha val="45098"/>
                </a:srgbClr>
              </a:gs>
              <a:gs pos="100000">
                <a:srgbClr val="ff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EA10-11B5-4930-A8F0-BC8CE49F1DD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-6480"/>
            <a:ext cx="7907400" cy="28051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img0.jpg"/>
          <p:cNvPicPr/>
          <p:nvPr/>
        </p:nvPicPr>
        <p:blipFill>
          <a:blip r:embed="rId2"/>
          <a:stretch/>
        </p:blipFill>
        <p:spPr>
          <a:xfrm>
            <a:off x="1928880" y="2571840"/>
            <a:ext cx="5000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2209680" cy="31672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икто не забыт! Ничто не забыто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D:\Мои документы\Downloads\images (19).jpg"/>
          <p:cNvPicPr/>
          <p:nvPr/>
        </p:nvPicPr>
        <p:blipFill>
          <a:blip r:embed="rId1"/>
          <a:srcRect l="0" t="7626" r="0" b="762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2743200" cy="54118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5000"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На фотографии в газете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Нечетко изображены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Бойцы, еще почти что дети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Герои мировой войны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Они снимались перед боем –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В обнимку, четверо у рва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И было небо голубое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Была зеленая трава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Никто не знает их фамилий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О них ни песен нет, ни книг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Здесь чей-то сын и чей-то милый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И чей-то первый ученик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Они легли на поле боя,-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Жить начинавшие едва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И было небо голубое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Была зеленая трава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Забыть тот горький год неблизкий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Мы никогда бы не смогли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По всей России обелиски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Как души, рвутся из земли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...Они прикрыли жизнь собою,-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Жить начинавшие едва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Чтоб было небо голубое,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Monotype Corsiva"/>
              </a:rPr>
              <a:t>Была зеленая трава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D:\Мои документы\Downloads\images (17).jpg"/>
          <p:cNvPicPr/>
          <p:nvPr/>
        </p:nvPicPr>
        <p:blipFill>
          <a:blip r:embed="rId1"/>
          <a:stretch/>
        </p:blipFill>
        <p:spPr>
          <a:xfrm>
            <a:off x="3708360" y="1557360"/>
            <a:ext cx="4248360" cy="3600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4152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Георгиевская лент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743200" cy="3527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Цвета ленты — черный и жёлтый — означают «дым и пламя» являются знаком личной доблести солдата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поле 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о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D:\Мои документы\Downloads\images (14).jpg"/>
          <p:cNvPicPr/>
          <p:nvPr/>
        </p:nvPicPr>
        <p:blipFill>
          <a:blip r:embed="rId1"/>
          <a:stretch/>
        </p:blipFill>
        <p:spPr>
          <a:xfrm>
            <a:off x="4067280" y="1700280"/>
            <a:ext cx="4176720" cy="3457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Мои документы\Downloads\images (20).jpg"/>
          <p:cNvPicPr/>
          <p:nvPr/>
        </p:nvPicPr>
        <p:blipFill>
          <a:blip r:embed="rId1"/>
          <a:stretch/>
        </p:blipFill>
        <p:spPr>
          <a:xfrm>
            <a:off x="539640" y="2060640"/>
            <a:ext cx="3888000" cy="309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D:\Мои документы\Downloads\images (21).jpg"/>
          <p:cNvPicPr/>
          <p:nvPr/>
        </p:nvPicPr>
        <p:blipFill>
          <a:blip r:embed="rId2"/>
          <a:stretch/>
        </p:blipFill>
        <p:spPr>
          <a:xfrm>
            <a:off x="4932360" y="2060640"/>
            <a:ext cx="3600360" cy="309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120" y="1483920"/>
            <a:ext cx="2210040" cy="33130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йна закончилась Победой!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9 мая 1945 год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D:\Мои документы\Downloads\загруженное (9).jpg"/>
          <p:cNvPicPr/>
          <p:nvPr/>
        </p:nvPicPr>
        <p:blipFill>
          <a:blip r:embed="rId1"/>
          <a:srcRect l="10913" t="0" r="10913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Monotype Corsiva"/>
              </a:rPr>
              <a:t>Парад Победы 9 ма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D:\Мои документы\Downloads\загруженное (11).jpg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3745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Мои документы\Downloads\images (29).jpg"/>
          <p:cNvPicPr/>
          <p:nvPr/>
        </p:nvPicPr>
        <p:blipFill>
          <a:blip r:embed="rId2"/>
          <a:stretch/>
        </p:blipFill>
        <p:spPr>
          <a:xfrm>
            <a:off x="4859280" y="22050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D:\Мои документы\Downloads\загруженное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1368110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1" descr="40.jpg"/>
          <p:cNvPicPr/>
          <p:nvPr/>
        </p:nvPicPr>
        <p:blipFill>
          <a:blip r:embed="rId1"/>
          <a:stretch/>
        </p:blipFill>
        <p:spPr>
          <a:xfrm>
            <a:off x="2268360" y="765000"/>
            <a:ext cx="4248360" cy="568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2743200" cy="4680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ного лет назад 22 июня 1945 года на нашу страну напали фашисты. И не только  армия, но и весь народ, вся могущественная страна встала на защиту нашей Родин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D:\Мои документы\Downloads\images (3).jpg"/>
          <p:cNvPicPr/>
          <p:nvPr/>
        </p:nvPicPr>
        <p:blipFill>
          <a:blip r:embed="rId1"/>
          <a:stretch/>
        </p:blipFill>
        <p:spPr>
          <a:xfrm>
            <a:off x="4140360" y="1628640"/>
            <a:ext cx="4032000" cy="424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D:\Мои документы\Downloads\загруженное.jpg"/>
          <p:cNvPicPr/>
          <p:nvPr/>
        </p:nvPicPr>
        <p:blipFill>
          <a:blip r:embed="rId1"/>
          <a:stretch/>
        </p:blipFill>
        <p:spPr>
          <a:xfrm>
            <a:off x="4643280" y="1557360"/>
            <a:ext cx="3889440" cy="3672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D:\Мои документы\Downloads\images (4).jpg"/>
          <p:cNvPicPr/>
          <p:nvPr/>
        </p:nvPicPr>
        <p:blipFill>
          <a:blip r:embed="rId2"/>
          <a:stretch/>
        </p:blipFill>
        <p:spPr>
          <a:xfrm>
            <a:off x="1000080" y="1571760"/>
            <a:ext cx="2952720" cy="3744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D:\Мои документы\Downloads\загруженное (1).jpg"/>
          <p:cNvPicPr/>
          <p:nvPr/>
        </p:nvPicPr>
        <p:blipFill>
          <a:blip r:embed="rId1"/>
          <a:stretch/>
        </p:blipFill>
        <p:spPr>
          <a:xfrm>
            <a:off x="684360" y="1484280"/>
            <a:ext cx="4032000" cy="4392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D:\Мои документы\Downloads\images.jpg"/>
          <p:cNvPicPr/>
          <p:nvPr/>
        </p:nvPicPr>
        <p:blipFill>
          <a:blip r:embed="rId2"/>
          <a:stretch/>
        </p:blipFill>
        <p:spPr>
          <a:xfrm>
            <a:off x="5292720" y="1557360"/>
            <a:ext cx="3106800" cy="424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D:\Мои документы\Downloads\images (1).jpg"/>
          <p:cNvPicPr/>
          <p:nvPr/>
        </p:nvPicPr>
        <p:blipFill>
          <a:blip r:embed="rId1"/>
          <a:stretch/>
        </p:blipFill>
        <p:spPr>
          <a:xfrm>
            <a:off x="395280" y="1844640"/>
            <a:ext cx="3960720" cy="3240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D:\Мои документы\Downloads\images (2).jpg"/>
          <p:cNvPicPr/>
          <p:nvPr/>
        </p:nvPicPr>
        <p:blipFill>
          <a:blip r:embed="rId2"/>
          <a:stretch/>
        </p:blipFill>
        <p:spPr>
          <a:xfrm>
            <a:off x="5003640" y="1844640"/>
            <a:ext cx="3678480" cy="3240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09120" y="1052280"/>
            <a:ext cx="2210040" cy="38163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4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 многих семьях сохранились солдатские треугольники – письма, которые присылали с фронта домой отцы и брать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D:\Мои документы\Downloads\загруженное (5).jpg"/>
          <p:cNvPicPr/>
          <p:nvPr/>
        </p:nvPicPr>
        <p:blipFill>
          <a:blip r:embed="rId1"/>
          <a:srcRect l="6164" t="0" r="6164" b="0"/>
          <a:stretch/>
        </p:blipFill>
        <p:spPr>
          <a:xfrm rot="420000">
            <a:off x="4001760" y="526680"/>
            <a:ext cx="4618080" cy="3932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08" name="Picture 5" descr="D:\Мои документы\Downloads\images (30).jpg"/>
          <p:cNvPicPr/>
          <p:nvPr/>
        </p:nvPicPr>
        <p:blipFill>
          <a:blip r:embed="rId2"/>
          <a:stretch/>
        </p:blipFill>
        <p:spPr>
          <a:xfrm>
            <a:off x="900000" y="4508640"/>
            <a:ext cx="261000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D:\Мои документы\Downloads\images (12).jpg"/>
          <p:cNvPicPr/>
          <p:nvPr/>
        </p:nvPicPr>
        <p:blipFill>
          <a:blip r:embed="rId1"/>
          <a:stretch/>
        </p:blipFill>
        <p:spPr>
          <a:xfrm>
            <a:off x="468360" y="1557360"/>
            <a:ext cx="3887640" cy="4392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D:\Мои документы\Downloads\загруженное (2).jpg"/>
          <p:cNvPicPr/>
          <p:nvPr/>
        </p:nvPicPr>
        <p:blipFill>
          <a:blip r:embed="rId2"/>
          <a:stretch/>
        </p:blipFill>
        <p:spPr>
          <a:xfrm>
            <a:off x="5003640" y="1628640"/>
            <a:ext cx="3313440" cy="432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D:\Мои документы\Downloads\загруженное (7).jpg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3816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D:\Мои документы\Downloads\images (13).jpg"/>
          <p:cNvPicPr/>
          <p:nvPr/>
        </p:nvPicPr>
        <p:blipFill>
          <a:blip r:embed="rId2"/>
          <a:stretch/>
        </p:blipFill>
        <p:spPr>
          <a:xfrm>
            <a:off x="4788000" y="1484280"/>
            <a:ext cx="3671640" cy="3745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2:00:17Z</dcterms:created>
  <dc:creator>Kristina</dc:creator>
  <dc:description/>
  <dc:language>en-US</dc:language>
  <cp:lastModifiedBy>Name</cp:lastModifiedBy>
  <dcterms:modified xsi:type="dcterms:W3CDTF">2018-05-12T16:03:04Z</dcterms:modified>
  <cp:revision>41</cp:revision>
  <dc:subject/>
  <dc:title>«День победы»</dc:title>
</cp:coreProperties>
</file>