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FCC1-5E3F-46FC-8B47-216679F26D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5389-9E81-4C52-A0CF-765AC2472B2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526-33F0-41F6-99F9-0FFCC0F0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BEA-0117-4682-AB12-B489EC7F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920-E945-40BE-BA93-4866D57F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111-6EA2-4B86-964D-5615E405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B217-AD21-40E5-AC8B-54921C2E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34D3-6B9F-4336-936D-A7CB9A8A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42D5-0C8F-4BD0-9444-1509CA58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B6C6-C94B-40D4-94C8-86AC3E2D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8F37-15EF-4C80-A947-598017B2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B7A8-C1DC-41A3-ADDA-DFF31FA7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70DD-6C90-4B0A-BFDB-8751582D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EEB-B12A-4E07-BCBA-F48FF005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42AB-C9E4-4130-B49F-978B82AD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F1F1-C544-416F-88ED-7C6B2A5F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C89A-7DEB-4566-953F-B0A2CDB4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1038-14DA-4D61-AEF4-14122EFE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ED42-3A18-4DB1-883A-8F60C9AE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F1D-0F43-420A-9FE3-7EB4A107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F6C-9A02-428C-85A8-8D7C0EA0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10E-0E32-458A-830D-80CF5C1A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261-C004-4A05-8335-E8D80F25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9D6-D88F-4876-8048-669A22E2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7C6-E420-48F4-B527-DCA2FAD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77E-FF48-46AE-9697-F5BEC4D0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FA8C-5306-462D-969C-8FDE2B95A2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493A-5A12-4BCD-9AD8-EF8AD599A27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600" y="1714680"/>
            <a:ext cx="7821720" cy="47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еминар «Проект как форма урочной и внеурочной деятельности учащихся в рамках переход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а ФГОС ООО» </a:t>
            </a:r>
            <a:br>
              <a:rPr sz="2400"/>
            </a:br>
            <a:r>
              <a:rPr b="1" lang="ru-RU" sz="800" spc="-1" strike="noStrike">
                <a:solidFill>
                  <a:srgbClr val="ffffcc"/>
                </a:solidFill>
                <a:latin typeface="Times New Roman"/>
              </a:rPr>
              <a:t>а</a:t>
            </a:r>
            <a:br>
              <a:rPr sz="2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Место и роль проектной деятельности школьников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ФГОС ООО</a:t>
            </a:r>
            <a:br>
              <a:rPr sz="3600"/>
            </a:br>
            <a:r>
              <a:rPr b="1" lang="ru-RU" sz="800" spc="-1" strike="noStrike">
                <a:solidFill>
                  <a:srgbClr val="ffffcc"/>
                </a:solidFill>
                <a:latin typeface="Times New Roman"/>
              </a:rPr>
              <a:t>а</a:t>
            </a:r>
            <a:br>
              <a:rPr sz="3600"/>
            </a:br>
            <a:endParaRPr b="0" lang="en-US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7120" y="595440"/>
            <a:ext cx="8429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Базовые принципы проектной организации деятельности школьни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обода учащего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заимодействие с группой уча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бкое распределение учебного време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971640" y="2805120"/>
            <a:ext cx="1239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285920" y="385920"/>
            <a:ext cx="727236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Суть метода </a:t>
            </a:r>
            <a:r>
              <a:rPr b="0" i="1" lang="ru-RU" sz="3200" spc="-1" strike="noStrike">
                <a:solidFill>
                  <a:srgbClr val="0000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тимулировать интерес обучаемых к определённым проблема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редполагающим владение определённой суммой знаний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и через проектную деятельно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оказать практическое применение полученных зна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ругими словами, от теории к практик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82152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32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СНОВНЫЕ ТРЕБОВАНИЯ К ИСПОЛЬЗОВАНИЮ МЕТОДА ПРОЕКТО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42640" y="19843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личие значимой в исследовательском, творческом плане проблемы (задачи), требующей интегрированного знания, исследовательского поиска для её реш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ктическая, теоретическая значимость предполагаемых результа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остоятельная мотивированная деятельность участников проек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уктурирование содержательной части проекта ( с указанием поэтапных результатов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явление проблемы, предложение потей её решения, оформление конечных результатов, анализ полученных данных, подведение итогов ( использование в ходе совместного исследования «круглого стола», творческих отчётов, просмотром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85600" y="357120"/>
            <a:ext cx="7000920" cy="650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езультаты выполненных проектов должны быть материальны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- видеофильм;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- презентация;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- публикации;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- буклеты;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- информационные бюллетени;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- газеты;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(в том числе и в компьютерном варианте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5560" y="7855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ТИПЫ ПРОЕКТ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785600" y="1928880"/>
            <a:ext cx="63961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ктико – ориентированны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но – творческ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ественно – научны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льтурологическ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ртивны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ключенческие (игровы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орческ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формационны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ЧЕБНЫЙ ПРОЕК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совместная учебно-познавательная творческая или игровая 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деятельност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ащихся-партнеров, имеющая общую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согласованные методы,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способ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ятельности, направленная на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достижение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го результата по решению какой-либо 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проблем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начимой для участников проек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чебный проект как технолог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71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ная ценность проекта – общий конечный результ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Цель:   формирование и развитие умений и навыков решения практических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явно сформулированная ц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тизация: выделение, формулировка, «присвоение» участниками проблем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еполагание и ожидаемый результат (достижение цели должно способствовать решению проблем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: постановка задач, исходящих из цели; определение последовательности шагов; выбор способов работы (технологии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пла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ило 5 «П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Пробле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План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Поиск информ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Продук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. Презент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бщеучебные умения и навы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иды навык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Организационны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планирование учебной деятельности, организация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Общеинтеллектуальны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восприятие информации, мыслительная деятельность, оценка и осмысление результатов своей деятельности (самоконтроль, взаимоконтро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оммуникативны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общение в ходе учебной деятельности, понятно, кратко, корректно излагать свои мыс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Blackadder ITC"/>
              </a:rPr>
              <a:t>Проектные и исследовательские технологии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способствую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04920" y="1752480"/>
            <a:ext cx="807696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ю целостности педагогического процесса, осуществлению в единстве разностороннего развития, обучения и воспитания учащихс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ю творческих способностей и активности учащихс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даптации к современным социально-экономическим условиям жизн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ю познавательных мотивов учения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так как учащиеся видят конечный результат своей деятельности, который возвеличивает их в собственных глазах и вызывает желание учиться и совершенствовать свои знания, умения и личностные качества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85480" y="285840"/>
            <a:ext cx="8497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«…в основе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тандарта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лежит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истемно-деятельностный подход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который предполагает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воспитание и развитие качеств личности, отвечающих требованиям информационного общества…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ереход к стратегии социального проектирования и конструирования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в системе образования на основе разработки содержания и технологий образования, определяющих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ути и способы достижения социально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желаемого уровня (результата) личностного и познавательного развития обучающихся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…»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6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ть текста п.7, ч.1  ФГОС НОО второго поколения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6" descr="attachment"/>
          <p:cNvPicPr/>
          <p:nvPr/>
        </p:nvPicPr>
        <p:blipFill>
          <a:blip r:embed="rId1"/>
          <a:stretch/>
        </p:blipFill>
        <p:spPr>
          <a:xfrm>
            <a:off x="-809640" y="4411800"/>
            <a:ext cx="16192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4200" y="609120"/>
            <a:ext cx="8715600" cy="196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В связи с этим в ФГОС второго поколения проектная деятельность является основной структурной единицей процесса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C:\Users\0\Desktop\Безымянный5.png"/>
          <p:cNvPicPr/>
          <p:nvPr/>
        </p:nvPicPr>
        <p:blipFill>
          <a:blip r:embed="rId1"/>
          <a:stretch/>
        </p:blipFill>
        <p:spPr>
          <a:xfrm>
            <a:off x="1547640" y="2781360"/>
            <a:ext cx="55008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Для учащихся начальной школ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3880" y="2017800"/>
            <a:ext cx="824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120" indent="5274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ahoma"/>
              </a:rPr>
              <a:t>Необходимо учитывать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возрастные психолого-физиологические особенности </a:t>
            </a:r>
            <a:r>
              <a:rPr b="0" lang="ru-RU" sz="2000" spc="-1" strike="noStrike">
                <a:solidFill>
                  <a:srgbClr val="0d0d0d"/>
                </a:solidFill>
                <a:latin typeface="Tahoma"/>
              </a:rPr>
              <a:t>детей младшего школьного возрас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20" indent="527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 именно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20" indent="5274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ahoma"/>
              </a:rPr>
              <a:t>Темы детских работ выбираются из содержания учебных предметов или близкие к ни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20" indent="5274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ahoma"/>
              </a:rPr>
              <a:t>Проблема проекта или исследования, обеспечивающая мотивацию включения в самостоятельную работу, должна быть в области познавательных интересов ребёнка и находиться в зоне ближайшего развит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20" indent="5274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ahoma"/>
              </a:rPr>
              <a:t>Длительность выполнения проекта или исследования целесообразно ограничить 1-2 неделями в режиме урочно-внеурочных занятий или 1-2 сдвоенными урок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20" indent="5274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79292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ля учащихся основной школ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57132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51084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В соответствии с возрастной спецификой на первый план у подростка выходят цели освоения коммуникативных навыков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510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ahoma"/>
              </a:rPr>
              <a:t>Следовательно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51084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Проектную или исследовательскую деятельность целесообразно организовывать в групповых формах (индивидуальная форма работы не исключается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51084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Темы детских работ выбираются из любой содержательной области (предметной, межпредметной, внепредметной), проблемы — близкие пониманию и волнующие подростков в личном плане, социальных, коллективных и личных взаимоотношений. Получаемый результат должен быть социально и практически значимым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51084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Презентацию результатов проектирования или исследования целесообразно проводить на заседаниях НОУ или школьной конференции, где идёт подготовка к различным мероприятиям районного или краевого уровня (конкурсы, конференции, игры)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51084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Важно учитывать реальные сроки проведения таких мероприятий и соответствующим образом планировать завершение работ обучающихся, — дать тем самым шанс обучающемуся публично заявить о себе и своей работе, получить подкрепление в развитии личностных качеств и проектной и исследовательской компетентности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15360" indent="51084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779292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Для обучающихся в старшей школе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99680" y="1857240"/>
            <a:ext cx="82868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ирование надлежащего уровня компетентности в проектной и исследовательской деятельности (то есть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амостоятельное практическое владение технологией проектирования и исследования) должно достигаться к концу 10 класс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мы и проблем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роектных и исследовательских работ подбираются в соответствии с личностными предпочтениями каждого обучающегося и должны находиться в области их самоопределения. Предпочтительны индивидуальные или мини групповые формы работы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ыполнение проектов или исследований в 10 классе может быть как отдельные случаи выдающихся успехов одарённых обучающихся, или как курсовое проектирование на профильном предмете с последующей защитой результатов в качестве творческого экзамена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 старшей школе целесообразно выполнение работ на базе и с привлечением специалистов из профильных научных учреждений, вузов. Перспективно широкое использования разнообразных форм проектной и исследовательской деятельности: экспедиций, конференций и д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5840" y="617400"/>
            <a:ext cx="8658000" cy="5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Оценивание успешности обучающегося в выполнении проекта или исследов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1071360"/>
            <a:ext cx="8955000" cy="550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182520" indent="533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оценке успешности обучающегося в проекте или исследовании необходимо понимать, что самой значимой оценкой для него является общественное признание состоятельности (успешности, результативности). Положительной оценки достоин любой уровень достигнутых результатов. Оценивание степени сформированности умений и навыков проектной и исследовательской деятельности важно для учителя, работающего над формированием соответствующей компетентности у обучающего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-360"/>
            <a:ext cx="8955000" cy="664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182520" indent="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Можно оцениват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пень самостоятельности в выполнении различных этапов работы над проекто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пень включённости в групповую работу и чёткость выполнения отведённой ро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ческое использование предметных и общешкольных ЗУН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ичество новой информации использованной для выполнения проект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пень осмысления использованной информации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вень сложности и степень владения использованными методиками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игинальность идеи, способа решения пробл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мысление проблемы проекта и формулирование цели проекта или исследова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вень организации и проведения презентации: устного сообщения, письменного отчёта, обеспечения объёктами наглядности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адение рефлекси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кий подход в подготовке объектов наглядности презент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е и прикладное значение полученных результат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2520" indent="533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нятия до ФГОС ООО второго покол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C:\Users\0\Desktop\Безымянный.png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ГОС ООО второго поколения предполага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1029" descr="C:\Users\0\Desktop\Безымянный1.pn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Урок «вчера»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1028" descr="C:\Users\0\Desktop\Безымянный2.png"/>
          <p:cNvPicPr/>
          <p:nvPr/>
        </p:nvPicPr>
        <p:blipFill>
          <a:blip r:embed="rId1"/>
          <a:stretch/>
        </p:blipFill>
        <p:spPr>
          <a:xfrm>
            <a:off x="1066680" y="12193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Урок «сегодня»</a:t>
            </a:r>
            <a:br>
              <a:rPr sz="3600"/>
            </a:b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(Проектные и исследовательские технологии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4" descr="C:\Users\0\Desktop\Безымянный4.png"/>
          <p:cNvPicPr/>
          <p:nvPr/>
        </p:nvPicPr>
        <p:blipFill>
          <a:blip r:embed="rId1"/>
          <a:stretch/>
        </p:blipFill>
        <p:spPr>
          <a:xfrm>
            <a:off x="4191120" y="1143000"/>
            <a:ext cx="4952880" cy="28954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04920" y="1219320"/>
            <a:ext cx="36576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астники проекта подхватывают проектную инициативу от кого-либо из жизн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астники проекта договариваются друг с другом о форме обуч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04920" y="3962520"/>
            <a:ext cx="8001000" cy="37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астники проекта развивают проектную инициативу и доводят ее до сведения все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астники проекта организуют себя на дело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астники проекта информируют друг друга о ходе работы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астники проекта вступают в диску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ект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игинальная практико-ориентированная работа интегративного, межпредметного и творческого содерж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проект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оно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в рамках 1 учебного предмета,вполне укладывается в классно-урочную систем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предметный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предполагает использование знаний по 2 и более предметам,чаще используется как дополнение к урочной деятель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дпредметный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внепредметный проект, выполняется на стыках областей знаний, выходит за рамки школьных предме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500040" y="20880"/>
            <a:ext cx="8215200" cy="704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5320" indent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ahoma"/>
              </a:rPr>
              <a:t>Цель проектного обучения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ть условия, при которых учащиес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амостоятельно и охотно приобретают недостающие знания из разных источник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атся пользоваться приобретёнными знаниями для решения познавательных и практических задач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обретают коммуникативные умения, работая в различных групп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вают у себя исследовательские умения(выявление проблемы, сбор информации, наблюдения, проведение эксперимента, анализ, построение гипотез, обобщени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вают системное и проектное  мышл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320" indent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4:26:26Z</dcterms:created>
  <dc:creator>cSEED</dc:creator>
  <dc:description/>
  <dc:language>en-US</dc:language>
  <cp:lastModifiedBy>User</cp:lastModifiedBy>
  <cp:lastPrinted>2012-05-11T03:02:09Z</cp:lastPrinted>
  <dcterms:modified xsi:type="dcterms:W3CDTF">2018-03-25T07:09:37Z</dcterms:modified>
  <cp:revision>67</cp:revision>
  <dc:subject/>
  <dc:title>PowerPoint Presentation</dc:title>
</cp:coreProperties>
</file>