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F7B9-6721-4E1F-BDE8-7DC3E14C01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24AF-94AD-495B-9B97-8D1CDAE8A42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AC0-AFB9-4EB5-A7D8-5097DDF7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54AE-4FDE-4973-BE07-01F06D33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EF64-F726-465F-A207-F8225BCE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7F1F-EDEE-4C25-B206-AEDE5AE8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E035-8080-4BB5-899C-09AD2B07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32D3-65EC-4318-92F4-DA7EC861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94B9-3DA0-4C2D-91C9-79C4C3F3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98E9-AB87-4976-99C8-6A58D31E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EC4C-833C-4FD2-B97A-7CEBFD66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1C6F-A970-4290-A8C1-8ED11D47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A905-4FD3-4C87-9C87-103CDF16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8384-0A3D-4590-A4E3-786F43D3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29CA-2D7F-4AB0-8F8A-8C3C9284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A415-3908-4014-8B13-5D210822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2927-2AC2-4AD6-A318-480D762D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E1DC-61DC-4498-8B86-89C8E989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0063-4719-45A5-B7C2-CCEC1273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4515-8087-415A-8DCB-2EB2C496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58DB-C857-4BCB-9ACF-0213E818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DE23-A63F-47AB-9941-404FA7BC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B3D1-DC92-4713-BE3D-325DF2FA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18DA-9833-422C-8A20-8861C3FB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3BFC-20F4-4870-8C88-888AFDCD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DB5-21AB-4EE5-A81B-D050BEF8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8952-8A17-4248-8DB4-5A972EFBBD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1027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1028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1029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1030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1031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1032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6775-19AE-4545-BB3A-19B8F959325C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2600" y="1714680"/>
            <a:ext cx="7821720" cy="47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еминар «Проект как форма урочной и внеурочной деятельности учащихся в рамках перехода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на ФГОС ООО» </a:t>
            </a:r>
            <a:br>
              <a:rPr sz="2400"/>
            </a:br>
            <a:r>
              <a:rPr b="1" lang="ru-RU" sz="800" spc="-1" strike="noStrike">
                <a:solidFill>
                  <a:srgbClr val="ffffcc"/>
                </a:solidFill>
                <a:latin typeface="Times New Roman"/>
              </a:rPr>
              <a:t>а</a:t>
            </a:r>
            <a:br>
              <a:rPr sz="24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Место и роль проектной деятельности школьников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 ФГОС ООО</a:t>
            </a:r>
            <a:br>
              <a:rPr sz="3600"/>
            </a:br>
            <a:r>
              <a:rPr b="1" lang="ru-RU" sz="800" spc="-1" strike="noStrike">
                <a:solidFill>
                  <a:srgbClr val="ffffcc"/>
                </a:solidFill>
                <a:latin typeface="Times New Roman"/>
              </a:rPr>
              <a:t>а</a:t>
            </a:r>
            <a:br>
              <a:rPr sz="3600"/>
            </a:br>
            <a:endParaRPr b="0" lang="en-US" sz="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7120" y="595440"/>
            <a:ext cx="8429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Базовые принципы проектной организации деятельности школьни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обода учащего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заимодействие с группой учащих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ибкое распределение учебного време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971640" y="2805120"/>
            <a:ext cx="1239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1285920" y="385920"/>
            <a:ext cx="727236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ahoma"/>
              </a:rPr>
              <a:t>Суть метода </a:t>
            </a:r>
            <a:r>
              <a:rPr b="0" i="1" lang="ru-RU" sz="3200" spc="-1" strike="noStrike">
                <a:solidFill>
                  <a:srgbClr val="0000ff"/>
                </a:solidFill>
                <a:latin typeface="Tahoma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тимулировать интерес обучаемых к определённым проблемам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редполагающим владение определённой суммой знаний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и через проектную деятельнос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оказать практическое применение полученных знан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ругими словами, от теории к практик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82152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32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СНОВНЫЕ ТРЕБОВАНИЯ К ИСПОЛЬЗОВАНИЮ МЕТОДА ПРОЕКТО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42640" y="19843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личие значимой в исследовательском, творческом плане проблемы (задачи), требующей интегрированного знания, исследовательского поиска для её реш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ктическая, теоретическая значимость предполагаемых результат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мостоятельная мотивированная деятельность участников проект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руктурирование содержательной части проекта ( с указанием поэтапных результатов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явление проблемы, предложение потей её решения, оформление конечных результатов, анализ полученных данных, подведение итогов ( использование в ходе совместного исследования «круглого стола», творческих отчётов, просмотром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85600" y="357120"/>
            <a:ext cx="7000920" cy="650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Результаты выполненных проектов должны быть материальны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- видеофильм;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- презентация;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- публикации;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- буклеты;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- информационные бюллетени;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- газеты;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(в том числе и в компьютерном варианте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85560" y="7855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ТИПЫ ПРОЕКТ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785600" y="1928880"/>
            <a:ext cx="63961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ктико – ориентированны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ературно – творческ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тественно – научны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льтурологическ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ртивны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следовательск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ключенческие (игровые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ворческ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формационны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ЧЕБНЫЙ ПРОЕК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совместная учебно-познавательная творческая или игровая 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деятельность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ащихся-партнеров, имеющая общую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согласованные методы,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способы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ятельности, направленная на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достижение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го результата по решению какой-либо 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проблем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начимой для участников проек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чебный проект как технолог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71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новная ценность проекта – общий конечный результа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Цель:   формирование и развитие умений и навыков решения практических задач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явно сформулированная ц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тизация: выделение, формулировка, «присвоение» участниками проблем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еполагание и ожидаемый результат (достижение цели должно способствовать решению проблемы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: постановка задач, исходящих из цели; определение последовательности шагов; выбор способов работы (технологии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пла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вило 5 «П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Пробле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Планир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Поиск информа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. Продук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. Презента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Общеучебные умения и навык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иды навык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Организационны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планирование учебной деятельности, организация учебн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Общеинтеллектуальны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восприятие информации, мыслительная деятельность, оценка и осмысление результатов своей деятельности (самоконтроль, взаимоконтрол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Коммуникативны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общение в ходе учебной деятельности, понятно, кратко, корректно излагать свои мысл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Blackadder ITC"/>
              </a:rPr>
              <a:t>Проектные и исследовательские технологии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способствуют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04920" y="1752480"/>
            <a:ext cx="8076960" cy="56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ю целостности педагогического процесса, осуществлению в единстве разностороннего развития, обучения и воспитания учащихс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ю творческих способностей и активности учащихс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даптации к современным социально-экономическим условиям жизн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ированию познавательных мотивов учения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так как учащиеся видят конечный результат своей деятельности, который возвеличивает их в собственных глазах и вызывает желание учиться и совершенствовать свои знания, умения и личностные качества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85480" y="285840"/>
            <a:ext cx="84978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«…в основе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Стандарта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лежит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системно-деятельностный подход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который предполагает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4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воспитание и развитие качеств личности, отвечающих требованиям информационного общества…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4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переход к стратегии социального проектирования и конструирования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в системе образования на основе разработки содержания и технологий образования, определяющих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пути и способы достижения социально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4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желаемого уровня (результата) личностного и познавательного развития обучающихся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…»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асть текста п.7, ч.1  ФГОС НОО второго поколения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6" descr="attachment"/>
          <p:cNvPicPr/>
          <p:nvPr/>
        </p:nvPicPr>
        <p:blipFill>
          <a:blip r:embed="rId1"/>
          <a:stretch/>
        </p:blipFill>
        <p:spPr>
          <a:xfrm>
            <a:off x="-809640" y="4411800"/>
            <a:ext cx="16192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4200" y="609120"/>
            <a:ext cx="8715600" cy="196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В связи с этим в ФГОС второго поколения проектная деятельность является основной структурной единицей процесса обуч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4" descr="C:\Users\0\Desktop\Безымянный5.png"/>
          <p:cNvPicPr/>
          <p:nvPr/>
        </p:nvPicPr>
        <p:blipFill>
          <a:blip r:embed="rId1"/>
          <a:stretch/>
        </p:blipFill>
        <p:spPr>
          <a:xfrm>
            <a:off x="1547640" y="2781360"/>
            <a:ext cx="55008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Для учащихся начальной школ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3880" y="2017800"/>
            <a:ext cx="824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120" indent="5274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ahoma"/>
              </a:rPr>
              <a:t>Необходимо учитывать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возрастные психолого-физиологические особенности </a:t>
            </a:r>
            <a:r>
              <a:rPr b="0" lang="ru-RU" sz="2000" spc="-1" strike="noStrike">
                <a:solidFill>
                  <a:srgbClr val="0d0d0d"/>
                </a:solidFill>
                <a:latin typeface="Tahoma"/>
              </a:rPr>
              <a:t>детей младшего школьного возраст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20" indent="527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 именно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20" indent="5274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ahoma"/>
              </a:rPr>
              <a:t>Темы детских работ выбираются из содержания учебных предметов или близкие к ни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20" indent="5274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ahoma"/>
              </a:rPr>
              <a:t>Проблема проекта или исследования, обеспечивающая мотивацию включения в самостоятельную работу, должна быть в области познавательных интересов ребёнка и находиться в зоне ближайшего развит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20" indent="5274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ahoma"/>
              </a:rPr>
              <a:t>Длительность выполнения проекта или исследования целесообразно ограничить 1-2 неделями в режиме урочно-внеурочных занятий или 1-2 сдвоенными урок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20" indent="5274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79292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ля учащихся основной школ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57132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51084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В соответствии с возрастной спецификой на первый план у подростка выходят цели освоения коммуникативных навыков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5360" indent="510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Tahoma"/>
              </a:rPr>
              <a:t>Следовательно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5360" indent="51084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Проектную или исследовательскую деятельность целесообразно организовывать в групповых формах (индивидуальная форма работы не исключается)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5360" indent="51084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Темы детских работ выбираются из любой содержательной области (предметной, межпредметной, внепредметной), проблемы — близкие пониманию и волнующие подростков в личном плане, социальных, коллективных и личных взаимоотношений. Получаемый результат должен быть социально и практически значимым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5360" indent="51084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Презентацию результатов проектирования или исследования целесообразно проводить на заседаниях НОУ или школьной конференции, где идёт подготовка к различным мероприятиям районного или краевого уровня (конкурсы, конференции, игры)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5360" indent="51084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Важно учитывать реальные сроки проведения таких мероприятий и соответствующим образом планировать завершение работ обучающихся, — дать тем самым шанс обучающемуся публично заявить о себе и своей работе, получить подкрепление в развитии личностных качеств и проектной и исследовательской компетентности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5360" indent="51084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779292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Для обучающихся в старшей школе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99680" y="1857240"/>
            <a:ext cx="828684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рмирование надлежащего уровня компетентности в проектной и исследовательской деятельности (то есть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амостоятельное практическое владение технологией проектирования и исследования) должно достигаться к концу 10 класс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емы и проблем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роектных и исследовательских работ подбираются в соответствии с личностными предпочтениями каждого обучающегося и должны находиться в области их самоопределения. Предпочтительны индивидуальные или мини групповые формы работы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ыполнение проектов или исследований в 10 классе может быть как отдельные случаи выдающихся успехов одарённых обучающихся, или как курсовое проектирование на профильном предмете с последующей защитой результатов в качестве творческого экзамена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 старшей школе целесообразно выполнение работ на базе и с привлечением специалистов из профильных научных учреждений, вузов. Перспективно широкое использования разнообразных форм проектной и исследовательской деятельности: экспедиций, конференций и д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5840" y="617400"/>
            <a:ext cx="8658000" cy="52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Оценивание успешности обучающегося в выполнении проекта или исследова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1071360"/>
            <a:ext cx="8955000" cy="5500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182520" indent="533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оценке успешности обучающегося в проекте или исследовании необходимо понимать, что самой значимой оценкой для него является общественное признание состоятельности (успешности, результативности). Положительной оценки достоин любой уровень достигнутых результатов. Оценивание степени сформированности умений и навыков проектной и исследовательской деятельности важно для учителя, работающего над формированием соответствующей компетентности у обучающегос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-360"/>
            <a:ext cx="8955000" cy="664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182520" indent="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Можно оценивать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епень самостоятельности в выполнении различных этапов работы над проекто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епень включённости в групповую работу и чёткость выполнения отведённой рол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ктическое использование предметных и общешкольных ЗУН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ичество новой информации использованной для выполнения проекта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епень осмысления использованной информации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ровень сложности и степень владения использованными методиками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игинальность идеи, способа решения пробле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мысление проблемы проекта и формулирование цели проекта или исследова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ровень организации и проведения презентации: устного сообщения, письменного отчёта, обеспечения объёктами наглядности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адение рефлекси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ворческий подход в подготовке объектов наглядности презент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ое и прикладное значение полученных результат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нятия до ФГОС ООО второго покол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4" descr="C:\Users\0\Desktop\Безымянный.png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ГОС ООО второго поколения предполага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1029" descr="C:\Users\0\Desktop\Безымянный1.pn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Урок «вчера»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1028" descr="C:\Users\0\Desktop\Безымянный2.png"/>
          <p:cNvPicPr/>
          <p:nvPr/>
        </p:nvPicPr>
        <p:blipFill>
          <a:blip r:embed="rId1"/>
          <a:stretch/>
        </p:blipFill>
        <p:spPr>
          <a:xfrm>
            <a:off x="1066680" y="121932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Урок «сегодня»</a:t>
            </a:r>
            <a:br>
              <a:rPr sz="3600"/>
            </a:b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(Проектные и исследовательские технологии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4" descr="C:\Users\0\Desktop\Безымянный4.png"/>
          <p:cNvPicPr/>
          <p:nvPr/>
        </p:nvPicPr>
        <p:blipFill>
          <a:blip r:embed="rId1"/>
          <a:stretch/>
        </p:blipFill>
        <p:spPr>
          <a:xfrm>
            <a:off x="4191120" y="1143000"/>
            <a:ext cx="4952880" cy="28954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04920" y="1219320"/>
            <a:ext cx="36576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частники проекта подхватывают проектную инициативу от кого-либо из жизн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частники проекта договариваются друг с другом о форме обуч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04920" y="3962520"/>
            <a:ext cx="8001000" cy="37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частники проекта развивают проектную инициативу и доводят ее до сведения все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частники проекта организуют себя на дело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частники проекта информируют друг друга о ходе работы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частники проекта вступают в дискусс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ект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ригинальная практико-ориентированная работа интегративного, межпредметного и творческого содерж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иды проект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оно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в рамках 1 учебного предмета,вполне укладывается в классно-урочную систем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ежпредметный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предполагает использование знаний по 2 и более предметам,чаще используется как дополнение к урочной деятель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дпредметный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внепредметный проект, выполняется на стыках областей знаний, выходит за рамки школьных предме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1"/>
          <p:cNvSpPr/>
          <p:nvPr/>
        </p:nvSpPr>
        <p:spPr>
          <a:xfrm>
            <a:off x="500040" y="20880"/>
            <a:ext cx="8215200" cy="7043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25320" indent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ahoma"/>
              </a:rPr>
              <a:t>Цель проектного обучения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5320" indent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5320" indent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ть условия, при которых учащиес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5320" indent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5320" indent="457200"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амостоятельно и охотно приобретают недостающие знания из разных источник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5320" indent="457200"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атся пользоваться приобретёнными знаниями для решения познавательных и практических задач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5320" indent="457200"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обретают коммуникативные умения, работая в различных групп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5320" indent="457200"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вают у себя исследовательские умения(выявление проблемы, сбор информации, наблюдения, проведение эксперимента, анализ, построение гипотез, обобщение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5320" indent="457200"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вают системное и проектное  мышл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5320" indent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4:26:26Z</dcterms:created>
  <dc:creator>cSEED</dc:creator>
  <dc:description/>
  <dc:language>en-US</dc:language>
  <cp:lastModifiedBy>User</cp:lastModifiedBy>
  <cp:lastPrinted>2012-05-11T03:02:09Z</cp:lastPrinted>
  <dcterms:modified xsi:type="dcterms:W3CDTF">2018-03-25T07:09:37Z</dcterms:modified>
  <cp:revision>67</cp:revision>
  <dc:subject/>
  <dc:title>PowerPoint Presentation</dc:title>
</cp:coreProperties>
</file>