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24.gif" ContentType="image/gif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FD2-F928-4838-8162-83964D4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128-D943-475B-9F97-5C9DEF7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575-BEE7-408E-BD5B-9D104141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249-C54F-4152-85FE-BDA4FA0E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7E7-45F8-47BA-A144-F33F1FD9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A57-CE68-464F-BF8E-DAFD1C5F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997-A309-4CB5-8510-B5EAC62C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F0F-6F75-4814-8A5E-E814FBF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A97-4EFA-4C03-BCBF-52F4642B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C77-A365-4E55-BD51-790084A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BAB-0F03-4A74-ABE4-BC6AE85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2E4-ECD8-4CF9-9DF7-76B90D0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0EBE-92B2-4A27-881D-010F3E69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зентация к докладу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ТАКОЙ ПА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-составитель: Камынин Ник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к МБДО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Детский сад №9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ногорск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007-007-"/>
          <p:cNvPicPr/>
          <p:nvPr/>
        </p:nvPicPr>
        <p:blipFill>
          <a:blip r:embed="rId1"/>
          <a:stretch/>
        </p:blipFill>
        <p:spPr>
          <a:xfrm>
            <a:off x="5181480" y="457200"/>
            <a:ext cx="31813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зубов, но он хищник. Ловит вредных мух и впрыскивает в них яд. От паука есть поль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ч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954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д пауков для человека не опасен. Есть только два паука, которые могут навредить человеку: тарантул и каракурт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ни у нас не живу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Каракурт-фото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ж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насекомых только 2 глаза, а у пауков много: 4, 6 или даже 8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и плохо слышат, но очень хорошо ви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э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24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2" name="Picture 10" descr="эээ"/>
          <p:cNvPicPr/>
          <p:nvPr/>
        </p:nvPicPr>
        <p:blipFill>
          <a:blip r:embed="rId2"/>
          <a:stretch/>
        </p:blipFill>
        <p:spPr>
          <a:xfrm>
            <a:off x="5410080" y="1371600"/>
            <a:ext cx="3313080" cy="2408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3" name="Picture 11" descr="i"/>
          <p:cNvPicPr/>
          <p:nvPr/>
        </p:nvPicPr>
        <p:blipFill>
          <a:blip r:embed="rId3"/>
          <a:stretch/>
        </p:blipFill>
        <p:spPr>
          <a:xfrm>
            <a:off x="4876920" y="4086360"/>
            <a:ext cx="3581280" cy="2457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ещё только пауки умеют плести паутину, в которую попадаются неосторожные насекомы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бычно они охотятся но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гг"/>
          <p:cNvPicPr/>
          <p:nvPr/>
        </p:nvPicPr>
        <p:blipFill>
          <a:blip r:embed="rId1"/>
          <a:stretch/>
        </p:blipFill>
        <p:spPr>
          <a:xfrm>
            <a:off x="914400" y="1440000"/>
            <a:ext cx="7315200" cy="5113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вёт паук в земле, в но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Нора-паука-волка-768x510"/>
          <p:cNvPicPr/>
          <p:nvPr/>
        </p:nvPicPr>
        <p:blipFill>
          <a:blip r:embed="rId1"/>
          <a:stretch/>
        </p:blipFill>
        <p:spPr>
          <a:xfrm>
            <a:off x="685800" y="1303200"/>
            <a:ext cx="7620120" cy="50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домашние паучки прячутся в щ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0"/>
          <p:cNvPicPr/>
          <p:nvPr/>
        </p:nvPicPr>
        <p:blipFill>
          <a:blip r:embed="rId1"/>
          <a:stretch/>
        </p:blipFill>
        <p:spPr>
          <a:xfrm>
            <a:off x="1600200" y="1143000"/>
            <a:ext cx="7162920" cy="537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Picture 11" descr="154B1B021976-16"/>
          <p:cNvPicPr/>
          <p:nvPr/>
        </p:nvPicPr>
        <p:blipFill>
          <a:blip r:embed="rId2"/>
          <a:stretch/>
        </p:blipFill>
        <p:spPr>
          <a:xfrm>
            <a:off x="152280" y="4495680"/>
            <a:ext cx="4114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-паучиха откладывает яйца, из которых вылупляются маленькие пауч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зз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5208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еют быть весёлыми, смеш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ааа"/>
          <p:cNvPicPr/>
          <p:nvPr/>
        </p:nvPicPr>
        <p:blipFill>
          <a:blip r:embed="rId1"/>
          <a:stretch/>
        </p:blipFill>
        <p:spPr>
          <a:xfrm>
            <a:off x="533520" y="1371600"/>
            <a:ext cx="8045280" cy="475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чки умеют дружить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ф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49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 человеком. Это паук-птицеед, домашний питом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Паук-птицеед-фото"/>
          <p:cNvPicPr/>
          <p:nvPr/>
        </p:nvPicPr>
        <p:blipFill>
          <a:blip r:embed="rId1"/>
          <a:stretch/>
        </p:blipFill>
        <p:spPr>
          <a:xfrm>
            <a:off x="1219320" y="1174680"/>
            <a:ext cx="6705360" cy="534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равствуйте, я – Камынин Никита Антонович, мне 5 л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расскажу вам про па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D:\Фото\НАШ СЫНУЛЯ НИКИТА\Д.с. №9 гр.Солнышко\Праздник осени 2016\DSC02417.JPG"/>
          <p:cNvPicPr/>
          <p:nvPr/>
        </p:nvPicPr>
        <p:blipFill>
          <a:blip r:embed="rId1"/>
          <a:stretch/>
        </p:blipFill>
        <p:spPr>
          <a:xfrm>
            <a:off x="2395440" y="1066680"/>
            <a:ext cx="4789440" cy="556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 смелых пауков даже фильмы придум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тт"/>
          <p:cNvPicPr/>
          <p:nvPr/>
        </p:nvPicPr>
        <p:blipFill>
          <a:blip r:embed="rId1"/>
          <a:stretch/>
        </p:blipFill>
        <p:spPr>
          <a:xfrm>
            <a:off x="304920" y="1295280"/>
            <a:ext cx="4038480" cy="2819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1" name="Picture 8" descr="ззз"/>
          <p:cNvPicPr/>
          <p:nvPr/>
        </p:nvPicPr>
        <p:blipFill>
          <a:blip r:embed="rId2"/>
          <a:stretch/>
        </p:blipFill>
        <p:spPr>
          <a:xfrm>
            <a:off x="3276720" y="3181320"/>
            <a:ext cx="5562360" cy="3130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бщем, пауки – не насекомые, а «пауки»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опасные для человека, иногда приносят пользу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емножко даже милы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обижайте паучк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784366511"/>
          <p:cNvPicPr/>
          <p:nvPr/>
        </p:nvPicPr>
        <p:blipFill>
          <a:blip r:embed="rId1"/>
          <a:stretch/>
        </p:blipFill>
        <p:spPr>
          <a:xfrm>
            <a:off x="1676520" y="457200"/>
            <a:ext cx="6400800" cy="516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200400" cy="2438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жды, я подумал: «Кто такой паук? Насекомое или нет?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решил про него всё узнать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41020174018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спрашивал про пауков у ма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41020174035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5200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2057400" cy="18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4287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ы с ней читали про них в кни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Тоська\Desktop\Новая папка\IMG_20171024_215007.jpg"/>
          <p:cNvPicPr/>
          <p:nvPr/>
        </p:nvPicPr>
        <p:blipFill>
          <a:blip r:embed="rId1"/>
          <a:stretch/>
        </p:blipFill>
        <p:spPr>
          <a:xfrm>
            <a:off x="1219320" y="1268280"/>
            <a:ext cx="6781680" cy="4834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отрели в Интернете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вот что я узнал…</a:t>
            </a: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Тоська\Desktop\Новая папка\IMG_20171024_214143.jpg"/>
          <p:cNvPicPr/>
          <p:nvPr/>
        </p:nvPicPr>
        <p:blipFill>
          <a:blip r:embed="rId1"/>
          <a:stretch/>
        </p:blipFill>
        <p:spPr>
          <a:xfrm>
            <a:off x="533520" y="1143000"/>
            <a:ext cx="7993080" cy="4724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к – это не насекомое, он относится к семье «паукообразных». Пауков много, и зовут их по-разному. Но, все вместе, они называются одним словом – «пау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Желтый-шипастый-паук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219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8" name="Picture 6" descr="ъ"/>
          <p:cNvPicPr/>
          <p:nvPr/>
        </p:nvPicPr>
        <p:blipFill>
          <a:blip r:embed="rId2"/>
          <a:stretch/>
        </p:blipFill>
        <p:spPr>
          <a:xfrm>
            <a:off x="5334120" y="1447920"/>
            <a:ext cx="3295440" cy="24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" name="Picture 10" descr="шш"/>
          <p:cNvPicPr/>
          <p:nvPr/>
        </p:nvPicPr>
        <p:blipFill>
          <a:blip r:embed="rId3"/>
          <a:stretch/>
        </p:blipFill>
        <p:spPr>
          <a:xfrm>
            <a:off x="4800600" y="4113360"/>
            <a:ext cx="3200400" cy="241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ли сравнить паука и насекомого, то увидим много различий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8 ходильных ног – у насекомого 6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2 части тела – у насекомого 3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крыльев – у насекомого есть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паука нет «усиков» - у насекомого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"/>
          <p:cNvPicPr/>
          <p:nvPr/>
        </p:nvPicPr>
        <p:blipFill>
          <a:blip r:embed="rId1"/>
          <a:stretch/>
        </p:blipFill>
        <p:spPr>
          <a:xfrm>
            <a:off x="228600" y="2971800"/>
            <a:ext cx="4267080" cy="3513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2" name="Picture 9" descr="231020173996"/>
          <p:cNvPicPr/>
          <p:nvPr/>
        </p:nvPicPr>
        <p:blipFill>
          <a:blip r:embed="rId2"/>
          <a:stretch/>
        </p:blipFill>
        <p:spPr>
          <a:xfrm>
            <a:off x="4648320" y="2971800"/>
            <a:ext cx="4267080" cy="353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о у паука впереди есть 2 коротких «щупальца»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ими удерживает добы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"/>
          <p:cNvPicPr/>
          <p:nvPr/>
        </p:nvPicPr>
        <p:blipFill>
          <a:blip r:embed="rId1"/>
          <a:stretch/>
        </p:blipFill>
        <p:spPr>
          <a:xfrm>
            <a:off x="1219320" y="1371600"/>
            <a:ext cx="6553080" cy="4979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02:07:35Z</dcterms:created>
  <dc:creator>Мамулька</dc:creator>
  <dc:description/>
  <dc:language>en-US</dc:language>
  <cp:lastModifiedBy>Мамулька</cp:lastModifiedBy>
  <dcterms:modified xsi:type="dcterms:W3CDTF">2018-05-13T04:54:3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