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012E-B6B8-4B97-BE95-B2B1E702D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CA7-6442-48FC-8CAA-6113A5E48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ом этапе Уточняется желание и интерес ребёнка к определённой деятельности. После чего составляется карта одарённого ребёнка и определяется содержание работы, составляется индивидуальный план на ребёнка по определённым видам одарё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8EA8-C709-4E1C-A417-5D0C1AB12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 статисти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но пятая часть дошкольников может быть отнесена к одарённым детям. Но они, как правило, лишены необходимой для развития их талантов поддержки, в результате всего лишь 2-5% детского поколения действительно проявляют себя как одар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ллектуально одар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% детей, с повыш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мств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15 -16%, то есть в об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детей из ста. Из 5 одар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й выявляется только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ако, и это не означ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одаренность такого ребенка будет развиваться и совершенствоваться в дальнейш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йте ребенку любозна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знания он возьмет сам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.А. Г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572D-1AC4-4300-A46D-61569D947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йте ребенку любозна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нания он возьмет сам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.А. Г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CAC3-7ADE-4D94-99B0-9DCCB27DF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ые дети кто о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Как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глядеть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ребёнок - это ребёнок, отличающийся очевидными, иногда выдающимися достижениями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ли имеющий внутренние предпосылки для таких достижений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 том или ином виде деятельности, интенсивность выраженности, яркость которых выделяют его среди одного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2821-7220-402F-A57E-7D7C2757A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Выделяются различные виды одарё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Интелект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Твор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Акаде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Художественно-изобраз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Музык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Литера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Арти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Лиде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Спортивная или психомото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157-83AB-4B91-8330-8E7D1B583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ая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начинает проявля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с самого раннего возраста, и может постепенно угаснут, если не будут созданы соответствующие условия, стимулирующие развития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детей с признаками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ости процесс длите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й с особенностью развития каждого конкретного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D1F-581A-4103-832B-E0DBF7CD7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основных компонентов детской одарённости проводится на основе наблюдения и изучения психологических особенностей, речи, памяти, логического мышления ребёнка. Участниками образовательного процесса по выявлению интеллектуально  одарённы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546-B40B-4CCC-B924-4BADB4F1F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являются: воспитатели, родители, педагог-психолог, педагоги дополнительного образования, музыкальный руководитель, инструктор по физическому воспитанию, руководители кружков. Все они являются непосредственными участниками образовательного процесса по выявлению интеллектуально одарён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A53C-E02B-4181-B41E-133BEB578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истема выявления одарённости предполагает комплексное обследование детей и проходит в три этапа (обратите внимание на слай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групповое об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анализ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индивидуальное обследование одарённых детей. Составление карты одарённого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76E3-D55B-4A81-934E-149CF5168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 - это групповое обследование детей с помощью стандартизированных методик на основе системы мониторинга примерной основной образовательной программы «От рождения до школы» Н. Е. Вераксы. Мониторинг проводится педагогом на основе наблюдения и анализа продуктов детских видов деятельности. В ходе мониторинга педагог заполняет 2 таблицы. Обратите внимание на слайд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аблица -  это  оценка уровня овладения необходимыми навыками и умениями по образовательным обл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таблица – это уровень развития интегративных кач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педагоги формируют  группы детей показавших результаты высокие и выше сред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6D74-B073-4177-BD39-F59910376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этап – это анализ результатов аналитических наблюдений воспитателей и анкетирование родителей ребёнка. На слайде предст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о выявлению одарённости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ля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 этап ведется в 3-х направлени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та с педагогами (беседы, заполнение экспертных листов на воспитанников, анализ результатов педагогического мониторинга или индивидуальных карт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бота с детьми (наблюдение, тестирование, анализ продуктов детского творч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бота с родителями (беседы, анкетир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тестирования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тветствие тестовых методик возрастны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гровой характер тестовых метод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брожелательная атмосфера во время тест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сихологическая готовность ребенка к процессу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гласие родителей на психолого-педагогическое сопровождение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и исследования одаренности детей должны обеспечивать принцип минимальной достаточности содержания методик для наиболее эффективного и адекватного отслеживания развития внутреннего потенциала личности воспитанников, охватывать познавательную и личностную сферу развития, поведенческую характеристику ребенка, что позволяет определить приоритетную сферу его интересов, а также уровень развития творческого мышления. Предварительное индивидуальное тестирование по психологическим методикам должно производиться психологом детского сада. В то же время, тотально диагностировать каждого ребенка по всем методикам не целесообразно. Поэтому можно проводить диагностику детей в выбранном направлении (психомоторная, артистическая, вокальная, хореографическая одаренность) по результатам заполнения экспертных листов воспитателями, специалистами и родителями, а также по результатам собственных наблюдений психолога, воспитателя или другого специалиста. Нужно иметь в виду, что способности ребенка проявляются неравномерно и на разных ступенях развития не могут быть выявлены при помощи одинаковых метод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следует третий эта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23B-284D-443D-A942-73DD408D3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218-FBED-42B8-8B2F-BAF4B9C8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EED-3A35-45A0-8834-2F543D7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E87-EF7D-4972-A15A-DD44DB1A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DDC-16FC-4372-B1D9-7C68D4F0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0F0-B4C7-4A4C-AD42-925E07CD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E29-ECA9-4626-8BF0-50DF24E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6C7-3410-41C3-B284-C2A22121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F26-335A-4AC2-9A4A-6CAA85AE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019-AF6E-469C-AD1E-188A2A4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EE9-B868-4088-8893-707C0BB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AC6-53B6-42E0-AE68-A33B33C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7E9-3CFD-425E-A588-F4778B6B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E94-F8D1-4869-B14D-3A77FE294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Monotype Corsiva"/>
              </a:rPr>
              <a:t>МАДОУ №1 «Белоснеж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196640"/>
            <a:ext cx="75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Детская одаренность  в условиях ДО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                                          </a:t>
            </a:r>
            <a:r>
              <a:rPr b="1" lang="ru-RU" sz="2000" spc="-1" strike="noStrike">
                <a:solidFill>
                  <a:srgbClr val="ff6600"/>
                </a:solidFill>
                <a:latin typeface="Monotype Corsiv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Monotype Corsiva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ff6600"/>
                </a:solidFill>
                <a:latin typeface="Monotype Corsiva"/>
              </a:rPr>
              <a:t>воспита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:                                    </a:t>
            </a:r>
            <a:r>
              <a:rPr b="1" lang="ru-RU" sz="2400" spc="-1" strike="noStrike">
                <a:solidFill>
                  <a:srgbClr val="ff6600"/>
                </a:solidFill>
                <a:latin typeface="Monotype Corsiva"/>
              </a:rPr>
              <a:t>Н.С.Бегали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18268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7610400" y="4941720"/>
            <a:ext cx="126684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1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1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1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9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1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991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Users\Семицветик\Desktop\001.jpg"/>
          <p:cNvPicPr/>
          <p:nvPr/>
        </p:nvPicPr>
        <p:blipFill>
          <a:blip r:embed="rId1"/>
          <a:stretch/>
        </p:blipFill>
        <p:spPr>
          <a:xfrm>
            <a:off x="4529160" y="1243080"/>
            <a:ext cx="4065480" cy="491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Users\Home\Downloads\од8.jpg"/>
          <p:cNvPicPr/>
          <p:nvPr/>
        </p:nvPicPr>
        <p:blipFill>
          <a:blip r:embed="rId2"/>
          <a:stretch/>
        </p:blipFill>
        <p:spPr>
          <a:xfrm>
            <a:off x="320760" y="0"/>
            <a:ext cx="218736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Users\Home\Downloads\од5.jpg"/>
          <p:cNvPicPr/>
          <p:nvPr/>
        </p:nvPicPr>
        <p:blipFill>
          <a:blip r:embed="rId3"/>
          <a:stretch/>
        </p:blipFill>
        <p:spPr>
          <a:xfrm>
            <a:off x="1897200" y="2550960"/>
            <a:ext cx="232236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C:\Users\Home\Downloads\од3.jpg"/>
          <p:cNvPicPr/>
          <p:nvPr/>
        </p:nvPicPr>
        <p:blipFill>
          <a:blip r:embed="rId4"/>
          <a:stretch/>
        </p:blipFill>
        <p:spPr>
          <a:xfrm>
            <a:off x="708120" y="4351320"/>
            <a:ext cx="21524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415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1628640"/>
            <a:ext cx="7416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но пятая часть дошкольников может быть отнесена к одарённым детям. Но они, как правило, лишены необходимой для развития их талантов поддержки, в результате всего лишь 2-5% детского поколения действительно проявляют себя как одарё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ллектуально одар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% детей, с повыш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мственными способ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15 -16%, то есть в об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детей из ста. Из 5 ода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тей выявляется только од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ко, и это не означ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то одаренность такого ребенка будет развиваться и совершенствоваться в дальнейш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умник 1 без тени"/>
          <p:cNvPicPr/>
          <p:nvPr/>
        </p:nvPicPr>
        <p:blipFill>
          <a:blip r:embed="rId1"/>
          <a:srcRect l="0" t="0" r="0" b="10630"/>
          <a:stretch/>
        </p:blipFill>
        <p:spPr>
          <a:xfrm>
            <a:off x="52560" y="-100080"/>
            <a:ext cx="1538280" cy="198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Monotype Corsiva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умник 1 без тени"/>
          <p:cNvPicPr/>
          <p:nvPr/>
        </p:nvPicPr>
        <p:blipFill>
          <a:blip r:embed="rId1"/>
          <a:srcRect l="0" t="0" r="0" b="10630"/>
          <a:stretch/>
        </p:blipFill>
        <p:spPr>
          <a:xfrm>
            <a:off x="3059280" y="2565360"/>
            <a:ext cx="36986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арённые дети кто о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Как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лядеть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арё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ребёнок - это ребёнок, отличающийся очевидными, иногда выдающимися достижениями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ли имеющий внутренние предпосылки для таких достижени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 том или ином виде деятельности, интенсивность выраженности, яркость которых выделяют его среди одного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1280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деляются различные виды одарённости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нтелектуальн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Твор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кадеми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удожественно-изобразительная Музыкальн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Литературн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ртисти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Техни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Лидер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портивная или психомоторная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4280" y="-14760"/>
            <a:ext cx="5046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ая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ё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чинает проявля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с самого раннего возраста, и может постепенно угаснут, если не будут созданы соответствующие условия, стимулирующие развития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ё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ыявление детей с признакам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ённости процесс дли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анный с особенностью развития каждого конкретного ребёнк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4376880"/>
            <a:ext cx="2484360" cy="248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умник 1 без тени"/>
          <p:cNvPicPr/>
          <p:nvPr/>
        </p:nvPicPr>
        <p:blipFill>
          <a:blip r:embed="rId2"/>
          <a:srcRect l="0" t="0" r="0" b="10622"/>
          <a:stretch/>
        </p:blipFill>
        <p:spPr>
          <a:xfrm>
            <a:off x="6891480" y="4365720"/>
            <a:ext cx="225252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2000"/>
            <a:ext cx="7067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Способы выявления одарё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49680" y="1196640"/>
            <a:ext cx="279396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Изучение                                                                психолог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особ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особенностей (речь,память,логическое мыш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"/>
          <p:cNvSpPr/>
          <p:nvPr/>
        </p:nvSpPr>
        <p:spPr>
          <a:xfrm rot="1593000">
            <a:off x="2327040" y="1267920"/>
            <a:ext cx="485640" cy="70164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2"/>
          <p:cNvSpPr/>
          <p:nvPr/>
        </p:nvSpPr>
        <p:spPr>
          <a:xfrm rot="20101800">
            <a:off x="5479920" y="1168560"/>
            <a:ext cx="484200" cy="653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:\Users\Home\Downloads\од4.jpg"/>
          <p:cNvPicPr/>
          <p:nvPr/>
        </p:nvPicPr>
        <p:blipFill>
          <a:blip r:embed="rId1"/>
          <a:stretch/>
        </p:blipFill>
        <p:spPr>
          <a:xfrm>
            <a:off x="5364000" y="4724280"/>
            <a:ext cx="2232360" cy="172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:\Users\Home\Downloads\од7.jpg"/>
          <p:cNvPicPr/>
          <p:nvPr/>
        </p:nvPicPr>
        <p:blipFill>
          <a:blip r:embed="rId2"/>
          <a:stretch/>
        </p:blipFill>
        <p:spPr>
          <a:xfrm>
            <a:off x="399960" y="4302000"/>
            <a:ext cx="2791080" cy="215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Home\Downloads\од2.jpg"/>
          <p:cNvPicPr/>
          <p:nvPr/>
        </p:nvPicPr>
        <p:blipFill>
          <a:blip r:embed="rId3"/>
          <a:stretch/>
        </p:blipFill>
        <p:spPr>
          <a:xfrm>
            <a:off x="395280" y="2133720"/>
            <a:ext cx="2795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5"/>
          <p:cNvSpPr/>
          <p:nvPr/>
        </p:nvSpPr>
        <p:spPr>
          <a:xfrm>
            <a:off x="2571840" y="285840"/>
            <a:ext cx="468000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 flipV="1">
            <a:off x="0" y="1412640"/>
            <a:ext cx="2341440" cy="1141200"/>
          </a:xfrm>
          <a:prstGeom prst="wedgeRoundRectCallout">
            <a:avLst>
              <a:gd name="adj1" fmla="val 61689"/>
              <a:gd name="adj2" fmla="val 40601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 flipV="1">
            <a:off x="252360" y="3141000"/>
            <a:ext cx="2089080" cy="1157400"/>
          </a:xfrm>
          <a:prstGeom prst="wedgeRoundRectCallout">
            <a:avLst>
              <a:gd name="adj1" fmla="val 82523"/>
              <a:gd name="adj2" fmla="val 140347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 flipV="1">
            <a:off x="1979640" y="4309920"/>
            <a:ext cx="1922400" cy="1441440"/>
          </a:xfrm>
          <a:prstGeom prst="wedgeRoundRectCallout">
            <a:avLst>
              <a:gd name="adj1" fmla="val 24564"/>
              <a:gd name="adj2" fmla="val 203300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AutoShape 9"/>
          <p:cNvGrpSpPr/>
          <p:nvPr/>
        </p:nvGrpSpPr>
        <p:grpSpPr>
          <a:xfrm>
            <a:off x="3949560" y="2077920"/>
            <a:ext cx="2365560" cy="3792600"/>
            <a:chOff x="3949560" y="2077920"/>
            <a:chExt cx="2365560" cy="3792600"/>
          </a:xfrm>
        </p:grpSpPr>
        <p:pic>
          <p:nvPicPr>
            <p:cNvPr id="71" name="AutoShape 9" descr=""/>
            <p:cNvPicPr/>
            <p:nvPr/>
          </p:nvPicPr>
          <p:blipFill>
            <a:blip r:embed="rId1"/>
            <a:stretch/>
          </p:blipFill>
          <p:spPr>
            <a:xfrm>
              <a:off x="3949560" y="2077920"/>
              <a:ext cx="23655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0800000">
              <a:off x="4206960" y="4473360"/>
              <a:ext cx="195408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дагоги доп.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10"/>
          <p:cNvSpPr/>
          <p:nvPr/>
        </p:nvSpPr>
        <p:spPr>
          <a:xfrm flipV="1">
            <a:off x="6443640" y="4105440"/>
            <a:ext cx="2016000" cy="1584000"/>
          </a:xfrm>
          <a:prstGeom prst="wedgeRoundRectCallout">
            <a:avLst>
              <a:gd name="adj1" fmla="val -148509"/>
              <a:gd name="adj2" fmla="val 175050"/>
              <a:gd name="adj3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 flipV="1">
            <a:off x="7169040" y="2736720"/>
            <a:ext cx="1836720" cy="1368720"/>
          </a:xfrm>
          <a:prstGeom prst="wedgeRoundRectCallout">
            <a:avLst>
              <a:gd name="adj1" fmla="val -118421"/>
              <a:gd name="adj2" fmla="val 98023"/>
              <a:gd name="adj3" fmla="val 16667"/>
            </a:avLst>
          </a:prstGeom>
          <a:gradFill rotWithShape="0">
            <a:gsLst>
              <a:gs pos="0">
                <a:srgbClr val="9900ff"/>
              </a:gs>
              <a:gs pos="50000">
                <a:srgbClr val="ffffff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.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flipV="1">
            <a:off x="7419960" y="1184760"/>
            <a:ext cx="1836720" cy="1368360"/>
          </a:xfrm>
          <a:prstGeom prst="wedgeRoundRectCallout">
            <a:avLst>
              <a:gd name="adj1" fmla="val -68638"/>
              <a:gd name="adj2" fmla="val 33986"/>
              <a:gd name="adj3" fmla="val 16667"/>
            </a:avLst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ели круж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умник 1 без тени"/>
          <p:cNvPicPr/>
          <p:nvPr/>
        </p:nvPicPr>
        <p:blipFill>
          <a:blip r:embed="rId2"/>
          <a:srcRect l="0" t="0" r="0" b="10630"/>
          <a:stretch/>
        </p:blipFill>
        <p:spPr>
          <a:xfrm>
            <a:off x="0" y="5154480"/>
            <a:ext cx="1835280" cy="17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a50021"/>
                </a:solidFill>
                <a:uFillTx/>
                <a:latin typeface="Monotype Corsiva"/>
              </a:rPr>
              <a:t>Три этапа выя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8135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Групповое об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Анализ результато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Индивидуальное обследование одарённых детей. Составление карты одарённо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умник 1 без тени"/>
          <p:cNvPicPr/>
          <p:nvPr/>
        </p:nvPicPr>
        <p:blipFill>
          <a:blip r:embed="rId1"/>
          <a:srcRect l="0" t="0" r="0" b="10630"/>
          <a:stretch/>
        </p:blipFill>
        <p:spPr>
          <a:xfrm>
            <a:off x="3419640" y="3933720"/>
            <a:ext cx="30765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105228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5120" y="22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1000"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Monotype Corsiva"/>
              </a:rPr>
              <a:t>1 эта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90144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Семицветик\Desktop\001 (2).jpg"/>
          <p:cNvPicPr/>
          <p:nvPr/>
        </p:nvPicPr>
        <p:blipFill>
          <a:blip r:embed="rId2"/>
          <a:stretch/>
        </p:blipFill>
        <p:spPr>
          <a:xfrm>
            <a:off x="4932360" y="1081080"/>
            <a:ext cx="3537000" cy="4181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6" descr="C:\Users\Семицветик\Desktop\001.jpg"/>
          <p:cNvPicPr/>
          <p:nvPr/>
        </p:nvPicPr>
        <p:blipFill>
          <a:blip r:embed="rId3"/>
          <a:stretch/>
        </p:blipFill>
        <p:spPr>
          <a:xfrm>
            <a:off x="476280" y="1052640"/>
            <a:ext cx="4032360" cy="420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Monotype Corsiva"/>
              </a:rPr>
              <a:t>2 эта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126792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й  этап ведется в 3-х направл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бота с педагогами (беседы, заполнение экспертных листов на воспитанников, анализ результатов педагогического мониторинга или индивидуальных карт разви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бота с детьми (наблюдение, тестирование, анализ продуктов детского творч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бота с родителями (беседы, анкетирова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1439640" cy="15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Семицветик\Desktop\001.jpg"/>
          <p:cNvPicPr/>
          <p:nvPr/>
        </p:nvPicPr>
        <p:blipFill>
          <a:blip r:embed="rId2"/>
          <a:stretch/>
        </p:blipFill>
        <p:spPr>
          <a:xfrm>
            <a:off x="5148360" y="2421000"/>
            <a:ext cx="3544920" cy="389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Пользователь Windows</cp:lastModifiedBy>
  <cp:lastPrinted>2014-02-10T10:29:38Z</cp:lastPrinted>
  <dcterms:modified xsi:type="dcterms:W3CDTF">2018-02-14T02:35:01Z</dcterms:modified>
  <cp:revision>84</cp:revision>
  <dc:subject/>
  <dc:title>Слайд 1</dc:title>
</cp:coreProperties>
</file>