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2049-215F-439A-ADE9-E64381CB24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E73A-9285-49A2-BCAF-F07F40B07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ом этапе Уточняется желание и интерес ребёнка к определённой деятельности. После чего составляется карта одарённого ребёнка и определяется содержание работы, составляется индивидуальный план на ребёнка по определённым видам одарё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C006-5773-4011-91D3-9E956E42E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 статисти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но пятая часть дошкольников может быть отнесена к одарённым детям. Но они, как правило, лишены необходимой для развития их талантов поддержки, в результате всего лишь 2-5% детского поколения действительно проявляют себя как одар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ллектуально одар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% детей, с повыш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мственными способ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15 -16%, то есть в об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детей из ста. Из 5 одар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тей выявляется только од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днако, и это не означа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одаренность такого ребенка будет развиваться и совершенствоваться в дальнейш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йте ребенку любозна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 знания он возьмет сам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.А. Г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208-A302-4D2A-A0D8-6543F381A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йте ребенку любозна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нания он возьмет сам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.А. Г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0E5B-8151-4ED4-92FB-6790D0092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арённые дети кто о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Как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глядеть 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арё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ребёнок - это ребёнок, отличающийся очевидными, иногда выдающимися достижениями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или имеющий внутренние предпосылки для таких достижений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 том или ином виде деятельности, интенсивность выраженности, яркость которых выделяют его среди одного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7DE0-ECD5-4573-A261-FC5F2085F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Выделяются различные виды одарё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Интелекту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Твор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Акаде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Художественно-изобраз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Музык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Литерат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Артист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Техн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Лидер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Спортивная или психомото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325E-7C81-4064-8F36-82BCA2447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ая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арё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начинает проявля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с самого раннего возраста, и может постепенно угаснут, если не будут созданы соответствующие условия, стимулирующие развития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арё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детей с признаками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арённости процесс длите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й с особенностью развития каждого конкретного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F167-A6C8-4057-B856-5480F73C9E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обенностей основных компонентов детской одарённости проводится на основе наблюдения и изучения психологических особенностей, речи, памяти, логического мышления ребёнка. Участниками образовательного процесса по выявлению интеллектуально  одарённы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FCD6-AA72-4DC8-8179-A35E8AE84A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и являются: воспитатели, родители, педагог-психолог, педагоги дополнительного образования, музыкальный руководитель, инструктор по физическому воспитанию, руководители кружков. Все они являются непосредственными участниками образовательного процесса по выявлению интеллектуально одарённых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2965-B3D7-4C80-8827-3BB40DDE7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система выявления одарённости предполагает комплексное обследование детей и проходит в три этапа (обратите внимание на слай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групповое об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анализ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индивидуальное обследование одарённых детей. Составление карты одарённого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A87A-3D76-44F8-AF49-3A131B66E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этап - это групповое обследование детей с помощью стандартизированных методик на основе системы мониторинга примерной основной образовательной программы «От рождения до школы» Н. Е. Вераксы. Мониторинг проводится педагогом на основе наблюдения и анализа продуктов детских видов деятельности. В ходе мониторинга педагог заполняет 2 таблицы. Обратите внимание на слайд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таблица -  это  оценка уровня овладения необходимыми навыками и умениями по образовательным обл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таблица – это уровень развития интегративных кач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педагоги формируют  группы детей показавших результаты высокие и выше сред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3A28-174C-40DE-A3BB-47F4DD602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этап – это анализ результатов аналитических наблюдений воспитателей и анкетирование родителей ребёнка. На слайде предста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о выявлению одарённости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ля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ый  этап ведется в 3-х направлени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бота с педагогами (беседы, заполнение экспертных листов на воспитанников, анализ результатов педагогического мониторинга или индивидуальных карт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бота с детьми (наблюдение, тестирование, анализ продуктов детского творче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абота с родителями (беседы, анкетиров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тестирования де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ответствие тестовых методик возрастным норм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гровой характер тестовых методи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оброжелательная атмосфера во время тест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сихологическая готовность ребенка к процессу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гласие родителей на психолого-педагогическое сопровождение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и исследования одаренности детей должны обеспечивать принцип минимальной достаточности содержания методик для наиболее эффективного и адекватного отслеживания развития внутреннего потенциала личности воспитанников, охватывать познавательную и личностную сферу развития, поведенческую характеристику ребенка, что позволяет определить приоритетную сферу его интересов, а также уровень развития творческого мышления. Предварительное индивидуальное тестирование по психологическим методикам должно производиться психологом детского сада. В то же время, тотально диагностировать каждого ребенка по всем методикам не целесообразно. Поэтому можно проводить диагностику детей в выбранном направлении (психомоторная, артистическая, вокальная, хореографическая одаренность) по результатам заполнения экспертных листов воспитателями, специалистами и родителями, а также по результатам собственных наблюдений психолога, воспитателя или другого специалиста. Нужно иметь в виду, что способности ребенка проявляются неравномерно и на разных ступенях развития не могут быть выявлены при помощи одинаковых метод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следует третий эта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CE15-439B-4CF9-8BB2-4AA87F3963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345-4714-461C-8798-F2CA3B56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E1D-48C7-4B50-ABAF-1FA49699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FA4-0791-4D56-ADDF-5DCC52B4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9D8-C916-492E-8E07-DECCF06A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733-300B-413D-8852-C63DF942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D5E-F2DC-4085-BDF7-C5987BA9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685-A6E1-4E6E-9550-919B1D94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77C-64A2-4A8D-9D71-A4F07325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1B0-17C7-4669-BDFD-C33349FC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9C2-1E56-477F-9FC5-2034B017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022-DBA4-42FB-BB3B-2F570A8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D14-8E5B-484D-96E6-3D810E3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3D7B-7BCD-45E0-81CC-325574CC5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Monotype Corsiva"/>
              </a:rPr>
              <a:t>МАДОУ №1 «Белоснеж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1196640"/>
            <a:ext cx="756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Детская одаренность  в условиях ДО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                                          </a:t>
            </a:r>
            <a:r>
              <a:rPr b="1" lang="ru-RU" sz="2000" spc="-1" strike="noStrike">
                <a:solidFill>
                  <a:srgbClr val="ff6600"/>
                </a:solidFill>
                <a:latin typeface="Monotype Corsiva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Monotype Corsiva"/>
              </a:rPr>
              <a:t>                                                                            </a:t>
            </a:r>
            <a:r>
              <a:rPr b="1" lang="ru-RU" sz="2000" spc="-1" strike="noStrike">
                <a:solidFill>
                  <a:srgbClr val="ff6600"/>
                </a:solidFill>
                <a:latin typeface="Monotype Corsiva"/>
              </a:rPr>
              <a:t>воспита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:                                    </a:t>
            </a:r>
            <a:r>
              <a:rPr b="1" lang="ru-RU" sz="2400" spc="-1" strike="noStrike">
                <a:solidFill>
                  <a:srgbClr val="ff6600"/>
                </a:solidFill>
                <a:latin typeface="Monotype Corsiva"/>
              </a:rPr>
              <a:t>Н.С.Бегали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218268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7610400" y="4941720"/>
            <a:ext cx="126684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1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1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1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9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1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3 эта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9916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:\Users\Семицветик\Desktop\001.jpg"/>
          <p:cNvPicPr/>
          <p:nvPr/>
        </p:nvPicPr>
        <p:blipFill>
          <a:blip r:embed="rId1"/>
          <a:stretch/>
        </p:blipFill>
        <p:spPr>
          <a:xfrm>
            <a:off x="4529160" y="1243080"/>
            <a:ext cx="4065480" cy="491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:\Users\Home\Downloads\од8.jpg"/>
          <p:cNvPicPr/>
          <p:nvPr/>
        </p:nvPicPr>
        <p:blipFill>
          <a:blip r:embed="rId2"/>
          <a:stretch/>
        </p:blipFill>
        <p:spPr>
          <a:xfrm>
            <a:off x="320760" y="0"/>
            <a:ext cx="218736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C:\Users\Home\Downloads\од5.jpg"/>
          <p:cNvPicPr/>
          <p:nvPr/>
        </p:nvPicPr>
        <p:blipFill>
          <a:blip r:embed="rId3"/>
          <a:stretch/>
        </p:blipFill>
        <p:spPr>
          <a:xfrm>
            <a:off x="1897200" y="2550960"/>
            <a:ext cx="232236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C:\Users\Home\Downloads\од3.jpg"/>
          <p:cNvPicPr/>
          <p:nvPr/>
        </p:nvPicPr>
        <p:blipFill>
          <a:blip r:embed="rId4"/>
          <a:stretch/>
        </p:blipFill>
        <p:spPr>
          <a:xfrm>
            <a:off x="708120" y="4351320"/>
            <a:ext cx="2152440" cy="2102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415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6000" y="1628640"/>
            <a:ext cx="7416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но пятая часть дошкольников может быть отнесена к одарённым детям. Но они, как правило, лишены необходимой для развития их талантов поддержки, в результате всего лишь 2-5% детского поколения действительно проявляют себя как одарё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ллектуально одар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% детей, с повышен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мственными способно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15 -16%, то есть в об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8 детей из ста. Из 5 одар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етей выявляется только од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ко, и это не означ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то одаренность такого ребенка будет развиваться и совершенствоваться в дальнейш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умник 1 без тени"/>
          <p:cNvPicPr/>
          <p:nvPr/>
        </p:nvPicPr>
        <p:blipFill>
          <a:blip r:embed="rId1"/>
          <a:srcRect l="0" t="0" r="0" b="10630"/>
          <a:stretch/>
        </p:blipFill>
        <p:spPr>
          <a:xfrm>
            <a:off x="52560" y="-100080"/>
            <a:ext cx="1538280" cy="198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Monotype Corsiva"/>
              </a:rPr>
              <a:t>Спасибо за внима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умник 1 без тени"/>
          <p:cNvPicPr/>
          <p:nvPr/>
        </p:nvPicPr>
        <p:blipFill>
          <a:blip r:embed="rId1"/>
          <a:srcRect l="0" t="0" r="0" b="10630"/>
          <a:stretch/>
        </p:blipFill>
        <p:spPr>
          <a:xfrm>
            <a:off x="3059280" y="2565360"/>
            <a:ext cx="36986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арённые дети кто о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Как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глядеть 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арён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ребёнок - это ребёнок, отличающийся очевидными, иногда выдающимися достижениями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ли имеющий внутренние предпосылки для таких достижений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 том или ином виде деятельности, интенсивность выраженности, яркость которых выделяют его среди одного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12800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ыделяются различные виды одарённости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Интелектуальн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Творческ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кадемическ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Художественно-изобразительная Музыкальн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Литературн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ртистическ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Техническ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Лидерска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портивная или психомоторная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44280" y="-14760"/>
            <a:ext cx="5046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ая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арё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ачинает проявля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с самого раннего возраста, и может постепенно угаснут, если не будут созданы соответствующие условия, стимулирующие развития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арё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ыявление детей с признаками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арённости процесс длите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вязанный с особенностью развития каждого конкретного ребёнк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4376880"/>
            <a:ext cx="2484360" cy="248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умник 1 без тени"/>
          <p:cNvPicPr/>
          <p:nvPr/>
        </p:nvPicPr>
        <p:blipFill>
          <a:blip r:embed="rId2"/>
          <a:srcRect l="0" t="0" r="0" b="10622"/>
          <a:stretch/>
        </p:blipFill>
        <p:spPr>
          <a:xfrm>
            <a:off x="6891480" y="4365720"/>
            <a:ext cx="225252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2000"/>
            <a:ext cx="7067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Monotype Corsiva"/>
              </a:rPr>
              <a:t>      </a:t>
            </a:r>
            <a:r>
              <a:rPr b="1" lang="ru-RU" sz="3600" spc="-1" strike="noStrike">
                <a:solidFill>
                  <a:srgbClr val="990000"/>
                </a:solidFill>
                <a:latin typeface="Monotype Corsiva"/>
              </a:rPr>
              <a:t>Способы выявления одарё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49680" y="1196640"/>
            <a:ext cx="279396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Monotype Corsiva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Изучение                                                                психологиче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особ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особенностей (речь,память,логическое мышл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                                              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"/>
          <p:cNvSpPr/>
          <p:nvPr/>
        </p:nvSpPr>
        <p:spPr>
          <a:xfrm rot="1593000">
            <a:off x="2327040" y="1267920"/>
            <a:ext cx="485640" cy="70164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2"/>
          <p:cNvSpPr/>
          <p:nvPr/>
        </p:nvSpPr>
        <p:spPr>
          <a:xfrm rot="20101800">
            <a:off x="5479920" y="1168560"/>
            <a:ext cx="484200" cy="6537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C:\Users\Home\Downloads\од4.jpg"/>
          <p:cNvPicPr/>
          <p:nvPr/>
        </p:nvPicPr>
        <p:blipFill>
          <a:blip r:embed="rId1"/>
          <a:stretch/>
        </p:blipFill>
        <p:spPr>
          <a:xfrm>
            <a:off x="5364000" y="4724280"/>
            <a:ext cx="2232360" cy="172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C:\Users\Home\Downloads\од7.jpg"/>
          <p:cNvPicPr/>
          <p:nvPr/>
        </p:nvPicPr>
        <p:blipFill>
          <a:blip r:embed="rId2"/>
          <a:stretch/>
        </p:blipFill>
        <p:spPr>
          <a:xfrm>
            <a:off x="399960" y="4302000"/>
            <a:ext cx="2791080" cy="215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C:\Users\Home\Downloads\од2.jpg"/>
          <p:cNvPicPr/>
          <p:nvPr/>
        </p:nvPicPr>
        <p:blipFill>
          <a:blip r:embed="rId3"/>
          <a:stretch/>
        </p:blipFill>
        <p:spPr>
          <a:xfrm>
            <a:off x="395280" y="2133720"/>
            <a:ext cx="279576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5"/>
          <p:cNvSpPr/>
          <p:nvPr/>
        </p:nvSpPr>
        <p:spPr>
          <a:xfrm>
            <a:off x="2571840" y="285840"/>
            <a:ext cx="468000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 flipV="1">
            <a:off x="0" y="1412640"/>
            <a:ext cx="2341440" cy="1141200"/>
          </a:xfrm>
          <a:prstGeom prst="wedgeRoundRectCallout">
            <a:avLst>
              <a:gd name="adj1" fmla="val 61689"/>
              <a:gd name="adj2" fmla="val 40601"/>
              <a:gd name="adj3" fmla="val 16667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 flipV="1">
            <a:off x="252360" y="3141000"/>
            <a:ext cx="2089080" cy="1157400"/>
          </a:xfrm>
          <a:prstGeom prst="wedgeRoundRectCallout">
            <a:avLst>
              <a:gd name="adj1" fmla="val 82523"/>
              <a:gd name="adj2" fmla="val 140347"/>
              <a:gd name="adj3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 flipV="1">
            <a:off x="1979640" y="4309920"/>
            <a:ext cx="1922400" cy="1441440"/>
          </a:xfrm>
          <a:prstGeom prst="wedgeRoundRectCallout">
            <a:avLst>
              <a:gd name="adj1" fmla="val 24564"/>
              <a:gd name="adj2" fmla="val 203300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AutoShape 9"/>
          <p:cNvGrpSpPr/>
          <p:nvPr/>
        </p:nvGrpSpPr>
        <p:grpSpPr>
          <a:xfrm>
            <a:off x="3949560" y="2077920"/>
            <a:ext cx="2365560" cy="3792600"/>
            <a:chOff x="3949560" y="2077920"/>
            <a:chExt cx="2365560" cy="3792600"/>
          </a:xfrm>
        </p:grpSpPr>
        <p:pic>
          <p:nvPicPr>
            <p:cNvPr id="71" name="AutoShape 9" descr=""/>
            <p:cNvPicPr/>
            <p:nvPr/>
          </p:nvPicPr>
          <p:blipFill>
            <a:blip r:embed="rId1"/>
            <a:stretch/>
          </p:blipFill>
          <p:spPr>
            <a:xfrm>
              <a:off x="3949560" y="2077920"/>
              <a:ext cx="23655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0800000">
              <a:off x="4206960" y="4473360"/>
              <a:ext cx="195408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дагоги доп. 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10"/>
          <p:cNvSpPr/>
          <p:nvPr/>
        </p:nvSpPr>
        <p:spPr>
          <a:xfrm flipV="1">
            <a:off x="6443640" y="4105440"/>
            <a:ext cx="2016000" cy="1584000"/>
          </a:xfrm>
          <a:prstGeom prst="wedgeRoundRectCallout">
            <a:avLst>
              <a:gd name="adj1" fmla="val -148509"/>
              <a:gd name="adj2" fmla="val 175050"/>
              <a:gd name="adj3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 flipV="1">
            <a:off x="7169040" y="2736720"/>
            <a:ext cx="1836720" cy="1368720"/>
          </a:xfrm>
          <a:prstGeom prst="wedgeRoundRectCallout">
            <a:avLst>
              <a:gd name="adj1" fmla="val -118421"/>
              <a:gd name="adj2" fmla="val 98023"/>
              <a:gd name="adj3" fmla="val 16667"/>
            </a:avLst>
          </a:prstGeom>
          <a:gradFill rotWithShape="0">
            <a:gsLst>
              <a:gs pos="0">
                <a:srgbClr val="9900ff"/>
              </a:gs>
              <a:gs pos="50000">
                <a:srgbClr val="ffffff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руктор по физ.разви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 flipV="1">
            <a:off x="7419960" y="1184760"/>
            <a:ext cx="1836720" cy="1368360"/>
          </a:xfrm>
          <a:prstGeom prst="wedgeRoundRectCallout">
            <a:avLst>
              <a:gd name="adj1" fmla="val -68638"/>
              <a:gd name="adj2" fmla="val 33986"/>
              <a:gd name="adj3" fmla="val 16667"/>
            </a:avLst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ководители круж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умник 1 без тени"/>
          <p:cNvPicPr/>
          <p:nvPr/>
        </p:nvPicPr>
        <p:blipFill>
          <a:blip r:embed="rId2"/>
          <a:srcRect l="0" t="0" r="0" b="10630"/>
          <a:stretch/>
        </p:blipFill>
        <p:spPr>
          <a:xfrm>
            <a:off x="0" y="5154480"/>
            <a:ext cx="1835280" cy="17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a50021"/>
                </a:solidFill>
                <a:uFillTx/>
                <a:latin typeface="Monotype Corsiva"/>
              </a:rPr>
              <a:t>Три этапа выя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4000" y="1483920"/>
            <a:ext cx="8135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Групповое обслед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Анализ результато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Monotype Corsiva"/>
              </a:rPr>
              <a:t>Индивидуальное обследование одарённых детей. Составление карты одарённого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умник 1 без тени"/>
          <p:cNvPicPr/>
          <p:nvPr/>
        </p:nvPicPr>
        <p:blipFill>
          <a:blip r:embed="rId1"/>
          <a:srcRect l="0" t="0" r="0" b="10630"/>
          <a:stretch/>
        </p:blipFill>
        <p:spPr>
          <a:xfrm>
            <a:off x="3419640" y="3933720"/>
            <a:ext cx="307656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105228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5120" y="225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1000"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50021"/>
                </a:solidFill>
                <a:latin typeface="Monotype Corsiva"/>
              </a:rPr>
              <a:t>1 эта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90144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Семицветик\Desktop\001 (2).jpg"/>
          <p:cNvPicPr/>
          <p:nvPr/>
        </p:nvPicPr>
        <p:blipFill>
          <a:blip r:embed="rId2"/>
          <a:stretch/>
        </p:blipFill>
        <p:spPr>
          <a:xfrm>
            <a:off x="4932360" y="1081080"/>
            <a:ext cx="3537000" cy="4181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6" descr="C:\Users\Семицветик\Desktop\001.jpg"/>
          <p:cNvPicPr/>
          <p:nvPr/>
        </p:nvPicPr>
        <p:blipFill>
          <a:blip r:embed="rId3"/>
          <a:stretch/>
        </p:blipFill>
        <p:spPr>
          <a:xfrm>
            <a:off x="476280" y="1052640"/>
            <a:ext cx="4032360" cy="4209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50021"/>
                </a:solidFill>
                <a:latin typeface="Monotype Corsiva"/>
              </a:rPr>
              <a:t>2 эта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1267920"/>
            <a:ext cx="417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й  этап ведется в 3-х направлени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абота с педагогами (беседы, заполнение экспертных листов на воспитанников, анализ результатов педагогического мониторинга или индивидуальных карт развит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абота с детьми (наблюдение, тестирование, анализ продуктов детского творч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бота с родителями (беседы, анкетирова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1439640" cy="15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Семицветик\Desktop\001.jpg"/>
          <p:cNvPicPr/>
          <p:nvPr/>
        </p:nvPicPr>
        <p:blipFill>
          <a:blip r:embed="rId2"/>
          <a:stretch/>
        </p:blipFill>
        <p:spPr>
          <a:xfrm>
            <a:off x="5148360" y="2421000"/>
            <a:ext cx="3544920" cy="3890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26:05Z</dcterms:created>
  <dc:creator>Оля</dc:creator>
  <dc:description/>
  <dc:language>en-US</dc:language>
  <cp:lastModifiedBy>Пользователь Windows</cp:lastModifiedBy>
  <cp:lastPrinted>2014-02-10T10:29:38Z</cp:lastPrinted>
  <dcterms:modified xsi:type="dcterms:W3CDTF">2018-02-14T02:35:01Z</dcterms:modified>
  <cp:revision>84</cp:revision>
  <dc:subject/>
  <dc:title>Слайд 1</dc:title>
</cp:coreProperties>
</file>