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BE7-B060-4512-9F20-17846CE4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0C6-8D37-4CA4-8AE1-53005D68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190-C3E5-486E-88D2-A8A2AA4F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B4A-71E2-46C3-8434-7A09942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D651-A4E9-4FD2-B864-D724E946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35A5-B469-478D-8251-DD14548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DD7-E4CC-4E9E-9F95-2338044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391D-FDD4-43A1-A118-5954BE6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570C-7D74-4B8F-91E6-72439E28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973D-E807-4BF2-AA17-186BCBBA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1F8-74AB-4E25-A659-2C8C661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D63-CC45-4122-9D98-55919E82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EE7C-6DF7-4D5B-AE3E-D3063EE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52ED-01C1-4B4F-B5B9-45592E6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028A-5A46-49F8-B6D0-B0CA8F04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676-BDDD-49A3-AB28-114EF09B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59F2-2B27-4477-B549-4BE72E33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9E7-C035-4577-BFE5-0C18BDA7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480-B85E-4B28-B68E-38DEDF0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C6C-9B2E-44DD-9358-19C35C2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E6A-8B45-4EAE-B4D4-4F53997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583-E7ED-4531-8D25-C1DF478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C0D-6178-4BB3-A088-E9A916D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AF2-C35E-4BC7-95CB-047CFEF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9DC-0636-4BC8-A5A6-BD5CCCB75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EF99-7BD7-4BFE-9403-1449970D1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47280" y="1483920"/>
            <a:ext cx="6409080" cy="2376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В ОБРАЗОВАТЕЛЬНОМ ПРОЦЕ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3725640" y="571500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: Долгун Е.И., 46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2" name="Содержимое 3" descr="0010-010-KrossvordVazhnoe-slovo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28584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71360"/>
            <a:ext cx="8413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3_2_46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3571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3_2_49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500120" y="3571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71360"/>
            <a:ext cx="913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8" name="Содержимое 3" descr="Изображение 092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84120" y="404640"/>
            <a:ext cx="8759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438120" y="4950000"/>
            <a:ext cx="8761320" cy="9745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-42840"/>
            <a:ext cx="1420920" cy="981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5522760" y="-128520"/>
            <a:ext cx="3071880" cy="106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539640" y="357336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естественной формой труда ребенка, приготовлением к   будуще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3964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повышению интереса, активизации и   развитию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539640" y="148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ет здоровьесберегающий   фактор в развитии и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39640" y="22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ет передача опыта старших поколений младш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53964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использованию    знаний в нов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539640" y="443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пособствует объединению коллектива и формированию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5148360" y="83664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ость в организации и проблемы с дисципли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5148360" y="14842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дготовка требует больших затрат времени, нежели ее про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514836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влекаясь игровой оболочкой, можно потерять образователь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48360" y="306864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возможность использования на любом материа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5076720" y="3645000"/>
            <a:ext cx="39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ость в оценке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579600"/>
            <a:ext cx="8528040" cy="8283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805040" y="1511280"/>
            <a:ext cx="5870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291960"/>
            <a:ext cx="72295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042920" y="19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ффективное средство воспитания познавательных интересов и активизации деятель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042920" y="270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ренировка памяти, помогающая учащимся выработать речевые умения и навы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042920" y="3357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имулирует умственную деятельность учащихся, развивает внимание и познавательный интерес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042920" y="407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ствует преодолению пассивности уче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042920" y="4572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ствует усилению работоспособ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омб 9"/>
          <p:cNvSpPr/>
          <p:nvPr/>
        </p:nvSpPr>
        <p:spPr>
          <a:xfrm>
            <a:off x="755640" y="2133720"/>
            <a:ext cx="287280" cy="1429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омб 10"/>
          <p:cNvSpPr/>
          <p:nvPr/>
        </p:nvSpPr>
        <p:spPr>
          <a:xfrm>
            <a:off x="755640" y="285264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омб 11"/>
          <p:cNvSpPr/>
          <p:nvPr/>
        </p:nvSpPr>
        <p:spPr>
          <a:xfrm>
            <a:off x="755640" y="350028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омб 12"/>
          <p:cNvSpPr/>
          <p:nvPr/>
        </p:nvSpPr>
        <p:spPr>
          <a:xfrm>
            <a:off x="755640" y="422100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омб 13"/>
          <p:cNvSpPr/>
          <p:nvPr/>
        </p:nvSpPr>
        <p:spPr>
          <a:xfrm>
            <a:off x="755640" y="4724280"/>
            <a:ext cx="287280" cy="144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652320" y="457200"/>
            <a:ext cx="826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2664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тавьте кар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ая с самой больш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"/>
          <p:cNvSpPr/>
          <p:nvPr/>
        </p:nvSpPr>
        <p:spPr>
          <a:xfrm>
            <a:off x="4572000" y="404640"/>
            <a:ext cx="0" cy="5256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C:\Documents and Settings\UserXP\Мои документы\Мои рисунки\1ясчи.bmp"/>
          <p:cNvPicPr/>
          <p:nvPr/>
        </p:nvPicPr>
        <p:blipFill>
          <a:blip r:embed="rId1"/>
          <a:stretch/>
        </p:blipFill>
        <p:spPr>
          <a:xfrm>
            <a:off x="390600" y="1768320"/>
            <a:ext cx="3900240" cy="3542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4932360" y="2602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ро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рами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C:\Documents and Settings\UserXP\Мои документы\Мои рисунки\1ясчичяИСМсчисмт.bmp"/>
          <p:cNvPicPr/>
          <p:nvPr/>
        </p:nvPicPr>
        <p:blipFill>
          <a:blip r:embed="rId2"/>
          <a:stretch/>
        </p:blipFill>
        <p:spPr>
          <a:xfrm>
            <a:off x="4638600" y="1908000"/>
            <a:ext cx="43340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265800" cy="37447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603440" y="42840"/>
            <a:ext cx="56754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684360" y="26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ое 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Реши правильно и пр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628640"/>
          <a:ext cx="2376720" cy="3435480"/>
        </p:xfrm>
        <a:graphic>
          <a:graphicData uri="http://schemas.openxmlformats.org/drawingml/2006/table">
            <a:tbl>
              <a:tblPr/>
              <a:tblGrid>
                <a:gridCol w="1303560"/>
                <a:gridCol w="1073160"/>
              </a:tblGrid>
              <a:tr h="343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–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–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+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Таблица 8" descr=""/>
          <p:cNvPicPr/>
          <p:nvPr/>
        </p:nvPicPr>
        <p:blipFill>
          <a:blip r:embed="rId1"/>
          <a:stretch/>
        </p:blipFill>
        <p:spPr>
          <a:xfrm>
            <a:off x="6858000" y="890640"/>
            <a:ext cx="16700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579600" y="244440"/>
            <a:ext cx="82659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10" name="Содержимое 3" descr="сканирование0001.jpg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50920" y="1341360"/>
            <a:ext cx="83865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31:27Z</dcterms:created>
  <dc:creator>User</dc:creator>
  <dc:description/>
  <dc:language>en-US</dc:language>
  <cp:lastModifiedBy>Елена Долгун</cp:lastModifiedBy>
  <dcterms:modified xsi:type="dcterms:W3CDTF">2018-05-16T14:01:25Z</dcterms:modified>
  <cp:revision>59</cp:revision>
  <dc:subject/>
  <dc:title>МОУ «Средняя общеобразовательная школа №7  с углубленным изучением отдельных предмет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