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4.png" ContentType="image/png"/>
  <Override PartName="/ppt/media/image13.jpeg" ContentType="image/jpe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20D3-1492-412D-9C4D-5C8FC4EA3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FC40-5BBA-4169-B57D-C9DA3069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394F-204F-4690-A7E8-5D15EFB73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FBDE-8430-4FFD-8386-A0727B562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B557-BD95-42D2-BDEF-03F27AEA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22E0-CCF6-4263-A3D9-39E6D3F7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4D48-D6EB-4516-930D-8D7A6B6D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C62E-D853-41BA-BA75-E978774C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A5BF-6A09-4461-913F-B3690C53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8512-89EB-4F08-AFB0-45FF23DD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5752-91AC-4B2A-928C-E34A8C33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6801-98A2-48AD-9F99-6C27F4BF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95A3-FBFA-4B4F-82A9-F45EC261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0C9C-629E-4BE3-A766-ADBCBE6B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3F4A-E1F3-4019-8767-65A88010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7669-6C3B-4559-B35C-B3780AD1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AB7F-994A-4854-9EE0-133B3077E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F377-D526-4813-9664-FCFC014E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40D0-735E-4034-B9C0-234565A0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E132-1646-4900-8B23-F1B2F4B1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E3E0-9A2C-47E4-9D2E-10730801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8252-555D-4546-80D9-401CFAEA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D8EE-E6F8-45F1-B073-0C24BC93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4B1C-D54E-4C81-B5DB-F59384C4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87D0-C6FB-46B4-9493-0AB17C52F6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009D-AC0C-4C5B-A48B-BD16BF6550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547280" y="1483920"/>
            <a:ext cx="6409080" cy="23763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ОВЫЕ ТЕХНОЛОГИИ В ОБРАЗОВАТЕЛЬНОМ ПРОЦЕСС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3725640" y="5715000"/>
            <a:ext cx="37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дготовила: Долгун Е.И., 46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3399"/>
              </a:solidFill>
              <a:latin typeface="Calibri"/>
            </a:endParaRPr>
          </a:p>
        </p:txBody>
      </p:sp>
      <p:pic>
        <p:nvPicPr>
          <p:cNvPr id="112" name="Содержимое 3" descr="0010-010-KrossvordVazhnoe-slovo.jpg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1500120" y="285840"/>
            <a:ext cx="65721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Прямоугольник 1" descr=""/>
          <p:cNvPicPr/>
          <p:nvPr/>
        </p:nvPicPr>
        <p:blipFill>
          <a:blip r:embed="rId1"/>
          <a:stretch/>
        </p:blipFill>
        <p:spPr>
          <a:xfrm>
            <a:off x="785880" y="171360"/>
            <a:ext cx="84135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Содержимое 4" descr="3_2_46.jpg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1500120" y="35712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Содержимое 3" descr="3_2_49.jpg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1500120" y="35712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Прямоугольник 1" descr=""/>
          <p:cNvPicPr/>
          <p:nvPr/>
        </p:nvPicPr>
        <p:blipFill>
          <a:blip r:embed="rId1"/>
          <a:stretch/>
        </p:blipFill>
        <p:spPr>
          <a:xfrm>
            <a:off x="146160" y="171360"/>
            <a:ext cx="91375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3399"/>
              </a:solidFill>
              <a:latin typeface="Calibri"/>
            </a:endParaRPr>
          </a:p>
        </p:txBody>
      </p:sp>
      <p:pic>
        <p:nvPicPr>
          <p:cNvPr id="118" name="Содержимое 3" descr="Изображение 092.jpg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384120" y="404640"/>
            <a:ext cx="87598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Прямоугольник 3" descr=""/>
          <p:cNvPicPr/>
          <p:nvPr/>
        </p:nvPicPr>
        <p:blipFill>
          <a:blip r:embed="rId1"/>
          <a:stretch/>
        </p:blipFill>
        <p:spPr>
          <a:xfrm>
            <a:off x="438120" y="4950000"/>
            <a:ext cx="8761320" cy="97452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4" descr=""/>
          <p:cNvPicPr/>
          <p:nvPr/>
        </p:nvPicPr>
        <p:blipFill>
          <a:blip r:embed="rId2"/>
          <a:stretch/>
        </p:blipFill>
        <p:spPr>
          <a:xfrm>
            <a:off x="1414440" y="-42840"/>
            <a:ext cx="1420920" cy="98100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5" descr=""/>
          <p:cNvPicPr/>
          <p:nvPr/>
        </p:nvPicPr>
        <p:blipFill>
          <a:blip r:embed="rId3"/>
          <a:stretch/>
        </p:blipFill>
        <p:spPr>
          <a:xfrm>
            <a:off x="5522760" y="-128520"/>
            <a:ext cx="3071880" cy="10620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6"/>
          <p:cNvSpPr/>
          <p:nvPr/>
        </p:nvSpPr>
        <p:spPr>
          <a:xfrm>
            <a:off x="539640" y="357336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естественной формой труда ребенка, приготовлением к   будущей жиз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7"/>
          <p:cNvSpPr/>
          <p:nvPr/>
        </p:nvSpPr>
        <p:spPr>
          <a:xfrm>
            <a:off x="539640" y="836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особствует повышению интереса, активизации и   развитию мыш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8"/>
          <p:cNvSpPr/>
          <p:nvPr/>
        </p:nvSpPr>
        <p:spPr>
          <a:xfrm>
            <a:off x="539640" y="1484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сет здоровьесберегающий   фактор в развитии и обуче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9"/>
          <p:cNvSpPr/>
          <p:nvPr/>
        </p:nvSpPr>
        <p:spPr>
          <a:xfrm>
            <a:off x="539640" y="22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дет передача опыта старших поколений младши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0"/>
          <p:cNvSpPr/>
          <p:nvPr/>
        </p:nvSpPr>
        <p:spPr>
          <a:xfrm>
            <a:off x="539640" y="2924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особствует использованию    знаний в новой ситу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539640" y="4437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способствует объединению коллектива и формированию ответ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5148360" y="836640"/>
            <a:ext cx="39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сложность в организации и проблемы с дисциплин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3"/>
          <p:cNvSpPr/>
          <p:nvPr/>
        </p:nvSpPr>
        <p:spPr>
          <a:xfrm>
            <a:off x="5148360" y="1484280"/>
            <a:ext cx="39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одготовка требует больших затрат времени, нежели ее провед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4"/>
          <p:cNvSpPr/>
          <p:nvPr/>
        </p:nvSpPr>
        <p:spPr>
          <a:xfrm>
            <a:off x="5148360" y="2205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увлекаясь игровой оболочкой, можно потерять образовательное 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5"/>
          <p:cNvSpPr/>
          <p:nvPr/>
        </p:nvSpPr>
        <p:spPr>
          <a:xfrm>
            <a:off x="5148360" y="3068640"/>
            <a:ext cx="39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невозможность использования на любом материал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6"/>
          <p:cNvSpPr/>
          <p:nvPr/>
        </p:nvSpPr>
        <p:spPr>
          <a:xfrm>
            <a:off x="5076720" y="3645000"/>
            <a:ext cx="39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сложность в оценке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Прямоугольник 1" descr=""/>
          <p:cNvPicPr/>
          <p:nvPr/>
        </p:nvPicPr>
        <p:blipFill>
          <a:blip r:embed="rId1"/>
          <a:stretch/>
        </p:blipFill>
        <p:spPr>
          <a:xfrm>
            <a:off x="384120" y="579600"/>
            <a:ext cx="8528040" cy="82836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2" descr=""/>
          <p:cNvPicPr/>
          <p:nvPr/>
        </p:nvPicPr>
        <p:blipFill>
          <a:blip r:embed="rId2"/>
          <a:stretch/>
        </p:blipFill>
        <p:spPr>
          <a:xfrm>
            <a:off x="1805040" y="1511280"/>
            <a:ext cx="587052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ольник 1" descr=""/>
          <p:cNvPicPr/>
          <p:nvPr/>
        </p:nvPicPr>
        <p:blipFill>
          <a:blip r:embed="rId1"/>
          <a:stretch/>
        </p:blipFill>
        <p:spPr>
          <a:xfrm>
            <a:off x="1006560" y="291960"/>
            <a:ext cx="7229520" cy="1440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1042920" y="198900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эффективное средство воспитания познавательных интересов и активизации деятельности уча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1042920" y="2708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тренировка памяти, помогающая учащимся выработать речевые умения и навы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1042920" y="335772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тимулирует умственную деятельность учащихся, развивает внимание и познавательный интерес к предме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1042920" y="407664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пособствует преодолению пассивности уче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1042920" y="4572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пособствует усилению работоспособности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Ромб 9"/>
          <p:cNvSpPr/>
          <p:nvPr/>
        </p:nvSpPr>
        <p:spPr>
          <a:xfrm>
            <a:off x="755640" y="2133720"/>
            <a:ext cx="287280" cy="142920"/>
          </a:xfrm>
          <a:prstGeom prst="diamond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Ромб 10"/>
          <p:cNvSpPr/>
          <p:nvPr/>
        </p:nvSpPr>
        <p:spPr>
          <a:xfrm>
            <a:off x="755640" y="2852640"/>
            <a:ext cx="287280" cy="144720"/>
          </a:xfrm>
          <a:prstGeom prst="diamond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Ромб 11"/>
          <p:cNvSpPr/>
          <p:nvPr/>
        </p:nvSpPr>
        <p:spPr>
          <a:xfrm>
            <a:off x="755640" y="3500280"/>
            <a:ext cx="287280" cy="144720"/>
          </a:xfrm>
          <a:prstGeom prst="diamond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Ромб 12"/>
          <p:cNvSpPr/>
          <p:nvPr/>
        </p:nvSpPr>
        <p:spPr>
          <a:xfrm>
            <a:off x="755640" y="4221000"/>
            <a:ext cx="287280" cy="144720"/>
          </a:xfrm>
          <a:prstGeom prst="diamond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Ромб 13"/>
          <p:cNvSpPr/>
          <p:nvPr/>
        </p:nvSpPr>
        <p:spPr>
          <a:xfrm>
            <a:off x="755640" y="4724280"/>
            <a:ext cx="287280" cy="144720"/>
          </a:xfrm>
          <a:prstGeom prst="diamond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Прямоугольник 1" descr=""/>
          <p:cNvPicPr/>
          <p:nvPr/>
        </p:nvPicPr>
        <p:blipFill>
          <a:blip r:embed="rId1"/>
          <a:stretch/>
        </p:blipFill>
        <p:spPr>
          <a:xfrm>
            <a:off x="652320" y="457200"/>
            <a:ext cx="82663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0" y="266400"/>
            <a:ext cx="428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ставьте карточ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чиная с самой больш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3"/>
          <p:cNvSpPr/>
          <p:nvPr/>
        </p:nvSpPr>
        <p:spPr>
          <a:xfrm>
            <a:off x="4572000" y="404640"/>
            <a:ext cx="0" cy="525636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4" descr="C:\Documents and Settings\UserXP\Мои документы\Мои рисунки\1ясчи.bmp"/>
          <p:cNvPicPr/>
          <p:nvPr/>
        </p:nvPicPr>
        <p:blipFill>
          <a:blip r:embed="rId1"/>
          <a:stretch/>
        </p:blipFill>
        <p:spPr>
          <a:xfrm>
            <a:off x="390600" y="1768320"/>
            <a:ext cx="3900240" cy="354204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5"/>
          <p:cNvSpPr/>
          <p:nvPr/>
        </p:nvSpPr>
        <p:spPr>
          <a:xfrm>
            <a:off x="4932360" y="26028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трой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ирамид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6" descr="C:\Documents and Settings\UserXP\Мои документы\Мои рисунки\1ясчичяИСМсчисмт.bmp"/>
          <p:cNvPicPr/>
          <p:nvPr/>
        </p:nvPicPr>
        <p:blipFill>
          <a:blip r:embed="rId2"/>
          <a:stretch/>
        </p:blipFill>
        <p:spPr>
          <a:xfrm>
            <a:off x="4638600" y="1908000"/>
            <a:ext cx="4334040" cy="33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"/>
          <p:cNvPicPr/>
          <p:nvPr/>
        </p:nvPicPr>
        <p:blipFill>
          <a:blip r:embed="rId1"/>
          <a:stretch/>
        </p:blipFill>
        <p:spPr>
          <a:xfrm>
            <a:off x="1619280" y="1413000"/>
            <a:ext cx="6265800" cy="374472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2" descr=""/>
          <p:cNvPicPr/>
          <p:nvPr/>
        </p:nvPicPr>
        <p:blipFill>
          <a:blip r:embed="rId2"/>
          <a:stretch/>
        </p:blipFill>
        <p:spPr>
          <a:xfrm>
            <a:off x="1603440" y="42840"/>
            <a:ext cx="56754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2"/>
          <p:cNvSpPr/>
          <p:nvPr/>
        </p:nvSpPr>
        <p:spPr>
          <a:xfrm>
            <a:off x="684360" y="260280"/>
            <a:ext cx="66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гровое упраж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Реши правильно и проч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132000" y="1628640"/>
          <a:ext cx="2376720" cy="3435480"/>
        </p:xfrm>
        <a:graphic>
          <a:graphicData uri="http://schemas.openxmlformats.org/drawingml/2006/table">
            <a:tbl>
              <a:tblPr/>
              <a:tblGrid>
                <a:gridCol w="1303560"/>
                <a:gridCol w="1073160"/>
              </a:tblGrid>
              <a:tr h="343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 –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+ 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 –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+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 –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 + 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+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7" name="Таблица 8" descr=""/>
          <p:cNvPicPr/>
          <p:nvPr/>
        </p:nvPicPr>
        <p:blipFill>
          <a:blip r:embed="rId1"/>
          <a:stretch/>
        </p:blipFill>
        <p:spPr>
          <a:xfrm>
            <a:off x="6858000" y="890640"/>
            <a:ext cx="167004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Прямоугольник 1" descr=""/>
          <p:cNvPicPr/>
          <p:nvPr/>
        </p:nvPicPr>
        <p:blipFill>
          <a:blip r:embed="rId1"/>
          <a:stretch/>
        </p:blipFill>
        <p:spPr>
          <a:xfrm>
            <a:off x="579600" y="244440"/>
            <a:ext cx="826596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3399"/>
              </a:solidFill>
              <a:latin typeface="Calibri"/>
            </a:endParaRPr>
          </a:p>
        </p:txBody>
      </p:sp>
      <p:pic>
        <p:nvPicPr>
          <p:cNvPr id="110" name="Содержимое 3" descr="сканирование0001.jpg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250920" y="1341360"/>
            <a:ext cx="838656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8:31:27Z</dcterms:created>
  <dc:creator>User</dc:creator>
  <dc:description/>
  <dc:language>en-US</dc:language>
  <cp:lastModifiedBy>Елена Долгун</cp:lastModifiedBy>
  <dcterms:modified xsi:type="dcterms:W3CDTF">2018-05-16T14:01:25Z</dcterms:modified>
  <cp:revision>59</cp:revision>
  <dc:subject/>
  <dc:title>МОУ «Средняя общеобразовательная школа №7  с углубленным изучением отдельных предметов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09991</vt:lpwstr>
  </property>
</Properties>
</file>