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3F01-1749-4E28-AD82-B00CD993F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DA5E-AE6D-440F-889B-D0DA345A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D637-F51E-4F2B-B687-628A5E1CF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38D4-2DEC-448B-B6F3-B30CF10D7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BD67-85BA-4FD2-943B-2ED3A8C27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5BE9-0DC1-466B-BE1F-ABC8001E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2BD5-D839-4F67-8D61-6B22EC28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5FB9-5583-4752-B148-6DC00288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9A8C-7560-463D-BEF9-2CE8788F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2EF2-8613-4D93-ABDF-EAF381A3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1886-FA44-4B76-A581-B1483764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7532-F144-4E84-B7EA-0DB5ED4C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D8ED-779F-483A-84AE-F2740506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B708-9131-42E6-9D1F-854F137A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C5D6-53FA-47AF-810E-1FE3EF0E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425C-B56C-458E-A876-B461A4C53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FF88-DDE0-40DD-BEC3-1827FE243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8002B5-0CA7-4965-8339-5D97932B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5DA4E3-9351-4162-8C40-15BAFFE6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354F3C-60A9-4B9F-8B73-619EACDA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DD3593-DBD7-4018-BBE8-4EDCF551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24C47B-908D-4E68-969C-D45DD8CC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A6CB-2111-4CD3-9C50-6A7AC047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A34153-9326-4DE8-919A-33D6B097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FF5F14-1AFA-4EF7-BA10-B1B56A3F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AB957B-A093-4C8B-B336-40B4A97C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376164-27B0-4989-BF6D-A5481702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EA8C68-D5F9-4320-B517-6C2C3ABC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CC1C18-7BE7-4027-A893-86ED9C03E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C8993C-BE18-42CA-B3E4-867B2BA0D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C8E40-5DB1-4708-8CF1-6AE6D821D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73E5A-1142-43BE-981E-E6AAEDC5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E7438-22E4-4F57-93A0-13A06628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B938-0A6F-40E1-A4D7-9D0B7FBE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B245E-289B-4A98-A312-A0444106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DA76B-B403-4331-B566-CA3AA92B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0E5FC-2016-4628-86D3-A916AAC5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A186B-CAB8-471C-B576-183FB8A1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AA9FD-0FA5-4E6B-8DF8-D63A8714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7D2FA-5B1B-4A7E-871E-8A494C3C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C5C1A-E0B0-4771-A85A-848FC573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71A31-9110-49AC-8C6F-5D9B8CF3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9639B-0BC5-4E40-8F12-524C1692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AEE58E-7C59-49F8-93F1-8DB94B7E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6252-37FE-4512-869D-9323DB0B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172CE9-7DD5-48B6-B116-FD4A4625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849FFF-8899-4A90-A66A-1EB67C01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A6BDDB-6758-4A12-925A-19377627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C99387-2AFC-4F1B-BE60-EF67FBEC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37360C-A37C-4B8E-A1C3-E0C6C056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CBC634-6A90-45F1-BB22-47CB9EEA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F4B9D8-9EEA-4438-B7E8-134BAF78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46E149-E1B1-4A32-AFF5-6E29772A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CEC890-E611-4EFE-9BF2-E3D8DE80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9568A3-0405-4D71-85B7-476542945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2662-1B0F-4878-BE2F-095A6898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5BE0B9-6D8F-4B2A-94B4-F67A02998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DA6003-0095-4F7B-81BD-83D2A27B2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265759-A29D-46F9-BD47-B267A8C6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19A716-4F1B-4944-87BB-4407F655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47C383-3DC2-4360-90E0-01759C3D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8B000B-F222-49C1-9EEA-6F25BCEA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E8E109-C598-4950-9816-9F94504B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A5A491-90EE-4CBD-9BB6-3816AEF5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7866ED-0FF0-45B8-B767-39174EA2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05EC9D-7EAB-4B39-9029-EF11B25C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015C-8288-461A-8C36-8FF5C9E5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8F2B76-AF6D-45D7-8CB6-404C3EFD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145FED-48D6-4966-BF6A-ADB1DD356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14A9F6-BD15-45F2-882D-86B046E89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6FC1BA-9CEE-42D1-A24B-A450B1FFD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9FE7DD-C628-4C79-BE3B-912BA019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47C6CB-8F81-4197-A4F0-B1886F2C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B8DB43-F63B-436A-895A-C920BCDF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CB0487-4195-4919-8BBC-3CE8C322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256F63-555E-4A29-B071-46803E5E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AF63EE-B382-46A4-BD8A-9C0F060F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FFA4-517B-4357-8673-08460A23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3C7E6A-150E-48CD-B929-B5A338DE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57A712-A9E1-479E-A76C-7FFA99C6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125AE4-D8C0-4F59-B4ED-4A506045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9A3235-A153-4A75-8C3D-EC131F453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E52BD7-7CDA-4E68-9786-825C93FA4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39C3-AED7-4A0C-918A-F58898A4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0162-1286-42CF-B0B5-45EAE0DAB3E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DBAD-CC44-423A-B587-1B0EFB5ECAB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A03C-D0B3-4EBD-8247-D253B41217A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B017-932C-4900-B2FB-E91BAD5B40C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1AEB-A3B4-4615-B731-6A66EDABEA9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8991-A406-4959-B813-54B3EC4606E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A4D5-F854-4FEF-B243-8CFBDE387CD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google.com/url?q=http://pedakademy.ru/?page_id%3D119&amp;sa=D&amp;ust=1524999650591000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open-hands.ru/svet-poznaniya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google.com/url?q=http://www.klassnye-chasy.ru/konkursy/deiskih-proektov-moya-issledovatelskaya-rabota-2018&amp;sa=D&amp;ust=1524999650590000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746000" y="5732640"/>
            <a:ext cx="7407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Долгун Е.. 46 групп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Прямоугольник 3"/>
          <p:cNvSpPr/>
          <p:nvPr/>
        </p:nvSpPr>
        <p:spPr>
          <a:xfrm>
            <a:off x="647640" y="1125360"/>
            <a:ext cx="849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Ы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ИХ РАБОТ В НАЧАЛЬНОЙ ШКОЛЕ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69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СЕРОССИЙСКИЙ КОНКУРС ПРОЕКТНО-ИССЛЕДОВАТЕЛЬСКИХ РАБОТ УЧАЩИХСЯ</a:t>
            </a:r>
            <a:br>
              <a:rPr sz="36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РАНИ НАУКИ»</a:t>
            </a:r>
            <a:br>
              <a:rPr sz="4000"/>
            </a:br>
            <a:r>
              <a:rPr b="1" lang="en-US" sz="4000" spc="-1" strike="noStrike" u="sng">
                <a:solidFill>
                  <a:srgbClr val="d2611c"/>
                </a:solidFill>
                <a:uFillTx/>
                <a:latin typeface="Times New Roman"/>
                <a:ea typeface="Times New Roman"/>
                <a:hlinkClick r:id="rId1"/>
              </a:rPr>
              <a:t>HTTP://PEDAKADEMY.RU/?PAGE_ID=119</a:t>
            </a:r>
            <a:r>
              <a:rPr b="0" lang="en-US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 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50560" y="2852280"/>
            <a:ext cx="84675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конкурса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вышения качества образования и эффективности обучения учащихся средствами проектной и исследовательской деятельности. 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3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РОССИЙСКИЙ КОНКУРС ИССЛЕДОВАТЕЛЬСКИХ РАБОТ«СВЕТ ПОЗНАНИЯ-2018»</a:t>
            </a:r>
            <a:br>
              <a:rPr sz="2700"/>
            </a:br>
            <a:r>
              <a:rPr b="1" lang="en-US" sz="2500" spc="-1" strike="noStrike" u="sng">
                <a:solidFill>
                  <a:srgbClr val="d2611c"/>
                </a:solidFill>
                <a:uFillTx/>
                <a:latin typeface="Times New Roman"/>
                <a:ea typeface="Times New Roman"/>
                <a:hlinkClick r:id="rId1"/>
              </a:rPr>
              <a:t>HTTPS://OPEN-HANDS.RU/SVET-POZNANIYA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0" y="2060640"/>
            <a:ext cx="85392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исследовательских работ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т познания – весна 2018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оводится с целью развития интеллектуально-творческого потенциала школьников и совершенствования их исследовательских навыков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Рисунок 3" descr=""/>
          <p:cNvPicPr/>
          <p:nvPr/>
        </p:nvPicPr>
        <p:blipFill>
          <a:blip r:embed="rId2"/>
          <a:stretch/>
        </p:blipFill>
        <p:spPr>
          <a:xfrm>
            <a:off x="4633920" y="4149720"/>
            <a:ext cx="43401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71640" y="-243000"/>
            <a:ext cx="78184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НОМИНАЦИЙ КОНКУРСА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95280" y="620640"/>
            <a:ext cx="842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работа: астрономия и космонавтика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работа: иностранные языки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работа: информационные технологии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работа: история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работа: краеведение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работа: литература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работа: математика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работа: музыка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работа: окружающий мир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работа: робототехника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работа: русский язык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работа: технология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работа: физическая культура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21840" y="620640"/>
            <a:ext cx="8821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СЕРОССИЙСКИЙ КОНКУРС ПРОЕКТНО-ИССЛЕДОВАТЕЛЬСКИХ РАБОТ УЧАЩИХСЯ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Я ИССЛЕДОВАТЕЛЬСКАЯ РАБОТА 2018»</a:t>
            </a:r>
            <a:br>
              <a:rPr sz="2500"/>
            </a:br>
            <a:r>
              <a:rPr b="1" lang="en-US" sz="2200" spc="-1" strike="noStrike" u="sng">
                <a:solidFill>
                  <a:srgbClr val="d2611c"/>
                </a:solidFill>
                <a:uFillTx/>
                <a:latin typeface="Times New Roman"/>
                <a:ea typeface="Times New Roman"/>
                <a:hlinkClick r:id="rId1"/>
              </a:rPr>
              <a:t>HTTP://WWW.KLASSNYE-CHASY.RU/KONKURSY/DEISKIH-PROEKTOV-MOYA-ISSLEDOVATELSKAYA-RABOTA-2018</a:t>
            </a:r>
            <a:r>
              <a:rPr b="0" lang="en-US" sz="2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78920" y="2178000"/>
            <a:ext cx="86835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конкурс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развитию интеллектуальных и творческих способностей школьников и дошкольн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детей исследовательских умений и навыко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критического и аналитического мышления при исследовании теоретического вопроса, при поиске путей решения конкретной проблем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творческой активности дете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возможности всем участникам конкурса проявить творчество, стимулировать творческую активнос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8100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8100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496000" cy="16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ДИСТАНЦИОННЫЙ КОНКУРС НАУЧНО-ИССЛЕДОВАТЕЛЬСКИХ РАБОТ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ШКОЛЬНИКОВ «БЛЕСТЯЩАЯ ИДЕЯ»</a:t>
            </a:r>
            <a:br>
              <a:rPr sz="2700"/>
            </a:br>
            <a:r>
              <a:rPr b="0" lang="en-US" sz="2700" spc="-1" strike="noStrike" u="sng">
                <a:solidFill>
                  <a:srgbClr val="575f6d"/>
                </a:solidFill>
                <a:uFillTx/>
                <a:latin typeface="Century Schoolbook"/>
              </a:rPr>
              <a:t> HTTP://KONKURSGRAD.RU/</a:t>
            </a:r>
            <a:r>
              <a:rPr b="0" lang="ru-RU" sz="2700" spc="-1" strike="noStrike" u="sng">
                <a:solidFill>
                  <a:srgbClr val="575f6d"/>
                </a:solidFill>
                <a:uFillTx/>
                <a:latin typeface="Century Schoolbook"/>
              </a:rPr>
              <a:t>ВЫБЕРИТЕ-КОНКУРСЫ/КОНКУРС-БЛЕСТЯЩАЯ-ИДЕЯ</a:t>
            </a: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 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23640" y="2420640"/>
            <a:ext cx="8135640" cy="53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КОНКУРСА «БЛЕСТЯЩАЯ ИДЕЯ»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опуляризировать науку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оспитывать у школьников интерес и тягу к научным знаниям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дохновлять на научные открытия и инновационные решен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467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ИНАЦИИ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23640" y="907560"/>
            <a:ext cx="8064360" cy="55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•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рономия и космонавтика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• Техномир будущего: техническое творчество и       изобретательство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• Математика и информационные технологии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• Краеведение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• Географ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• Лингвистика (языки: русский, английский)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• Литературоведение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• Искусствоведение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• Здравоохранение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6908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МЕЖДУНАРОДНЫЙ КОНКУРС ИССЛЕДОВАТЕЛЬСКИХ И ТВОРЧЕСКИХ РАБОТ МЛАДШИХ ШКОЛЬНИКОВ "ОТКРЫТИЕ"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575f6d"/>
                </a:solidFill>
                <a:latin typeface="Century Schoolbook"/>
              </a:rPr>
              <a:t> </a:t>
            </a:r>
            <a:r>
              <a:rPr b="0" lang="en-US" sz="2000" spc="-1" strike="noStrike" u="sng">
                <a:solidFill>
                  <a:srgbClr val="575f6d"/>
                </a:solidFill>
                <a:uFillTx/>
                <a:latin typeface="Century Schoolbook"/>
              </a:rPr>
              <a:t>HTTPS://KPFU.RU/PSYCHOLOGY/MEZHDUNARODNYJ-KONKURS-ISSLEDOVATELSKIH-I-323841.HTML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68360" y="2349000"/>
            <a:ext cx="785808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конкурса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ование познавательной, творческой, экспериментально – исследовательской, проектной, интеллектуальной деятельности младших школьников. 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конкурса: 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уровня творческой и исследовательской активности младших школьников; 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 младших школьников интереса к фундаментальным и прикладным наукам;  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научной и педагогической общественности с результатами исследовательской и творческой деятельности учащихся младших классов;  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ен опытом работы и установление творческих контактов между обучающимися и педагогами образовательных учреждений России и зарубежных стран. 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ИНАЦИИ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ный натуралист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ный психолог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ный писатель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ный краевед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ный математик;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ный художник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ный языковед.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0T15:59:19Z</dcterms:created>
  <dc:creator>Александер</dc:creator>
  <dc:description/>
  <dc:language>en-US</dc:language>
  <cp:lastModifiedBy>Елена Долгун</cp:lastModifiedBy>
  <dcterms:modified xsi:type="dcterms:W3CDTF">2018-05-16T16:01:58Z</dcterms:modified>
  <cp:revision>12</cp:revision>
  <dc:subject/>
  <dc:title>Презентация PowerPoint</dc:title>
</cp:coreProperties>
</file>