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242-B6AF-42CD-9A47-B25B1165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493-7E0D-45AB-9FC9-D09A7C1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F33-58E2-43FC-9E4E-1CC6AA92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550-288C-46C3-80B2-72ACF072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472-9637-4FDF-8A79-B4402D71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60E-FE3E-4486-9170-B47C196B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972-00EB-4EEF-8329-896ED5C1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A70-074D-48A3-B792-4344E05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ED7A-32A0-4367-A8D3-6E721D5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766-7107-4807-A39A-7EBD8717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EF65-9F5E-4177-AAA7-94F5319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64F-2F8E-4395-9385-76C85FC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E18-98E6-4062-8738-4554E51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E19C-C15F-470F-A9D0-9F19CCD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544-CAC5-4767-A306-644B6299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8F8-5E7C-43D2-97DF-722214AC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45F-0199-477C-94AB-ED444EB2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572FC-164A-4300-AC9A-D32AD316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B041D-4F65-46A0-8761-3076A054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AD660-DA0A-4F42-9860-B381F593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1E1D1-2E92-4BA8-B912-7BB77F1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DD478-BBC5-4492-A920-1D5D62C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D4F-6F3F-4F8A-A1FB-EB890FBF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BA501-D003-4CF2-999F-393171BE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23748-CAE3-4A04-977A-863F41C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D7342-B49B-4DB7-B7CD-E8AC815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1CD7A-D9D7-4927-A3F9-47685CA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287A5-6940-4A1C-B610-DB27823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D1237-E0F1-4392-935E-02039F51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9CAD8-9945-46DF-9C42-F353782F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43D7-DB58-4C0E-A430-737C2694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B981-DCDE-4163-A766-703F377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B049-3912-428C-B8C9-ACFD1178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9F4-2867-4068-95B5-E495B58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C925-1335-43EF-BFD3-543C7A3B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EA45-DF93-4B13-AA61-8889FAB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B88D-EB8B-4F26-AB72-E0D929A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274C-AEB4-4189-9AD0-5A2BBB3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AB0B-5ABC-4C71-A0B6-8D3CD98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7A43-C102-4DB3-AA82-C48F42D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FFF0-7BDB-48D0-B018-23242DB9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E8D5-CC2C-4304-9394-893CC4EE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978A-1FE9-44B0-B168-6F92F4B3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17606-0257-4165-87D0-DEA47F6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1C3-393C-4EC9-9927-C8857457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3EF58-0AEE-446E-A9F2-A402275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00C0B-B82E-45A1-9E58-0CC432A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E4C60-C0FA-4E08-928D-230B1C4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048C0-9006-4DE6-B547-691396A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045A5-5D1E-4FC9-B5A9-26E9CBE2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7C083-3B80-43AD-8C93-49259BC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E7841-3C60-4197-8E97-D054701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4595F-BCD2-44BF-A179-0E11682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0BBBF-7B5C-4490-8C73-CB7B6AB7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B4579-FAB3-45E2-A5F7-6917C300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B74-0BD8-4EED-9999-886BEAE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EE6C6-EABF-4FD6-B596-045B920E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B535F-BCFC-45BF-BE59-78C64DC7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1D233-CCFD-4C4D-9628-D8F0CD8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FDAFD-304F-4CAD-9EE4-76EE4C46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1AF92-499D-4C20-9155-C6CE12D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2E135-97B5-4F6B-8794-3DC16E4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AB2D5-80F5-4634-A060-B8DFE0BD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CC45D-FF75-408F-9EAD-124EF0A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09671-0264-46A5-873E-5C4F84D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A6A81-E723-494F-B01B-FDD13BF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F05-D408-4FC5-8C88-8A0A551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37A96-F128-43AF-9146-D63A964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ACDF8-1619-4F44-9849-485127E9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64985-E896-471E-8DED-4EAECAC8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74A49-DD70-4026-8E99-E3C15A9C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BCB9B-A201-4D2D-918D-0431A346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80279-FE0B-4698-B204-7B69216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D449F-926E-4887-AF0A-DA5F165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82F4E-9602-4EB8-A2FB-9BBB009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6E2EF-C5FB-4296-BDC3-7CB8391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2E0A1-A33B-4AC3-A7BA-F115D30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673-BED2-4CC0-BAED-5BF84DF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8D37F-9819-4354-9C84-29941D7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724E7-44BE-4774-96F7-3BB238D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0D844-F9E0-433A-96BA-044C29A6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C6484-5BC1-405C-8685-4ED9F64C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2C5FE-2BF9-4BB9-93DC-03234A15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873-4D09-4661-942A-06B0162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599-5C98-4B05-BC51-E302418C18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AC0-AE52-4662-9F9C-42D3BACCCF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5B6-8293-4C5A-819A-91F03656F1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AB0-EBC0-41D8-B021-2A8EA2F10A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AF14-DF96-46D2-8DE4-D868AC4BC0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605-F0BA-476E-B7FD-9DBA57ECF7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A7B-61E5-4716-9570-49475A5C60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240" y="9140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БЫТОВАЯ»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Настя\Desktop\Практика\Фотоотчет по практике\20180219_103450.jpg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5283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52280" y="3276720"/>
            <a:ext cx="4648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ый уголок (место хранения веника, совка, ведра и т.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енца (бумажные), салфетки, туалетная бума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метно-развивающая сред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7" descr="https://ds03.infourok.ru/uploads/ex/0509/00011678-59993602/img10.jpg"/>
          <p:cNvPicPr/>
          <p:nvPr/>
        </p:nvPicPr>
        <p:blipFill>
          <a:blip r:embed="rId1"/>
          <a:stretch/>
        </p:blipFill>
        <p:spPr>
          <a:xfrm>
            <a:off x="1371600" y="22096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228600" y="106668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среда обеспечивает разные виды деятельности ребенка - школьника и становится основой для его самостоятельной активности. При этом доминантным видом деятельности в школьном учреждении является учебная деятель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- развивающая среда способствуе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творческого воображения дете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культуры взаимо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</a:rPr>
              <a:t>ОПРЕДЕЛЕНИЕ НЕОБХОДИМЫХ ЗОН В КАБИНЕТЕ НАЧАЛЬНЫХ КЛАССОВ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1680" y="185724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УЧЕБНАЯ ЗОНА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C:\Users\Настя\Desktop\Практика\Фотоотчет по практике\20180320_120040.jpg"/>
          <p:cNvPicPr/>
          <p:nvPr/>
        </p:nvPicPr>
        <p:blipFill>
          <a:blip r:embed="rId1"/>
          <a:stretch/>
        </p:blipFill>
        <p:spPr>
          <a:xfrm>
            <a:off x="4343400" y="6858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304920" y="68580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ебной деятельности и развития познавательного интереса с помощью нестандартных приёмов и способов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228600" y="3886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арты, стулья (трехуровневые регулируются в соответствии с ростом учащихся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ий стол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: меловая, интерактивна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ый телевизор и видеомагнитофон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152280" y="838080"/>
            <a:ext cx="4724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9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ИНТЕЛЛЕКТУАЛЬН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7" descr="http://pandia.ru/text/79/037/images/image005_39.jpg"/>
          <p:cNvPicPr/>
          <p:nvPr/>
        </p:nvPicPr>
        <p:blipFill>
          <a:blip r:embed="rId1"/>
          <a:stretch/>
        </p:blipFill>
        <p:spPr>
          <a:xfrm>
            <a:off x="4718160" y="914400"/>
            <a:ext cx="4425840" cy="40863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228600" y="42670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 материал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нный по предмета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угол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библиоте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, реализация потребностей самовы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3186000"/>
            <a:ext cx="7620120" cy="3672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49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ТВОРЧЕСК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04920" y="1523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(ы) для творческой деятельности;  место для хранения материалов, «полуфабрикатов»; место для организации творческих работ;  материал для творчества – краски, пластилин, ткань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1920" y="9140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отребности детей в движении, снятие физического напряж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ДВИГАТЕЛЬН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7" descr="https://www.o-detstve.ru/assets/images/userfiles/25852/images/x,PD0,PB2,PD0,PB5,PD1,P81,PD0,PB5,PD0,PBB,PD0,PB0,PD1,P8F,P20,PD0,PBF,PD0,PB5,PD1,P80,PD0,PB5,PD0,PBC,PD0,PB5,PD0,PBD,PD0,PB0.jpg.pagespeed.ic.3-oIlDMjnn.jpg"/>
          <p:cNvPicPr/>
          <p:nvPr/>
        </p:nvPicPr>
        <p:blipFill>
          <a:blip r:embed="rId1"/>
          <a:stretch/>
        </p:blipFill>
        <p:spPr>
          <a:xfrm>
            <a:off x="3733920" y="8380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228600" y="32767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й инвентарь (обручи, скакалки, кегли, мяч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овые дорож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тренажер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ные коврик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ГРОВАЯ ЗОН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762120"/>
            <a:ext cx="3733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детей в привлекательном виде деятельности; способствовать рациональному использованию времен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7" descr="https://data3.proshkolu.ru/content/media/pic/std/2000000/1729000/1728186-834dd1e3638fd5c8.jpg"/>
          <p:cNvPicPr/>
          <p:nvPr/>
        </p:nvPicPr>
        <p:blipFill>
          <a:blip r:embed="rId1"/>
          <a:stretch/>
        </p:blipFill>
        <p:spPr>
          <a:xfrm>
            <a:off x="3809880" y="8380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28600" y="46483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ягкая мебель (диван и кресла), журнальный столик, детские игрушки и игры (развивающие, дидактические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4:43:14Z</dcterms:created>
  <dc:creator>User</dc:creator>
  <dc:description/>
  <dc:language>en-US</dc:language>
  <cp:lastModifiedBy>Настя</cp:lastModifiedBy>
  <dcterms:modified xsi:type="dcterms:W3CDTF">2018-05-16T19:06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