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186-4EA7-4F75-9E45-E0D2C608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039-5A97-4F86-86D3-6C290FD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AED-DD65-4F31-B0BF-0CFAE4A7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2BA-D59D-4106-BBBA-C16D0BAD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B50A-FC25-4C26-BD1D-931A9FB6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B406-B72D-4A75-A8D2-3C98DBAC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F73-F475-403C-8EC2-F2366976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DFA-2D49-41E8-85CA-9FB9B03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8E4-5325-43AA-B9AE-F231571B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29F9-BD64-46A7-B8DB-755889C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A37-13CD-4896-8042-5BDCA48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48E-3AF0-4DB9-88E0-34C3F73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94DE-8C44-452B-BF4D-C882FCDE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EF16-E41E-430E-973D-3090E94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CC2-A1E5-4F03-927D-21CF728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E1C-AC09-4F09-931E-FCEE040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8226-14A8-4B20-996D-703177DA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CC32E-CABF-4DEB-9D67-F7292BF2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56E73-E854-4925-BDDF-CA2B18F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91856-379A-4025-AD82-D91F88F4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E62A5-76B9-473A-8236-F56D79A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2E6CB-FBA2-4C0E-A47E-99564573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105-2F7E-4999-BD87-4788797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3B3E6-7FED-4A19-884B-35B3968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79476-5C74-48E6-BE36-AFBA390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68AC6-4048-4002-95C6-9E68882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EAE2E-979A-465F-A8C0-CFCF179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E89CD-35F3-4740-A46A-DFB2486C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D6284-4AAA-427A-BCA4-800BAA60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9BE25-F2C4-4702-95AD-70B8E069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533C-DB6A-4E05-BD1C-FE82B1AB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34CF-5720-494E-BBB5-1C38C38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EBDF-D99E-4C0A-9D73-BB4878C0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CA5-795A-4505-A09F-FBE07D4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2A1E-D760-439F-8AA9-FD818819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FF18-A773-4CA5-A3D3-1184CFF5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2380-F360-4EC2-BFA6-74FCFBF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D594-F40C-4DDF-9333-3AF198C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11AA-234F-4668-9E0C-8E6694C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7F31-EBA1-473A-9F6C-FA26056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1635-7569-4969-A11F-BFBB429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5EA7-497A-425E-AADD-BF235B50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6FA5C-8667-4C0F-B017-4D6AC468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51C50-61CB-4B0E-8A0B-01AFB3CF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8C5-02C9-4ADF-A6C6-F794DAB5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772FE-8ACF-405C-B012-A9A10346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B298F-E4EF-48C6-AE8D-FDB0EEA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7D077-279D-4E7C-BDBF-03ECF382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5E2A3-FED1-41BE-B910-BEB71CCC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DA9CB-51B2-4288-A807-AB66858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3C1E9-3815-46DD-BC97-C9C501D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C9212-8374-4CC2-A677-8B654D9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9E449-375E-40F9-9A61-F44D57A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1E247-1D5F-4EB9-968F-928B2A4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CA795-E280-42BD-94DF-95BC8626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211-2D6E-409A-958A-B7EF4A5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52572-D221-415E-8A38-BD23DD21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1A290-C519-48CD-B777-B8735A55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19672-798A-4994-B334-7D15C80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BFDF3-D7EC-4080-9ABA-C12DB34D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0251E-2335-4639-80D2-9C7E5BE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36A96-D940-40F3-A416-DE937B1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61B50-5B1F-4970-B130-D880FE4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68917-B387-4B88-91D4-674ADBC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7F8CF-E9A9-49A5-B568-E18EF3A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8423E-BB0C-4AD7-B941-F0B4748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8B4-7E30-40FE-9268-9F8CFA7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6E6AD-C229-4FB5-8B9A-8AD8A41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31582-803B-439F-857A-20E1C240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B2CDD-F7E6-47C5-9BAF-E3F88E50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07252-6F9E-498A-BFF1-F1B00FF7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C21E1-DB77-4237-A944-6F7DFCB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6DADE-2864-48E5-8188-55A0FEB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885C7-E1DC-449A-8707-CDD6D53A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C2A1E-7E1D-47AB-96B3-138B0602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7035B-DCD5-43E1-BF26-2960343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FE91A-F6BE-4C47-BDE8-BDF2A3C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575-BA2D-4FAB-8406-6D8D88E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B165E-4015-4690-9D1A-D032F65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B1473-5BC7-48BD-BFE5-AD00F98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4096E-F39D-42F9-8947-37C4655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15522-E8D5-4C25-B607-EBA30707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BBB38-EF8B-4581-AE22-1B09DE2A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8BA-DA08-4803-A4C9-C5C2D20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3B6-CAE9-4178-9100-51D1DDF5A3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4DF-E4D9-4E7D-A3F5-894E9C46E5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5E6-41E7-4685-9D2A-1072667789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A0B-8FA8-4C8D-B902-6C0BC33F51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C7E-1633-43E5-BE0A-EA85D7188E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5677-FBCB-4038-A0D3-9F97FC1DFE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4CF-B0D0-407A-9E8C-F27C8B9232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240" y="9140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БЫТОВАЯ»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Настя\Desktop\Практика\Фотоотчет по практике\20180219_103450.jpg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5283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52280" y="3276720"/>
            <a:ext cx="4648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ый уголок (место хранения веника, совка, ведра и т.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енца (бумажные), салфетки, туалетная бума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метно-развивающая сред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7" descr="https://ds03.infourok.ru/uploads/ex/0509/00011678-59993602/img10.jpg"/>
          <p:cNvPicPr/>
          <p:nvPr/>
        </p:nvPicPr>
        <p:blipFill>
          <a:blip r:embed="rId1"/>
          <a:stretch/>
        </p:blipFill>
        <p:spPr>
          <a:xfrm>
            <a:off x="1371600" y="22096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228600" y="106668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среда обеспечивает разные виды деятельности ребенка - школьника и становится основой для его самостоятельной активности. При этом доминантным видом деятельности в школьном учреждении является учебная деятель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- развивающая среда способствуе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творческого воображения дете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культуры взаимо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</a:rPr>
              <a:t>ОПРЕДЕЛЕНИЕ НЕОБХОДИМЫХ ЗОН В КАБИНЕТЕ НАЧАЛЬНЫХ КЛАССОВ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1680" y="185724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УЧЕБНАЯ ЗОНА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C:\Users\Настя\Desktop\Практика\Фотоотчет по практике\20180320_120040.jpg"/>
          <p:cNvPicPr/>
          <p:nvPr/>
        </p:nvPicPr>
        <p:blipFill>
          <a:blip r:embed="rId1"/>
          <a:stretch/>
        </p:blipFill>
        <p:spPr>
          <a:xfrm>
            <a:off x="4343400" y="6858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304920" y="68580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ебной деятельности и развития познавательного интереса с помощью нестандартных приёмов и способов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228600" y="3886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арты, стулья (трехуровневые регулируются в соответствии с ростом учащихся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ий стол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: меловая, интерактивна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ый телевизор и видеомагнитофон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152280" y="838080"/>
            <a:ext cx="4724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9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ИНТЕЛЛЕКТУАЛЬН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7" descr="http://pandia.ru/text/79/037/images/image005_39.jpg"/>
          <p:cNvPicPr/>
          <p:nvPr/>
        </p:nvPicPr>
        <p:blipFill>
          <a:blip r:embed="rId1"/>
          <a:stretch/>
        </p:blipFill>
        <p:spPr>
          <a:xfrm>
            <a:off x="4718160" y="914400"/>
            <a:ext cx="4425840" cy="40863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228600" y="42670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 материал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нный по предмета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угол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библиоте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, реализация потребностей самовы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3186000"/>
            <a:ext cx="7620120" cy="3672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49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ТВОРЧЕСК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04920" y="1523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(ы) для творческой деятельности;  место для хранения материалов, «полуфабрикатов»; место для организации творческих работ;  материал для творчества – краски, пластилин, ткань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1920" y="9140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отребности детей в движении, снятие физического напряж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977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ДВИГАТЕЛЬНАЯ»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7" descr="https://www.o-detstve.ru/assets/images/userfiles/25852/images/x,PD0,PB2,PD0,PB5,PD1,P81,PD0,PB5,PD0,PBB,PD0,PB0,PD1,P8F,P20,PD0,PBF,PD0,PB5,PD1,P80,PD0,PB5,PD0,PBC,PD0,PB5,PD0,PBD,PD0,PB0.jpg.pagespeed.ic.3-oIlDMjnn.jpg"/>
          <p:cNvPicPr/>
          <p:nvPr/>
        </p:nvPicPr>
        <p:blipFill>
          <a:blip r:embed="rId1"/>
          <a:stretch/>
        </p:blipFill>
        <p:spPr>
          <a:xfrm>
            <a:off x="3733920" y="8380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228600" y="32767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й инвентарь (обручи, скакалки, кегли, мяч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овые дорож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тренажер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ные коврик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ГРОВАЯ ЗОН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762120"/>
            <a:ext cx="3733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детей в привлекательном виде деятельности; способствовать рациональному использованию времен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7" descr="https://data3.proshkolu.ru/content/media/pic/std/2000000/1729000/1728186-834dd1e3638fd5c8.jpg"/>
          <p:cNvPicPr/>
          <p:nvPr/>
        </p:nvPicPr>
        <p:blipFill>
          <a:blip r:embed="rId1"/>
          <a:stretch/>
        </p:blipFill>
        <p:spPr>
          <a:xfrm>
            <a:off x="3809880" y="8380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28600" y="46483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находи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ягкая мебель (диван и кресла), журнальный столик, детские игрушки и игры (развивающие, дидактические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4:43:14Z</dcterms:created>
  <dc:creator>User</dc:creator>
  <dc:description/>
  <dc:language>en-US</dc:language>
  <cp:lastModifiedBy>Настя</cp:lastModifiedBy>
  <dcterms:modified xsi:type="dcterms:W3CDTF">2018-05-16T19:06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