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7A54-E21D-41FC-AE52-F2B0AED748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FA82-A7D0-45D7-8120-4E491F8BEE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1BBB-224A-4A6B-94B3-607C95E6CB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23F8-06DC-4782-B9B3-77B8CE22D5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6CD8-AB5C-4C66-9703-C425BD830C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D8B7-F80E-4C16-8516-15F5E04706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CE97-EB25-450C-9BC7-BB664C1649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1EB9-F47A-498E-8B6E-ABADBBEDCA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73A3-C39E-49C4-AE27-CC04733EF5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01C0-69F1-4A43-9880-60CE9763E6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D159-374C-440D-BA5C-77AFBB7180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EBF8-7D83-42AD-9338-CC5E005DD5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3D64-381F-4FEB-A9A0-238257C65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A1BB-542F-49FD-8C85-4F42A363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7859-D574-4950-B26C-4A2D634E9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5363-8DC2-4480-A780-380C7D5AF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F7AD-39D5-4E59-9BD9-DBE6E255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412A-33D5-45D1-BF93-0C9F565F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0E12-A095-4BD1-8B96-043E941E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BF56-F0D9-4F09-BCEF-6A247392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7156-2286-4AB2-BAE6-CC9E5F8D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A901-9707-43C5-9A02-15CA8DD9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F470-5810-4811-82EE-2F0D0CFE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7095-73E6-4F5E-90BA-6A15ECE7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E461-C834-4E37-8FBB-EADFB8FEAD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349000"/>
            <a:ext cx="80643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т для начальной школы «ПЕРСПЕКТИВА» 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4 классы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Авторы постарались сохранить в своем учебнике лучшие достижения отечественной букварист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расположение букв в порядке их частотно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таблицы оппозиции букв для обозначения гласных и букв для обозначения согласны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аналитико-синтетический метод обучения чтению, интеграцию письма и чтения в период обучения грамот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учет разного уровня подготовленности учащихс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внимание к орфографической стороне, к формированию красивого почер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и прекрасный подбор иллюстративного материала и текс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      </a:t>
            </a: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Такое сочетание новизны и следования традициям делает учебник «Азбука» стройным, цельным и гармонич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30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Задачи курса соответствуют основному требованию Госстандарта – воспитание всесторонне развитого, образованно и конкурентно успешного гражданина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А это невозможно без преодоления тенденции последних лет – уменьшение интереса детей к чтению художественной литерату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bookowl"/>
          <p:cNvPicPr/>
          <p:nvPr/>
        </p:nvPicPr>
        <p:blipFill>
          <a:blip r:embed="rId1"/>
          <a:stretch/>
        </p:blipFill>
        <p:spPr>
          <a:xfrm>
            <a:off x="395280" y="9360"/>
            <a:ext cx="28814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79280" y="11592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Комплекс создавался параллельно с разработкой ФГОС начального общего образования, требования которого нашли свое теоретическое и  практическое воплощение в учебниках УМК «Перспектив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114480" y="1484280"/>
            <a:ext cx="89154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Основная цель  УМК «Перспекти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107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сестороннее гармоничное развитие личности (духовно-нравственное, познавательное, эстетическое), реализуемое в процессе усвоения школьных предметных дисципл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kartinki2_002"/>
          <p:cNvPicPr/>
          <p:nvPr/>
        </p:nvPicPr>
        <p:blipFill>
          <a:blip r:embed="rId1"/>
          <a:stretch/>
        </p:blipFill>
        <p:spPr>
          <a:xfrm>
            <a:off x="3780000" y="3213000"/>
            <a:ext cx="46083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ru-RU" sz="2000" spc="-1" strike="noStrike">
                <a:solidFill>
                  <a:srgbClr val="c00000"/>
                </a:solidFill>
                <a:latin typeface="Georgia"/>
              </a:rPr>
              <a:t>-«Я в мире и мир во мне»</a:t>
            </a:r>
            <a:r>
              <a:rPr b="0" lang="ru-RU" sz="2000" spc="-1" strike="noStrike">
                <a:solidFill>
                  <a:srgbClr val="c00000"/>
                </a:solidFill>
                <a:latin typeface="Georgi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ажно, чтобы обучение способствовало построению образа «Я», которое включает в себя самопознание, саморазвитие и самооценку, формирование гражданской идентичности личности, принятие и осмысление нравственных и культурных цен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Georgia"/>
              </a:rPr>
              <a:t>- </a:t>
            </a:r>
            <a:r>
              <a:rPr b="1" i="1" lang="ru-RU" sz="2000" spc="-1" strike="noStrike">
                <a:solidFill>
                  <a:srgbClr val="c00000"/>
                </a:solidFill>
                <a:latin typeface="Georgia"/>
              </a:rPr>
              <a:t>«Хочу учиться!»</a:t>
            </a:r>
            <a:r>
              <a:rPr b="0" lang="ru-RU" sz="2000" spc="-1" strike="noStrike">
                <a:solidFill>
                  <a:srgbClr val="c00000"/>
                </a:solidFill>
                <a:latin typeface="Georgi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ебенок часто задает вопрос «почему?», ему интересно знать все и обо всем. Наша задача сохранить этот интерес и при этом научить ребенка самостоятельно находить ответы, планировать свою деятельность и доводить ее до конца, оценивать результат, исправлять ошибки и ставить новые ц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Georgia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Georgia"/>
              </a:rPr>
              <a:t>- </a:t>
            </a:r>
            <a:r>
              <a:rPr b="1" i="1" lang="ru-RU" sz="2000" spc="-1" strike="noStrike">
                <a:solidFill>
                  <a:srgbClr val="c00000"/>
                </a:solidFill>
                <a:latin typeface="Georgia"/>
              </a:rPr>
              <a:t>«Я общаюсь, значит, я учусь»</a:t>
            </a:r>
            <a:r>
              <a:rPr b="0" lang="ru-RU" sz="2000" spc="-1" strike="noStrike">
                <a:solidFill>
                  <a:srgbClr val="c00000"/>
                </a:solidFill>
                <a:latin typeface="Georgi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оцесс обучения невозможен без общения. То есть, во-первых, учить ребенка свободно вести конструктивный диалог, слушать и слышать собеседника, а во-вторых, формировать информационную культуру — находить необходимые источники знаний учить получать информацию из различных источников, анализировать ее, и, конечно, работать с книг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Georgia"/>
              </a:rPr>
              <a:t>- </a:t>
            </a:r>
            <a:r>
              <a:rPr b="1" i="1" lang="ru-RU" sz="2000" spc="-1" strike="noStrike">
                <a:solidFill>
                  <a:srgbClr val="c00000"/>
                </a:solidFill>
                <a:latin typeface="Georgia"/>
              </a:rPr>
              <a:t>«В здоровом теле здоровый дух!»</a:t>
            </a:r>
            <a:r>
              <a:rPr b="0" lang="ru-RU" sz="2000" spc="-1" strike="noStrike">
                <a:solidFill>
                  <a:srgbClr val="c00000"/>
                </a:solidFill>
                <a:latin typeface="Georgi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здесь важнонаучить детей самим заботиться о здоровье, понимая, что здоровье – это не только физическая, но и духовная ценность. Умение сопереживать, сочувствовать, заботиться о себе, о природе, об окружающих людях, беречь и чтить то, что ими созда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Учебники УМК «Перспектива» формируют</a:t>
            </a:r>
            <a:r>
              <a:rPr b="0" lang="ru-RU" sz="2800" spc="-1" strike="noStrike">
                <a:solidFill>
                  <a:srgbClr val="c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нтерес детей к истории своей семь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алой и большой Родин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радициям и обычаям народов России, культурному наслед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рудов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12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В учебники включен:</a:t>
            </a:r>
            <a:r>
              <a:rPr b="0" lang="ru-RU" sz="3200" spc="-1" strike="noStrike">
                <a:solidFill>
                  <a:srgbClr val="c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000" y="90792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теоретический материал, к которому предложены практические, исследовательские и творческие задания, которые позволяют активизировать деятельность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озволяют применять полученные знания в практическ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создают условия для реализации творческого потенциала учен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формируют ценностное мировоззрение и нравственную позицию лич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Каждый учебник снабжен системой заданий, направленных на развитие как логического, так и образного мышления, воображения, интуиции ребе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Преимущество УМК «Перспектив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6920" y="1197000"/>
            <a:ext cx="860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бучаясь по этой программе, ученик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 каждом уроке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иоткрывает для себя будущие темы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бучение строится по диалектическому принципу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, когда введение новых понятий и идей, первоначально представленных в наглядно-образной форме или в виде проблемной ситуации, предшествует их детальному изуч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Особенности программы </a:t>
            </a: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«Обучение грамоте на коммуникативной основе» и учебника «Азбука» Л. Ф. Климано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480" y="1600200"/>
            <a:ext cx="378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Учебники УМК «Перспектив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ививают интерес  к русскому язык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аскрывают секреты его «оживления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водят в мир науки о язык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омогают ощутить его, как  стройную и гармоничную систем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иобщают ребят к искусству сло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омогают младшему школьнику  понять и почувствовать эстетическую ц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усского язы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Attachment"/>
          <p:cNvPicPr/>
          <p:nvPr/>
        </p:nvPicPr>
        <p:blipFill>
          <a:blip r:embed="rId1"/>
          <a:stretch/>
        </p:blipFill>
        <p:spPr>
          <a:xfrm>
            <a:off x="4379760" y="1989000"/>
            <a:ext cx="2063880" cy="3456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Attachment"/>
          <p:cNvPicPr/>
          <p:nvPr/>
        </p:nvPicPr>
        <p:blipFill>
          <a:blip r:embed="rId2"/>
          <a:stretch/>
        </p:blipFill>
        <p:spPr>
          <a:xfrm>
            <a:off x="6443640" y="3141720"/>
            <a:ext cx="2160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10880" y="188640"/>
            <a:ext cx="8853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Данный УМК отличает новый, нестандартный способ организации речевой творческой деятельности – обучения детей грамоте на коммуникативно-познавательной осно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рактически на каждом уроке создается коммуникативно-речевая ситуация, позволяющая вступать в сотрудничество со своими сверстниками и со взрослыми, что позволяет организовать постоянную речевую деятельность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Яркие занимательные иллюстрации вызывают у первоклассников горячее желание рассказать о своих любимых занятиях, выслушать выступления других реб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7-1-2"/>
          <p:cNvPicPr/>
          <p:nvPr/>
        </p:nvPicPr>
        <p:blipFill>
          <a:blip r:embed="rId1"/>
          <a:stretch/>
        </p:blipFill>
        <p:spPr>
          <a:xfrm>
            <a:off x="3778200" y="3789360"/>
            <a:ext cx="2163960" cy="2852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7-1-1"/>
          <p:cNvPicPr/>
          <p:nvPr/>
        </p:nvPicPr>
        <p:blipFill>
          <a:blip r:embed="rId2"/>
          <a:stretch/>
        </p:blipFill>
        <p:spPr>
          <a:xfrm>
            <a:off x="5940360" y="3789360"/>
            <a:ext cx="24670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03:00:40Z</dcterms:created>
  <dc:creator>привет</dc:creator>
  <dc:description/>
  <dc:language>en-US</dc:language>
  <cp:lastModifiedBy>Катя</cp:lastModifiedBy>
  <dcterms:modified xsi:type="dcterms:W3CDTF">2018-05-21T15:02:49Z</dcterms:modified>
  <cp:revision>14</cp:revision>
  <dc:subject/>
  <dc:title>Комплект для начальной школы «ПЕРСПЕКТИВА» 1 – 4 классы: русский язык, литературное чтение, математика, окружающий мир, технология</dc:title>
</cp:coreProperties>
</file>