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1D7-746A-483E-822A-246C65798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D38-813A-49D1-91A0-FDBF0881B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F814-B1F8-42F1-950E-201E77080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069-4FCA-411F-830C-324CC8DC8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15E-FFCC-4213-A5EE-A011CCD30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5A0-4E3B-408F-9846-13A8AA7E1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F214-F36E-463B-9B16-D1F66FF57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099C-A0CF-450C-8020-5EF8DF78F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FA61-7007-41C8-9537-B3AA25466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2F29-9D8A-4E19-82D5-7524DAF5A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2BDD-9AA7-4340-9E15-53ECB386E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719-8E0C-4191-BB4C-598E7844E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F08-AB65-4E70-BBB5-95EDEFD4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D71-78FB-48C6-9817-B33A654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20F-BD56-4FEB-9667-D363D261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21A-2261-4487-9A42-5F0F18D2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80A-E6D0-484C-833A-50DAEB1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73F-1ED6-4B11-8C59-B94BA5C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8D2-9216-407A-9D37-4C48CF8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2DD-6987-44F1-9B28-001EF0BF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1CB-87C8-451F-B977-D51C4F5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584-B8A3-4F13-BC74-CC8E891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CA6-C04A-4994-ADD6-904C588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E70-3987-4129-B4F1-6A37456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B2E2-F0D4-4379-81DE-B7A7AFED2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для начальной школы «ПЕРСПЕКТИВА»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4 классы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Авторы постарались сохранить в своем учебнике лучшие достижения отечественной буквар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сположение букв в порядке их частот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аблицы оппозиции букв для обозначения гласных и букв для обозначения соглас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налитико-синтетический метод обучения чтению, интеграцию письма и чтения в период обучения грамо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чет разного уровня подготовленности уча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нимание к орфографической стороне, к формированию красивого поч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 прекрасный подбор иллюстративного материала и тек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Такое сочетание новизны и следования традициям делает учебник «Азбука» стройным, цельным и гармон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0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и курса соответствуют основному требованию Госстандарта – воспитание всесторонне развитого, образованно и конкурентно успешного гражданин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это невозможно без преодоления тенденции последних лет – уменьшение интереса детей к чтению художественн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ookowl"/>
          <p:cNvPicPr/>
          <p:nvPr/>
        </p:nvPicPr>
        <p:blipFill>
          <a:blip r:embed="rId1"/>
          <a:stretch/>
        </p:blipFill>
        <p:spPr>
          <a:xfrm>
            <a:off x="395280" y="936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мплекс создавался параллельно с разработкой ФГОС начального общего образования, требования которого нашли свое теоретическое и  практическое воплощение в учебниках УМК «Перспекти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14480" y="1484280"/>
            <a:ext cx="8915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07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kartinki2_002"/>
          <p:cNvPicPr/>
          <p:nvPr/>
        </p:nvPicPr>
        <p:blipFill>
          <a:blip r:embed="rId1"/>
          <a:stretch/>
        </p:blipFill>
        <p:spPr>
          <a:xfrm>
            <a:off x="3780000" y="321300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-«Я в мире и мир во мне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Хочу учиться!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, исправлять ошибки и ставить нов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, и, конечно, работать с кни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десь важнонаучить детей самим заботиться о здоровье, понимая, что здоровье – это не только физическая, но и духовная ценность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Учебники УМК «Перспектива» формируют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удов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 учебники включен: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000" y="9079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воляют применять полученные зна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здают условия для реализации творческого потенциала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формируют ценностное мировоззрение и нравственную позицию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аждый учебник снабжен системой заданий, направленных на развитие как логического, так и образного мышления, воображения, интуици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еимущество УМК 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119700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учаясь по этой программе, учени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каждом урок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учение строится по диалектическому принципу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480" y="1600200"/>
            <a:ext cx="378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ебники УМК «Перспекти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ивают интерес  к русскому язы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крывают секреты его «оживлени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водят в мир науки о язы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ают ощутить его, как  стройную и гармоничн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общают ребят к искусству с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ают младшему школьнику  понять и почувствовать эстетическую ц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ttachment"/>
          <p:cNvPicPr/>
          <p:nvPr/>
        </p:nvPicPr>
        <p:blipFill>
          <a:blip r:embed="rId1"/>
          <a:stretch/>
        </p:blipFill>
        <p:spPr>
          <a:xfrm>
            <a:off x="4379760" y="1989000"/>
            <a:ext cx="2063880" cy="345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ttachment"/>
          <p:cNvPicPr/>
          <p:nvPr/>
        </p:nvPicPr>
        <p:blipFill>
          <a:blip r:embed="rId2"/>
          <a:stretch/>
        </p:blipFill>
        <p:spPr>
          <a:xfrm>
            <a:off x="6443640" y="314172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0880" y="188640"/>
            <a:ext cx="8853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7-1-2"/>
          <p:cNvPicPr/>
          <p:nvPr/>
        </p:nvPicPr>
        <p:blipFill>
          <a:blip r:embed="rId1"/>
          <a:stretch/>
        </p:blipFill>
        <p:spPr>
          <a:xfrm>
            <a:off x="3778200" y="378936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7-1-1"/>
          <p:cNvPicPr/>
          <p:nvPr/>
        </p:nvPicPr>
        <p:blipFill>
          <a:blip r:embed="rId2"/>
          <a:stretch/>
        </p:blipFill>
        <p:spPr>
          <a:xfrm>
            <a:off x="5940360" y="3789360"/>
            <a:ext cx="2467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Катя</cp:lastModifiedBy>
  <dcterms:modified xsi:type="dcterms:W3CDTF">2018-05-21T15:02:49Z</dcterms:modified>
  <cp:revision>14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