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dt" idx="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09BED-9AA9-47E2-AD52-FB2E8F4290D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4DFA5-AD2D-43C9-B758-9CD8FC7A65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4FF78-74BC-42A3-B256-AB21CD6A410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B36B5-2003-4AF0-B929-4A4FFDD46EB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98A5-0D27-4C4D-9996-91B9047927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5C1C-0054-447D-AA22-AC71F31C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8FD8-396B-48D9-9797-3FB6D44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5C7B-EE72-4F46-8D9A-E48FB59565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93A6C-7B29-4BCE-A7E6-E5C6DE1830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C9499-F2FF-4D80-B939-50DACE77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D0BCF-BE2B-4172-B2BA-DEEC1C27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33F62-BF0C-46C3-8436-B348AF24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D63FB-5B84-4023-AD26-173570D0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-549720"/>
            <a:ext cx="7770960" cy="9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A40F5-F836-4950-AF91-CE079561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EAE1F-7CE0-41FC-AFFB-76C54B5C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9331A-5BA5-457F-A7B8-1759680B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C7D0B-EDFF-45E0-B870-81144E77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29F65-6094-4047-B4FB-61B56840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5570B-21CC-480B-8C93-05E76E6B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3AC8E-9719-4256-BBEA-ED096F09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6E596-4790-4AA2-AE2F-62CF87F16F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D353-1527-4E1E-870A-9B51B18808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3D60-10FE-4945-8E2D-C75F2C4B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6CBB-8293-4AE8-AC01-D029C857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4F3F-66C7-4461-AD7E-AF215B78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4F79-7AAA-4630-9A81-4EAB4530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6DEF-3AF2-4669-B08B-029D447A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-549720"/>
            <a:ext cx="7770960" cy="9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0A56-4B95-4E3A-8D02-C5E95363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6180-F931-4FE0-93B5-BECD1FC1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160E-A21A-474D-AF34-25DF71E4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753C-E924-48B6-BA68-BE4814E5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774A-39F6-4CA5-8F9D-5F22D5F3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786B-9C9F-492F-9CF7-7AF73F14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AE0E-B987-4CFD-A2E9-A70E2328FC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2682A-5D65-48B9-858D-8FFBDCF7CE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D55D8-90D5-4C3D-BA1B-A1B39B2E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60D93-8ACA-458B-8338-91FFB802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4F48-9C7E-4DE0-BD77-CA219E5B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E9961-9041-45D6-86EA-9DCEF32A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F1907-11C5-43D6-B397-3D78A4BE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-549720"/>
            <a:ext cx="7770960" cy="9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EE74F-2C38-4622-A1D4-BAD8CF44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754D7-63DC-40A4-987A-25A997B6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61EF2-4C83-459E-8DED-58F7341B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DF24C-59C5-4553-9476-FBC00A6A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8A5F6-B079-4B5A-AE5B-01998AAA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E677B-664F-4CA1-ABCD-E751DFDE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A00D8-2E0D-472B-9653-3F26843192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A5ED-51A1-4F95-B815-8C4CDF34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-549720"/>
            <a:ext cx="7770960" cy="9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22A1-F911-4A23-B5B0-D970C230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75D1-83C6-47CB-B792-C6A56BE4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6F1EE-79F4-4EA2-AF6D-8E0DF388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35F5-F230-4BAD-AA96-75A120C4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mbria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969FD4-CF4F-4F50-8153-785898249F98}" type="slidenum"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4" name="Group 2"/>
          <p:cNvGrpSpPr/>
          <p:nvPr/>
        </p:nvGrpSpPr>
        <p:grpSpPr>
          <a:xfrm>
            <a:off x="60480" y="60480"/>
            <a:ext cx="9026280" cy="6710040"/>
            <a:chOff x="60480" y="60480"/>
            <a:chExt cx="9026280" cy="6710040"/>
          </a:xfrm>
        </p:grpSpPr>
        <p:pic>
          <p:nvPicPr>
            <p:cNvPr id="45" name="Picture 3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6280" cy="67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4"/>
            <p:cNvSpPr/>
            <p:nvPr/>
          </p:nvSpPr>
          <p:spPr>
            <a:xfrm>
              <a:off x="162000" y="166680"/>
              <a:ext cx="8818560" cy="64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Rectangle 5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E375B0-3D13-4A70-B761-01A9E817E98D}" type="slidenum">
              <a:rPr b="0" lang="ru-RU" sz="1400" spc="-1" strike="noStrike">
                <a:solidFill>
                  <a:srgbClr val="ffffff"/>
                </a:solidFill>
                <a:latin typeface="Calibri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4BC0CD-197E-4CC7-BFF0-086472BDE7AC}" type="slidenum">
              <a:rPr b="0" lang="ru-RU" sz="1400" spc="-1" strike="noStrike">
                <a:solidFill>
                  <a:srgbClr val="ffffff"/>
                </a:solidFill>
                <a:latin typeface="Calibri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Rectangle 3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91440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FE49F4-500C-4EBA-8382-88AAE47DCA1C}" type="slidenum">
              <a:rPr b="0" lang="ru-RU" sz="1400" spc="-1" strike="noStrike">
                <a:solidFill>
                  <a:srgbClr val="ffffff"/>
                </a:solidFill>
                <a:latin typeface="Calibri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http://khabibra.ucoz.ru/_si/0/28634728.jpg"/>
          <p:cNvPicPr/>
          <p:nvPr/>
        </p:nvPicPr>
        <p:blipFill>
          <a:blip r:embed="rId1"/>
          <a:stretch/>
        </p:blipFill>
        <p:spPr>
          <a:xfrm>
            <a:off x="1042920" y="1557360"/>
            <a:ext cx="7143840" cy="35892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0" y="189000"/>
            <a:ext cx="975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К «Перспективная начальная школа» </a:t>
            </a:r>
            <a:endParaRPr b="0" lang="en-US" sz="3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79280" y="181080"/>
            <a:ext cx="864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идея программы «Перспективная начальная школа»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804960" y="2023920"/>
            <a:ext cx="7532640" cy="3606840"/>
            <a:chOff x="804960" y="2023920"/>
            <a:chExt cx="7532640" cy="3606840"/>
          </a:xfrm>
        </p:grpSpPr>
        <p:pic>
          <p:nvPicPr>
            <p:cNvPr id="195" name="Picture 4" descr=""/>
            <p:cNvPicPr/>
            <p:nvPr/>
          </p:nvPicPr>
          <p:blipFill>
            <a:blip r:embed="rId1"/>
            <a:stretch/>
          </p:blipFill>
          <p:spPr>
            <a:xfrm>
              <a:off x="804960" y="2023920"/>
              <a:ext cx="7532640" cy="36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5"/>
            <p:cNvSpPr/>
            <p:nvPr/>
          </p:nvSpPr>
          <p:spPr>
            <a:xfrm>
              <a:off x="900000" y="2060640"/>
              <a:ext cx="7270920" cy="34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ffffff"/>
                </a:solidFill>
                <a:latin typeface="Cambr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179280" y="181080"/>
            <a:ext cx="864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граммы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ерспективная начальная школа»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835200" y="2023920"/>
            <a:ext cx="7399080" cy="3606840"/>
            <a:chOff x="835200" y="2023920"/>
            <a:chExt cx="7399080" cy="3606840"/>
          </a:xfrm>
        </p:grpSpPr>
        <p:pic>
          <p:nvPicPr>
            <p:cNvPr id="200" name="Picture 4" descr=""/>
            <p:cNvPicPr/>
            <p:nvPr/>
          </p:nvPicPr>
          <p:blipFill>
            <a:blip r:embed="rId1"/>
            <a:stretch/>
          </p:blipFill>
          <p:spPr>
            <a:xfrm>
              <a:off x="835200" y="2023920"/>
              <a:ext cx="7399080" cy="36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5"/>
            <p:cNvSpPr/>
            <p:nvPr/>
          </p:nvSpPr>
          <p:spPr>
            <a:xfrm>
              <a:off x="900000" y="2060640"/>
              <a:ext cx="7270920" cy="34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  </a:t>
              </a:r>
              <a:endParaRPr b="0" lang="en-US" sz="2800" spc="-1" strike="noStrike">
                <a:solidFill>
                  <a:srgbClr val="ffffff"/>
                </a:solidFill>
                <a:latin typeface="Cambr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 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447920"/>
            <a:ext cx="842976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личности ребенка;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мотивации к учению;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нравственности, толерантности;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учение умению учиться. 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357120" y="350028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 в рамках данной программы основывается на принципах гуманистической педагогики. Любой ребенок способен успешно учиться, если для него будут созданы все необходимые условия. Личностно-ориентированное обучение учитывает предыдущий опыт ребенк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2976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принципы концепции «Перспективная начальная школа»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85688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 непрерывного общего развития каждого ребенка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 целостности картины мира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 учета индивидуальных возможностей и способностей школьников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ы прочности и наглядности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 охраны и укрепления психического и физического здоровья дете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900000" y="2060640"/>
            <a:ext cx="72709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4:16:27Z</dcterms:created>
  <dc:creator>User</dc:creator>
  <dc:description/>
  <dc:language>en-US</dc:language>
  <cp:lastModifiedBy>Ирина</cp:lastModifiedBy>
  <dcterms:modified xsi:type="dcterms:W3CDTF">2018-05-21T20:58:48Z</dcterms:modified>
  <cp:revision>12</cp:revision>
  <dc:subject/>
  <dc:title>Анализ программы  «Перспективная начальная школа»</dc:title>
</cp:coreProperties>
</file>