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dt" idx="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C3299-3848-42D8-ABDF-92000CA6D65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C05CC-2838-43B2-8396-706E5D42AC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76465-99B9-4D8D-B2CA-395BE3C113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76DF2-4ACB-4EAA-BA5F-170DE578DAE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F56A-F002-4C85-9A21-2C29C39ED8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8D61C-1A1D-4654-BAE8-774C7D08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3059-E60C-4BAA-A383-0B128EA4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69AE-0E9F-4DC7-AB0D-75439BEEE4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B5895-3749-4A44-8928-6DD4222BC9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FC7AC-2AAD-4A85-B99C-536C8A1F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B4961-630F-404B-B55D-82045091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986D7-0434-4B71-A3D1-2E1A8B9C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C5EBB-32C7-4EE2-9181-A1825B0D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-549720"/>
            <a:ext cx="7770960" cy="9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5E149-DB0B-4297-AEAE-60CD1968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36C71-DDBA-4BDD-A3E4-EB258DA2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D4B4-CF9A-48F0-83E0-F2F43ADB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F9E75-6A77-46AA-8D28-FDD32234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CC476-E62D-4970-9127-4CDF8E5C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5998A-03C8-489B-8D88-F5C7F0BC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4953F-B10C-4F3A-B72E-9930CF61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FA147-5FF1-4FDC-A810-3A5F81B2B6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0459-D6E8-478A-B2F0-8EE138ED18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6CBE-575A-4E97-868E-16B089C7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599C-640C-4EF6-BE5F-26395FA1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F90D-C60E-406F-A55F-0A5B9F92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D635-2A61-4F14-8804-7A73A63C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C76E-979A-469A-AA55-CB5A65A8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-549720"/>
            <a:ext cx="7770960" cy="9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FD44-E6B8-40AB-A919-5760EB67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BCB9-7216-4236-A0D2-2F5E1C88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8589-2B6A-4DC1-A565-21E74FD1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D61A-CA73-4668-81DE-A02D9FF4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198F-E49E-488F-997B-3C060D8F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934B-7911-41AB-831F-43EA0ECF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2908-A99B-4FD4-B509-02C96A702D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540EC-5EB8-49B4-B3CC-C2C11CA698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CAE54-3F18-4CDD-A327-1A6FF44B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ED154-A8F9-42DD-AB72-5485FB2D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9025-F2CD-4A39-8426-EB74816F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E2611-3B42-48D7-95AC-61F03622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AC187-0C8D-4FBE-97D2-A5CE780D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-549720"/>
            <a:ext cx="7770960" cy="9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736B7-171D-4272-9855-45489E3E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D9E71-668E-49BD-9286-7D591176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057BB-CCD9-4361-B84A-AFE112B9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A2811-1163-4B27-B7D1-4BD18075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45830-AE18-4588-9205-087A757D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CE5B7-31A4-4B19-A057-C66420F4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9882C-25E2-41C1-A311-02D86F9933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67E2-16C9-401E-B6B7-F1337152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-549720"/>
            <a:ext cx="7770960" cy="9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06E2-45D1-4755-AC1E-D7DB0A09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8755-15B0-419E-AA4F-FE099169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54AB-5C69-4840-A278-4380AEB2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DB1BC-47D4-4C2E-805F-6B3A98EB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mbria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3508FD-D7AC-42C2-9068-D92C5F790365}" type="slidenum"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4" name="Group 2"/>
          <p:cNvGrpSpPr/>
          <p:nvPr/>
        </p:nvGrpSpPr>
        <p:grpSpPr>
          <a:xfrm>
            <a:off x="60480" y="60480"/>
            <a:ext cx="9026280" cy="6710040"/>
            <a:chOff x="60480" y="60480"/>
            <a:chExt cx="9026280" cy="6710040"/>
          </a:xfrm>
        </p:grpSpPr>
        <p:pic>
          <p:nvPicPr>
            <p:cNvPr id="45" name="Picture 3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6280" cy="67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4"/>
            <p:cNvSpPr/>
            <p:nvPr/>
          </p:nvSpPr>
          <p:spPr>
            <a:xfrm>
              <a:off x="162000" y="166680"/>
              <a:ext cx="8818560" cy="64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Rectangle 5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FA01A0-6042-40A3-BAC8-FAC4B2009A9F}" type="slidenum">
              <a:rPr b="0" lang="ru-RU" sz="1400" spc="-1" strike="noStrike">
                <a:solidFill>
                  <a:srgbClr val="ffffff"/>
                </a:solidFill>
                <a:latin typeface="Calibri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F98FF8-10BC-4C39-93DA-7779782FAA29}" type="slidenum">
              <a:rPr b="0" lang="ru-RU" sz="1400" spc="-1" strike="noStrike">
                <a:solidFill>
                  <a:srgbClr val="ffffff"/>
                </a:solidFill>
                <a:latin typeface="Calibri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Rectangle 3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-549720"/>
            <a:ext cx="777096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91440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953DC8-7416-49CF-A022-F8BF24714E28}" type="slidenum">
              <a:rPr b="0" lang="ru-RU" sz="1400" spc="-1" strike="noStrike">
                <a:solidFill>
                  <a:srgbClr val="ffffff"/>
                </a:solidFill>
                <a:latin typeface="Calibri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http://khabibra.ucoz.ru/_si/0/28634728.jpg"/>
          <p:cNvPicPr/>
          <p:nvPr/>
        </p:nvPicPr>
        <p:blipFill>
          <a:blip r:embed="rId1"/>
          <a:stretch/>
        </p:blipFill>
        <p:spPr>
          <a:xfrm>
            <a:off x="1042920" y="1557360"/>
            <a:ext cx="7143840" cy="35892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0" y="189000"/>
            <a:ext cx="975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К «Перспективная начальная школа» </a:t>
            </a:r>
            <a:endParaRPr b="0" lang="en-US" sz="3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79280" y="181080"/>
            <a:ext cx="864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идея программы «Перспективная начальная школа»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804960" y="2023920"/>
            <a:ext cx="7532640" cy="3606840"/>
            <a:chOff x="804960" y="2023920"/>
            <a:chExt cx="7532640" cy="3606840"/>
          </a:xfrm>
        </p:grpSpPr>
        <p:pic>
          <p:nvPicPr>
            <p:cNvPr id="195" name="Picture 4" descr=""/>
            <p:cNvPicPr/>
            <p:nvPr/>
          </p:nvPicPr>
          <p:blipFill>
            <a:blip r:embed="rId1"/>
            <a:stretch/>
          </p:blipFill>
          <p:spPr>
            <a:xfrm>
              <a:off x="804960" y="2023920"/>
              <a:ext cx="753264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5"/>
            <p:cNvSpPr/>
            <p:nvPr/>
          </p:nvSpPr>
          <p:spPr>
            <a:xfrm>
              <a:off x="900000" y="2060640"/>
              <a:ext cx="7270920" cy="34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Cambr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179280" y="181080"/>
            <a:ext cx="864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граммы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ерспективная начальная школа»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835200" y="2023920"/>
            <a:ext cx="7399080" cy="3606840"/>
            <a:chOff x="835200" y="2023920"/>
            <a:chExt cx="7399080" cy="3606840"/>
          </a:xfrm>
        </p:grpSpPr>
        <p:pic>
          <p:nvPicPr>
            <p:cNvPr id="200" name="Picture 4" descr=""/>
            <p:cNvPicPr/>
            <p:nvPr/>
          </p:nvPicPr>
          <p:blipFill>
            <a:blip r:embed="rId1"/>
            <a:stretch/>
          </p:blipFill>
          <p:spPr>
            <a:xfrm>
              <a:off x="835200" y="2023920"/>
              <a:ext cx="739908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5"/>
            <p:cNvSpPr/>
            <p:nvPr/>
          </p:nvSpPr>
          <p:spPr>
            <a:xfrm>
              <a:off x="900000" y="2060640"/>
              <a:ext cx="7270920" cy="34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  </a:t>
              </a:r>
              <a:endParaRPr b="0" lang="en-US" sz="2800" spc="-1" strike="noStrike">
                <a:solidFill>
                  <a:srgbClr val="ffffff"/>
                </a:solidFill>
                <a:latin typeface="Cambr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 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447920"/>
            <a:ext cx="842976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личности ребенка;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мотивации к учению;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нравственности, толерантности;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ение умению учиться. 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357120" y="350028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 в рамках данной программы основывается на принципах гуманистической педагогики. Любой ребенок способен успешно учиться, если для него будут созданы все необходимые условия. Личностно-ориентированное обучение учитывает предыдущий опыт ребенк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2976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принципы концепции «Перспективная начальная школа»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85688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 непрерывного общего развития каждого ребенка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 целостности картины мира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 учета индивидуальных возможностей и способностей школьников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ы прочности и наглядности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 охраны и укрепления психического и физического здоровья дете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900000" y="2060640"/>
            <a:ext cx="72709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4:16:27Z</dcterms:created>
  <dc:creator>User</dc:creator>
  <dc:description/>
  <dc:language>en-US</dc:language>
  <cp:lastModifiedBy>Ирина</cp:lastModifiedBy>
  <dcterms:modified xsi:type="dcterms:W3CDTF">2018-05-21T20:58:48Z</dcterms:modified>
  <cp:revision>12</cp:revision>
  <dc:subject/>
  <dc:title>Анализ программы  «Перспективная начальная школа»</dc:title>
</cp:coreProperties>
</file>