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AA340-4787-4DA5-BC87-5D2820332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E0776-971C-465F-8E8F-1605DC64FE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C12F-5329-471C-A529-601FBA36A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8EAB4-D956-4B37-B7B8-581D186F36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14CD9-06D6-44E3-9A7F-646134103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ED74C-9751-4CF8-B64B-F8C90126AF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00BC-352A-4AB0-B8FC-2EB824525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B9B4-9DE7-4229-9E78-5F16A296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BD82-AEAC-408A-BF4A-5A8CE63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868D-C6A1-4CA6-9695-488879D3D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FEAD-D527-4EBE-95B0-42F8A59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D723-FBE4-42F2-AB2C-B6126D5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1D5C-5886-486E-BD2B-28B825F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A271-115B-4EAE-B432-CF51571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DBE7-6F65-47C9-9D94-A75F12E1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86BD-E430-411D-A3E5-4858E338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3C85-4ECE-4C04-9EAA-2E28803B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E60E-2A57-4482-A6EE-B16BAE1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5027B-C0FC-42E4-B983-05112875FA7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419640" y="360360"/>
            <a:ext cx="540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Подводящий диа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03640" y="692280"/>
          <a:ext cx="5184720" cy="5767200"/>
        </p:xfrm>
        <a:graphic>
          <a:graphicData uri="http://schemas.openxmlformats.org/drawingml/2006/table">
            <a:tbl>
              <a:tblPr/>
              <a:tblGrid>
                <a:gridCol w="1446120"/>
                <a:gridCol w="37386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одводящ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диало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ук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стема посильных ученику вопросов и заданий, подводящих его к открытию мыс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зна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шаговое жесткое ведение мысли учени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живание учеником удивления от открытия в конце диалог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чти невозможны неожиданные ответы ученико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жет быть прекращен, идет до последнего вопроса на обобщ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логического мыш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879640" y="179280"/>
            <a:ext cx="61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Ситуация Яркого пят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пример, тема урока в 1 классе "Число и цифра 6"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627280" y="765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219640" y="1197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3213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380360" y="495144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35640" y="335772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367760" y="88596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nstantia"/>
              </a:rPr>
              <a:t>6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700360" y="360360"/>
            <a:ext cx="630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c1900"/>
                </a:solidFill>
                <a:latin typeface="Times New Roman"/>
              </a:rPr>
              <a:t>Групп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Ряд слов, предметов, фигур, цифр предлагаю детям разделить на группы, обосновывая свои высказывания. Основанием классификации будут внешние признаки, а вопрос: "Почему имеют такие признаки?" будет задачей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Например: тему урока "Мягкий знак в именах существительных после шипящих" можно рассмотреть на классификации слов: луч, ночь, речь, сторож, ключ, вещь, мышь, хвощ, печь. Урок математики в 1 классе по теме "Двузначные числа" можно начать с предложения: "Разделите на две группы числа: 6, 12, 17, 5, 46, 1, 21, 72,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519280" y="179280"/>
            <a:ext cx="630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Ис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ием можно использовать чрез зрительное или слуховое восприя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Первы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тема урока "Дикие животн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Второ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Задаю детям ряд загадок или просто слов, с обязательным неоднократным повтором отгадок или предложенного ряда слов. Анализируя, дети легко определяют лиш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Окружающий мир в 1классе по теме урока "Насеком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ослушайте и запомните ряд слов: "Собака, ласточка, медведь, корова, воробей, заяц, бабочка, кош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Что общего во всех словах? (Названия живот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Кто лишний в этом ряде? (Из множества, обоснованных мнений, обязательно прозвучит правильный ответ.) Формулируется учебная ц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519280" y="111240"/>
            <a:ext cx="6300720" cy="65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4c1900"/>
                </a:solidFill>
                <a:latin typeface="Times New Roman"/>
              </a:rPr>
              <a:t>Домысли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1. Предлагается тема урока и слова "помощники": повторим, изучим, узнаем, провер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С помощью слов "помощников" дети формулируют цели уро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.Определить причину объединения слов, букв, предметов, проводя анализ закономерности и опираясь на свои зн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Для урока математика по теме "Порядок арифметических действий в выражениях со скобками" предлагаю детям ряд выражений и ставлю вопрос: "Что объединяет все выражения? Как провести вычисление?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63 + 7) :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4 : (16 – 4·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42 – 12 + 5) :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8 ·(7 – 2 · 3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ошникова О.А.</dc:creator>
  <dc:description/>
  <dc:language>en-US</dc:language>
  <cp:lastModifiedBy>Omega Electronics</cp:lastModifiedBy>
  <dcterms:modified xsi:type="dcterms:W3CDTF">2018-01-28T15:44:13Z</dcterms:modified>
  <cp:revision>2</cp:revision>
  <dc:subject>Целеполагание</dc:subject>
  <dc:title>Обобщение опыта</dc:title>
</cp:coreProperties>
</file>