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282-0D75-4078-A795-215FCDF8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4A4-B6F9-4C3F-862F-7F5FD67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54B-486C-4BF8-9D58-377A322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11A-9881-49BF-8ADF-C031D819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DBC3-6967-4954-B6CF-25F1D4F4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AA4-3E0C-475C-BE58-F8D3DD0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0AB9-7237-4BF6-805F-344B8C5A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8EA-D199-41B2-B1D8-C0D89DCE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5DA-7452-446F-A2B7-412ABEEE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B42-BD56-47E1-BB60-4B10124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21B8-D71B-41D1-A824-6E2C4F1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E96-687F-45AB-9542-2CE7E8A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ABCF-5E82-481C-83BE-5F813F90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72CA-5586-47AB-BD25-EFA9DB9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777-3F70-4440-904A-526138F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A1F-2718-4217-8D22-4BA6A85B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5FCC-9049-411A-B023-E75B3996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A697-14CE-47FA-9D39-A8F1735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C0DC-B136-43B3-9AE9-D2554A0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4F23-2A00-4352-A950-236057F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902E-9CA7-4086-859F-58AE15D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44BC-A696-431F-9EB1-66EEFF05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0B7-D95F-4258-9EA0-C383595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A292-E0F1-4E65-8BD0-6B4871A5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E9FA-7B6A-43C0-9A9B-9623FCC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C624-2945-4AAA-9D7B-4871E4C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EF14-0E88-49B3-9D15-339C7DB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D226-9C96-4FB6-BCE7-89746C0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C6AD-DBF0-4A5D-9AC5-7A16059B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C9DF-CB9D-45E5-B0AE-DAB1CD71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2788-F1A6-4E50-8B96-54C7F51B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2CFA-EA02-45BD-9F2F-D1FE5DDD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79F5-19A8-4222-AE82-DDD316B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EF5-ECCA-4980-B475-D4C5137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0518-4AF4-45DE-9015-32196BB9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5143-041E-48A4-A8A1-3798192E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7A8E-69A3-444E-8C2C-D6BBC55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0A809-C04E-404E-8C7F-45F78491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9772-19D1-46E8-BC4B-D3CE091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2319-7FCF-41DC-BF98-C1187F8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AB48-680F-447A-808F-DCCA8D2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88AC-315D-41A2-8B0D-F96CAF80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DD7C-D9F0-4790-B644-B459024B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AC3-36FF-4A8A-A048-879593F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4C2-AFE1-45AD-978A-14DB031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219-7C88-4B8C-962D-BF47086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AAB-D82A-4FA9-8455-4C537A8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FB7-3385-4D16-B9C2-F9DDEB6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pic>
        <p:nvPicPr>
          <p:cNvPr id="1" name="Рисунок 7" descr="6e98f863407c.jpg"/>
          <p:cNvPicPr/>
          <p:nvPr/>
        </p:nvPicPr>
        <p:blipFill>
          <a:blip r:embed="rId4"/>
          <a:stretch/>
        </p:blipFill>
        <p:spPr>
          <a:xfrm>
            <a:off x="5857920" y="642960"/>
            <a:ext cx="2952360" cy="36190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D11FB4-9097-4454-ADEF-119CF47E0D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DD2224-1B34-412E-AEDE-F7614A9C5F5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6A2643-BA3D-412D-BE78-500A2D6C05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C2CAC-8631-4236-BAE8-4E81E16AD8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www.gabadey.ru/pictures/3011_2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gabadey.ru/pictures/3012_2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229240" cy="23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8 апрел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ражения с переменной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4  = 6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357000"/>
            <a:ext cx="8229240" cy="276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к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+ 4  = 9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64000" y="3357000"/>
            <a:ext cx="5122440" cy="276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8  = 2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тог уро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2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узнали на урок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ужно запомни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3" descr="26.gif"/>
          <p:cNvPicPr/>
          <p:nvPr/>
        </p:nvPicPr>
        <p:blipFill>
          <a:blip r:embed="rId1"/>
          <a:stretch/>
        </p:blipFill>
        <p:spPr>
          <a:xfrm>
            <a:off x="642960" y="2857320"/>
            <a:ext cx="1733040" cy="1404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priroda042.gif"/>
          <p:cNvPicPr/>
          <p:nvPr/>
        </p:nvPicPr>
        <p:blipFill>
          <a:blip r:embed="rId2"/>
          <a:stretch/>
        </p:blipFill>
        <p:spPr>
          <a:xfrm>
            <a:off x="2643120" y="2928960"/>
            <a:ext cx="1714320" cy="142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molnia008.gif"/>
          <p:cNvPicPr/>
          <p:nvPr/>
        </p:nvPicPr>
        <p:blipFill>
          <a:blip r:embed="rId3"/>
          <a:stretch/>
        </p:blipFill>
        <p:spPr>
          <a:xfrm>
            <a:off x="4429080" y="2786040"/>
            <a:ext cx="1580760" cy="156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0040" y="1928880"/>
            <a:ext cx="864360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ознакомить с латинскими буквами в выражениях с перемен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развивать вычислительные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закреплять приёмы письменного сложения и выч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4-7.gif"/>
          <p:cNvPicPr/>
          <p:nvPr/>
        </p:nvPicPr>
        <p:blipFill>
          <a:blip r:embed="rId1"/>
          <a:stretch/>
        </p:blipFill>
        <p:spPr>
          <a:xfrm>
            <a:off x="3143160" y="3714840"/>
            <a:ext cx="2090520" cy="164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4" descr="0006.jpg"/>
          <p:cNvPicPr/>
          <p:nvPr/>
        </p:nvPicPr>
        <p:blipFill>
          <a:blip r:embed="rId1"/>
          <a:stretch/>
        </p:blipFill>
        <p:spPr>
          <a:xfrm>
            <a:off x="1357200" y="571320"/>
            <a:ext cx="4643280" cy="528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числи удобным способом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546120" y="1357200"/>
            <a:ext cx="6151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38 + 29 + 12 + 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6598080" y="135720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6"/>
          <p:cNvSpPr/>
          <p:nvPr/>
        </p:nvSpPr>
        <p:spPr>
          <a:xfrm>
            <a:off x="685800" y="2357280"/>
            <a:ext cx="5349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64 + 7 + 6 + 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7"/>
          <p:cNvSpPr/>
          <p:nvPr/>
        </p:nvSpPr>
        <p:spPr>
          <a:xfrm>
            <a:off x="6028920" y="2357280"/>
            <a:ext cx="2071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1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8"/>
          <p:cNvSpPr/>
          <p:nvPr/>
        </p:nvSpPr>
        <p:spPr>
          <a:xfrm>
            <a:off x="398160" y="3214800"/>
            <a:ext cx="4930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9 + 8 + 2 + 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5026680" y="321480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259200" y="5143680"/>
            <a:ext cx="5826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3 + 4 + 5 + 6 +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6098040" y="514368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ражения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435240" y="1428840"/>
            <a:ext cx="1604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Times New Roman"/>
              </a:rPr>
              <a:t>5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3870000" y="1428840"/>
            <a:ext cx="2977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Times New Roman"/>
              </a:rPr>
              <a:t>12 – 7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1237320" y="2286000"/>
            <a:ext cx="4875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числовые вы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571320" y="2786040"/>
            <a:ext cx="1928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a +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3429000" y="2714760"/>
            <a:ext cx="3214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</a:rPr>
              <a:t>x  </a:t>
            </a: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+ a -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1381680" y="3643200"/>
            <a:ext cx="5175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буквенные  вы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85840" y="4429080"/>
            <a:ext cx="3714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a +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5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429000" y="4429080"/>
            <a:ext cx="3214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7 &gt;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1167120" y="5357880"/>
            <a:ext cx="5785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равенства  неравенства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1"/>
          <p:cNvSpPr/>
          <p:nvPr/>
        </p:nvSpPr>
        <p:spPr>
          <a:xfrm>
            <a:off x="714240" y="928800"/>
            <a:ext cx="8229240" cy="35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АТИНСКИЕ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96" name="Picture 2" descr="http://raskraska.narod.ru/images/azbuka-list-lat-s.jpg"/>
          <p:cNvPicPr/>
          <p:nvPr/>
        </p:nvPicPr>
        <p:blipFill>
          <a:blip r:embed="rId1"/>
          <a:stretch/>
        </p:blipFill>
        <p:spPr>
          <a:xfrm>
            <a:off x="2286000" y="1428840"/>
            <a:ext cx="5143320" cy="478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raskraska.narod.ru/images/azbuka-list-lat-s.jpg"/>
          <p:cNvPicPr/>
          <p:nvPr/>
        </p:nvPicPr>
        <p:blipFill>
          <a:blip r:embed="rId2"/>
          <a:stretch/>
        </p:blipFill>
        <p:spPr>
          <a:xfrm>
            <a:off x="2286000" y="1643040"/>
            <a:ext cx="5143320" cy="371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Картинка 24 из 297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1643040"/>
            <a:ext cx="3809520" cy="38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Картинка 26 из 297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9080" y="1643040"/>
            <a:ext cx="3809520" cy="380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Рисунок 7" descr="ание0007.jpg"/>
          <p:cNvPicPr/>
          <p:nvPr/>
        </p:nvPicPr>
        <p:blipFill>
          <a:blip r:embed="rId1"/>
          <a:stretch/>
        </p:blipFill>
        <p:spPr>
          <a:xfrm>
            <a:off x="357120" y="2143080"/>
            <a:ext cx="585756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8"/>
          <p:cNvSpPr/>
          <p:nvPr/>
        </p:nvSpPr>
        <p:spPr>
          <a:xfrm>
            <a:off x="178596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235728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292896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357192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421488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485784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18572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242892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30002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364320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428616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9"/>
          <p:cNvSpPr/>
          <p:nvPr/>
        </p:nvSpPr>
        <p:spPr>
          <a:xfrm>
            <a:off x="48578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УРАВНЕНИЯ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"/>
          <p:cNvSpPr/>
          <p:nvPr/>
        </p:nvSpPr>
        <p:spPr>
          <a:xfrm>
            <a:off x="789840" y="2714760"/>
            <a:ext cx="296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4"/>
          <p:cNvSpPr/>
          <p:nvPr/>
        </p:nvSpPr>
        <p:spPr>
          <a:xfrm>
            <a:off x="1835640" y="2714760"/>
            <a:ext cx="453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</a:rPr>
              <a:t>b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 + 2 =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3276000" y="2853000"/>
            <a:ext cx="324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10 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 Карлсоном</Template>
  <TotalTime>85</TotalTime>
  <Application>LibreOffice/7.4.7.2$Linux_X86_64 LibreOffice_project/40$Build-2</Application>
  <AppVersion>15.0000</AppVersion>
  <Words>161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4:03:41Z</dcterms:created>
  <dc:creator>user</dc:creator>
  <dc:description/>
  <dc:language>en-US</dc:language>
  <cp:lastModifiedBy>Артур</cp:lastModifiedBy>
  <dcterms:modified xsi:type="dcterms:W3CDTF">2013-04-17T16:27:20Z</dcterms:modified>
  <cp:revision>11</cp:revision>
  <dc:subject/>
  <dc:title>7 сентября. Классная работа. Выражения с переменн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