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gif" ContentType="image/gif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6.wmf" ContentType="image/x-wmf"/>
  <Override PartName="/ppt/media/image13.png" ContentType="image/png"/>
  <Override PartName="/ppt/media/image4.gif" ContentType="image/gif"/>
  <Override PartName="/ppt/media/image12.png" ContentType="image/png"/>
  <Override PartName="/ppt/media/image3.gif" ContentType="image/gif"/>
  <Override PartName="/ppt/media/image11.png" ContentType="image/png"/>
  <Override PartName="/ppt/media/image2.gif" ContentType="image/gif"/>
  <Override PartName="/ppt/media/image10.png" ContentType="image/png"/>
  <Override PartName="/ppt/media/image26.wmf" ContentType="image/x-wmf"/>
  <Override PartName="/ppt/media/image1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.gif" ContentType="image/gi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5C9D-FEF6-4EDA-81AA-8BCAFE80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D341-A8C5-4D11-88A3-9ED5C06B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7C6-ED87-4C78-84E6-B3F42B62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B7A-046B-4568-AEB3-827A2909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EF9B-DC87-443D-BECD-FF9878DD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B5C3-991C-4493-996F-A05DF309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40A-A059-431E-986D-7281935D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1FC2-26B0-43B8-86C0-FB03FA14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0658-81C5-4AB3-825B-1DA444F5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D01-766D-45E6-87D9-B678C7A9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2FA-3F77-4F62-9B84-9DCDDFDA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ADA-9C9A-4B99-AF2D-72C41432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940A-8002-496F-9C40-16479AAB5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27640" y="4524480"/>
            <a:ext cx="2916360" cy="2333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812000" y="1557360"/>
            <a:ext cx="1158840" cy="1557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1871640" cy="163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203640" y="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284720" y="5373720"/>
            <a:ext cx="1050840" cy="1484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4051440"/>
            <a:ext cx="3095640" cy="280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flipH="1">
            <a:off x="6012000" y="260280"/>
            <a:ext cx="1800000" cy="1508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24000" y="2997360"/>
            <a:ext cx="856908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ие  животные и их  детёныш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5616360" cy="5445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69080" y="4165560"/>
            <a:ext cx="2374920" cy="2692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476280"/>
            <a:ext cx="45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ОБ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Косточки собака гложет,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Злых людей кусает тоже –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Чтобы не забрался вор,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Сторожит и дом и д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88000" y="3500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щ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08360" y="620640"/>
            <a:ext cx="5232600" cy="3313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492360" y="3787920"/>
            <a:ext cx="3418200" cy="3070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1280" y="2276640"/>
            <a:ext cx="338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а лугу телёнок скач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«Му-у-у» – кричи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о он не плач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ать-коровушку зовёт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олоком поит она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телёнка, и т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18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р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072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л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227640" y="3211560"/>
            <a:ext cx="2738520" cy="3646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5486400" cy="480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87280" y="522936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Выгнул шейку жеребёнок –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ильной лошади ребёнок,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олько на копытца встал,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Вслед за мамой побеж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476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ш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56360" y="2349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ереб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3635280" cy="4292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4292640"/>
            <a:ext cx="4181400" cy="2819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9640" y="98100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осмотри, играют в прятки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Шаловливые котятки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ритаилась у окошка,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Тихо-тихо мама-кошка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Учит деточек играть: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ячик по полу катают,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ышкой мяч воображают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То подбросят, то поймаю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403280" y="6237360"/>
            <a:ext cx="612720" cy="620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04000" y="260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580536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т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7 C 0.08229 0.00023 0.48247 -0.01644 0.68003 0.00486 C 0.68507 0.01204 0.68455 0.02407 0.67743 0.02824 C 0.66441 0.03565 0.6526 0.03241 0.6375 0.03333 C 0.6217 0.0375 0.6059 0.04236 0.58993 0.04491 C 0.40365 0.04375 0.19931 0.14514 0.03125 0.03819 C 0.02101 0.03171 0.03351 0.03773 0.02378 0.03333 C 0.02049 0.02893 0.01563 0.02222 0.01128 0.01991 C 0.00399 0.01574 0.00799 0.0206 0.00503 0.01667 E">
                                      <p:cBhvr>
                                        <p:cTn id="9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8400" cy="3994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407664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ви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486900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грязнули-свинк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пине щетинка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мордашке пятачок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зади тонкий хвост-крю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76720" y="350028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219640" y="32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рос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4956120" cy="4039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315200" y="4481640"/>
            <a:ext cx="1828800" cy="2376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700360" y="54936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зочке прыгучей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зорной, бодуче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равится украдко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ть капусту с гря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003640" y="5445000"/>
            <a:ext cx="1327320" cy="1211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551640" y="38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2465280"/>
            <a:ext cx="4464000" cy="4392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916680" y="4149720"/>
            <a:ext cx="1987560" cy="2554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234936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в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43640" y="342900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ягнё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67280" y="333360"/>
            <a:ext cx="388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 ребенка - ягн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витушки-коле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у папы бара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у мамы ове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457360"/>
            <a:ext cx="4419720" cy="4400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148360" y="4219560"/>
            <a:ext cx="2719440" cy="2638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859280" y="76500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О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обидит мух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лик длинноухий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летке для него всегд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ть морковка и 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708360" y="5607000"/>
            <a:ext cx="1655640" cy="1251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924360" y="5229360"/>
            <a:ext cx="1655640" cy="1250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488360" y="5607000"/>
            <a:ext cx="1655640" cy="1251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580000" y="36450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ольч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4:04:05Z</dcterms:created>
  <dc:creator>Admin</dc:creator>
  <dc:description/>
  <dc:language>en-US</dc:language>
  <cp:lastModifiedBy>Admin</cp:lastModifiedBy>
  <dcterms:modified xsi:type="dcterms:W3CDTF">2011-04-22T18:39:53Z</dcterms:modified>
  <cp:revision>3</cp:revision>
  <dc:subject/>
  <dc:title>Слайд 1</dc:title>
</cp:coreProperties>
</file>