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6.wmf" ContentType="image/x-wm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E3B-F25A-4E48-AEB7-9CC8EE52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553-D618-43B6-A00F-3C917462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CEB-80C8-4EA8-A182-7DDCE431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2D7-1984-42FD-AA01-F92AE640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3F8-F426-4A51-BBD2-30D56E14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08C-BBB5-4CFC-8E00-7E246A9A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920-FB5B-4900-B974-CCCA5B2F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9FD-F485-4802-AD84-DC98DCD4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D35-F4DD-4FC7-9D79-07BC35D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939-18D1-4893-8760-EB0914DD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04B-BFC1-444C-A732-B75E478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C30-B39E-4A04-8E4C-8246196A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E9B-CBAE-4105-8DAE-D6D3340F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flipH="1"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" y="2997360"/>
            <a:ext cx="8569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6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69080" y="4165560"/>
            <a:ext cx="2374920" cy="269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47628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Косточки собака гложет,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Злых людей кусает тоже –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Чтобы не забрался вор,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торожит и дом и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C 0.08229 0.00023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2465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16680" y="4149720"/>
            <a:ext cx="1987560" cy="255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23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3429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гнё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33336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ребенка -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итушки-коле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у папы бар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у мамы ове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457360"/>
            <a:ext cx="4419720" cy="440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48360" y="4219560"/>
            <a:ext cx="2719440" cy="2638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859280" y="765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бидит мух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лик длинноух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е для него всегд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морковка и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5607000"/>
            <a:ext cx="1655640" cy="125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24360" y="5229360"/>
            <a:ext cx="1655640" cy="1250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488360" y="5607000"/>
            <a:ext cx="1655640" cy="125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8000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оль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Admin</cp:lastModifiedBy>
  <dcterms:modified xsi:type="dcterms:W3CDTF">2011-04-22T18:39:53Z</dcterms:modified>
  <cp:revision>3</cp:revision>
  <dc:subject/>
  <dc:title>Слайд 1</dc:title>
</cp:coreProperties>
</file>