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6.wmf" ContentType="image/x-wmf"/>
  <Override PartName="/ppt/media/image13.png" ContentType="image/png"/>
  <Override PartName="/ppt/media/image4.gif" ContentType="image/gif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10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467-FF4E-496B-BB1F-91131257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D0E-04D8-4A18-9711-0B6978EC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61F-9363-4011-88B0-9964A53C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77D-21A8-4398-B366-0F71CABE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A86-C501-4DCD-9C7D-5FD4F946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C91-D008-49CF-AE54-076B7769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7A5-AFD4-4208-98F5-DF807C4A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33E-1B21-4B7A-8852-063FB957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B6C-D2E1-4A2D-B6C2-89CAE3D9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149-22D2-47EE-BC63-1A8AA92F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97E-014D-40D9-8419-BD550B98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D46-79A8-48F2-B76F-1831DA04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54B6-3095-4D23-82F5-6746728D9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27640" y="4524480"/>
            <a:ext cx="2916360" cy="2333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12000" y="1557360"/>
            <a:ext cx="1158840" cy="1557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3640" y="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84720" y="5373720"/>
            <a:ext cx="1050840" cy="148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4051440"/>
            <a:ext cx="3095640" cy="280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flipH="1">
            <a:off x="6012000" y="26028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" y="2997360"/>
            <a:ext cx="856908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  животные и их  детёныш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5616360" cy="544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69080" y="4165560"/>
            <a:ext cx="2374920" cy="269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476280"/>
            <a:ext cx="45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Косточки собака гложет,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Злых людей кусает тоже –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Чтобы не забрался вор,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Сторожит и дом и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35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232600" cy="331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360" y="3787920"/>
            <a:ext cx="3418200" cy="307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227664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 лугу телёнок ск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Му-у-у» – кричи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он не пл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ь-коровушку зовёт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локом поит он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телёнка, и т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л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27640" y="3211560"/>
            <a:ext cx="2738520" cy="3646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5486400" cy="480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522936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ыгнул шейку жеребёнок –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ильной лошади ребёнок,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олько на копытца встал,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след за мамой побеж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23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635280" cy="4292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418140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98100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смотри, играют в прятки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Шаловливые котятки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ритаилась у окошка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ихо-тихо мама-кошка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чит деточек играть: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ячик по полу катают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ышкой мяч воображают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о подбросят, то пойм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403280" y="6237360"/>
            <a:ext cx="612720" cy="62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5805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C 0.08229 0.00023 0.48247 -0.01644 0.68003 0.00486 C 0.68507 0.01204 0.68455 0.02407 0.67743 0.02824 C 0.66441 0.03565 0.6526 0.03241 0.6375 0.03333 C 0.6217 0.0375 0.6059 0.04236 0.58993 0.04491 C 0.40365 0.04375 0.19931 0.14514 0.03125 0.03819 C 0.02101 0.03171 0.03351 0.03773 0.02378 0.03333 C 0.02049 0.02893 0.01563 0.02222 0.01128 0.01991 C 0.00399 0.01574 0.00799 0.0206 0.00503 0.01667 E">
                                      <p:cBhvr>
                                        <p:cTn id="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399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рязнули-свин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пине щетинк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ордашке пятачок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зади тонкий хвост-крю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19640" y="32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ос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956120" cy="4039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15200" y="4481640"/>
            <a:ext cx="1828800" cy="237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0360" y="549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зочке прыгуче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зорной, бодуче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равится украдко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капусту с гря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003640" y="5445000"/>
            <a:ext cx="1327320" cy="1211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51640" y="38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2465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16680" y="4149720"/>
            <a:ext cx="1987560" cy="2554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2349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3429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гнё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333360"/>
            <a:ext cx="388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ребенка - ягн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итушки-коле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у папы бар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у мамы ове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457360"/>
            <a:ext cx="4419720" cy="4400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48360" y="4219560"/>
            <a:ext cx="2719440" cy="2638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859280" y="76500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обидит мух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лик длинноух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е для него всегд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морковка и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08360" y="5607000"/>
            <a:ext cx="1655640" cy="125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924360" y="5229360"/>
            <a:ext cx="1655640" cy="1250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488360" y="5607000"/>
            <a:ext cx="1655640" cy="125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580000" y="3645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ольч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04:05Z</dcterms:created>
  <dc:creator>Admin</dc:creator>
  <dc:description/>
  <dc:language>en-US</dc:language>
  <cp:lastModifiedBy>Admin</cp:lastModifiedBy>
  <dcterms:modified xsi:type="dcterms:W3CDTF">2011-04-22T18:39:53Z</dcterms:modified>
  <cp:revision>3</cp:revision>
  <dc:subject/>
  <dc:title>Слайд 1</dc:title>
</cp:coreProperties>
</file>