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4.jpeg" ContentType="image/jpeg"/>
  <Override PartName="/ppt/media/image2.gif" ContentType="image/gif"/>
  <Override PartName="/ppt/media/image25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26.jpeg" ContentType="image/jpeg"/>
  <Override PartName="/ppt/media/image7.gif" ContentType="image/gif"/>
  <Override PartName="/ppt/media/image5.jpeg" ContentType="image/jpeg"/>
  <Override PartName="/ppt/media/image13.jpeg" ContentType="image/jpeg"/>
  <Override PartName="/ppt/media/image30.gif" ContentType="image/gif"/>
  <Override PartName="/ppt/media/image3.png" ContentType="image/png"/>
  <Override PartName="/ppt/media/image17.jpeg" ContentType="image/jpeg"/>
  <Override PartName="/ppt/media/image12.jpeg" ContentType="image/jpeg"/>
  <Override PartName="/ppt/media/image1.wmf" ContentType="image/x-wmf"/>
  <Override PartName="/ppt/media/image15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9.gif" ContentType="image/gif"/>
  <Override PartName="/ppt/media/image20.jpeg" ContentType="image/jpeg"/>
  <Override PartName="/ppt/media/image22.jpeg" ContentType="image/jpeg"/>
  <Override PartName="/ppt/media/image23.jpeg" ContentType="image/jpeg"/>
  <Override PartName="/ppt/media/image24.jpeg" ContentType="image/jpeg"/>
  <Override PartName="/ppt/media/image27.png" ContentType="image/png"/>
  <Override PartName="/ppt/media/image28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81BF-FCC7-407C-B754-ACC6356F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DADC-31A1-48A3-87A3-6BA7824D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DA7E-F574-4340-8A3E-27BFB3A8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56DC-CCFF-49DE-9365-C958E354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468B-A7DE-4F27-A20C-C0969FBE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7854-656E-4420-84FA-2ED31D92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56AD-372B-4588-9FC8-3B3BCC0D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7E46-575A-444F-BD52-B2060806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CA01-5244-48B7-BDFA-CDD0AE08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A49F-EB3E-41D8-B4DF-94175168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48B6-B0C1-49A2-9E2E-9172430E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2E9F-0993-411C-945A-0DAFC2F9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1144-6A82-4718-898D-FD357E190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2.xm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" Target="slide14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" Target="slide17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4.xm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9.xm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Загадки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по </a:t>
            </a:r>
            <a:br>
              <a:rPr sz="8000"/>
            </a:br>
            <a:r>
              <a:rPr b="1" lang="en-US" sz="8000" spc="-1" strike="noStrike">
                <a:solidFill>
                  <a:srgbClr val="008000"/>
                </a:solidFill>
                <a:latin typeface="Arial"/>
              </a:rPr>
              <a:t>ПД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97800" cy="6191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08360" y="4941720"/>
            <a:ext cx="17622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велосипед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55640" y="2224080"/>
            <a:ext cx="489600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31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32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Высоких деревьев длинне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Травиночки маленькой ниж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С ней дали становятся ближ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И мир открывается с не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4720" y="616572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ро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16000" y="4653000"/>
            <a:ext cx="1455840" cy="1587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659640" y="4653000"/>
            <a:ext cx="1439640" cy="1547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519600" y="623736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крёс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708360" y="4653000"/>
            <a:ext cx="1871640" cy="1546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142160" y="623736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ни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4" action="ppaction://hlinksldjump"/>
          </p:cNvPr>
          <p:cNvSpPr/>
          <p:nvPr/>
        </p:nvSpPr>
        <p:spPr>
          <a:xfrm>
            <a:off x="1116000" y="4581360"/>
            <a:ext cx="1440000" cy="1656000"/>
          </a:xfrm>
          <a:custGeom>
            <a:avLst/>
            <a:gdLst>
              <a:gd name="textAreaLeft" fmla="*/ 93240 w 1440000"/>
              <a:gd name="textAreaRight" fmla="*/ 1346760 w 1440000"/>
              <a:gd name="textAreaTop" fmla="*/ 93240 h 1656000"/>
              <a:gd name="textAreaBottom" fmla="*/ 1562760 h 1656000"/>
            </a:gdLst>
            <a:ahLst/>
            <a:rect l="textAreaLeft" t="textAreaTop" r="textAreaRight" b="textAreaBottom"/>
            <a:pathLst>
              <a:path w="21600" h="24839">
                <a:moveTo>
                  <a:pt x="0" y="0"/>
                </a:moveTo>
                <a:lnTo>
                  <a:pt x="21600" y="0"/>
                </a:lnTo>
                <a:lnTo>
                  <a:pt x="21600" y="24839"/>
                </a:lnTo>
                <a:lnTo>
                  <a:pt x="0" y="24839"/>
                </a:lnTo>
                <a:close/>
              </a:path>
              <a:path fill="lightenLess" w="21600" h="248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39">
                <a:moveTo>
                  <a:pt x="21600" y="0"/>
                </a:moveTo>
                <a:lnTo>
                  <a:pt x="21600" y="24839"/>
                </a:lnTo>
                <a:lnTo>
                  <a:pt x="20200" y="23439"/>
                </a:lnTo>
                <a:lnTo>
                  <a:pt x="20200" y="1400"/>
                </a:lnTo>
                <a:close/>
              </a:path>
              <a:path fill="darkenLess" w="21600" h="24839">
                <a:moveTo>
                  <a:pt x="21600" y="24839"/>
                </a:moveTo>
                <a:lnTo>
                  <a:pt x="0" y="24839"/>
                </a:lnTo>
                <a:lnTo>
                  <a:pt x="1400" y="23439"/>
                </a:lnTo>
                <a:lnTo>
                  <a:pt x="20200" y="23439"/>
                </a:lnTo>
                <a:close/>
              </a:path>
              <a:path fill="lighten" w="21600" h="24839">
                <a:moveTo>
                  <a:pt x="0" y="248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3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5" action="ppaction://hlinksldjump"/>
          </p:cNvPr>
          <p:cNvSpPr/>
          <p:nvPr/>
        </p:nvSpPr>
        <p:spPr>
          <a:xfrm>
            <a:off x="3635280" y="4581360"/>
            <a:ext cx="1944720" cy="1656000"/>
          </a:xfrm>
          <a:custGeom>
            <a:avLst/>
            <a:gdLst>
              <a:gd name="textAreaLeft" fmla="*/ 107280 w 1944720"/>
              <a:gd name="textAreaRight" fmla="*/ 1837440 w 1944720"/>
              <a:gd name="textAreaTop" fmla="*/ 107280 h 1656000"/>
              <a:gd name="textAreaBottom" fmla="*/ 1548720 h 1656000"/>
            </a:gdLst>
            <a:ahLst/>
            <a:rect l="textAreaLeft" t="textAreaTop" r="textAreaRight" b="textAreaBottom"/>
            <a:pathLst>
              <a:path w="25365" h="21600">
                <a:moveTo>
                  <a:pt x="0" y="0"/>
                </a:moveTo>
                <a:lnTo>
                  <a:pt x="25365" y="0"/>
                </a:lnTo>
                <a:lnTo>
                  <a:pt x="25365" y="21600"/>
                </a:lnTo>
                <a:lnTo>
                  <a:pt x="0" y="21600"/>
                </a:lnTo>
                <a:close/>
              </a:path>
              <a:path fill="lightenLess" w="25365" h="21600">
                <a:moveTo>
                  <a:pt x="0" y="0"/>
                </a:moveTo>
                <a:lnTo>
                  <a:pt x="25365" y="0"/>
                </a:lnTo>
                <a:lnTo>
                  <a:pt x="23965" y="1400"/>
                </a:lnTo>
                <a:lnTo>
                  <a:pt x="1400" y="1400"/>
                </a:lnTo>
                <a:close/>
              </a:path>
              <a:path fill="darken" w="25365" h="21600">
                <a:moveTo>
                  <a:pt x="25365" y="0"/>
                </a:moveTo>
                <a:lnTo>
                  <a:pt x="25365" y="21600"/>
                </a:lnTo>
                <a:lnTo>
                  <a:pt x="23965" y="20200"/>
                </a:lnTo>
                <a:lnTo>
                  <a:pt x="23965" y="1400"/>
                </a:lnTo>
                <a:close/>
              </a:path>
              <a:path fill="darkenLess" w="25365" h="21600">
                <a:moveTo>
                  <a:pt x="25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65" y="20200"/>
                </a:lnTo>
                <a:close/>
              </a:path>
              <a:path fill="lighten" w="25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6" action="ppaction://hlinksldjump"/>
          </p:cNvPr>
          <p:cNvSpPr/>
          <p:nvPr/>
        </p:nvSpPr>
        <p:spPr>
          <a:xfrm>
            <a:off x="6659640" y="4653000"/>
            <a:ext cx="1512720" cy="1655640"/>
          </a:xfrm>
          <a:custGeom>
            <a:avLst/>
            <a:gdLst>
              <a:gd name="textAreaLeft" fmla="*/ 97920 w 1512720"/>
              <a:gd name="textAreaRight" fmla="*/ 1414800 w 1512720"/>
              <a:gd name="textAreaTop" fmla="*/ 97920 h 1655640"/>
              <a:gd name="textAreaBottom" fmla="*/ 1557720 h 1655640"/>
            </a:gdLst>
            <a:ahLst/>
            <a:rect l="textAreaLeft" t="textAreaTop" r="textAreaRight" b="textAreaBottom"/>
            <a:pathLst>
              <a:path w="21600" h="23640">
                <a:moveTo>
                  <a:pt x="0" y="0"/>
                </a:moveTo>
                <a:lnTo>
                  <a:pt x="21600" y="0"/>
                </a:lnTo>
                <a:lnTo>
                  <a:pt x="21600" y="23640"/>
                </a:lnTo>
                <a:lnTo>
                  <a:pt x="0" y="23640"/>
                </a:lnTo>
                <a:close/>
              </a:path>
              <a:path fill="lightenLess" w="21600" h="236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40">
                <a:moveTo>
                  <a:pt x="21600" y="0"/>
                </a:moveTo>
                <a:lnTo>
                  <a:pt x="21600" y="23640"/>
                </a:lnTo>
                <a:lnTo>
                  <a:pt x="20200" y="22240"/>
                </a:lnTo>
                <a:lnTo>
                  <a:pt x="20200" y="1400"/>
                </a:lnTo>
                <a:close/>
              </a:path>
              <a:path fill="darkenLess" w="21600" h="23640">
                <a:moveTo>
                  <a:pt x="21600" y="23640"/>
                </a:moveTo>
                <a:lnTo>
                  <a:pt x="0" y="23640"/>
                </a:lnTo>
                <a:lnTo>
                  <a:pt x="1400" y="22240"/>
                </a:lnTo>
                <a:lnTo>
                  <a:pt x="20200" y="22240"/>
                </a:lnTo>
                <a:close/>
              </a:path>
              <a:path fill="lighten" w="21600" h="23640">
                <a:moveTo>
                  <a:pt x="0" y="236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4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дорог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4030560" cy="439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43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44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03640" y="4797360"/>
            <a:ext cx="3803760" cy="1728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На двух колесах я качу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Двумя педалями верчу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За руль держусь, гляжу впере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И  вижу - скор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82160" y="60930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ор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5280" y="4797360"/>
            <a:ext cx="4206960" cy="174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52920" y="604044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х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82160" y="60930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ор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4896000" y="4797360"/>
            <a:ext cx="4248000" cy="1727280"/>
          </a:xfrm>
          <a:custGeom>
            <a:avLst/>
            <a:gdLst>
              <a:gd name="textAreaLeft" fmla="*/ 111960 w 4248000"/>
              <a:gd name="textAreaRight" fmla="*/ 4136040 w 424800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53116" h="21600">
                <a:moveTo>
                  <a:pt x="0" y="0"/>
                </a:moveTo>
                <a:lnTo>
                  <a:pt x="53116" y="0"/>
                </a:lnTo>
                <a:lnTo>
                  <a:pt x="53116" y="21600"/>
                </a:lnTo>
                <a:lnTo>
                  <a:pt x="0" y="21600"/>
                </a:lnTo>
                <a:close/>
              </a:path>
              <a:path fill="lightenLess" w="53116" h="21600">
                <a:moveTo>
                  <a:pt x="0" y="0"/>
                </a:moveTo>
                <a:lnTo>
                  <a:pt x="53116" y="0"/>
                </a:lnTo>
                <a:lnTo>
                  <a:pt x="51716" y="1400"/>
                </a:lnTo>
                <a:lnTo>
                  <a:pt x="1400" y="1400"/>
                </a:lnTo>
                <a:close/>
              </a:path>
              <a:path fill="darken" w="53116" h="21600">
                <a:moveTo>
                  <a:pt x="53116" y="0"/>
                </a:moveTo>
                <a:lnTo>
                  <a:pt x="53116" y="21600"/>
                </a:lnTo>
                <a:lnTo>
                  <a:pt x="51716" y="20200"/>
                </a:lnTo>
                <a:lnTo>
                  <a:pt x="51716" y="1400"/>
                </a:lnTo>
                <a:close/>
              </a:path>
              <a:path fill="darkenLess" w="53116" h="21600">
                <a:moveTo>
                  <a:pt x="53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16" y="20200"/>
                </a:lnTo>
                <a:close/>
              </a:path>
              <a:path fill="lighten" w="53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324000" y="4724280"/>
            <a:ext cx="4248000" cy="1727280"/>
          </a:xfrm>
          <a:custGeom>
            <a:avLst/>
            <a:gdLst>
              <a:gd name="textAreaLeft" fmla="*/ 111960 w 4248000"/>
              <a:gd name="textAreaRight" fmla="*/ 4136040 w 424800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53116" h="21600">
                <a:moveTo>
                  <a:pt x="0" y="0"/>
                </a:moveTo>
                <a:lnTo>
                  <a:pt x="53116" y="0"/>
                </a:lnTo>
                <a:lnTo>
                  <a:pt x="53116" y="21600"/>
                </a:lnTo>
                <a:lnTo>
                  <a:pt x="0" y="21600"/>
                </a:lnTo>
                <a:close/>
              </a:path>
              <a:path fill="lightenLess" w="53116" h="21600">
                <a:moveTo>
                  <a:pt x="0" y="0"/>
                </a:moveTo>
                <a:lnTo>
                  <a:pt x="53116" y="0"/>
                </a:lnTo>
                <a:lnTo>
                  <a:pt x="51716" y="1400"/>
                </a:lnTo>
                <a:lnTo>
                  <a:pt x="1400" y="1400"/>
                </a:lnTo>
                <a:close/>
              </a:path>
              <a:path fill="darken" w="53116" h="21600">
                <a:moveTo>
                  <a:pt x="53116" y="0"/>
                </a:moveTo>
                <a:lnTo>
                  <a:pt x="53116" y="21600"/>
                </a:lnTo>
                <a:lnTo>
                  <a:pt x="51716" y="20200"/>
                </a:lnTo>
                <a:lnTo>
                  <a:pt x="51716" y="1400"/>
                </a:lnTo>
                <a:close/>
              </a:path>
              <a:path fill="darkenLess" w="53116" h="21600">
                <a:moveTo>
                  <a:pt x="53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16" y="20200"/>
                </a:lnTo>
                <a:close/>
              </a:path>
              <a:path fill="lighten" w="53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поворот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26920" y="2708280"/>
            <a:ext cx="3803760" cy="3384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824560" y="565632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вор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55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56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Спозаранку за окошком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Стук, и звон, и кутерь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По прямым стальным дорож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Ходят красные дом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2409840" cy="1517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564000" y="4508640"/>
            <a:ext cx="2084400" cy="1536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227640" y="4508640"/>
            <a:ext cx="2376720" cy="151128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rId4" action="ppaction://hlinksldjump"/>
          </p:cNvPr>
          <p:cNvSpPr/>
          <p:nvPr/>
        </p:nvSpPr>
        <p:spPr>
          <a:xfrm>
            <a:off x="539640" y="4508640"/>
            <a:ext cx="2519640" cy="1584360"/>
          </a:xfrm>
          <a:custGeom>
            <a:avLst/>
            <a:gdLst>
              <a:gd name="textAreaLeft" fmla="*/ 102600 w 2519640"/>
              <a:gd name="textAreaRight" fmla="*/ 2417040 w 251964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4348" h="21600">
                <a:moveTo>
                  <a:pt x="0" y="0"/>
                </a:moveTo>
                <a:lnTo>
                  <a:pt x="34348" y="0"/>
                </a:lnTo>
                <a:lnTo>
                  <a:pt x="34348" y="21600"/>
                </a:lnTo>
                <a:lnTo>
                  <a:pt x="0" y="21600"/>
                </a:lnTo>
                <a:close/>
              </a:path>
              <a:path fill="lightenLess" w="34348" h="21600">
                <a:moveTo>
                  <a:pt x="0" y="0"/>
                </a:moveTo>
                <a:lnTo>
                  <a:pt x="34348" y="0"/>
                </a:lnTo>
                <a:lnTo>
                  <a:pt x="32948" y="1400"/>
                </a:lnTo>
                <a:lnTo>
                  <a:pt x="1400" y="1400"/>
                </a:lnTo>
                <a:close/>
              </a:path>
              <a:path fill="darken" w="34348" h="21600">
                <a:moveTo>
                  <a:pt x="34348" y="0"/>
                </a:moveTo>
                <a:lnTo>
                  <a:pt x="34348" y="21600"/>
                </a:lnTo>
                <a:lnTo>
                  <a:pt x="32948" y="20200"/>
                </a:lnTo>
                <a:lnTo>
                  <a:pt x="32948" y="1400"/>
                </a:lnTo>
                <a:close/>
              </a:path>
              <a:path fill="darkenLess" w="34348" h="21600">
                <a:moveTo>
                  <a:pt x="34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48" y="20200"/>
                </a:lnTo>
                <a:close/>
              </a:path>
              <a:path fill="lighten" w="34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5" action="ppaction://hlinksldjump"/>
          </p:cNvPr>
          <p:cNvSpPr/>
          <p:nvPr/>
        </p:nvSpPr>
        <p:spPr>
          <a:xfrm>
            <a:off x="3348000" y="4508640"/>
            <a:ext cx="2519280" cy="1584360"/>
          </a:xfrm>
          <a:custGeom>
            <a:avLst/>
            <a:gdLst>
              <a:gd name="textAreaLeft" fmla="*/ 102600 w 2519280"/>
              <a:gd name="textAreaRight" fmla="*/ 2416680 w 251928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4343" h="21600">
                <a:moveTo>
                  <a:pt x="0" y="0"/>
                </a:moveTo>
                <a:lnTo>
                  <a:pt x="34343" y="0"/>
                </a:lnTo>
                <a:lnTo>
                  <a:pt x="34343" y="21600"/>
                </a:lnTo>
                <a:lnTo>
                  <a:pt x="0" y="21600"/>
                </a:lnTo>
                <a:close/>
              </a:path>
              <a:path fill="lightenLess" w="34343" h="21600">
                <a:moveTo>
                  <a:pt x="0" y="0"/>
                </a:moveTo>
                <a:lnTo>
                  <a:pt x="34343" y="0"/>
                </a:lnTo>
                <a:lnTo>
                  <a:pt x="32943" y="1400"/>
                </a:lnTo>
                <a:lnTo>
                  <a:pt x="1400" y="1400"/>
                </a:lnTo>
                <a:close/>
              </a:path>
              <a:path fill="darken" w="34343" h="21600">
                <a:moveTo>
                  <a:pt x="34343" y="0"/>
                </a:moveTo>
                <a:lnTo>
                  <a:pt x="34343" y="21600"/>
                </a:lnTo>
                <a:lnTo>
                  <a:pt x="32943" y="20200"/>
                </a:lnTo>
                <a:lnTo>
                  <a:pt x="32943" y="1400"/>
                </a:lnTo>
                <a:close/>
              </a:path>
              <a:path fill="darkenLess" w="34343" h="21600">
                <a:moveTo>
                  <a:pt x="34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43" y="20200"/>
                </a:lnTo>
                <a:close/>
              </a:path>
              <a:path fill="lighten" w="34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6" action="ppaction://hlinksldjump"/>
          </p:cNvPr>
          <p:cNvSpPr/>
          <p:nvPr/>
        </p:nvSpPr>
        <p:spPr>
          <a:xfrm>
            <a:off x="6156360" y="4508640"/>
            <a:ext cx="2519280" cy="1584360"/>
          </a:xfrm>
          <a:custGeom>
            <a:avLst/>
            <a:gdLst>
              <a:gd name="textAreaLeft" fmla="*/ 102600 w 2519280"/>
              <a:gd name="textAreaRight" fmla="*/ 2416680 w 251928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4343" h="21600">
                <a:moveTo>
                  <a:pt x="0" y="0"/>
                </a:moveTo>
                <a:lnTo>
                  <a:pt x="34343" y="0"/>
                </a:lnTo>
                <a:lnTo>
                  <a:pt x="34343" y="21600"/>
                </a:lnTo>
                <a:lnTo>
                  <a:pt x="0" y="21600"/>
                </a:lnTo>
                <a:close/>
              </a:path>
              <a:path fill="lightenLess" w="34343" h="21600">
                <a:moveTo>
                  <a:pt x="0" y="0"/>
                </a:moveTo>
                <a:lnTo>
                  <a:pt x="34343" y="0"/>
                </a:lnTo>
                <a:lnTo>
                  <a:pt x="32943" y="1400"/>
                </a:lnTo>
                <a:lnTo>
                  <a:pt x="1400" y="1400"/>
                </a:lnTo>
                <a:close/>
              </a:path>
              <a:path fill="darken" w="34343" h="21600">
                <a:moveTo>
                  <a:pt x="34343" y="0"/>
                </a:moveTo>
                <a:lnTo>
                  <a:pt x="34343" y="21600"/>
                </a:lnTo>
                <a:lnTo>
                  <a:pt x="32943" y="20200"/>
                </a:lnTo>
                <a:lnTo>
                  <a:pt x="32943" y="1400"/>
                </a:lnTo>
                <a:close/>
              </a:path>
              <a:path fill="darkenLess" w="34343" h="21600">
                <a:moveTo>
                  <a:pt x="34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43" y="20200"/>
                </a:lnTo>
                <a:close/>
              </a:path>
              <a:path fill="lighten" w="34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4581360"/>
            <a:ext cx="2376360" cy="1440000"/>
          </a:xfrm>
          <a:custGeom>
            <a:avLst/>
            <a:gdLst>
              <a:gd name="textAreaLeft" fmla="*/ 93240 w 2376360"/>
              <a:gd name="textAreaRight" fmla="*/ 2283120 w 2376360"/>
              <a:gd name="textAreaTop" fmla="*/ 93240 h 1440000"/>
              <a:gd name="textAreaBottom" fmla="*/ 1346760 h 1440000"/>
            </a:gdLst>
            <a:ahLst/>
            <a:rect l="textAreaLeft" t="textAreaTop" r="textAreaRight" b="textAreaBottom"/>
            <a:pathLst>
              <a:path w="35642" h="21600">
                <a:moveTo>
                  <a:pt x="0" y="0"/>
                </a:moveTo>
                <a:lnTo>
                  <a:pt x="35642" y="0"/>
                </a:lnTo>
                <a:lnTo>
                  <a:pt x="35642" y="21600"/>
                </a:lnTo>
                <a:lnTo>
                  <a:pt x="0" y="21600"/>
                </a:lnTo>
                <a:close/>
              </a:path>
              <a:path fill="lightenLess" w="35642" h="21600">
                <a:moveTo>
                  <a:pt x="0" y="0"/>
                </a:moveTo>
                <a:lnTo>
                  <a:pt x="35642" y="0"/>
                </a:lnTo>
                <a:lnTo>
                  <a:pt x="34242" y="1400"/>
                </a:lnTo>
                <a:lnTo>
                  <a:pt x="1400" y="1400"/>
                </a:lnTo>
                <a:close/>
              </a:path>
              <a:path fill="darken" w="35642" h="21600">
                <a:moveTo>
                  <a:pt x="35642" y="0"/>
                </a:moveTo>
                <a:lnTo>
                  <a:pt x="35642" y="21600"/>
                </a:lnTo>
                <a:lnTo>
                  <a:pt x="34242" y="20200"/>
                </a:lnTo>
                <a:lnTo>
                  <a:pt x="34242" y="1400"/>
                </a:lnTo>
                <a:close/>
              </a:path>
              <a:path fill="darkenLess" w="35642" h="21600">
                <a:moveTo>
                  <a:pt x="35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42" y="20200"/>
                </a:lnTo>
                <a:close/>
              </a:path>
              <a:path fill="lighten" w="35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581360"/>
            <a:ext cx="2376360" cy="1440000"/>
          </a:xfrm>
          <a:custGeom>
            <a:avLst/>
            <a:gdLst>
              <a:gd name="textAreaLeft" fmla="*/ 93240 w 2376360"/>
              <a:gd name="textAreaRight" fmla="*/ 2283120 w 2376360"/>
              <a:gd name="textAreaTop" fmla="*/ 93240 h 1440000"/>
              <a:gd name="textAreaBottom" fmla="*/ 1346760 h 1440000"/>
            </a:gdLst>
            <a:ahLst/>
            <a:rect l="textAreaLeft" t="textAreaTop" r="textAreaRight" b="textAreaBottom"/>
            <a:pathLst>
              <a:path w="35642" h="21600">
                <a:moveTo>
                  <a:pt x="0" y="0"/>
                </a:moveTo>
                <a:lnTo>
                  <a:pt x="35642" y="0"/>
                </a:lnTo>
                <a:lnTo>
                  <a:pt x="35642" y="21600"/>
                </a:lnTo>
                <a:lnTo>
                  <a:pt x="0" y="21600"/>
                </a:lnTo>
                <a:close/>
              </a:path>
              <a:path fill="lightenLess" w="35642" h="21600">
                <a:moveTo>
                  <a:pt x="0" y="0"/>
                </a:moveTo>
                <a:lnTo>
                  <a:pt x="35642" y="0"/>
                </a:lnTo>
                <a:lnTo>
                  <a:pt x="34242" y="1400"/>
                </a:lnTo>
                <a:lnTo>
                  <a:pt x="1400" y="1400"/>
                </a:lnTo>
                <a:close/>
              </a:path>
              <a:path fill="darken" w="35642" h="21600">
                <a:moveTo>
                  <a:pt x="35642" y="0"/>
                </a:moveTo>
                <a:lnTo>
                  <a:pt x="35642" y="21600"/>
                </a:lnTo>
                <a:lnTo>
                  <a:pt x="34242" y="20200"/>
                </a:lnTo>
                <a:lnTo>
                  <a:pt x="34242" y="1400"/>
                </a:lnTo>
                <a:close/>
              </a:path>
              <a:path fill="darkenLess" w="35642" h="21600">
                <a:moveTo>
                  <a:pt x="35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42" y="20200"/>
                </a:lnTo>
                <a:close/>
              </a:path>
              <a:path fill="lighten" w="35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27640" y="4653000"/>
            <a:ext cx="2376720" cy="1440000"/>
          </a:xfrm>
          <a:custGeom>
            <a:avLst/>
            <a:gdLst>
              <a:gd name="textAreaLeft" fmla="*/ 93240 w 2376720"/>
              <a:gd name="textAreaRight" fmla="*/ 2283480 w 2376720"/>
              <a:gd name="textAreaTop" fmla="*/ 93240 h 1440000"/>
              <a:gd name="textAreaBottom" fmla="*/ 1346760 h 1440000"/>
            </a:gdLst>
            <a:ahLst/>
            <a:rect l="textAreaLeft" t="textAreaTop" r="textAreaRight" b="textAreaBottom"/>
            <a:pathLst>
              <a:path w="35647" h="21600">
                <a:moveTo>
                  <a:pt x="0" y="0"/>
                </a:moveTo>
                <a:lnTo>
                  <a:pt x="35647" y="0"/>
                </a:lnTo>
                <a:lnTo>
                  <a:pt x="35647" y="21600"/>
                </a:lnTo>
                <a:lnTo>
                  <a:pt x="0" y="21600"/>
                </a:lnTo>
                <a:close/>
              </a:path>
              <a:path fill="lightenLess" w="35647" h="21600">
                <a:moveTo>
                  <a:pt x="0" y="0"/>
                </a:moveTo>
                <a:lnTo>
                  <a:pt x="35647" y="0"/>
                </a:lnTo>
                <a:lnTo>
                  <a:pt x="34247" y="1400"/>
                </a:lnTo>
                <a:lnTo>
                  <a:pt x="1400" y="1400"/>
                </a:lnTo>
                <a:close/>
              </a:path>
              <a:path fill="darken" w="35647" h="21600">
                <a:moveTo>
                  <a:pt x="35647" y="0"/>
                </a:moveTo>
                <a:lnTo>
                  <a:pt x="35647" y="21600"/>
                </a:lnTo>
                <a:lnTo>
                  <a:pt x="34247" y="20200"/>
                </a:lnTo>
                <a:lnTo>
                  <a:pt x="34247" y="1400"/>
                </a:lnTo>
                <a:close/>
              </a:path>
              <a:path fill="darkenLess" w="35647" h="21600">
                <a:moveTo>
                  <a:pt x="35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47" y="20200"/>
                </a:lnTo>
                <a:close/>
              </a:path>
              <a:path fill="lighten" w="35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13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трамва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5400720" cy="379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50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67" dur="50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68" dur="50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У машины — ест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У телеги — ест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У велосипеда — ест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А у поезда — не счесть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1751040" cy="1870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564000" y="4724280"/>
            <a:ext cx="1792080" cy="1873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300720" y="4797360"/>
            <a:ext cx="1847880" cy="1800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588000" y="4797360"/>
            <a:ext cx="1800360" cy="1800360"/>
          </a:xfrm>
          <a:custGeom>
            <a:avLst/>
            <a:gdLst>
              <a:gd name="textAreaLeft" fmla="*/ 116640 w 1800360"/>
              <a:gd name="textAreaRight" fmla="*/ 1683720 w 1800360"/>
              <a:gd name="textAreaTop" fmla="*/ 116640 h 1800360"/>
              <a:gd name="textAreaBottom" fmla="*/ 1683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92360" y="4724280"/>
            <a:ext cx="1800360" cy="1800360"/>
          </a:xfrm>
          <a:custGeom>
            <a:avLst/>
            <a:gdLst>
              <a:gd name="textAreaLeft" fmla="*/ 116640 w 1800360"/>
              <a:gd name="textAreaRight" fmla="*/ 1683720 w 1800360"/>
              <a:gd name="textAreaTop" fmla="*/ 116640 h 1800360"/>
              <a:gd name="textAreaBottom" fmla="*/ 1683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4797360"/>
            <a:ext cx="1800000" cy="1800360"/>
          </a:xfrm>
          <a:custGeom>
            <a:avLst/>
            <a:gdLst>
              <a:gd name="textAreaLeft" fmla="*/ 116640 w 1800000"/>
              <a:gd name="textAreaRight" fmla="*/ 1683360 w 1800000"/>
              <a:gd name="textAreaTop" fmla="*/ 116640 h 1800360"/>
              <a:gd name="textAreaBottom" fmla="*/ 1683720 h 1800360"/>
            </a:gdLst>
            <a:ahLst/>
            <a:rect l="textAreaLeft" t="textAreaTop" r="textAreaRight" b="textAreaBottom"/>
            <a:pathLst>
              <a:path w="21600" h="21604">
                <a:moveTo>
                  <a:pt x="0" y="0"/>
                </a:moveTo>
                <a:lnTo>
                  <a:pt x="21600" y="0"/>
                </a:lnTo>
                <a:lnTo>
                  <a:pt x="21600" y="21604"/>
                </a:lnTo>
                <a:lnTo>
                  <a:pt x="0" y="21604"/>
                </a:lnTo>
                <a:close/>
              </a:path>
              <a:path fill="lightenLess" w="21600" h="216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4">
                <a:moveTo>
                  <a:pt x="21600" y="0"/>
                </a:moveTo>
                <a:lnTo>
                  <a:pt x="21600" y="21604"/>
                </a:lnTo>
                <a:lnTo>
                  <a:pt x="20200" y="20204"/>
                </a:lnTo>
                <a:lnTo>
                  <a:pt x="20200" y="1400"/>
                </a:lnTo>
                <a:close/>
              </a:path>
              <a:path fill="darkenLess" w="21600" h="21604">
                <a:moveTo>
                  <a:pt x="21600" y="21604"/>
                </a:moveTo>
                <a:lnTo>
                  <a:pt x="0" y="21604"/>
                </a:lnTo>
                <a:lnTo>
                  <a:pt x="1400" y="20204"/>
                </a:lnTo>
                <a:lnTo>
                  <a:pt x="20200" y="20204"/>
                </a:lnTo>
                <a:close/>
              </a:path>
              <a:path fill="lighten" w="21600" h="21604">
                <a:moveTo>
                  <a:pt x="0" y="216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трамва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5400720" cy="379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5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79" dur="5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80" dur="5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5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619280" y="1844640"/>
            <a:ext cx="6389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Через реку во всю ши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Лег огромный богатыр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Он лежит — не дрожи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По нему трамвай беж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26520" y="623736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640" y="4653000"/>
            <a:ext cx="2808360" cy="1388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156360" y="4653000"/>
            <a:ext cx="2665440" cy="1368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564000" y="4653000"/>
            <a:ext cx="2303280" cy="13921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734520" y="616572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х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7440" y="623736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х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4724280"/>
            <a:ext cx="2665440" cy="1297080"/>
          </a:xfrm>
          <a:custGeom>
            <a:avLst/>
            <a:gdLst>
              <a:gd name="textAreaLeft" fmla="*/ 83880 w 2665440"/>
              <a:gd name="textAreaRight" fmla="*/ 2581560 w 266544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44381" h="21600">
                <a:moveTo>
                  <a:pt x="0" y="0"/>
                </a:moveTo>
                <a:lnTo>
                  <a:pt x="44381" y="0"/>
                </a:lnTo>
                <a:lnTo>
                  <a:pt x="44381" y="21600"/>
                </a:lnTo>
                <a:lnTo>
                  <a:pt x="0" y="21600"/>
                </a:lnTo>
                <a:close/>
              </a:path>
              <a:path fill="lightenLess" w="44381" h="21600">
                <a:moveTo>
                  <a:pt x="0" y="0"/>
                </a:moveTo>
                <a:lnTo>
                  <a:pt x="44381" y="0"/>
                </a:lnTo>
                <a:lnTo>
                  <a:pt x="42981" y="1400"/>
                </a:lnTo>
                <a:lnTo>
                  <a:pt x="1400" y="1400"/>
                </a:lnTo>
                <a:close/>
              </a:path>
              <a:path fill="darken" w="44381" h="21600">
                <a:moveTo>
                  <a:pt x="44381" y="0"/>
                </a:moveTo>
                <a:lnTo>
                  <a:pt x="44381" y="21600"/>
                </a:lnTo>
                <a:lnTo>
                  <a:pt x="42981" y="20200"/>
                </a:lnTo>
                <a:lnTo>
                  <a:pt x="42981" y="1400"/>
                </a:lnTo>
                <a:close/>
              </a:path>
              <a:path fill="darkenLess" w="44381" h="21600">
                <a:moveTo>
                  <a:pt x="44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81" y="20200"/>
                </a:lnTo>
                <a:close/>
              </a:path>
              <a:path fill="lighten" w="44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3492360" y="4724280"/>
            <a:ext cx="2376720" cy="1297080"/>
          </a:xfrm>
          <a:custGeom>
            <a:avLst/>
            <a:gdLst>
              <a:gd name="textAreaLeft" fmla="*/ 83880 w 2376720"/>
              <a:gd name="textAreaRight" fmla="*/ 2292840 w 237672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39574" h="21600">
                <a:moveTo>
                  <a:pt x="0" y="0"/>
                </a:moveTo>
                <a:lnTo>
                  <a:pt x="39574" y="0"/>
                </a:lnTo>
                <a:lnTo>
                  <a:pt x="39574" y="21600"/>
                </a:lnTo>
                <a:lnTo>
                  <a:pt x="0" y="21600"/>
                </a:lnTo>
                <a:close/>
              </a:path>
              <a:path fill="lightenLess" w="39574" h="21600">
                <a:moveTo>
                  <a:pt x="0" y="0"/>
                </a:moveTo>
                <a:lnTo>
                  <a:pt x="39574" y="0"/>
                </a:lnTo>
                <a:lnTo>
                  <a:pt x="38174" y="1400"/>
                </a:lnTo>
                <a:lnTo>
                  <a:pt x="1400" y="1400"/>
                </a:lnTo>
                <a:close/>
              </a:path>
              <a:path fill="darken" w="39574" h="21600">
                <a:moveTo>
                  <a:pt x="39574" y="0"/>
                </a:moveTo>
                <a:lnTo>
                  <a:pt x="39574" y="21600"/>
                </a:lnTo>
                <a:lnTo>
                  <a:pt x="38174" y="20200"/>
                </a:lnTo>
                <a:lnTo>
                  <a:pt x="38174" y="1400"/>
                </a:lnTo>
                <a:close/>
              </a:path>
              <a:path fill="darkenLess" w="39574" h="21600">
                <a:moveTo>
                  <a:pt x="39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4" y="20200"/>
                </a:lnTo>
                <a:close/>
              </a:path>
              <a:path fill="lighten" w="39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27640" y="4724280"/>
            <a:ext cx="2592360" cy="1297080"/>
          </a:xfrm>
          <a:custGeom>
            <a:avLst/>
            <a:gdLst>
              <a:gd name="textAreaLeft" fmla="*/ 83880 w 2592360"/>
              <a:gd name="textAreaRight" fmla="*/ 2508480 w 259236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мос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5472000" cy="330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50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91" dur="50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92" dur="50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Где бы нам через дорог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К магазину перей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Вот за этими ларькам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Там, где стрелка у воро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Мы на стрелке этой с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Прочитали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5445000"/>
            <a:ext cx="2232000" cy="863640"/>
          </a:xfrm>
          <a:prstGeom prst="rightArrow">
            <a:avLst>
              <a:gd name="adj1" fmla="val 50000"/>
              <a:gd name="adj2" fmla="val 646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шех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59280" y="5445000"/>
            <a:ext cx="2232000" cy="863640"/>
          </a:xfrm>
          <a:prstGeom prst="rightArrow">
            <a:avLst>
              <a:gd name="adj1" fmla="val 50000"/>
              <a:gd name="adj2" fmla="val 646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х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5445000"/>
            <a:ext cx="2232000" cy="863640"/>
          </a:xfrm>
          <a:prstGeom prst="rightArrow">
            <a:avLst>
              <a:gd name="adj1" fmla="val 50000"/>
              <a:gd name="adj2" fmla="val 646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рох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516640"/>
            <a:ext cx="2665440" cy="720720"/>
          </a:xfrm>
          <a:custGeom>
            <a:avLst/>
            <a:gdLst>
              <a:gd name="textAreaLeft" fmla="*/ 46440 w 2665440"/>
              <a:gd name="textAreaRight" fmla="*/ 2619000 w 2665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9854" h="21600">
                <a:moveTo>
                  <a:pt x="0" y="0"/>
                </a:moveTo>
                <a:lnTo>
                  <a:pt x="79854" y="0"/>
                </a:lnTo>
                <a:lnTo>
                  <a:pt x="79854" y="21600"/>
                </a:lnTo>
                <a:lnTo>
                  <a:pt x="0" y="21600"/>
                </a:lnTo>
                <a:close/>
              </a:path>
              <a:path fill="lightenLess" w="79854" h="21600">
                <a:moveTo>
                  <a:pt x="0" y="0"/>
                </a:moveTo>
                <a:lnTo>
                  <a:pt x="79854" y="0"/>
                </a:lnTo>
                <a:lnTo>
                  <a:pt x="78454" y="1400"/>
                </a:lnTo>
                <a:lnTo>
                  <a:pt x="1400" y="1400"/>
                </a:lnTo>
                <a:close/>
              </a:path>
              <a:path fill="darken" w="79854" h="21600">
                <a:moveTo>
                  <a:pt x="79854" y="0"/>
                </a:moveTo>
                <a:lnTo>
                  <a:pt x="79854" y="21600"/>
                </a:lnTo>
                <a:lnTo>
                  <a:pt x="78454" y="20200"/>
                </a:lnTo>
                <a:lnTo>
                  <a:pt x="78454" y="1400"/>
                </a:lnTo>
                <a:close/>
              </a:path>
              <a:path fill="darkenLess" w="79854" h="21600">
                <a:moveTo>
                  <a:pt x="79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454" y="20200"/>
                </a:lnTo>
                <a:close/>
              </a:path>
              <a:path fill="lighten" w="79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16360" y="5516640"/>
            <a:ext cx="2665440" cy="720720"/>
          </a:xfrm>
          <a:custGeom>
            <a:avLst/>
            <a:gdLst>
              <a:gd name="textAreaLeft" fmla="*/ 46440 w 2665440"/>
              <a:gd name="textAreaRight" fmla="*/ 2619000 w 2665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9854" h="21600">
                <a:moveTo>
                  <a:pt x="0" y="0"/>
                </a:moveTo>
                <a:lnTo>
                  <a:pt x="79854" y="0"/>
                </a:lnTo>
                <a:lnTo>
                  <a:pt x="79854" y="21600"/>
                </a:lnTo>
                <a:lnTo>
                  <a:pt x="0" y="21600"/>
                </a:lnTo>
                <a:close/>
              </a:path>
              <a:path fill="lightenLess" w="79854" h="21600">
                <a:moveTo>
                  <a:pt x="0" y="0"/>
                </a:moveTo>
                <a:lnTo>
                  <a:pt x="79854" y="0"/>
                </a:lnTo>
                <a:lnTo>
                  <a:pt x="78454" y="1400"/>
                </a:lnTo>
                <a:lnTo>
                  <a:pt x="1400" y="1400"/>
                </a:lnTo>
                <a:close/>
              </a:path>
              <a:path fill="darken" w="79854" h="21600">
                <a:moveTo>
                  <a:pt x="79854" y="0"/>
                </a:moveTo>
                <a:lnTo>
                  <a:pt x="79854" y="21600"/>
                </a:lnTo>
                <a:lnTo>
                  <a:pt x="78454" y="20200"/>
                </a:lnTo>
                <a:lnTo>
                  <a:pt x="78454" y="1400"/>
                </a:lnTo>
                <a:close/>
              </a:path>
              <a:path fill="darkenLess" w="79854" h="21600">
                <a:moveTo>
                  <a:pt x="79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454" y="20200"/>
                </a:lnTo>
                <a:close/>
              </a:path>
              <a:path fill="lighten" w="79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5516640"/>
            <a:ext cx="2376360" cy="720720"/>
          </a:xfrm>
          <a:custGeom>
            <a:avLst/>
            <a:gdLst>
              <a:gd name="textAreaLeft" fmla="*/ 46440 w 2376360"/>
              <a:gd name="textAreaRight" fmla="*/ 2329920 w 2376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1195" h="21600">
                <a:moveTo>
                  <a:pt x="0" y="0"/>
                </a:moveTo>
                <a:lnTo>
                  <a:pt x="71195" y="0"/>
                </a:lnTo>
                <a:lnTo>
                  <a:pt x="71195" y="21600"/>
                </a:lnTo>
                <a:lnTo>
                  <a:pt x="0" y="21600"/>
                </a:lnTo>
                <a:close/>
              </a:path>
              <a:path fill="lightenLess" w="71195" h="21600">
                <a:moveTo>
                  <a:pt x="0" y="0"/>
                </a:moveTo>
                <a:lnTo>
                  <a:pt x="71195" y="0"/>
                </a:lnTo>
                <a:lnTo>
                  <a:pt x="69795" y="1400"/>
                </a:lnTo>
                <a:lnTo>
                  <a:pt x="1400" y="1400"/>
                </a:lnTo>
                <a:close/>
              </a:path>
              <a:path fill="darken" w="71195" h="21600">
                <a:moveTo>
                  <a:pt x="71195" y="0"/>
                </a:moveTo>
                <a:lnTo>
                  <a:pt x="71195" y="21600"/>
                </a:lnTo>
                <a:lnTo>
                  <a:pt x="69795" y="20200"/>
                </a:lnTo>
                <a:lnTo>
                  <a:pt x="69795" y="1400"/>
                </a:lnTo>
                <a:close/>
              </a:path>
              <a:path fill="darkenLess" w="71195" h="21600">
                <a:moveTo>
                  <a:pt x="71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95" y="20200"/>
                </a:lnTo>
                <a:close/>
              </a:path>
              <a:path fill="lighten" w="71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7640" y="5516640"/>
            <a:ext cx="2376360" cy="720720"/>
          </a:xfrm>
          <a:custGeom>
            <a:avLst/>
            <a:gdLst>
              <a:gd name="textAreaLeft" fmla="*/ 46440 w 2376360"/>
              <a:gd name="textAreaRight" fmla="*/ 2329920 w 2376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1195" h="21600">
                <a:moveTo>
                  <a:pt x="0" y="0"/>
                </a:moveTo>
                <a:lnTo>
                  <a:pt x="71195" y="0"/>
                </a:lnTo>
                <a:lnTo>
                  <a:pt x="71195" y="21600"/>
                </a:lnTo>
                <a:lnTo>
                  <a:pt x="0" y="21600"/>
                </a:lnTo>
                <a:close/>
              </a:path>
              <a:path fill="lightenLess" w="71195" h="21600">
                <a:moveTo>
                  <a:pt x="0" y="0"/>
                </a:moveTo>
                <a:lnTo>
                  <a:pt x="71195" y="0"/>
                </a:lnTo>
                <a:lnTo>
                  <a:pt x="69795" y="1400"/>
                </a:lnTo>
                <a:lnTo>
                  <a:pt x="1400" y="1400"/>
                </a:lnTo>
                <a:close/>
              </a:path>
              <a:path fill="darken" w="71195" h="21600">
                <a:moveTo>
                  <a:pt x="71195" y="0"/>
                </a:moveTo>
                <a:lnTo>
                  <a:pt x="71195" y="21600"/>
                </a:lnTo>
                <a:lnTo>
                  <a:pt x="69795" y="20200"/>
                </a:lnTo>
                <a:lnTo>
                  <a:pt x="69795" y="1400"/>
                </a:lnTo>
                <a:close/>
              </a:path>
              <a:path fill="darkenLess" w="71195" h="21600">
                <a:moveTo>
                  <a:pt x="71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95" y="20200"/>
                </a:lnTo>
                <a:close/>
              </a:path>
              <a:path fill="lighten" w="71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0360" y="5445000"/>
            <a:ext cx="2376720" cy="720720"/>
          </a:xfrm>
          <a:custGeom>
            <a:avLst/>
            <a:gdLst>
              <a:gd name="textAreaLeft" fmla="*/ 46440 w 2376720"/>
              <a:gd name="textAreaRight" fmla="*/ 2330280 w 2376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1206" h="21600">
                <a:moveTo>
                  <a:pt x="0" y="0"/>
                </a:moveTo>
                <a:lnTo>
                  <a:pt x="71206" y="0"/>
                </a:lnTo>
                <a:lnTo>
                  <a:pt x="71206" y="21600"/>
                </a:lnTo>
                <a:lnTo>
                  <a:pt x="0" y="21600"/>
                </a:lnTo>
                <a:close/>
              </a:path>
              <a:path fill="lightenLess" w="71206" h="21600">
                <a:moveTo>
                  <a:pt x="0" y="0"/>
                </a:moveTo>
                <a:lnTo>
                  <a:pt x="71206" y="0"/>
                </a:lnTo>
                <a:lnTo>
                  <a:pt x="69806" y="1400"/>
                </a:lnTo>
                <a:lnTo>
                  <a:pt x="1400" y="1400"/>
                </a:lnTo>
                <a:close/>
              </a:path>
              <a:path fill="darken" w="71206" h="21600">
                <a:moveTo>
                  <a:pt x="71206" y="0"/>
                </a:moveTo>
                <a:lnTo>
                  <a:pt x="71206" y="21600"/>
                </a:lnTo>
                <a:lnTo>
                  <a:pt x="69806" y="20200"/>
                </a:lnTo>
                <a:lnTo>
                  <a:pt x="69806" y="1400"/>
                </a:lnTo>
                <a:close/>
              </a:path>
              <a:path fill="darkenLess" w="71206" h="21600">
                <a:moveTo>
                  <a:pt x="712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806" y="20200"/>
                </a:lnTo>
                <a:close/>
              </a:path>
              <a:path fill="lighten" w="712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переход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11280" y="2205000"/>
            <a:ext cx="4535280" cy="353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50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103" dur="50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104" dur="50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00000" y="1484280"/>
            <a:ext cx="7128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Удивительный вагон!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Посудите сами: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Рельсы в воздухе, а он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Держит их руками..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4508640"/>
            <a:ext cx="2409840" cy="151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564000" y="4508640"/>
            <a:ext cx="2084400" cy="1536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300720" y="4508640"/>
            <a:ext cx="2376720" cy="151128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324000" y="4508640"/>
            <a:ext cx="2519280" cy="1584360"/>
          </a:xfrm>
          <a:custGeom>
            <a:avLst/>
            <a:gdLst>
              <a:gd name="textAreaLeft" fmla="*/ 102600 w 2519280"/>
              <a:gd name="textAreaRight" fmla="*/ 2416680 w 251928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4343" h="21600">
                <a:moveTo>
                  <a:pt x="0" y="0"/>
                </a:moveTo>
                <a:lnTo>
                  <a:pt x="34343" y="0"/>
                </a:lnTo>
                <a:lnTo>
                  <a:pt x="34343" y="21600"/>
                </a:lnTo>
                <a:lnTo>
                  <a:pt x="0" y="21600"/>
                </a:lnTo>
                <a:close/>
              </a:path>
              <a:path fill="lightenLess" w="34343" h="21600">
                <a:moveTo>
                  <a:pt x="0" y="0"/>
                </a:moveTo>
                <a:lnTo>
                  <a:pt x="34343" y="0"/>
                </a:lnTo>
                <a:lnTo>
                  <a:pt x="32943" y="1400"/>
                </a:lnTo>
                <a:lnTo>
                  <a:pt x="1400" y="1400"/>
                </a:lnTo>
                <a:close/>
              </a:path>
              <a:path fill="darken" w="34343" h="21600">
                <a:moveTo>
                  <a:pt x="34343" y="0"/>
                </a:moveTo>
                <a:lnTo>
                  <a:pt x="34343" y="21600"/>
                </a:lnTo>
                <a:lnTo>
                  <a:pt x="32943" y="20200"/>
                </a:lnTo>
                <a:lnTo>
                  <a:pt x="32943" y="1400"/>
                </a:lnTo>
                <a:close/>
              </a:path>
              <a:path fill="darkenLess" w="34343" h="21600">
                <a:moveTo>
                  <a:pt x="34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43" y="20200"/>
                </a:lnTo>
                <a:close/>
              </a:path>
              <a:path fill="lighten" w="34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5" action="ppaction://hlinksldjump"/>
          </p:cNvPr>
          <p:cNvSpPr/>
          <p:nvPr/>
        </p:nvSpPr>
        <p:spPr>
          <a:xfrm>
            <a:off x="3348000" y="4508640"/>
            <a:ext cx="2519280" cy="1584360"/>
          </a:xfrm>
          <a:custGeom>
            <a:avLst/>
            <a:gdLst>
              <a:gd name="textAreaLeft" fmla="*/ 102600 w 2519280"/>
              <a:gd name="textAreaRight" fmla="*/ 2416680 w 251928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4343" h="21600">
                <a:moveTo>
                  <a:pt x="0" y="0"/>
                </a:moveTo>
                <a:lnTo>
                  <a:pt x="34343" y="0"/>
                </a:lnTo>
                <a:lnTo>
                  <a:pt x="34343" y="21600"/>
                </a:lnTo>
                <a:lnTo>
                  <a:pt x="0" y="21600"/>
                </a:lnTo>
                <a:close/>
              </a:path>
              <a:path fill="lightenLess" w="34343" h="21600">
                <a:moveTo>
                  <a:pt x="0" y="0"/>
                </a:moveTo>
                <a:lnTo>
                  <a:pt x="34343" y="0"/>
                </a:lnTo>
                <a:lnTo>
                  <a:pt x="32943" y="1400"/>
                </a:lnTo>
                <a:lnTo>
                  <a:pt x="1400" y="1400"/>
                </a:lnTo>
                <a:close/>
              </a:path>
              <a:path fill="darken" w="34343" h="21600">
                <a:moveTo>
                  <a:pt x="34343" y="0"/>
                </a:moveTo>
                <a:lnTo>
                  <a:pt x="34343" y="21600"/>
                </a:lnTo>
                <a:lnTo>
                  <a:pt x="32943" y="20200"/>
                </a:lnTo>
                <a:lnTo>
                  <a:pt x="32943" y="1400"/>
                </a:lnTo>
                <a:close/>
              </a:path>
              <a:path fill="darkenLess" w="34343" h="21600">
                <a:moveTo>
                  <a:pt x="34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43" y="20200"/>
                </a:lnTo>
                <a:close/>
              </a:path>
              <a:path fill="lighten" w="34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6" action="ppaction://hlinksldjump"/>
          </p:cNvPr>
          <p:cNvSpPr/>
          <p:nvPr/>
        </p:nvSpPr>
        <p:spPr>
          <a:xfrm>
            <a:off x="6156360" y="4508640"/>
            <a:ext cx="2519280" cy="1584360"/>
          </a:xfrm>
          <a:custGeom>
            <a:avLst/>
            <a:gdLst>
              <a:gd name="textAreaLeft" fmla="*/ 102600 w 2519280"/>
              <a:gd name="textAreaRight" fmla="*/ 2416680 w 251928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4343" h="21600">
                <a:moveTo>
                  <a:pt x="0" y="0"/>
                </a:moveTo>
                <a:lnTo>
                  <a:pt x="34343" y="0"/>
                </a:lnTo>
                <a:lnTo>
                  <a:pt x="34343" y="21600"/>
                </a:lnTo>
                <a:lnTo>
                  <a:pt x="0" y="21600"/>
                </a:lnTo>
                <a:close/>
              </a:path>
              <a:path fill="lightenLess" w="34343" h="21600">
                <a:moveTo>
                  <a:pt x="0" y="0"/>
                </a:moveTo>
                <a:lnTo>
                  <a:pt x="34343" y="0"/>
                </a:lnTo>
                <a:lnTo>
                  <a:pt x="32943" y="1400"/>
                </a:lnTo>
                <a:lnTo>
                  <a:pt x="1400" y="1400"/>
                </a:lnTo>
                <a:close/>
              </a:path>
              <a:path fill="darken" w="34343" h="21600">
                <a:moveTo>
                  <a:pt x="34343" y="0"/>
                </a:moveTo>
                <a:lnTo>
                  <a:pt x="34343" y="21600"/>
                </a:lnTo>
                <a:lnTo>
                  <a:pt x="32943" y="20200"/>
                </a:lnTo>
                <a:lnTo>
                  <a:pt x="32943" y="1400"/>
                </a:lnTo>
                <a:close/>
              </a:path>
              <a:path fill="darkenLess" w="34343" h="21600">
                <a:moveTo>
                  <a:pt x="34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43" y="20200"/>
                </a:lnTo>
                <a:close/>
              </a:path>
              <a:path fill="lighten" w="34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332000" y="1125360"/>
            <a:ext cx="6985080" cy="21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1692360" y="3284640"/>
            <a:ext cx="5761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троллейбус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68360" y="1749600"/>
            <a:ext cx="5183280" cy="440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1413000"/>
            <a:ext cx="828036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В два ряда дома стоя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Десять, двадцать, сто подря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И квадратными глаз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Друг на друга глядят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2789280" cy="2171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84720" y="4221000"/>
            <a:ext cx="2811600" cy="2103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203640" y="4149720"/>
            <a:ext cx="2665440" cy="2122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2160" y="609300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25440" y="609300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04360" y="609300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Р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4" action="ppaction://hlinksldjump"/>
          </p:cNvPr>
          <p:cNvSpPr/>
          <p:nvPr/>
        </p:nvSpPr>
        <p:spPr>
          <a:xfrm>
            <a:off x="250920" y="4149720"/>
            <a:ext cx="2808360" cy="2232000"/>
          </a:xfrm>
          <a:custGeom>
            <a:avLst/>
            <a:gdLst>
              <a:gd name="textAreaLeft" fmla="*/ 144360 w 2808360"/>
              <a:gd name="textAreaRight" fmla="*/ 2664000 w 2808360"/>
              <a:gd name="textAreaTop" fmla="*/ 144360 h 2232000"/>
              <a:gd name="textAreaBottom" fmla="*/ 2087640 h 2232000"/>
            </a:gdLst>
            <a:ahLst/>
            <a:rect l="textAreaLeft" t="textAreaTop" r="textAreaRight" b="textAreaBottom"/>
            <a:pathLst>
              <a:path w="27177" h="21600">
                <a:moveTo>
                  <a:pt x="0" y="0"/>
                </a:moveTo>
                <a:lnTo>
                  <a:pt x="27177" y="0"/>
                </a:lnTo>
                <a:lnTo>
                  <a:pt x="27177" y="21600"/>
                </a:lnTo>
                <a:lnTo>
                  <a:pt x="0" y="21600"/>
                </a:lnTo>
                <a:close/>
              </a:path>
              <a:path fill="lightenLess" w="27177" h="21600">
                <a:moveTo>
                  <a:pt x="0" y="0"/>
                </a:moveTo>
                <a:lnTo>
                  <a:pt x="27177" y="0"/>
                </a:lnTo>
                <a:lnTo>
                  <a:pt x="25777" y="1400"/>
                </a:lnTo>
                <a:lnTo>
                  <a:pt x="1400" y="1400"/>
                </a:lnTo>
                <a:close/>
              </a:path>
              <a:path fill="darken" w="27177" h="21600">
                <a:moveTo>
                  <a:pt x="27177" y="0"/>
                </a:moveTo>
                <a:lnTo>
                  <a:pt x="27177" y="21600"/>
                </a:lnTo>
                <a:lnTo>
                  <a:pt x="25777" y="20200"/>
                </a:lnTo>
                <a:lnTo>
                  <a:pt x="25777" y="1400"/>
                </a:lnTo>
                <a:close/>
              </a:path>
              <a:path fill="darkenLess" w="27177" h="21600">
                <a:moveTo>
                  <a:pt x="271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77" y="20200"/>
                </a:lnTo>
                <a:close/>
              </a:path>
              <a:path fill="lighten" w="271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5" action="ppaction://hlinksldjump"/>
          </p:cNvPr>
          <p:cNvSpPr/>
          <p:nvPr/>
        </p:nvSpPr>
        <p:spPr>
          <a:xfrm>
            <a:off x="3059280" y="4149720"/>
            <a:ext cx="2808000" cy="2232000"/>
          </a:xfrm>
          <a:custGeom>
            <a:avLst/>
            <a:gdLst>
              <a:gd name="textAreaLeft" fmla="*/ 144360 w 2808000"/>
              <a:gd name="textAreaRight" fmla="*/ 2663640 w 2808000"/>
              <a:gd name="textAreaTop" fmla="*/ 144360 h 2232000"/>
              <a:gd name="textAreaBottom" fmla="*/ 2087640 h 2232000"/>
            </a:gdLst>
            <a:ahLst/>
            <a:rect l="textAreaLeft" t="textAreaTop" r="textAreaRight" b="textAreaBottom"/>
            <a:pathLst>
              <a:path w="27173" h="21600">
                <a:moveTo>
                  <a:pt x="0" y="0"/>
                </a:moveTo>
                <a:lnTo>
                  <a:pt x="27173" y="0"/>
                </a:lnTo>
                <a:lnTo>
                  <a:pt x="27173" y="21600"/>
                </a:lnTo>
                <a:lnTo>
                  <a:pt x="0" y="21600"/>
                </a:lnTo>
                <a:close/>
              </a:path>
              <a:path fill="lightenLess" w="27173" h="21600">
                <a:moveTo>
                  <a:pt x="0" y="0"/>
                </a:moveTo>
                <a:lnTo>
                  <a:pt x="27173" y="0"/>
                </a:lnTo>
                <a:lnTo>
                  <a:pt x="25773" y="1400"/>
                </a:lnTo>
                <a:lnTo>
                  <a:pt x="1400" y="1400"/>
                </a:lnTo>
                <a:close/>
              </a:path>
              <a:path fill="darken" w="27173" h="21600">
                <a:moveTo>
                  <a:pt x="27173" y="0"/>
                </a:moveTo>
                <a:lnTo>
                  <a:pt x="27173" y="21600"/>
                </a:lnTo>
                <a:lnTo>
                  <a:pt x="25773" y="20200"/>
                </a:lnTo>
                <a:lnTo>
                  <a:pt x="25773" y="1400"/>
                </a:lnTo>
                <a:close/>
              </a:path>
              <a:path fill="darkenLess" w="27173" h="21600">
                <a:moveTo>
                  <a:pt x="27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73" y="20200"/>
                </a:lnTo>
                <a:close/>
              </a:path>
              <a:path fill="lighten" w="27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6" action="ppaction://hlinksldjump"/>
          </p:cNvPr>
          <p:cNvSpPr/>
          <p:nvPr/>
        </p:nvSpPr>
        <p:spPr>
          <a:xfrm>
            <a:off x="6084720" y="4149720"/>
            <a:ext cx="2808360" cy="2232000"/>
          </a:xfrm>
          <a:custGeom>
            <a:avLst/>
            <a:gdLst>
              <a:gd name="textAreaLeft" fmla="*/ 144360 w 2808360"/>
              <a:gd name="textAreaRight" fmla="*/ 2664000 w 2808360"/>
              <a:gd name="textAreaTop" fmla="*/ 144360 h 2232000"/>
              <a:gd name="textAreaBottom" fmla="*/ 2087640 h 2232000"/>
            </a:gdLst>
            <a:ahLst/>
            <a:rect l="textAreaLeft" t="textAreaTop" r="textAreaRight" b="textAreaBottom"/>
            <a:pathLst>
              <a:path w="27177" h="21600">
                <a:moveTo>
                  <a:pt x="0" y="0"/>
                </a:moveTo>
                <a:lnTo>
                  <a:pt x="27177" y="0"/>
                </a:lnTo>
                <a:lnTo>
                  <a:pt x="27177" y="21600"/>
                </a:lnTo>
                <a:lnTo>
                  <a:pt x="0" y="21600"/>
                </a:lnTo>
                <a:close/>
              </a:path>
              <a:path fill="lightenLess" w="27177" h="21600">
                <a:moveTo>
                  <a:pt x="0" y="0"/>
                </a:moveTo>
                <a:lnTo>
                  <a:pt x="27177" y="0"/>
                </a:lnTo>
                <a:lnTo>
                  <a:pt x="25777" y="1400"/>
                </a:lnTo>
                <a:lnTo>
                  <a:pt x="1400" y="1400"/>
                </a:lnTo>
                <a:close/>
              </a:path>
              <a:path fill="darken" w="27177" h="21600">
                <a:moveTo>
                  <a:pt x="27177" y="0"/>
                </a:moveTo>
                <a:lnTo>
                  <a:pt x="27177" y="21600"/>
                </a:lnTo>
                <a:lnTo>
                  <a:pt x="25777" y="20200"/>
                </a:lnTo>
                <a:lnTo>
                  <a:pt x="25777" y="1400"/>
                </a:lnTo>
                <a:close/>
              </a:path>
              <a:path fill="darkenLess" w="27177" h="21600">
                <a:moveTo>
                  <a:pt x="271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77" y="20200"/>
                </a:lnTo>
                <a:close/>
              </a:path>
              <a:path fill="lighten" w="271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улиц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11280" y="2421000"/>
            <a:ext cx="521964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20" dur="5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71280" y="1628640"/>
            <a:ext cx="771516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Два колесика подря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Их ногами вертят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А поверх торчк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Сам хозяин крючк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43640" y="4869000"/>
            <a:ext cx="2363760" cy="1627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4869000"/>
            <a:ext cx="2665440" cy="1631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419640" y="4869000"/>
            <a:ext cx="2376360" cy="157608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4" action="ppaction://hlinksldjump"/>
          </p:cNvPr>
          <p:cNvSpPr/>
          <p:nvPr/>
        </p:nvSpPr>
        <p:spPr>
          <a:xfrm>
            <a:off x="324000" y="4869000"/>
            <a:ext cx="2663640" cy="1655640"/>
          </a:xfrm>
          <a:custGeom>
            <a:avLst/>
            <a:gdLst>
              <a:gd name="textAreaLeft" fmla="*/ 107280 w 2663640"/>
              <a:gd name="textAreaRight" fmla="*/ 2556360 w 266364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34748" h="21600">
                <a:moveTo>
                  <a:pt x="0" y="0"/>
                </a:moveTo>
                <a:lnTo>
                  <a:pt x="34748" y="0"/>
                </a:lnTo>
                <a:lnTo>
                  <a:pt x="34748" y="21600"/>
                </a:lnTo>
                <a:lnTo>
                  <a:pt x="0" y="21600"/>
                </a:lnTo>
                <a:close/>
              </a:path>
              <a:path fill="lightenLess" w="34748" h="21600">
                <a:moveTo>
                  <a:pt x="0" y="0"/>
                </a:moveTo>
                <a:lnTo>
                  <a:pt x="34748" y="0"/>
                </a:lnTo>
                <a:lnTo>
                  <a:pt x="33348" y="1400"/>
                </a:lnTo>
                <a:lnTo>
                  <a:pt x="1400" y="1400"/>
                </a:lnTo>
                <a:close/>
              </a:path>
              <a:path fill="darken" w="34748" h="21600">
                <a:moveTo>
                  <a:pt x="34748" y="0"/>
                </a:moveTo>
                <a:lnTo>
                  <a:pt x="34748" y="21600"/>
                </a:lnTo>
                <a:lnTo>
                  <a:pt x="33348" y="20200"/>
                </a:lnTo>
                <a:lnTo>
                  <a:pt x="33348" y="1400"/>
                </a:lnTo>
                <a:close/>
              </a:path>
              <a:path fill="darkenLess" w="34748" h="21600">
                <a:moveTo>
                  <a:pt x="34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48" y="20200"/>
                </a:lnTo>
                <a:close/>
              </a:path>
              <a:path fill="lighten" w="34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5" action="ppaction://hlinksldjump"/>
          </p:cNvPr>
          <p:cNvSpPr/>
          <p:nvPr/>
        </p:nvSpPr>
        <p:spPr>
          <a:xfrm>
            <a:off x="3276720" y="4869000"/>
            <a:ext cx="2663640" cy="1655640"/>
          </a:xfrm>
          <a:custGeom>
            <a:avLst/>
            <a:gdLst>
              <a:gd name="textAreaLeft" fmla="*/ 107280 w 2663640"/>
              <a:gd name="textAreaRight" fmla="*/ 2556360 w 266364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34748" h="21600">
                <a:moveTo>
                  <a:pt x="0" y="0"/>
                </a:moveTo>
                <a:lnTo>
                  <a:pt x="34748" y="0"/>
                </a:lnTo>
                <a:lnTo>
                  <a:pt x="34748" y="21600"/>
                </a:lnTo>
                <a:lnTo>
                  <a:pt x="0" y="21600"/>
                </a:lnTo>
                <a:close/>
              </a:path>
              <a:path fill="lightenLess" w="34748" h="21600">
                <a:moveTo>
                  <a:pt x="0" y="0"/>
                </a:moveTo>
                <a:lnTo>
                  <a:pt x="34748" y="0"/>
                </a:lnTo>
                <a:lnTo>
                  <a:pt x="33348" y="1400"/>
                </a:lnTo>
                <a:lnTo>
                  <a:pt x="1400" y="1400"/>
                </a:lnTo>
                <a:close/>
              </a:path>
              <a:path fill="darken" w="34748" h="21600">
                <a:moveTo>
                  <a:pt x="34748" y="0"/>
                </a:moveTo>
                <a:lnTo>
                  <a:pt x="34748" y="21600"/>
                </a:lnTo>
                <a:lnTo>
                  <a:pt x="33348" y="20200"/>
                </a:lnTo>
                <a:lnTo>
                  <a:pt x="33348" y="1400"/>
                </a:lnTo>
                <a:close/>
              </a:path>
              <a:path fill="darkenLess" w="34748" h="21600">
                <a:moveTo>
                  <a:pt x="34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48" y="20200"/>
                </a:lnTo>
                <a:close/>
              </a:path>
              <a:path fill="lighten" w="34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6" action="ppaction://hlinksldjump"/>
          </p:cNvPr>
          <p:cNvSpPr/>
          <p:nvPr/>
        </p:nvSpPr>
        <p:spPr>
          <a:xfrm>
            <a:off x="6084720" y="4869000"/>
            <a:ext cx="2664000" cy="1655640"/>
          </a:xfrm>
          <a:custGeom>
            <a:avLst/>
            <a:gdLst>
              <a:gd name="textAreaLeft" fmla="*/ 107280 w 2664000"/>
              <a:gd name="textAreaRight" fmla="*/ 2556720 w 2664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34753" h="21600">
                <a:moveTo>
                  <a:pt x="0" y="0"/>
                </a:moveTo>
                <a:lnTo>
                  <a:pt x="34753" y="0"/>
                </a:lnTo>
                <a:lnTo>
                  <a:pt x="34753" y="21600"/>
                </a:lnTo>
                <a:lnTo>
                  <a:pt x="0" y="21600"/>
                </a:lnTo>
                <a:close/>
              </a:path>
              <a:path fill="lightenLess" w="34753" h="21600">
                <a:moveTo>
                  <a:pt x="0" y="0"/>
                </a:moveTo>
                <a:lnTo>
                  <a:pt x="34753" y="0"/>
                </a:lnTo>
                <a:lnTo>
                  <a:pt x="33353" y="1400"/>
                </a:lnTo>
                <a:lnTo>
                  <a:pt x="1400" y="1400"/>
                </a:lnTo>
                <a:close/>
              </a:path>
              <a:path fill="darken" w="34753" h="21600">
                <a:moveTo>
                  <a:pt x="34753" y="0"/>
                </a:moveTo>
                <a:lnTo>
                  <a:pt x="34753" y="21600"/>
                </a:lnTo>
                <a:lnTo>
                  <a:pt x="33353" y="20200"/>
                </a:lnTo>
                <a:lnTo>
                  <a:pt x="33353" y="1400"/>
                </a:lnTo>
                <a:close/>
              </a:path>
              <a:path fill="darkenLess" w="34753" h="21600">
                <a:moveTo>
                  <a:pt x="34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53" y="20200"/>
                </a:lnTo>
                <a:close/>
              </a:path>
              <a:path fill="lighten" w="34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9:18:37Z</dcterms:created>
  <dc:creator>FoM</dc:creator>
  <dc:description/>
  <dc:language>en-US</dc:language>
  <cp:lastModifiedBy>FoM</cp:lastModifiedBy>
  <dcterms:modified xsi:type="dcterms:W3CDTF">2008-02-14T19:48:08Z</dcterms:modified>
  <cp:revision>6</cp:revision>
  <dc:subject/>
  <dc:title>Загадки  по  ПДД</dc:title>
</cp:coreProperties>
</file>