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6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3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969-8859-4CC6-8B10-6CF0F2C4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C92-B732-4922-95BC-79EA675D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94F-0B9C-4587-82E5-2252F5D5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272-E8C9-48E7-B267-FA34BF27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437-6D1C-48DB-95FA-FD69BAC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FF8-1CF4-4695-B46E-2A38517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452-9070-466E-826C-91826138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8C1-DC47-496B-974C-B8849F9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BAE-8B04-4677-BEBE-4D2CB85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37D-E54F-4D86-8F15-F3766E1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347-A17F-4CAA-90F8-4409179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070-2DF1-47D2-8747-2FD0E50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387D-A8AF-424C-8E6F-0CF679CB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Загадки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по </a:t>
            </a:r>
            <a:br>
              <a:rPr sz="8000"/>
            </a:b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ПД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4941720"/>
            <a:ext cx="1762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велосип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2224080"/>
            <a:ext cx="4896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ысоких деревьев длинн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равиночки маленькой ни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 ней дали становятся ближ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 мир открывается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72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455840" cy="1587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3964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9600" y="623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крё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2160" y="623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116000" y="4581360"/>
            <a:ext cx="1440000" cy="165600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656000"/>
              <a:gd name="textAreaBottom" fmla="*/ 1562760 h 1656000"/>
            </a:gdLst>
            <a:ahLst/>
            <a:rect l="textAreaLeft" t="textAreaTop" r="textAreaRight" b="textAreaBottom"/>
            <a:pathLst>
              <a:path w="21600" h="24839">
                <a:moveTo>
                  <a:pt x="0" y="0"/>
                </a:moveTo>
                <a:lnTo>
                  <a:pt x="21600" y="0"/>
                </a:lnTo>
                <a:lnTo>
                  <a:pt x="21600" y="24839"/>
                </a:lnTo>
                <a:lnTo>
                  <a:pt x="0" y="24839"/>
                </a:lnTo>
                <a:close/>
              </a:path>
              <a:path fill="lightenLess" w="21600" h="24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9">
                <a:moveTo>
                  <a:pt x="21600" y="0"/>
                </a:moveTo>
                <a:lnTo>
                  <a:pt x="21600" y="24839"/>
                </a:lnTo>
                <a:lnTo>
                  <a:pt x="20200" y="23439"/>
                </a:lnTo>
                <a:lnTo>
                  <a:pt x="20200" y="1400"/>
                </a:lnTo>
                <a:close/>
              </a:path>
              <a:path fill="darkenLess" w="21600" h="24839">
                <a:moveTo>
                  <a:pt x="21600" y="24839"/>
                </a:moveTo>
                <a:lnTo>
                  <a:pt x="0" y="24839"/>
                </a:lnTo>
                <a:lnTo>
                  <a:pt x="1400" y="23439"/>
                </a:lnTo>
                <a:lnTo>
                  <a:pt x="20200" y="23439"/>
                </a:lnTo>
                <a:close/>
              </a:path>
              <a:path fill="lighten" w="21600" h="24839">
                <a:moveTo>
                  <a:pt x="0" y="24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3635280" y="4581360"/>
            <a:ext cx="1944720" cy="1656000"/>
          </a:xfrm>
          <a:custGeom>
            <a:avLst/>
            <a:gdLst>
              <a:gd name="textAreaLeft" fmla="*/ 107280 w 1944720"/>
              <a:gd name="textAreaRight" fmla="*/ 1837440 w 194472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5365" h="21600">
                <a:moveTo>
                  <a:pt x="0" y="0"/>
                </a:moveTo>
                <a:lnTo>
                  <a:pt x="25365" y="0"/>
                </a:lnTo>
                <a:lnTo>
                  <a:pt x="25365" y="21600"/>
                </a:lnTo>
                <a:lnTo>
                  <a:pt x="0" y="21600"/>
                </a:lnTo>
                <a:close/>
              </a:path>
              <a:path fill="lightenLess" w="25365" h="21600">
                <a:moveTo>
                  <a:pt x="0" y="0"/>
                </a:moveTo>
                <a:lnTo>
                  <a:pt x="25365" y="0"/>
                </a:lnTo>
                <a:lnTo>
                  <a:pt x="23965" y="1400"/>
                </a:lnTo>
                <a:lnTo>
                  <a:pt x="1400" y="1400"/>
                </a:lnTo>
                <a:close/>
              </a:path>
              <a:path fill="darken" w="25365" h="21600">
                <a:moveTo>
                  <a:pt x="25365" y="0"/>
                </a:moveTo>
                <a:lnTo>
                  <a:pt x="25365" y="21600"/>
                </a:lnTo>
                <a:lnTo>
                  <a:pt x="23965" y="20200"/>
                </a:lnTo>
                <a:lnTo>
                  <a:pt x="23965" y="1400"/>
                </a:lnTo>
                <a:close/>
              </a:path>
              <a:path fill="darkenLess" w="25365" h="21600">
                <a:moveTo>
                  <a:pt x="25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65" y="20200"/>
                </a:lnTo>
                <a:close/>
              </a:path>
              <a:path fill="lighten" w="25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6659640" y="4653000"/>
            <a:ext cx="1512720" cy="165564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655640"/>
              <a:gd name="textAreaBottom" fmla="*/ 1557720 h 165564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доро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4030560" cy="43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803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двух колесах я кач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вумя педалями вер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а руль держусь, гляжу впер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И  вижу - скор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4206960" cy="174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2920" y="6040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896000" y="479736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324000" y="472428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оворот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80376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24560" y="56563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позаранку за окошк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тук, и звон, и кутер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прямым стальным дорож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Ходят красные до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40984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539640" y="4508640"/>
            <a:ext cx="2519640" cy="1584360"/>
          </a:xfrm>
          <a:custGeom>
            <a:avLst/>
            <a:gdLst>
              <a:gd name="textAreaLeft" fmla="*/ 102600 w 2519640"/>
              <a:gd name="textAreaRight" fmla="*/ 2417040 w 25196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8" h="21600">
                <a:moveTo>
                  <a:pt x="0" y="0"/>
                </a:moveTo>
                <a:lnTo>
                  <a:pt x="34348" y="0"/>
                </a:lnTo>
                <a:lnTo>
                  <a:pt x="34348" y="21600"/>
                </a:lnTo>
                <a:lnTo>
                  <a:pt x="0" y="21600"/>
                </a:lnTo>
                <a:close/>
              </a:path>
              <a:path fill="lightenLess" w="34348" h="21600">
                <a:moveTo>
                  <a:pt x="0" y="0"/>
                </a:moveTo>
                <a:lnTo>
                  <a:pt x="34348" y="0"/>
                </a:lnTo>
                <a:lnTo>
                  <a:pt x="32948" y="1400"/>
                </a:lnTo>
                <a:lnTo>
                  <a:pt x="1400" y="1400"/>
                </a:lnTo>
                <a:close/>
              </a:path>
              <a:path fill="darken" w="34348" h="21600">
                <a:moveTo>
                  <a:pt x="34348" y="0"/>
                </a:moveTo>
                <a:lnTo>
                  <a:pt x="34348" y="21600"/>
                </a:lnTo>
                <a:lnTo>
                  <a:pt x="32948" y="20200"/>
                </a:lnTo>
                <a:lnTo>
                  <a:pt x="32948" y="1400"/>
                </a:lnTo>
                <a:close/>
              </a:path>
              <a:path fill="darkenLess" w="34348" h="21600">
                <a:moveTo>
                  <a:pt x="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8" y="20200"/>
                </a:lnTo>
                <a:close/>
              </a:path>
              <a:path fill="lighten" w="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653000"/>
            <a:ext cx="2376720" cy="1440000"/>
          </a:xfrm>
          <a:custGeom>
            <a:avLst/>
            <a:gdLst>
              <a:gd name="textAreaLeft" fmla="*/ 93240 w 2376720"/>
              <a:gd name="textAreaRight" fmla="*/ 2283480 w 237672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машины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телеги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велосипеда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А у поезда — не сче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1751040" cy="187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179208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88000" y="479736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472428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1800000" cy="180036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ерез реку во всю ши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Лег огромный богаты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н лежит — не дрож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нему трамвай беж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520" y="6237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808360" cy="1388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66544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39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4520" y="61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744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492360" y="4724280"/>
            <a:ext cx="2376720" cy="129708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9574" h="21600">
                <a:moveTo>
                  <a:pt x="0" y="0"/>
                </a:moveTo>
                <a:lnTo>
                  <a:pt x="39574" y="0"/>
                </a:lnTo>
                <a:lnTo>
                  <a:pt x="39574" y="21600"/>
                </a:lnTo>
                <a:lnTo>
                  <a:pt x="0" y="21600"/>
                </a:lnTo>
                <a:close/>
              </a:path>
              <a:path fill="lightenLess" w="39574" h="21600">
                <a:moveTo>
                  <a:pt x="0" y="0"/>
                </a:moveTo>
                <a:lnTo>
                  <a:pt x="39574" y="0"/>
                </a:lnTo>
                <a:lnTo>
                  <a:pt x="38174" y="1400"/>
                </a:lnTo>
                <a:lnTo>
                  <a:pt x="1400" y="1400"/>
                </a:lnTo>
                <a:close/>
              </a:path>
              <a:path fill="darken" w="39574" h="21600">
                <a:moveTo>
                  <a:pt x="39574" y="0"/>
                </a:moveTo>
                <a:lnTo>
                  <a:pt x="39574" y="21600"/>
                </a:lnTo>
                <a:lnTo>
                  <a:pt x="38174" y="20200"/>
                </a:lnTo>
                <a:lnTo>
                  <a:pt x="38174" y="1400"/>
                </a:lnTo>
                <a:close/>
              </a:path>
              <a:path fill="darkenLess" w="39574" h="21600">
                <a:moveTo>
                  <a:pt x="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4" y="20200"/>
                </a:lnTo>
                <a:close/>
              </a:path>
              <a:path fill="lighten" w="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4724280"/>
            <a:ext cx="2592360" cy="1297080"/>
          </a:xfrm>
          <a:custGeom>
            <a:avLst/>
            <a:gdLst>
              <a:gd name="textAreaLeft" fmla="*/ 83880 w 2592360"/>
              <a:gd name="textAreaRight" fmla="*/ 2508480 w 259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м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7200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Где бы нам через дор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 магазину перей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от за этими ларь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Там, где стрелка у воро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ы на стрелке этой 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очит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ш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445000"/>
            <a:ext cx="2376720" cy="7207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206" h="21600">
                <a:moveTo>
                  <a:pt x="0" y="0"/>
                </a:moveTo>
                <a:lnTo>
                  <a:pt x="71206" y="0"/>
                </a:lnTo>
                <a:lnTo>
                  <a:pt x="71206" y="21600"/>
                </a:lnTo>
                <a:lnTo>
                  <a:pt x="0" y="21600"/>
                </a:lnTo>
                <a:close/>
              </a:path>
              <a:path fill="lightenLess" w="71206" h="21600">
                <a:moveTo>
                  <a:pt x="0" y="0"/>
                </a:moveTo>
                <a:lnTo>
                  <a:pt x="71206" y="0"/>
                </a:lnTo>
                <a:lnTo>
                  <a:pt x="69806" y="1400"/>
                </a:lnTo>
                <a:lnTo>
                  <a:pt x="1400" y="1400"/>
                </a:lnTo>
                <a:close/>
              </a:path>
              <a:path fill="darken" w="71206" h="21600">
                <a:moveTo>
                  <a:pt x="71206" y="0"/>
                </a:moveTo>
                <a:lnTo>
                  <a:pt x="71206" y="21600"/>
                </a:lnTo>
                <a:lnTo>
                  <a:pt x="69806" y="20200"/>
                </a:lnTo>
                <a:lnTo>
                  <a:pt x="69806" y="1400"/>
                </a:lnTo>
                <a:close/>
              </a:path>
              <a:path fill="darkenLess" w="71206" h="21600">
                <a:moveTo>
                  <a:pt x="7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06" y="20200"/>
                </a:lnTo>
                <a:close/>
              </a:path>
              <a:path fill="lighten" w="7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ерех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45352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48428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Удивительный вагон!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осудите сами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ельсы в воздухе, а он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ержит их руками..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09840" cy="151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32000" y="1125360"/>
            <a:ext cx="698508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57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оллейбу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749600"/>
            <a:ext cx="518328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два ряда дома сто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есять, двадцать, сто под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 квадратными глаз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руг на друга гляд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78928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811600" cy="210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266544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2160" y="6093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6093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360" y="609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2509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059280" y="4149720"/>
            <a:ext cx="2808000" cy="2232000"/>
          </a:xfrm>
          <a:custGeom>
            <a:avLst/>
            <a:gdLst>
              <a:gd name="textAreaLeft" fmla="*/ 144360 w 2808000"/>
              <a:gd name="textAreaRight" fmla="*/ 2663640 w 280800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3" h="21600">
                <a:moveTo>
                  <a:pt x="0" y="0"/>
                </a:moveTo>
                <a:lnTo>
                  <a:pt x="27173" y="0"/>
                </a:lnTo>
                <a:lnTo>
                  <a:pt x="27173" y="21600"/>
                </a:lnTo>
                <a:lnTo>
                  <a:pt x="0" y="21600"/>
                </a:lnTo>
                <a:close/>
              </a:path>
              <a:path fill="lightenLess" w="27173" h="21600">
                <a:moveTo>
                  <a:pt x="0" y="0"/>
                </a:moveTo>
                <a:lnTo>
                  <a:pt x="27173" y="0"/>
                </a:lnTo>
                <a:lnTo>
                  <a:pt x="25773" y="1400"/>
                </a:lnTo>
                <a:lnTo>
                  <a:pt x="1400" y="1400"/>
                </a:lnTo>
                <a:close/>
              </a:path>
              <a:path fill="darken" w="27173" h="21600">
                <a:moveTo>
                  <a:pt x="27173" y="0"/>
                </a:moveTo>
                <a:lnTo>
                  <a:pt x="27173" y="21600"/>
                </a:lnTo>
                <a:lnTo>
                  <a:pt x="25773" y="20200"/>
                </a:lnTo>
                <a:lnTo>
                  <a:pt x="25773" y="1400"/>
                </a:lnTo>
                <a:close/>
              </a:path>
              <a:path fill="darkenLess" w="27173" h="21600">
                <a:moveTo>
                  <a:pt x="2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3" y="20200"/>
                </a:lnTo>
                <a:close/>
              </a:path>
              <a:path fill="lighten" w="2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0847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219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Два колесика под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Их ногами вертя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 поверх тор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ам хозяин крючк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6376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376360" cy="1576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27672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6084720" y="4869000"/>
            <a:ext cx="2664000" cy="1655640"/>
          </a:xfrm>
          <a:custGeom>
            <a:avLst/>
            <a:gdLst>
              <a:gd name="textAreaLeft" fmla="*/ 107280 w 2664000"/>
              <a:gd name="textAreaRight" fmla="*/ 2556720 w 266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53" h="21600">
                <a:moveTo>
                  <a:pt x="0" y="0"/>
                </a:moveTo>
                <a:lnTo>
                  <a:pt x="34753" y="0"/>
                </a:lnTo>
                <a:lnTo>
                  <a:pt x="34753" y="21600"/>
                </a:lnTo>
                <a:lnTo>
                  <a:pt x="0" y="21600"/>
                </a:lnTo>
                <a:close/>
              </a:path>
              <a:path fill="lightenLess" w="34753" h="21600">
                <a:moveTo>
                  <a:pt x="0" y="0"/>
                </a:moveTo>
                <a:lnTo>
                  <a:pt x="34753" y="0"/>
                </a:lnTo>
                <a:lnTo>
                  <a:pt x="33353" y="1400"/>
                </a:lnTo>
                <a:lnTo>
                  <a:pt x="1400" y="1400"/>
                </a:lnTo>
                <a:close/>
              </a:path>
              <a:path fill="darken" w="34753" h="21600">
                <a:moveTo>
                  <a:pt x="34753" y="0"/>
                </a:moveTo>
                <a:lnTo>
                  <a:pt x="34753" y="21600"/>
                </a:lnTo>
                <a:lnTo>
                  <a:pt x="33353" y="20200"/>
                </a:lnTo>
                <a:lnTo>
                  <a:pt x="33353" y="1400"/>
                </a:lnTo>
                <a:close/>
              </a:path>
              <a:path fill="darkenLess" w="34753" h="21600">
                <a:moveTo>
                  <a:pt x="3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3" y="20200"/>
                </a:lnTo>
                <a:close/>
              </a:path>
              <a:path fill="lighten" w="3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9:18:37Z</dcterms:created>
  <dc:creator>FoM</dc:creator>
  <dc:description/>
  <dc:language>en-US</dc:language>
  <cp:lastModifiedBy>FoM</cp:lastModifiedBy>
  <dcterms:modified xsi:type="dcterms:W3CDTF">2008-02-14T19:48:08Z</dcterms:modified>
  <cp:revision>6</cp:revision>
  <dc:subject/>
  <dc:title>Загадки  по  ПДД</dc:title>
</cp:coreProperties>
</file>