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DFE59-FFED-4B7E-934A-641C70F72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3D790-1F2D-46AC-8BEB-DA0CCB5FA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D12154-9C9A-450E-9F6A-E5E8846AF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BF2EB1-7C52-4E53-863E-453AFFB02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8AEC86-19A8-45D7-9E2A-6330275D2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BA418E-EAEC-4E07-B4EF-679421786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D24C9C-0E86-4559-AE80-69422B0D2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D19AF0-08A5-4FBD-87CD-12F35B7FA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520C16-7B8B-433C-B42F-5160BBD49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BA6C48-D379-4C89-BC4F-39F54A89E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CF2153-2153-4504-A9E8-0A743DE51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A8D1E0-CD19-4FB4-90FA-FF4FABDD1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B3A76-36CD-4E94-985F-659DCB2FC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A93A65-DE9B-4AFB-A524-C3726FB13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1C32DE-59DD-47C1-9FF0-6B4C76417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1F9393-E961-40F5-9921-6A0F9F161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397ADC-50A6-4B59-B93E-30CE5AC30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C1D166-5C0B-4A24-BDC3-61D8AA0A6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D90B52-D971-4E57-B947-55FEE6622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675C7F-F708-4201-887E-670D3C382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B089D4-2E61-485B-B22A-22983DD58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FEF37C-5D1B-4D94-8752-C14EE6951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5A2EFB-0CB3-47DE-B645-44B75D00A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BD102-D31A-4840-861A-5F9A9071A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B27C0B-B792-44E5-9F8B-1192D27F6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8AF208-F226-4E6B-A3E6-B33857A80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BA638E-C7C2-4BB3-85B1-DBA01DFC3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EBC71B-D156-44B3-A76D-6F628037E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BAB2AD-14F6-43B4-9EAE-FDF63B199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E583D4-252F-41BD-8B87-4F6F3E46B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1C67F5-20F6-4DE5-99A2-E27ECD68F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5FACF6-E434-4857-B202-17C701D21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2089F9-250B-4FE0-8EB8-B025DDDD1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77D78E-5C45-456E-9971-59B507177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E814A-4CB4-4464-81E4-1CE0F5A5E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2A75A9-D3C1-4B6A-8AE9-6D485529B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4847A5-E97E-43FE-98E1-4F852A6CF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890821-1084-4B75-AD4F-08C539178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B6C7D9-8C86-401A-86CB-172057D65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45C183-A94A-44FF-9EE3-33DBBF4A8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317BCD-75D0-4FB0-B2B2-3BB0E57D1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8DD8D2-F4F9-450D-A213-F30177FDB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27129F-A7E0-46D1-804E-EB5FDDF2C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141A8A-F81B-4EA7-A317-65497949D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4FAABB-9986-4D43-AA27-DDDBA5E76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564F6-B254-4A0D-92A3-0A27CD6FC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AF820A-BB9F-47A9-84C0-3BF88F730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CFF539-D514-4621-B6A8-D352A592D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1012B4-405C-4B3A-9E59-9DBC5955C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7A56F6-3265-456F-A56B-5FD97905D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CA184E-5146-4515-8573-BE71FC4A5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98AC6BB-0B85-44DB-8C43-5487CCCEA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D532636-04BF-4EA3-9B5A-AFC87FC8C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286F62E-8D55-4612-A914-D20805D2B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B6B3EE8-529A-4AD8-A25D-C7D8EA086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31E8EA1-9769-4CC4-A1B1-12743D4BC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32FF9-B257-4EAA-BD5A-307C03391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FFC47AD-BA73-42E6-A4DE-CEB6FB430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0A8D4CC-08A3-4861-9F6A-CC7E2EAD4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7D0FE7C-F976-4D26-AD69-5982E6BFE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CBECFD1-0B29-4370-9227-661022462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7504948-31A5-40F5-9DCC-169DD25EA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82F538D-8BFD-4066-8E43-5CC94EE3D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822C83F-1280-4552-A3AA-4CEFA3FB1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D03142D-CC8C-400C-ADBA-BCCF4F815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09BFE2B-28ED-4F3F-B012-898FB4928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82AEAA9-372F-4314-B01D-1E326D928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08771-C1FE-4265-8A01-7B57B3070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8F5FDEB-803C-4498-AF42-065934A6A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F3BDAEB-A692-4DD0-A86A-9BC909404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7E126EA-2E82-4432-803E-F2A3BF445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8B9D66E-FAC1-4D35-A20E-ADD8EE70A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8197945-4241-41E1-B269-A134F6E40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7F39781-D56D-4621-9F6B-7BC1CE881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7191F09-4BF6-446A-8398-AE32FA20E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0D53BF6-7F75-43E6-BBD2-11F9BEA11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CEC478B-D355-44C6-8291-3918B09D4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2403F-933C-4978-8C3A-FDDB25C97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519C7-5140-4FA5-899C-3800A79C0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BDE5E-2A14-4990-B9D5-8B011F5F5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23A96-1DCE-4809-A81C-C4864D548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145EE-8E04-400B-A450-2DB9CC489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F31B3-9388-4C8D-80AD-272EE6C63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6AD3F-B422-435E-B8B0-0438D0FB5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4E79A-4208-4F37-838E-483BB1E8B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B703F-2E31-4466-A8D5-5478C056C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A87CA8-1450-46B0-A19F-2BF9519CD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1D5C8D-FD2C-4AC0-BB7C-FBF68059B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10B404-E055-4BF1-AF2F-759DC9605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F5C0C2-538A-4FB0-91A5-F14359902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BD9117-361D-4C94-9984-6378A58FA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569D1-3BAE-4747-AA48-C7173928A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9B2C07-D156-401D-9869-E1C225160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E31056-FC7E-4C82-8C9E-8F435FABF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406630-D98D-4046-95C2-F006E2F10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7E32ED-866A-4F4A-9148-6245193C7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353995-1881-4DC6-90FD-63C873FFF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D2DE3E-4180-44A9-A792-CB16580F4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F33044-AC00-4E8E-BF14-2847BC275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2D847B-5AE7-4027-B802-D13C240DD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1FDA5D-52EF-4DEE-BDD4-FF62C471C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E6D7F1-A673-4D75-8AE7-FEA37DBD4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8AF76-C7BC-46E2-B3FF-FF26500B0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7C1524-0B12-489F-9339-16876F5FB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10D0F9-3417-472C-AF15-643F593C2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04467E-0340-48FD-A6D4-FC0E6FC5F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49650C-C243-41BB-94CA-B01B033CC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8F3AA2-43F6-4F98-991F-5D12F4A5A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EE5E09-C2E1-4BD7-B96D-461BE90B4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5F96D4-E8AB-478B-954F-84F9B350C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A3FA85-6137-4E58-9D5E-B24744CCF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E08F95-52EB-482F-B78E-10ED28D4B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6872A3-8534-40D7-9588-CF2C543C6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5BD69-328C-498A-8FF8-6FFCCA471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8F0F7D-57FB-41EF-88D6-A23898262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E48DE1-A6C6-41CF-81C0-FBB1AB46B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2E6813-C5D2-4E21-833C-AA40F60E4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A8D957-50A4-466D-B86F-36A8613DF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BCFE88-C84E-4607-AEC1-BA9EFE281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3E5A58-5F9D-473D-9BF9-79FA89B10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17E86E-6633-4956-A09B-15C015313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80AAF6-A54A-4C22-AE35-E161861A7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83B402-2580-4D6A-A5B6-46B2E7630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333BDF-28EA-49CF-A96A-5E8096D97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6D8D8-9CAE-4920-9071-8A909FFC5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F136B5-786D-4613-BDF2-DA08C38A8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D7E967-7739-4F44-A0FB-EBD6F1A9C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B2C228-AAE2-4101-BFB1-1CE87FA01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D8808D-EB4F-4B5A-903E-62BBC0876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FB6147-374A-41A0-BBF5-A2B4B2FF5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B736A5-EBB2-4F31-BED8-705D8825E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F05071-3C56-4C98-904B-00A6F01B0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B7CFAE-5585-4CC6-998C-0DE75C4BD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2B96D7-55A5-4954-BD80-AB4637B02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952764-309D-466F-8C51-FE88AD32E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F8BF0-85D1-454E-97C0-443DB6E24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A2D876-83B3-4F51-A4DC-0E1232ED6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3EC675-5236-4A68-92A4-31E9BA3B0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EC2152-95CD-4680-B7B0-80F48ECE7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C3D183-77DB-4037-8DD3-6011AD1CA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1FF078-54E9-40EB-A56A-7D0A5CC09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48BA88-713F-4926-8D59-01DBE211A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67D146-9B5A-4D2B-872E-974BE03D8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C9DF6D-A687-4459-9037-94082B2A7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972F55-B53E-4C26-B7C4-0B3940A3E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C44472-86DB-4A60-BE33-A1768AE64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7C900-EF80-4D1E-9943-F3A4F9637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451961-6B4C-4414-AFCC-DDFF1EA00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FA6BAE-71EB-4B07-87A7-784D1FC69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5D37DB-2835-46A2-872B-80D279A0D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8B8225-97C0-486D-800A-3B9DA880C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E63D46-583C-4233-B9D1-C8F63491B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C41BB6-D445-4FAA-A882-5CFCF5CED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97F7E5-D04F-4885-90E2-3BBDC7B20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3C4A3D-BF67-4C87-B196-CF7B584A2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0FDE2D-9195-44E6-B1DF-03B5B6EFF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A9E467-6CEA-4992-8109-E5D8710C9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1ED4C-8FA3-4D52-8B8F-BBC792839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7FCC4C-0CF2-4B8B-A06B-920FAD03B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EE3F5C-183A-4223-83F5-4256CCC3C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477945-8AB8-4099-9CF3-7016675E7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276CEA-3D5D-4213-ACB0-3BBED3DEA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A56223-4D11-43E9-9926-21F1FD302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2AA47A-EC24-498F-B76D-B6446E1CC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262B81-2144-4AC5-999A-AE346793A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80194B-6D36-4CCA-9FB7-4EFEF8552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45936B-B4DD-4219-9ED9-A1476F72E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4747B6-365A-4CF4-B2D3-A814DA40A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Calibri"/>
                <a:ea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5CD3A-CDAE-44C3-8421-54A854993BB6}" type="slidenum">
              <a:rPr b="0" lang="ru-RU" sz="9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718CC-8974-49CD-A255-0EEE2279A2E5}" type="slidenum"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685A1-0547-4ADD-A03D-3932C8A1BEC0}" type="slidenum"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2F4F5-4389-4F08-801E-B39E18D89731}" type="slidenum"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225DA-E3E4-4B6C-9F68-DF666BEFA5E2}" type="slidenum">
              <a:rPr b="0" lang="ru-RU" sz="9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0FF14-7EEA-4235-B444-941F5DD9657C}" type="slidenum">
              <a:rPr b="0" lang="ru-RU" sz="9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65C72-9C71-4232-AB77-CABB54140CBE}" type="slidenum"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53964-F999-48D7-BF16-64EDF80D3E7D}" type="slidenum"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A3FE9-0EF4-4B39-9956-40BFE7ADFBEB}" type="slidenum"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627A5-970B-4471-A6FE-56BA8AFB0502}" type="slidenum"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E96E7-BC2D-41C1-80F4-AE368C539DDF}" type="slidenum"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93C12-828F-419D-81FD-C0FF464BCE21}" type="slidenum"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FF69E-712B-43B2-8051-317CDA564839}" type="slidenum"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A1627-D376-4C91-A01D-2DEDC88F5B88}" type="slidenum"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5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WordArt 2"/>
          <p:cNvSpPr txBox="1"/>
          <p:nvPr/>
        </p:nvSpPr>
        <p:spPr>
          <a:xfrm>
            <a:off x="2649600" y="2090880"/>
            <a:ext cx="3714840" cy="36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Площадь фигур.</a:t>
            </a:r>
            <a:endParaRPr b="0" i="1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Тест.</a:t>
            </a:r>
            <a:endParaRPr b="0" i="1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575" name="Rectangle 4"/>
          <p:cNvSpPr/>
          <p:nvPr/>
        </p:nvSpPr>
        <p:spPr>
          <a:xfrm>
            <a:off x="6249960" y="6354720"/>
            <a:ext cx="277344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Геометрия 8 класс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Учитель математики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 Кощеев М.М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Прямоугольник 2"/>
          <p:cNvSpPr/>
          <p:nvPr/>
        </p:nvSpPr>
        <p:spPr>
          <a:xfrm>
            <a:off x="290520" y="0"/>
            <a:ext cx="8334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КОУ «Погорельская СОШ»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адринского района Курганской област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5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8" name="Picture 2" descr="149f060ffd0e41d6e845bf046e118461"/>
          <p:cNvPicPr/>
          <p:nvPr/>
        </p:nvPicPr>
        <p:blipFill>
          <a:blip r:embed="rId1"/>
          <a:stretch/>
        </p:blipFill>
        <p:spPr>
          <a:xfrm>
            <a:off x="5553000" y="4092480"/>
            <a:ext cx="2097000" cy="2359080"/>
          </a:xfrm>
          <a:prstGeom prst="rect">
            <a:avLst/>
          </a:prstGeom>
          <a:ln w="0">
            <a:noFill/>
          </a:ln>
        </p:spPr>
      </p:pic>
      <p:pic>
        <p:nvPicPr>
          <p:cNvPr id="629" name="Picture 3" descr="11876925370"/>
          <p:cNvPicPr/>
          <p:nvPr/>
        </p:nvPicPr>
        <p:blipFill>
          <a:blip r:embed="rId2"/>
          <a:stretch/>
        </p:blipFill>
        <p:spPr>
          <a:xfrm>
            <a:off x="233280" y="203040"/>
            <a:ext cx="2597400" cy="2364120"/>
          </a:xfrm>
          <a:prstGeom prst="rect">
            <a:avLst/>
          </a:prstGeom>
          <a:ln w="0">
            <a:noFill/>
          </a:ln>
        </p:spPr>
      </p:pic>
      <p:sp>
        <p:nvSpPr>
          <p:cNvPr id="630" name="WordArt 4"/>
          <p:cNvSpPr txBox="1"/>
          <p:nvPr/>
        </p:nvSpPr>
        <p:spPr>
          <a:xfrm>
            <a:off x="1752480" y="1049400"/>
            <a:ext cx="6222960" cy="422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2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53753" dir="2700000" blurRad="0" rotWithShape="0">
                    <a:srgbClr val="868686">
                      <a:alpha val="50000"/>
                    </a:srgbClr>
                  </a:outerShdw>
                </a:effectLst>
                <a:latin typeface="Impact"/>
              </a:rPr>
              <a:t>УСПЕХОВ!</a:t>
            </a:r>
            <a:endParaRPr b="0" lang="en-US" sz="2800" spc="1" strike="noStrike">
              <a:ln w="921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53753" dir="2700000" blurRad="0" rotWithShape="0">
                  <a:srgbClr val="868686">
                    <a:alpha val="5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"/>
          <p:cNvSpPr txBox="1"/>
          <p:nvPr/>
        </p:nvSpPr>
        <p:spPr>
          <a:xfrm>
            <a:off x="1369800" y="1557360"/>
            <a:ext cx="7313400" cy="438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152280" indent="-1522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ru-RU" sz="3600" spc="-1" strike="noStrike" u="sng">
                <a:solidFill>
                  <a:srgbClr val="000000"/>
                </a:solidFill>
                <a:uFillTx/>
                <a:latin typeface="Calibri Light"/>
              </a:rPr>
              <a:t>Задание №1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52280" indent="-1522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йдите площадь данного ромб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52280" indent="-1522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52280" indent="-1522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52280" indent="-1522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52280" indent="-1522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52280" indent="-1522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) 1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52280" indent="-1522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) 9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52280" indent="-1522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) 15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52280" indent="-1522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) Другой отве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8" name="Group 4" descr=""/>
          <p:cNvPicPr/>
          <p:nvPr/>
        </p:nvPicPr>
        <p:blipFill>
          <a:blip r:embed="rId1"/>
          <a:stretch/>
        </p:blipFill>
        <p:spPr>
          <a:xfrm>
            <a:off x="1925640" y="2762280"/>
            <a:ext cx="1512720" cy="816120"/>
          </a:xfrm>
          <a:prstGeom prst="rect">
            <a:avLst/>
          </a:prstGeom>
          <a:ln w="0">
            <a:noFill/>
          </a:ln>
        </p:spPr>
      </p:pic>
      <p:sp>
        <p:nvSpPr>
          <p:cNvPr id="579" name="Text Box 7"/>
          <p:cNvSpPr/>
          <p:nvPr/>
        </p:nvSpPr>
        <p:spPr>
          <a:xfrm>
            <a:off x="3246480" y="2954160"/>
            <a:ext cx="35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 Box 8"/>
          <p:cNvSpPr/>
          <p:nvPr/>
        </p:nvSpPr>
        <p:spPr>
          <a:xfrm>
            <a:off x="2268360" y="357336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 Box 9"/>
          <p:cNvSpPr/>
          <p:nvPr/>
        </p:nvSpPr>
        <p:spPr>
          <a:xfrm>
            <a:off x="2247840" y="299736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Прямоугольник 1"/>
          <p:cNvSpPr/>
          <p:nvPr/>
        </p:nvSpPr>
        <p:spPr>
          <a:xfrm>
            <a:off x="311040" y="636480"/>
            <a:ext cx="764856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ТЕС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Найдите площадь данного треугольника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) 32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) 36 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) 25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) Другой ответ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Text Box 4"/>
          <p:cNvSpPr/>
          <p:nvPr/>
        </p:nvSpPr>
        <p:spPr>
          <a:xfrm>
            <a:off x="8656560" y="35877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AutoShape 5"/>
          <p:cNvSpPr/>
          <p:nvPr/>
        </p:nvSpPr>
        <p:spPr>
          <a:xfrm flipH="1" rot="13169400">
            <a:off x="5148000" y="3428280"/>
            <a:ext cx="2353680" cy="1917720"/>
          </a:xfrm>
          <a:prstGeom prst="rtTriangle">
            <a:avLst/>
          </a:pr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Line 6"/>
          <p:cNvSpPr/>
          <p:nvPr/>
        </p:nvSpPr>
        <p:spPr>
          <a:xfrm>
            <a:off x="6012000" y="2924280"/>
            <a:ext cx="0" cy="144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Text Box 7"/>
          <p:cNvSpPr/>
          <p:nvPr/>
        </p:nvSpPr>
        <p:spPr>
          <a:xfrm>
            <a:off x="5991120" y="3284640"/>
            <a:ext cx="45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 Box 8"/>
          <p:cNvSpPr/>
          <p:nvPr/>
        </p:nvSpPr>
        <p:spPr>
          <a:xfrm>
            <a:off x="6012000" y="458136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Прямоугольник 4"/>
          <p:cNvSpPr/>
          <p:nvPr/>
        </p:nvSpPr>
        <p:spPr>
          <a:xfrm>
            <a:off x="585720" y="819000"/>
            <a:ext cx="298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Задание №2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0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Найдите площадь ромба, если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=10  и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=8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) 80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) 40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) 5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) Другой ответ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AutoShape 4"/>
          <p:cNvSpPr/>
          <p:nvPr/>
        </p:nvSpPr>
        <p:spPr>
          <a:xfrm>
            <a:off x="5435640" y="2565360"/>
            <a:ext cx="2354400" cy="1943280"/>
          </a:xfrm>
          <a:prstGeom prst="flowChartDecision">
            <a:avLst/>
          </a:pr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2" name="AutoShape 5"/>
          <p:cNvCxnSpPr>
            <a:stCxn id="591" idx="1"/>
            <a:endCxn id="591" idx="3"/>
          </p:cNvCxnSpPr>
          <p:nvPr/>
        </p:nvCxnSpPr>
        <p:spPr>
          <a:xfrm>
            <a:off x="5435640" y="3536640"/>
            <a:ext cx="235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93" name="AutoShape 6"/>
          <p:cNvCxnSpPr>
            <a:stCxn id="591" idx="0"/>
            <a:endCxn id="591" idx="2"/>
          </p:cNvCxnSpPr>
          <p:nvPr/>
        </p:nvCxnSpPr>
        <p:spPr>
          <a:xfrm>
            <a:off x="6613200" y="2565360"/>
            <a:ext cx="1080" cy="1944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94" name="Text Box 7"/>
          <p:cNvSpPr/>
          <p:nvPr/>
        </p:nvSpPr>
        <p:spPr>
          <a:xfrm>
            <a:off x="6227640" y="2924280"/>
            <a:ext cx="4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Text Box 8"/>
          <p:cNvSpPr/>
          <p:nvPr/>
        </p:nvSpPr>
        <p:spPr>
          <a:xfrm>
            <a:off x="6878520" y="35002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Нижний колонтитул 6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кощеев М.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Прямоугольник 1"/>
          <p:cNvSpPr/>
          <p:nvPr/>
        </p:nvSpPr>
        <p:spPr>
          <a:xfrm>
            <a:off x="384120" y="819000"/>
            <a:ext cx="331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Задание №3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Найдите площадь треугольника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) 9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) 18 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) 6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) Другой ответ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9" name="Group 4" descr=""/>
          <p:cNvPicPr/>
          <p:nvPr/>
        </p:nvPicPr>
        <p:blipFill>
          <a:blip r:embed="rId1"/>
          <a:stretch/>
        </p:blipFill>
        <p:spPr>
          <a:xfrm>
            <a:off x="5499000" y="2693880"/>
            <a:ext cx="2468520" cy="1676520"/>
          </a:xfrm>
          <a:prstGeom prst="rect">
            <a:avLst/>
          </a:prstGeom>
          <a:ln w="0">
            <a:noFill/>
          </a:ln>
        </p:spPr>
      </p:pic>
      <p:sp>
        <p:nvSpPr>
          <p:cNvPr id="600" name="Text Box 7"/>
          <p:cNvSpPr/>
          <p:nvPr/>
        </p:nvSpPr>
        <p:spPr>
          <a:xfrm>
            <a:off x="6732720" y="34290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Text Box 8"/>
          <p:cNvSpPr/>
          <p:nvPr/>
        </p:nvSpPr>
        <p:spPr>
          <a:xfrm>
            <a:off x="6443640" y="450864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Прямоугольник 1"/>
          <p:cNvSpPr/>
          <p:nvPr/>
        </p:nvSpPr>
        <p:spPr>
          <a:xfrm>
            <a:off x="530280" y="870120"/>
            <a:ext cx="377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Задание №4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0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Найдите площадь прямоугольного треугольника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) 72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) 18 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) 36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) Другой ответ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AutoShape 4"/>
          <p:cNvSpPr/>
          <p:nvPr/>
        </p:nvSpPr>
        <p:spPr>
          <a:xfrm flipH="1" rot="5406000">
            <a:off x="5183280" y="2888640"/>
            <a:ext cx="1871640" cy="1655640"/>
          </a:xfrm>
          <a:prstGeom prst="rtTriangle">
            <a:avLst/>
          </a:pr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Text Box 5"/>
          <p:cNvSpPr/>
          <p:nvPr/>
        </p:nvSpPr>
        <p:spPr>
          <a:xfrm>
            <a:off x="4716360" y="371628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Text Box 6"/>
          <p:cNvSpPr/>
          <p:nvPr/>
        </p:nvSpPr>
        <p:spPr>
          <a:xfrm>
            <a:off x="5651640" y="472428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Нижний колонтитул 6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кощеев М.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Прямоугольник 1"/>
          <p:cNvSpPr/>
          <p:nvPr/>
        </p:nvSpPr>
        <p:spPr>
          <a:xfrm>
            <a:off x="468360" y="6271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Задание №5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0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9" name="Group 3" descr=""/>
          <p:cNvPicPr/>
          <p:nvPr/>
        </p:nvPicPr>
        <p:blipFill>
          <a:blip r:embed="rId1"/>
          <a:stretch/>
        </p:blipFill>
        <p:spPr>
          <a:xfrm>
            <a:off x="4846680" y="2919240"/>
            <a:ext cx="3700440" cy="1524240"/>
          </a:xfrm>
          <a:prstGeom prst="rect">
            <a:avLst/>
          </a:prstGeom>
          <a:ln w="0">
            <a:noFill/>
          </a:ln>
        </p:spPr>
      </p:pic>
      <p:sp>
        <p:nvSpPr>
          <p:cNvPr id="610" name="Text Box 6"/>
          <p:cNvSpPr/>
          <p:nvPr/>
        </p:nvSpPr>
        <p:spPr>
          <a:xfrm>
            <a:off x="2536920" y="2952720"/>
            <a:ext cx="3888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Rectangle 7"/>
          <p:cNvSpPr/>
          <p:nvPr/>
        </p:nvSpPr>
        <p:spPr>
          <a:xfrm>
            <a:off x="1332000" y="1733040"/>
            <a:ext cx="781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йти площадь параллелограм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Rectangle 8"/>
          <p:cNvSpPr/>
          <p:nvPr/>
        </p:nvSpPr>
        <p:spPr>
          <a:xfrm>
            <a:off x="468360" y="3573000"/>
            <a:ext cx="8316720" cy="22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) 36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B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) 18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) 12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) Другой 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Text Box 9"/>
          <p:cNvSpPr/>
          <p:nvPr/>
        </p:nvSpPr>
        <p:spPr>
          <a:xfrm>
            <a:off x="5796000" y="335772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Text Box 10"/>
          <p:cNvSpPr/>
          <p:nvPr/>
        </p:nvSpPr>
        <p:spPr>
          <a:xfrm>
            <a:off x="5796000" y="458136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Нижний колонтитул 6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кощеев М.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Прямоугольник 3"/>
          <p:cNvSpPr/>
          <p:nvPr/>
        </p:nvSpPr>
        <p:spPr>
          <a:xfrm>
            <a:off x="341280" y="888840"/>
            <a:ext cx="375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Задание №6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0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Text Box 3"/>
          <p:cNvSpPr/>
          <p:nvPr/>
        </p:nvSpPr>
        <p:spPr>
          <a:xfrm>
            <a:off x="2536920" y="2952720"/>
            <a:ext cx="3888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Rectangle 4"/>
          <p:cNvSpPr/>
          <p:nvPr/>
        </p:nvSpPr>
        <p:spPr>
          <a:xfrm>
            <a:off x="1332000" y="1733040"/>
            <a:ext cx="781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йти площадь трапе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Rectangle 5"/>
          <p:cNvSpPr/>
          <p:nvPr/>
        </p:nvSpPr>
        <p:spPr>
          <a:xfrm>
            <a:off x="468360" y="3573000"/>
            <a:ext cx="8316720" cy="22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) 1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B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) 5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) 4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) Другой 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0" name="Group 6" descr=""/>
          <p:cNvPicPr/>
          <p:nvPr/>
        </p:nvPicPr>
        <p:blipFill>
          <a:blip r:embed="rId1"/>
          <a:stretch/>
        </p:blipFill>
        <p:spPr>
          <a:xfrm>
            <a:off x="5711760" y="3206880"/>
            <a:ext cx="2610000" cy="1236600"/>
          </a:xfrm>
          <a:prstGeom prst="rect">
            <a:avLst/>
          </a:prstGeom>
          <a:ln w="0">
            <a:noFill/>
          </a:ln>
        </p:spPr>
      </p:pic>
      <p:sp>
        <p:nvSpPr>
          <p:cNvPr id="621" name="Text Box 9"/>
          <p:cNvSpPr/>
          <p:nvPr/>
        </p:nvSpPr>
        <p:spPr>
          <a:xfrm>
            <a:off x="7024320" y="2825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3 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10"/>
          <p:cNvSpPr/>
          <p:nvPr/>
        </p:nvSpPr>
        <p:spPr>
          <a:xfrm>
            <a:off x="6227640" y="3645000"/>
            <a:ext cx="5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4 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Text Box 11"/>
          <p:cNvSpPr/>
          <p:nvPr/>
        </p:nvSpPr>
        <p:spPr>
          <a:xfrm>
            <a:off x="7130520" y="41004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9 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Прямоугольник 2"/>
          <p:cNvSpPr/>
          <p:nvPr/>
        </p:nvSpPr>
        <p:spPr>
          <a:xfrm>
            <a:off x="468360" y="63648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Задание №7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0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5" name="Picture 4" descr=""/>
          <p:cNvPicPr/>
          <p:nvPr/>
        </p:nvPicPr>
        <p:blipFill>
          <a:blip r:embed="rId1"/>
          <a:stretch/>
        </p:blipFill>
        <p:spPr>
          <a:xfrm>
            <a:off x="1781280" y="4290840"/>
            <a:ext cx="7883280" cy="2713320"/>
          </a:xfrm>
          <a:prstGeom prst="rect">
            <a:avLst/>
          </a:prstGeom>
          <a:ln w="0">
            <a:noFill/>
          </a:ln>
        </p:spPr>
      </p:pic>
      <p:sp>
        <p:nvSpPr>
          <p:cNvPr id="626" name="Прямоугольник 1"/>
          <p:cNvSpPr/>
          <p:nvPr/>
        </p:nvSpPr>
        <p:spPr>
          <a:xfrm>
            <a:off x="2036880" y="770040"/>
            <a:ext cx="4572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тветы к тесту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7" name=""/>
          <p:cNvGraphicFramePr/>
          <p:nvPr/>
        </p:nvGraphicFramePr>
        <p:xfrm>
          <a:off x="955800" y="1800360"/>
          <a:ext cx="7127640" cy="2244600"/>
        </p:xfrm>
        <a:graphic>
          <a:graphicData uri="http://schemas.openxmlformats.org/drawingml/2006/table">
            <a:tbl>
              <a:tblPr/>
              <a:tblGrid>
                <a:gridCol w="1017360"/>
                <a:gridCol w="1019160"/>
                <a:gridCol w="1017720"/>
                <a:gridCol w="1019160"/>
                <a:gridCol w="1017720"/>
                <a:gridCol w="1019160"/>
                <a:gridCol w="1017360"/>
              </a:tblGrid>
              <a:tr h="1122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11224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</p:spTree>
  </p:cSld>
  <p:transition>
    <p:cover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3T12:19:40Z</dcterms:created>
  <dc:creator>Кружок</dc:creator>
  <dc:description/>
  <dc:language>en-US</dc:language>
  <cp:lastModifiedBy>1</cp:lastModifiedBy>
  <dcterms:modified xsi:type="dcterms:W3CDTF">2018-06-16T06:13:15Z</dcterms:modified>
  <cp:revision>513</cp:revision>
  <dc:subject/>
  <dc:title>Слайд 1</dc:title>
</cp:coreProperties>
</file>