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61F-DB23-43B0-9934-A4AB8E1C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50F-6947-4CC5-9443-FE26F4D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CEAAE-7FE4-4563-82F4-0F8FBD7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A3FDC-DC68-476C-8FFE-FEFEDF8D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72B2-F5F8-414A-9A73-8D6754B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C47E-3376-4815-8DD7-FCE5584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6BA79-CC9D-4734-B789-4FCEE34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98A50-7AEF-465D-B64A-DDE7261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4A470-646B-4CA4-9D25-B0BF4BBF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7E72-9164-4B02-9AC4-019D3626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FC057-227B-4C2B-90BB-16EF0160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2CF5B-66FA-4D6C-8E33-E5B0544C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9EC-6DCD-43FE-ACCC-974EF22B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EE930-CB89-48BE-A93D-A5961E2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F349F-8AEF-492E-BAAB-6DEAD9E2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2E72-ACBF-4E98-B29D-DC015259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346F0-3C38-401A-9BD1-4252C16B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A7F43-4E1B-4397-8997-38D5E010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8C3B5-BD4F-493B-8B76-B2773C0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46B3B-025F-4316-B96E-D26F9DE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F43B-46C2-46E3-8318-8783CED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17D06-FC88-4B7A-BCB2-EAC9BD5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6CDE7-A128-43DF-B1F8-99A4DB43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63A-4ABE-4699-8F10-BA8C1A48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4D9C9-231E-41FB-8A29-8A3A6BD4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BBDB5-EA7D-453D-B488-5C30F383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309B7-15C1-423D-8F55-01D673D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E9738-4533-4F6B-9527-CB504D4D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A34C3-343C-423A-B9A1-53C063A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85E44-74C6-4BBB-8EF4-55A75392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F0997-A595-4EC4-89CA-7E6436F7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47F3C-AA74-42A1-A62B-322242A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18DFF-CCFB-4B55-BA7A-0ABEB67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4676-6487-4825-85C3-8F71F25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958F-687B-4220-81C6-52FBB639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04FAF-C02C-41F9-B4D8-58E8376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6061-3C84-40FF-86CE-BF5B7721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13063-45E7-4015-9AFF-F55E7B88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AE77-66CB-4175-81FF-09DFB7C2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2158A-C35E-43B1-9314-18B35F5F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4CB00-897C-4EA3-8E3E-A8EC266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5550B-AE45-458E-9D99-FF76643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E7220-B54C-4598-9681-16BC018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2A911-B7BD-484D-9733-511A4201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D3AEF-E617-47A2-BDC1-184C0C7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ED2-96DF-420D-8CCC-8E65B9A7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9E6F2-F238-4359-8324-D4D795B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4A47-035C-47F7-A790-8F99097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75231-37EE-43BB-AC44-E689B18F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5BC1F-B5AA-4084-B0B5-152A7A0D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0BA8-B27D-49C9-AE01-E2C2E3A4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C2112-EF22-4F0F-A5A0-583C621E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14C8C-E53E-43F8-8E77-E823515B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31DCC-F3B4-4755-9E40-73795B2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AA957-1904-4D0F-8EF4-C397A849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BE718-C716-41A0-9305-877E172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1748-464C-4526-B679-A645AB9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87EA2-75C9-4247-B825-64D8D1C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9A8BC-2D20-4DEF-BD99-3EFC7B1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A71B0-ECA9-45BB-B893-3EBDD12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DE6AE-F152-45C9-9877-E507ABF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FCF3A-564F-43ED-BD76-874CEF1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60F24-B6CF-460C-ACF5-6FECC45E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D08F0-5C5A-4832-B7BA-6DCC200F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7D01C-69D6-4D9E-8761-F494BC5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40971-F0F1-4297-B13B-B8380740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230CE-D232-4C96-884D-E508846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156F-98B9-4A1D-8FAA-5D641B89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A1675-740C-41C2-B4B7-83D5EFF2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E1E0A-134E-4BF5-B262-0631133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BA115-CC36-4CB2-8E7A-5AD864E5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49A61-7B59-4119-A38C-EEA683D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97674-9944-4585-8DC7-8239A89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75FB2-6A32-4D88-933E-297DC99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640F5-B8B7-417A-9CA2-935A2C57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7AA23-01DD-4390-9B8C-292F18E8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04F3F-05BA-4F0E-8BA3-90498954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4E1F-9FA1-4C68-8838-162A8BF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99A1-44E4-4EC0-BF76-A6F07FE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71DC-337E-41E2-9911-A91BC8B2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1F8-F9CA-4413-8671-3860EE8B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573-B42C-4DF8-A79D-00AABC5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5D29-591F-4D93-BC9C-C5972AE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D0F-541E-43BD-A012-F8D6DAD5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157F-2C3A-45C5-9F80-9386C318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2581-FD6E-4127-8E28-159DFC43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A94D-D6EB-476E-9AF5-DDF49FD9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1382-E84F-42E3-B134-E6EB4E7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9970-78BF-42EE-B0C7-66D62BE0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ABE8-878C-47A1-BD9E-FB09353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7A04-0568-4318-8F1D-E269F0A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5E0-BBAE-4CFC-9BFC-9C25EDE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C7C4-F733-43E6-AD19-65CE9A2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FFBC-7AC6-4B30-877D-ADE30A6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2BB8-E752-41B5-ADC7-587FB224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9FF5-7DA8-4505-8392-AB07387A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6394-51FF-40A4-9FF6-1132FBA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37CB-4AE2-4A0A-BFFD-26B08CE3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B92D-6202-45DD-8CD7-D922EFA9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15BA-0127-49CA-A3B0-18DA5DA3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68F8-919A-41D3-9A42-21A859C9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C72F-D02F-4564-BFE2-E7E75E7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EE9-A6A3-42AB-B835-9A83052F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508E-C727-43D7-B87E-0F3E7400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F047-76D8-4198-B3C7-FCE7686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3621-0512-4274-BBCA-F28875B7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E973-D58C-41F6-BA56-42155E4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57B01-66C0-4BBF-B4D8-434EA90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3AA2-62C5-4827-8CA8-A0F3FB8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B254-B12E-447E-BBDB-3612972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064E-ABF1-492E-AEF6-DF53ED5A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EB27-7646-45A7-BCAF-86C0C2FF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625A-3473-4B67-AACC-68DE67EF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29E-1C16-43F1-8705-23DD1B08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B515-00B6-414E-92D5-BE1CCA9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43B21-5D0B-4EF3-B315-EA44D257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B207B-B2E4-4B13-A445-9A63167C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548A-695C-4D19-921A-80212BF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8365-93A5-4845-B27E-4EEAB98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3CCF6-C80F-4F85-9590-1EC04AB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B4DA-8DD5-4361-84F1-AED067F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34FA-AC78-4264-8C4B-EB4199A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08DC-7E0C-4BF4-B175-8B66A50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B640-8D8E-4D28-BE2B-B62B6CC3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188-A0DF-4D87-9B00-1F2F5654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EFDC-37B8-4226-8756-BC51100B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B5DB6-5141-4798-A0E9-AF5770E1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F11D1-BBCF-40C7-8287-16B3A73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CB79-35D7-420C-8107-A0215D9E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D4A83-4F9A-4812-A1F8-EB7397A3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CBDB-99AE-4C4E-BAE4-75D9516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3E68-7CCC-4EB5-B329-A60108C5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9372-84BD-4182-9DCB-7CCA6A6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1563-2AC2-4A6B-B580-D32BCF2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C34C8-A188-4935-846A-27BEBAE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2F8-14B0-4E6A-B5E7-7BDB789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D619-3637-4153-B87C-4F47D37A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6D736-3CF9-4D89-8D69-D71E4F8D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2588-0F3F-47E5-BFC8-CBD3610D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C4E8-F859-46A2-B61E-6A239FAB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A0DA-2B16-4D85-BC8F-AE5067F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4275-3DE8-4A55-8619-64226F4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9E22-EBE1-4645-A705-871DBA91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EBB54-A3EF-41C5-90BC-66E73372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9373-BA09-4B31-9283-D3592DB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D990-77DE-478C-8374-CAF9CE32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ECE-F727-4980-A61B-8F853A0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FFEC-30FC-4C4E-B91F-7C8777D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4B4AE-9C91-468D-BCF2-28A3619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8FD6-4116-4663-A84D-0A106A38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8535-C9AF-462E-A25B-67F05687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9887-7300-469E-BA42-A373EF72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C79B-3D78-4318-BAF2-196D4D50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BDC47-DDB2-4597-9EF0-7C1A3E8C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66F26-4EF7-4DEB-A851-0C071CD2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9C29D-09F6-47E8-B1FB-9285A1F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39F8C-2B03-4A00-A418-B9DAF50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11D-DCD0-40B3-8628-FC90E9CC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702A1-811F-4377-8D6B-47423126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4C325-14C7-408C-93AD-8A9F05C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0CCE8-20D1-4F70-9E72-7FC21DC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A7119-72D2-4894-856E-D0015B11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460BB-A70E-4043-A368-8C42D599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8121-BF41-4540-BF98-A1C12A01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95F3-3430-4FF5-B26B-E76AFEB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AAE77-CC80-4F65-8DC9-84DF57D5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E1A6-D6A6-4D6E-9C37-E9015A6B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9926F-D94E-45DA-9FC3-80E9DA05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E4D-99FB-4102-85C3-5EAD9AE2F8E9}" type="slidenum"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A74C-F9F8-41E6-B4B8-BA4CF961F519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070-9C0D-437A-B878-B026F110A36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0CC-61BE-4201-A76E-B72C84572E4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D48E-8E83-4190-BD3F-6206E4E8A3CB}" type="slidenum"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A65A-5C3C-45CF-9106-CB7A252A359E}" type="slidenum"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25B1-3C42-44B2-9D7A-AFED804EDE76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078-7D3A-492D-96F8-A1F9F1F12B4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BB6-57FE-4636-8AD0-2E7A40678074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28AC-B354-4F28-92AF-E11F838161C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5135-BFF6-4086-9041-2FA02826AC1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3813-740C-4AC1-8D11-20D7797342A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09D-6A61-4FEA-93DC-89DE4063E379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6A7-10B4-4488-AF8D-C77F60B1DEE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2649600" y="2090880"/>
            <a:ext cx="3714840" cy="36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ощадь фигур.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ст.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249960" y="6354720"/>
            <a:ext cx="2773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еометрия 8 класс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 математик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Кощеев М.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"/>
          <p:cNvSpPr/>
          <p:nvPr/>
        </p:nvSpPr>
        <p:spPr>
          <a:xfrm>
            <a:off x="290520" y="0"/>
            <a:ext cx="833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Погорельская СОШ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дринского района Курган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149f060ffd0e41d6e845bf046e118461"/>
          <p:cNvPicPr/>
          <p:nvPr/>
        </p:nvPicPr>
        <p:blipFill>
          <a:blip r:embed="rId1"/>
          <a:stretch/>
        </p:blipFill>
        <p:spPr>
          <a:xfrm>
            <a:off x="5553000" y="4092480"/>
            <a:ext cx="2097000" cy="2359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11876925370"/>
          <p:cNvPicPr/>
          <p:nvPr/>
        </p:nvPicPr>
        <p:blipFill>
          <a:blip r:embed="rId2"/>
          <a:stretch/>
        </p:blipFill>
        <p:spPr>
          <a:xfrm>
            <a:off x="233280" y="203040"/>
            <a:ext cx="2597400" cy="2364120"/>
          </a:xfrm>
          <a:prstGeom prst="rect">
            <a:avLst/>
          </a:prstGeom>
          <a:ln w="0">
            <a:noFill/>
          </a:ln>
        </p:spPr>
      </p:pic>
      <p:sp>
        <p:nvSpPr>
          <p:cNvPr id="630" name="WordArt 4"/>
          <p:cNvSpPr txBox="1"/>
          <p:nvPr/>
        </p:nvSpPr>
        <p:spPr>
          <a:xfrm>
            <a:off x="1752480" y="1049400"/>
            <a:ext cx="6222960" cy="422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2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800" spc="1" strike="noStrike">
              <a:ln w="92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alibri Light"/>
              </a:rPr>
              <a:t>Задание №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площадь данного ром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9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1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Group 4" descr=""/>
          <p:cNvPicPr/>
          <p:nvPr/>
        </p:nvPicPr>
        <p:blipFill>
          <a:blip r:embed="rId1"/>
          <a:stretch/>
        </p:blipFill>
        <p:spPr>
          <a:xfrm>
            <a:off x="1925640" y="2762280"/>
            <a:ext cx="1512720" cy="8161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7"/>
          <p:cNvSpPr/>
          <p:nvPr/>
        </p:nvSpPr>
        <p:spPr>
          <a:xfrm>
            <a:off x="3246480" y="295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226836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2247840" y="29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1"/>
          <p:cNvSpPr/>
          <p:nvPr/>
        </p:nvSpPr>
        <p:spPr>
          <a:xfrm>
            <a:off x="311040" y="636480"/>
            <a:ext cx="764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йдите площадь данного треугольн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32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36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25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8656560" y="358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5"/>
          <p:cNvSpPr/>
          <p:nvPr/>
        </p:nvSpPr>
        <p:spPr>
          <a:xfrm flipH="1" rot="13169400">
            <a:off x="5148000" y="3428280"/>
            <a:ext cx="2353680" cy="1917720"/>
          </a:xfrm>
          <a:prstGeom prst="rtTriangl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6"/>
          <p:cNvSpPr/>
          <p:nvPr/>
        </p:nvSpPr>
        <p:spPr>
          <a:xfrm>
            <a:off x="6012000" y="29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5991120" y="328464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6012000" y="45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4"/>
          <p:cNvSpPr/>
          <p:nvPr/>
        </p:nvSpPr>
        <p:spPr>
          <a:xfrm>
            <a:off x="585720" y="819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йдите площадь ромба, есл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10  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8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40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5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435640" y="2565360"/>
            <a:ext cx="2354400" cy="1943280"/>
          </a:xfrm>
          <a:prstGeom prst="flowChartDecision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AutoShape 5"/>
          <p:cNvCxnSpPr>
            <a:stCxn id="591" idx="1"/>
            <a:endCxn id="591" idx="3"/>
          </p:cNvCxnSpPr>
          <p:nvPr/>
        </p:nvCxnSpPr>
        <p:spPr>
          <a:xfrm>
            <a:off x="5435640" y="3536640"/>
            <a:ext cx="235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AutoShape 6"/>
          <p:cNvCxnSpPr>
            <a:stCxn id="591" idx="0"/>
            <a:endCxn id="591" idx="2"/>
          </p:cNvCxnSpPr>
          <p:nvPr/>
        </p:nvCxnSpPr>
        <p:spPr>
          <a:xfrm>
            <a:off x="6613200" y="2565360"/>
            <a:ext cx="1080" cy="194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4" name="Text Box 7"/>
          <p:cNvSpPr/>
          <p:nvPr/>
        </p:nvSpPr>
        <p:spPr>
          <a:xfrm>
            <a:off x="6227640" y="29242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8785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кощеев М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1"/>
          <p:cNvSpPr/>
          <p:nvPr/>
        </p:nvSpPr>
        <p:spPr>
          <a:xfrm>
            <a:off x="384120" y="81900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йдите площадь треуголь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9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18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Group 4" descr=""/>
          <p:cNvPicPr/>
          <p:nvPr/>
        </p:nvPicPr>
        <p:blipFill>
          <a:blip r:embed="rId1"/>
          <a:stretch/>
        </p:blipFill>
        <p:spPr>
          <a:xfrm>
            <a:off x="5499000" y="26938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443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"/>
          <p:cNvSpPr/>
          <p:nvPr/>
        </p:nvSpPr>
        <p:spPr>
          <a:xfrm>
            <a:off x="530280" y="87012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йдите площадь прямоугольного треуголь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72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18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36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4"/>
          <p:cNvSpPr/>
          <p:nvPr/>
        </p:nvSpPr>
        <p:spPr>
          <a:xfrm flipH="1" rot="5406000">
            <a:off x="5183280" y="2888640"/>
            <a:ext cx="1871640" cy="1655640"/>
          </a:xfrm>
          <a:prstGeom prst="rtTriangl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71636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65164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кощеев М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468360" y="62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5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Group 3" descr=""/>
          <p:cNvPicPr/>
          <p:nvPr/>
        </p:nvPicPr>
        <p:blipFill>
          <a:blip r:embed="rId1"/>
          <a:stretch/>
        </p:blipFill>
        <p:spPr>
          <a:xfrm>
            <a:off x="4846680" y="2919240"/>
            <a:ext cx="3700440" cy="15242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2536920" y="2952720"/>
            <a:ext cx="388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332000" y="17330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площадь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468360" y="3573000"/>
            <a:ext cx="8316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Друг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579600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5796000" y="458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кощеев М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3"/>
          <p:cNvSpPr/>
          <p:nvPr/>
        </p:nvSpPr>
        <p:spPr>
          <a:xfrm>
            <a:off x="341280" y="888840"/>
            <a:ext cx="37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2536920" y="2952720"/>
            <a:ext cx="388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1332000" y="17330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площадь трап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468360" y="3573000"/>
            <a:ext cx="8316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Друг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Group 6" descr=""/>
          <p:cNvPicPr/>
          <p:nvPr/>
        </p:nvPicPr>
        <p:blipFill>
          <a:blip r:embed="rId1"/>
          <a:stretch/>
        </p:blipFill>
        <p:spPr>
          <a:xfrm>
            <a:off x="5711760" y="3206880"/>
            <a:ext cx="2610000" cy="12366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9"/>
          <p:cNvSpPr/>
          <p:nvPr/>
        </p:nvSpPr>
        <p:spPr>
          <a:xfrm>
            <a:off x="7024320" y="2825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6227640" y="3645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7130520" y="4100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"/>
          <p:cNvSpPr/>
          <p:nvPr/>
        </p:nvSpPr>
        <p:spPr>
          <a:xfrm>
            <a:off x="468360" y="636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7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781280" y="4290840"/>
            <a:ext cx="7883280" cy="27133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1"/>
          <p:cNvSpPr/>
          <p:nvPr/>
        </p:nvSpPr>
        <p:spPr>
          <a:xfrm>
            <a:off x="2036880" y="7700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 к тес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955800" y="1800360"/>
          <a:ext cx="7127640" cy="2244600"/>
        </p:xfrm>
        <a:graphic>
          <a:graphicData uri="http://schemas.openxmlformats.org/drawingml/2006/table">
            <a:tbl>
              <a:tblPr/>
              <a:tblGrid>
                <a:gridCol w="1017360"/>
                <a:gridCol w="1019160"/>
                <a:gridCol w="1017720"/>
                <a:gridCol w="1019160"/>
                <a:gridCol w="1017720"/>
                <a:gridCol w="1019160"/>
                <a:gridCol w="1017360"/>
              </a:tblGrid>
              <a:tr h="112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2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1</cp:lastModifiedBy>
  <dcterms:modified xsi:type="dcterms:W3CDTF">2018-06-16T06:13:15Z</dcterms:modified>
  <cp:revision>513</cp:revision>
  <dc:subject/>
  <dc:title>Слайд 1</dc:title>
</cp:coreProperties>
</file>