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398-0BFE-4A37-891C-DF5690AA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98A-2753-47AE-922F-004FB01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819-6388-480B-8057-DCB7742B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CA3-51D4-4D77-B76D-B9BC0A12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7D9C-599F-4C00-B42E-C0C2C6FF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6A04-BF50-4D56-A7E2-6194045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4895-3BC1-4D06-B7A1-34F804CF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BBDB-EFB3-448A-A601-F79CF7BC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692A-46BF-4DB9-871F-5E82C86A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7069-F4DC-46F1-BA74-755E68A4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4B02-6646-4619-AE9D-2ACF4A8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FFC-2747-424B-9963-651BE695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D043-29C8-4F99-A4EC-7749B83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56A4-4D83-4538-BC66-5B79236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F644-7175-4EA0-B77D-C7D9291F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E42E-164A-4336-AD36-D391CD75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4BCF-43A3-428A-9E18-C93D8A40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21E-DF06-4D2C-9C83-B295C1E1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CA3-2EDF-482E-9739-D690E4C7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9C9-542A-4739-ABAA-3316ED99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385-9B7B-4778-9087-88C05051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C60-BC97-433E-ACD4-DE73FB1D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262-2AFD-4754-9944-B6222F29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153-4D84-4505-BCF6-601076D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00C6-09EB-4FA5-B849-76FFA194C7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D802-5E75-436B-AC2E-C53150FC0F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1337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Verdana"/>
              </a:rPr>
              <a:t>To be going to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0000"/>
                </a:solidFill>
                <a:latin typeface="Verdana"/>
              </a:rPr>
              <a:t>To be going to…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Собираться сделать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что-либо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en-US" sz="6800" spc="-1" strike="noStrike">
                <a:solidFill>
                  <a:srgbClr val="000000"/>
                </a:solidFill>
                <a:latin typeface="Verdana"/>
              </a:rPr>
              <a:t>to be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m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       We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  You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He, She, It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is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o be going to + V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1 л.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m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Я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юсь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ы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шьс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3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He, She, It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is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н, она, оно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тс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09480" y="104940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Множественное числ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1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мс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Вы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тесь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3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ни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ются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лавать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твердительное предло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11280" y="1700280"/>
          <a:ext cx="8001000" cy="4479840"/>
        </p:xfrm>
        <a:graphic>
          <a:graphicData uri="http://schemas.openxmlformats.org/drawingml/2006/table">
            <a:tbl>
              <a:tblPr/>
              <a:tblGrid>
                <a:gridCol w="2666880"/>
                <a:gridCol w="2665440"/>
                <a:gridCol w="2668680"/>
              </a:tblGrid>
              <a:tr h="136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ing to swim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/ She/ I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/ You/ They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ительное предло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66640" y="1752480"/>
          <a:ext cx="8001000" cy="4399200"/>
        </p:xfrm>
        <a:graphic>
          <a:graphicData uri="http://schemas.openxmlformats.org/drawingml/2006/table">
            <a:tbl>
              <a:tblPr/>
              <a:tblGrid>
                <a:gridCol w="2667240"/>
                <a:gridCol w="2665440"/>
                <a:gridCol w="2668320"/>
              </a:tblGrid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ing to swim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/ she/ i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/ you/ they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рицательное предло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6640" y="1752480"/>
          <a:ext cx="8001000" cy="4287960"/>
        </p:xfrm>
        <a:graphic>
          <a:graphicData uri="http://schemas.openxmlformats.org/drawingml/2006/table">
            <a:tbl>
              <a:tblPr/>
              <a:tblGrid>
                <a:gridCol w="2665440"/>
                <a:gridCol w="1335240"/>
                <a:gridCol w="1333440"/>
                <a:gridCol w="2666880"/>
              </a:tblGrid>
              <a:tr h="14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ing to swim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/ She/ I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/ You/ The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free_20-pic1"/>
          <p:cNvPicPr/>
          <p:nvPr/>
        </p:nvPicPr>
        <p:blipFill>
          <a:blip r:embed="rId2"/>
          <a:stretch/>
        </p:blipFill>
        <p:spPr>
          <a:xfrm>
            <a:off x="0" y="247680"/>
            <a:ext cx="9144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13:09Z</dcterms:created>
  <dc:creator>User</dc:creator>
  <dc:description/>
  <dc:language>en-US</dc:language>
  <cp:lastModifiedBy>Анюта</cp:lastModifiedBy>
  <dcterms:modified xsi:type="dcterms:W3CDTF">2013-11-25T17:51:37Z</dcterms:modified>
  <cp:revision>5</cp:revision>
  <dc:subject/>
  <dc:title>To be going to… </dc:title>
</cp:coreProperties>
</file>