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0D9-AD15-4335-96E8-FA77DE78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9FC4-2A54-4F68-9E73-4030C42B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CB6-D772-436E-A000-D8DD3645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F74-6234-495E-A221-10B8C987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09D3-0F9E-4AE2-961D-3885B7FA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DB89-D328-4947-8415-D3B6ABAF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06EC-0CDB-40E7-922A-D7E8A4F1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A0D1-4747-4DDB-BA44-76BD2AD2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D72C-7F43-4C8B-BF1D-845A1025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C658-C6C0-480B-AE79-6F133859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8F8C-F511-49E2-8C1F-97321F86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6B6-ECAA-44CA-B80A-AB694B05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D8BB-6347-4B5F-A171-CC8C9DDD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5C3E-A77E-4D40-8A5C-85138AB5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6799-835A-42CC-BF18-CCFB1FFF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430C-2FD9-43EE-B783-985A1C06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7E50-4010-48A9-AE03-7DCBFFC0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258-A045-4BAF-AE05-3587215F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230C-2693-41DA-82A3-6D8E3D3E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A84-9A68-4031-8254-EC093A58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7F6C-4B32-475D-9254-8EA9B071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CB2-FDBA-4561-AE6A-7E4AF3A8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B3F-B27F-46FA-94C4-48716F36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DCBB-7139-4453-B2D5-7C480185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49F4-B2D8-4848-8621-B8EAD44F576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C8A6-F16B-4BD7-84CC-200EECD08FE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21337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Verdana"/>
              </a:rPr>
              <a:t>To be going to…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cc0000"/>
                </a:solidFill>
                <a:latin typeface="Verdana"/>
              </a:rPr>
              <a:t>To be going to…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Verdana"/>
              </a:rPr>
              <a:t>Собираться сделать 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Verdana"/>
              </a:rPr>
              <a:t>что-либо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400" spc="-1" strike="noStrike">
                <a:solidFill>
                  <a:srgbClr val="000000"/>
                </a:solidFill>
                <a:latin typeface="Verdana"/>
              </a:rPr>
              <a:t>Глагол </a:t>
            </a:r>
            <a:r>
              <a:rPr b="1" lang="en-US" sz="6800" spc="-1" strike="noStrike">
                <a:solidFill>
                  <a:srgbClr val="000000"/>
                </a:solidFill>
                <a:latin typeface="Verdana"/>
              </a:rPr>
              <a:t>to be</a:t>
            </a:r>
            <a:endParaRPr b="0" lang="en-US" sz="6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en-US" sz="4600" spc="-1" strike="noStrike">
                <a:solidFill>
                  <a:srgbClr val="cc0000"/>
                </a:solidFill>
                <a:latin typeface="Verdana"/>
              </a:rPr>
              <a:t>am</a:t>
            </a: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          We </a:t>
            </a:r>
            <a:r>
              <a:rPr b="1" lang="en-US" sz="4600" spc="-1" strike="noStrike">
                <a:solidFill>
                  <a:srgbClr val="cc0000"/>
                </a:solidFill>
                <a:latin typeface="Verdana"/>
              </a:rPr>
              <a:t>are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lang="en-US" sz="4600" spc="-1" strike="noStrike">
                <a:solidFill>
                  <a:srgbClr val="cc0000"/>
                </a:solidFill>
                <a:latin typeface="Verdana"/>
              </a:rPr>
              <a:t>are </a:t>
            </a: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     You </a:t>
            </a:r>
            <a:r>
              <a:rPr b="1" lang="en-US" sz="4600" spc="-1" strike="noStrike">
                <a:solidFill>
                  <a:srgbClr val="cc0000"/>
                </a:solidFill>
                <a:latin typeface="Verdana"/>
              </a:rPr>
              <a:t>are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He, She, It </a:t>
            </a:r>
            <a:r>
              <a:rPr b="1" lang="en-US" sz="4600" spc="-1" strike="noStrike">
                <a:solidFill>
                  <a:srgbClr val="cc0000"/>
                </a:solidFill>
                <a:latin typeface="Verdana"/>
              </a:rPr>
              <a:t>is </a:t>
            </a:r>
            <a:r>
              <a:rPr b="1" lang="en-US" sz="4600" spc="-1" strike="noStrike">
                <a:solidFill>
                  <a:srgbClr val="000000"/>
                </a:solidFill>
                <a:latin typeface="Verdana"/>
              </a:rPr>
              <a:t>They </a:t>
            </a:r>
            <a:r>
              <a:rPr b="1" lang="en-US" sz="4600" spc="-1" strike="noStrike">
                <a:solidFill>
                  <a:srgbClr val="cc0000"/>
                </a:solidFill>
                <a:latin typeface="Verdana"/>
              </a:rPr>
              <a:t>are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To be going to + V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1 л.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am going to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swim –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Я </a:t>
            </a: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собираюсь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плавать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2 л.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are going to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swim –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ы </a:t>
            </a: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собираешься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плавать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3 л.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He, She, It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is going to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swim –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н, она, оно </a:t>
            </a: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собирается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плавать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09480" y="104940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динственное чис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Множественное числ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1 л.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We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are going to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swim –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собираемся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плавать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2 л.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are going to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swim –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Вы </a:t>
            </a: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собираетесь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плавать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3 л.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They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</a:rPr>
              <a:t>are going to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swim –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ни </a:t>
            </a: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собираются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плавать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твердительное предлож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11280" y="1700280"/>
          <a:ext cx="8001000" cy="4479840"/>
        </p:xfrm>
        <a:graphic>
          <a:graphicData uri="http://schemas.openxmlformats.org/drawingml/2006/table">
            <a:tbl>
              <a:tblPr/>
              <a:tblGrid>
                <a:gridCol w="2666880"/>
                <a:gridCol w="2665440"/>
                <a:gridCol w="2668680"/>
              </a:tblGrid>
              <a:tr h="136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ing to swim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/ She/ I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/ You/ They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просительное предлож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66640" y="1752480"/>
          <a:ext cx="8001000" cy="4399200"/>
        </p:xfrm>
        <a:graphic>
          <a:graphicData uri="http://schemas.openxmlformats.org/drawingml/2006/table">
            <a:tbl>
              <a:tblPr/>
              <a:tblGrid>
                <a:gridCol w="2667240"/>
                <a:gridCol w="2665440"/>
                <a:gridCol w="2668320"/>
              </a:tblGrid>
              <a:tr h="142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ing to swim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/ she/ i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/ you/ they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рицательное предлож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66640" y="1752480"/>
          <a:ext cx="8001000" cy="4287960"/>
        </p:xfrm>
        <a:graphic>
          <a:graphicData uri="http://schemas.openxmlformats.org/drawingml/2006/table">
            <a:tbl>
              <a:tblPr/>
              <a:tblGrid>
                <a:gridCol w="2665440"/>
                <a:gridCol w="1335240"/>
                <a:gridCol w="1333440"/>
                <a:gridCol w="2666880"/>
              </a:tblGrid>
              <a:tr h="14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ing to swim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/ She/ I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/ You/ The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free_20-pic1"/>
          <p:cNvPicPr/>
          <p:nvPr/>
        </p:nvPicPr>
        <p:blipFill>
          <a:blip r:embed="rId2"/>
          <a:stretch/>
        </p:blipFill>
        <p:spPr>
          <a:xfrm>
            <a:off x="0" y="247680"/>
            <a:ext cx="914400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9:13:09Z</dcterms:created>
  <dc:creator>User</dc:creator>
  <dc:description/>
  <dc:language>en-US</dc:language>
  <cp:lastModifiedBy>Анюта</cp:lastModifiedBy>
  <dcterms:modified xsi:type="dcterms:W3CDTF">2013-11-25T17:51:37Z</dcterms:modified>
  <cp:revision>5</cp:revision>
  <dc:subject/>
  <dc:title>To be going to… </dc:title>
</cp:coreProperties>
</file>