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EB37-2DA7-41F4-908E-88538128B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4527-5A53-4388-8FD2-66F4DCB7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7400-DFF9-4FD7-ACCD-6D8FEA135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E6BF-73D4-486A-93B8-08BCE62B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AFC3-4EBD-4931-B1B7-433998D6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6DB-68D6-44FA-AC6B-FFA142315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8892-9CBD-4291-9BC3-9956125B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298-D713-4C61-8521-A92B0F66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CF3-DAF5-4484-A057-5371709FC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9E33-DEFF-4A57-BB9E-5310DF9C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99B3-14B8-4477-B40B-F28E7E15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D22-EB81-4879-85BF-75EF2AE5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2B8-2F67-4F72-ADA7-617287E48F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1757" t="0" r="0" b="0"/>
          <a:stretch/>
        </p:blipFill>
        <p:spPr>
          <a:xfrm>
            <a:off x="6156360" y="-12600"/>
            <a:ext cx="298764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36360" y="-12600"/>
            <a:ext cx="619272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0920" y="2130120"/>
            <a:ext cx="460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о 2 класс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спективная начальная школ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rcRect l="7670" t="68913" r="77559" b="6578"/>
          <a:stretch/>
        </p:blipFill>
        <p:spPr>
          <a:xfrm>
            <a:off x="-36360" y="1557360"/>
            <a:ext cx="3816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705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781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зн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79280" y="2708280"/>
            <a:ext cx="7417080" cy="151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220840" y="3774960"/>
            <a:ext cx="470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– 9 солдат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– столько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-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1414440" y="442800"/>
            <a:ext cx="63849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699920"/>
            <a:ext cx="709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+9=18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2=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805360"/>
            <a:ext cx="52167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92360" y="2421000"/>
            <a:ext cx="38163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763640" y="3860640"/>
            <a:ext cx="3816360" cy="129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0" y="1484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965920" cy="283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050920" y="3019320"/>
            <a:ext cx="5965920" cy="2830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1908000" y="5850000"/>
            <a:ext cx="67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олдатико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ВОИЛО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ВЕЛИЧИЛОСЬ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и по запросу грибы"/>
          <p:cNvPicPr/>
          <p:nvPr/>
        </p:nvPicPr>
        <p:blipFill>
          <a:blip r:embed="rId2"/>
          <a:stretch/>
        </p:blipFill>
        <p:spPr>
          <a:xfrm>
            <a:off x="1454040" y="981000"/>
            <a:ext cx="7005600" cy="35132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479600" y="4941720"/>
            <a:ext cx="57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рибов ещё нужно найти, чтобы их числ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воило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95280" y="1268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24000" y="189000"/>
            <a:ext cx="8178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 числа в 3 раз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*3=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*3=1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3=27</a:t>
            </a: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324000" y="189000"/>
            <a:ext cx="8178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 числа в 5 раз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*5=3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*5=2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5=45</a:t>
            </a: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540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г*4=8 к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кг+1кг+1кг+1кг=8кг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0" y="3068640"/>
            <a:ext cx="9144000" cy="144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42560" y="177336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611280" y="324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 *3=12с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Рисунок 4" descr="https://ds02.infourok.ru/uploads/ex/0d76/0006fecd-331a8760/img1.jpg"/>
          <p:cNvPicPr/>
          <p:nvPr/>
        </p:nvPicPr>
        <p:blipFill>
          <a:blip r:embed="rId2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дм*3=18д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м*3=18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кг*3=15к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ц*3=12ц+12ц+12ц=36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ц*5=15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г*5=35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м*5=50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дм*5=20д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*5=10с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1332000" y="21420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п.о. №1 стр.61, № 2         стр. 61,учебник стр.    правило, повтори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и 8 столбик таблицы умно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79280" y="476280"/>
            <a:ext cx="8964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способ изучить что-либо - это открыть самому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жордж Пой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https://ds02.infourok.ru/uploads/ex/0371/0004be60-51c85c5c/img3.jpg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-4680" y="-36360"/>
            <a:ext cx="9144000" cy="6887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1476360" y="150804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476360" y="189000"/>
          <a:ext cx="6120000" cy="6802200"/>
        </p:xfrm>
        <a:graphic>
          <a:graphicData uri="http://schemas.openxmlformats.org/drawingml/2006/table">
            <a:tbl>
              <a:tblPr/>
              <a:tblGrid>
                <a:gridCol w="1393920"/>
                <a:gridCol w="1574640"/>
                <a:gridCol w="1576440"/>
                <a:gridCol w="1575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476360" y="189000"/>
          <a:ext cx="6120000" cy="6802200"/>
        </p:xfrm>
        <a:graphic>
          <a:graphicData uri="http://schemas.openxmlformats.org/drawingml/2006/table">
            <a:tbl>
              <a:tblPr/>
              <a:tblGrid>
                <a:gridCol w="1393920"/>
                <a:gridCol w="1574640"/>
                <a:gridCol w="1576440"/>
                <a:gridCol w="1575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9"/>
          <p:cNvSpPr/>
          <p:nvPr/>
        </p:nvSpPr>
        <p:spPr>
          <a:xfrm>
            <a:off x="305928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457200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615636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2987640" y="1557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6084720" y="1557360"/>
            <a:ext cx="1008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3059280" y="2708280"/>
            <a:ext cx="100800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4572000" y="2708280"/>
            <a:ext cx="100800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6"/>
          <p:cNvSpPr/>
          <p:nvPr/>
        </p:nvSpPr>
        <p:spPr>
          <a:xfrm>
            <a:off x="6084720" y="2708280"/>
            <a:ext cx="100836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7"/>
          <p:cNvSpPr/>
          <p:nvPr/>
        </p:nvSpPr>
        <p:spPr>
          <a:xfrm>
            <a:off x="4572000" y="5229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8"/>
          <p:cNvSpPr/>
          <p:nvPr/>
        </p:nvSpPr>
        <p:spPr>
          <a:xfrm>
            <a:off x="6084720" y="5084640"/>
            <a:ext cx="1008360" cy="86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6156360" y="393372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3059280" y="5084640"/>
            <a:ext cx="1008000" cy="86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9636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еличить  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 …. раз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9636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еличить  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  в  2 раз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634920" y="5805360"/>
            <a:ext cx="52167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Увеличение в несколько раз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-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        увеличить число в несколько раз;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00000" y="3933720"/>
            <a:ext cx="6408720" cy="292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705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ть число в несколько раз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ь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при выполнении различных задани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2708280"/>
            <a:ext cx="9144000" cy="151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0" y="5084640"/>
            <a:ext cx="914400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5:54:36Z</dcterms:created>
  <dc:creator>Пользователь</dc:creator>
  <dc:description/>
  <dc:language>en-US</dc:language>
  <cp:lastModifiedBy>Руслан</cp:lastModifiedBy>
  <dcterms:modified xsi:type="dcterms:W3CDTF">2018-01-28T18:01:30Z</dcterms:modified>
  <cp:revision>84</cp:revision>
  <dc:subject/>
  <dc:title>Тема:  «Увеличение в несколько раз»</dc:title>
</cp:coreProperties>
</file>