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4E48-F7A7-4E6D-8AE1-8155DED91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9B3E-A43E-4D5D-88B2-583F0A65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C9B5-9FBD-4EAE-941B-479386087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D5A7-0563-4298-AA93-1977BED28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1D97-C488-4D61-B44B-D40EAA2F1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D589-467C-4286-AC0A-D146C335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70C4-99CD-4D7C-9581-7E44F9F7B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B619-EA35-413E-BA28-FF933932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1E6F-BCFE-49D6-9DF4-01513CCD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6C0-77A4-443A-827A-9B2F2780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650E-AF3D-42F6-94C3-385ACCDB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6BC3-8E35-443D-9AD7-52D786D2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951D-B405-4FEE-8967-2803BDF4F2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rcRect l="51757" t="0" r="0" b="0"/>
          <a:stretch/>
        </p:blipFill>
        <p:spPr>
          <a:xfrm>
            <a:off x="6156360" y="-12600"/>
            <a:ext cx="2987640" cy="6865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-36360" y="-12600"/>
            <a:ext cx="6192720" cy="6865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50920" y="2130120"/>
            <a:ext cx="46069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 математики во 2 класс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Перспективная начальная школа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3"/>
          <a:srcRect l="7670" t="68913" r="77559" b="6578"/>
          <a:stretch/>
        </p:blipFill>
        <p:spPr>
          <a:xfrm>
            <a:off x="-36360" y="1557360"/>
            <a:ext cx="381636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7058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7812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репить –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ные знания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5"/>
          <p:cNvSpPr/>
          <p:nvPr/>
        </p:nvSpPr>
        <p:spPr>
          <a:xfrm>
            <a:off x="179280" y="2708280"/>
            <a:ext cx="7417080" cy="151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86" name="Прямоугольник 3"/>
          <p:cNvSpPr/>
          <p:nvPr/>
        </p:nvSpPr>
        <p:spPr>
          <a:xfrm>
            <a:off x="2220840" y="3774960"/>
            <a:ext cx="4702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ло – 9 солдат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арили – столько ж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ло -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1414440" y="442800"/>
            <a:ext cx="638496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699920"/>
            <a:ext cx="7093080" cy="403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+9=18</a:t>
            </a:r>
            <a:br>
              <a:rPr sz="8000"/>
            </a:b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*2=18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634920" y="5805360"/>
            <a:ext cx="52167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1" name="Прямоугольник 4"/>
          <p:cNvSpPr/>
          <p:nvPr/>
        </p:nvSpPr>
        <p:spPr>
          <a:xfrm>
            <a:off x="1692360" y="2421000"/>
            <a:ext cx="38163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5"/>
          <p:cNvSpPr/>
          <p:nvPr/>
        </p:nvSpPr>
        <p:spPr>
          <a:xfrm>
            <a:off x="1763640" y="3860640"/>
            <a:ext cx="3816360" cy="1297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6"/>
          <p:cNvSpPr/>
          <p:nvPr/>
        </p:nvSpPr>
        <p:spPr>
          <a:xfrm>
            <a:off x="0" y="148428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945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2"/>
          <a:stretch/>
        </p:blipFill>
        <p:spPr>
          <a:xfrm>
            <a:off x="2050920" y="189000"/>
            <a:ext cx="5965920" cy="2830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2050920" y="3019320"/>
            <a:ext cx="5965920" cy="283068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1908000" y="5850000"/>
            <a:ext cx="67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солдатико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ВОИЛОС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л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ВЕЛИЧИЛОСЬ В 2 РАЗ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Картинки по запросу грибы"/>
          <p:cNvPicPr/>
          <p:nvPr/>
        </p:nvPicPr>
        <p:blipFill>
          <a:blip r:embed="rId2"/>
          <a:stretch/>
        </p:blipFill>
        <p:spPr>
          <a:xfrm>
            <a:off x="1454040" y="981000"/>
            <a:ext cx="7005600" cy="351324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3"/>
          <p:cNvSpPr/>
          <p:nvPr/>
        </p:nvSpPr>
        <p:spPr>
          <a:xfrm>
            <a:off x="1479600" y="4941720"/>
            <a:ext cx="575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лько грибов ещё нужно найти, чтобы их число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двоилось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3"/>
          <p:cNvSpPr/>
          <p:nvPr/>
        </p:nvSpPr>
        <p:spPr>
          <a:xfrm>
            <a:off x="1547640" y="242100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4"/>
          <p:cNvSpPr/>
          <p:nvPr/>
        </p:nvSpPr>
        <p:spPr>
          <a:xfrm>
            <a:off x="395280" y="1268280"/>
            <a:ext cx="820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ь себя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3"/>
          <p:cNvSpPr/>
          <p:nvPr/>
        </p:nvSpPr>
        <p:spPr>
          <a:xfrm>
            <a:off x="324000" y="189000"/>
            <a:ext cx="8178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ь числа в 3 раз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*3=21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*3=1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*3=27</a:t>
            </a: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3"/>
          <p:cNvSpPr/>
          <p:nvPr/>
        </p:nvSpPr>
        <p:spPr>
          <a:xfrm>
            <a:off x="1547640" y="242100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3"/>
          <p:cNvSpPr/>
          <p:nvPr/>
        </p:nvSpPr>
        <p:spPr>
          <a:xfrm>
            <a:off x="324000" y="189000"/>
            <a:ext cx="81784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ь числа в 5 раза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7*5=3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*5=25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*5=45</a:t>
            </a:r>
            <a:r>
              <a:rPr b="1" lang="ru-RU" sz="8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	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"/>
          <p:cNvSpPr/>
          <p:nvPr/>
        </p:nvSpPr>
        <p:spPr>
          <a:xfrm>
            <a:off x="1547640" y="2421000"/>
            <a:ext cx="695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0" y="1628640"/>
            <a:ext cx="954072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г*4=8 кг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кг+1кг+1кг+1кг=8кг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3"/>
          <p:cNvSpPr/>
          <p:nvPr/>
        </p:nvSpPr>
        <p:spPr>
          <a:xfrm>
            <a:off x="0" y="3068640"/>
            <a:ext cx="9144000" cy="1440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042560" y="1773360"/>
            <a:ext cx="67690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611280" y="3244680"/>
            <a:ext cx="853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 *3=12с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634920" y="3573360"/>
            <a:ext cx="52167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49" name="Рисунок 4" descr="https://ds02.infourok.ru/uploads/ex/0d76/0006fecd-331a8760/img1.jpg"/>
          <p:cNvPicPr/>
          <p:nvPr/>
        </p:nvPicPr>
        <p:blipFill>
          <a:blip r:embed="rId2"/>
          <a:stretch/>
        </p:blipFill>
        <p:spPr>
          <a:xfrm>
            <a:off x="324000" y="0"/>
            <a:ext cx="85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дм*3=18д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м*3=18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кг*3=15кг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ц*3=12ц+12ц+12ц=36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539640" y="1052640"/>
            <a:ext cx="8064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ц*5=15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кг*5=35ц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м*5=50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дм*5=20д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м*5=10см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3"/>
          <p:cNvSpPr/>
          <p:nvPr/>
        </p:nvSpPr>
        <p:spPr>
          <a:xfrm>
            <a:off x="1332000" y="214200"/>
            <a:ext cx="8136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 п.о. №1 стр.61, № 2         стр. 61,учебник стр.    правило, повторить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и 8 столбик таблицы умнож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оугольник 3"/>
          <p:cNvSpPr/>
          <p:nvPr/>
        </p:nvSpPr>
        <p:spPr>
          <a:xfrm>
            <a:off x="179280" y="476280"/>
            <a:ext cx="896472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ий способ изучить что-либо - это открыть самому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жордж Пой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-87480"/>
            <a:ext cx="9144000" cy="694548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https://ds02.infourok.ru/uploads/ex/0371/0004be60-51c85c5c/img3.jpg"/>
          <p:cNvPicPr/>
          <p:nvPr/>
        </p:nvPicPr>
        <p:blipFill>
          <a:blip r:embed="rId2"/>
          <a:stretch/>
        </p:blipFill>
        <p:spPr>
          <a:xfrm>
            <a:off x="179280" y="0"/>
            <a:ext cx="864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-4680" y="-36360"/>
            <a:ext cx="9144000" cy="6887880"/>
          </a:xfrm>
          <a:prstGeom prst="rect">
            <a:avLst/>
          </a:prstGeom>
          <a:ln w="0">
            <a:noFill/>
          </a:ln>
        </p:spPr>
      </p:pic>
      <p:sp>
        <p:nvSpPr>
          <p:cNvPr id="127" name="Прямоугольник 2"/>
          <p:cNvSpPr/>
          <p:nvPr/>
        </p:nvSpPr>
        <p:spPr>
          <a:xfrm>
            <a:off x="1476360" y="1508040"/>
            <a:ext cx="695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РАБОТУ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"/>
          <p:cNvGraphicFramePr/>
          <p:nvPr/>
        </p:nvGraphicFramePr>
        <p:xfrm>
          <a:off x="1476360" y="189000"/>
          <a:ext cx="6120000" cy="6802200"/>
        </p:xfrm>
        <a:graphic>
          <a:graphicData uri="http://schemas.openxmlformats.org/drawingml/2006/table">
            <a:tbl>
              <a:tblPr/>
              <a:tblGrid>
                <a:gridCol w="1393920"/>
                <a:gridCol w="1574640"/>
                <a:gridCol w="1576440"/>
                <a:gridCol w="15750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Похожее изображение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476360" y="189000"/>
          <a:ext cx="6120000" cy="6802200"/>
        </p:xfrm>
        <a:graphic>
          <a:graphicData uri="http://schemas.openxmlformats.org/drawingml/2006/table">
            <a:tbl>
              <a:tblPr/>
              <a:tblGrid>
                <a:gridCol w="1393920"/>
                <a:gridCol w="1574640"/>
                <a:gridCol w="1576440"/>
                <a:gridCol w="1575000"/>
              </a:tblGrid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8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2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9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7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Прямоугольник 9"/>
          <p:cNvSpPr/>
          <p:nvPr/>
        </p:nvSpPr>
        <p:spPr>
          <a:xfrm>
            <a:off x="3059280" y="333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10"/>
          <p:cNvSpPr/>
          <p:nvPr/>
        </p:nvSpPr>
        <p:spPr>
          <a:xfrm>
            <a:off x="4572000" y="333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11"/>
          <p:cNvSpPr/>
          <p:nvPr/>
        </p:nvSpPr>
        <p:spPr>
          <a:xfrm>
            <a:off x="6156360" y="333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Прямоугольник 12"/>
          <p:cNvSpPr/>
          <p:nvPr/>
        </p:nvSpPr>
        <p:spPr>
          <a:xfrm>
            <a:off x="2987640" y="1557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Прямоугольник 13"/>
          <p:cNvSpPr/>
          <p:nvPr/>
        </p:nvSpPr>
        <p:spPr>
          <a:xfrm>
            <a:off x="6084720" y="1557360"/>
            <a:ext cx="100836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14"/>
          <p:cNvSpPr/>
          <p:nvPr/>
        </p:nvSpPr>
        <p:spPr>
          <a:xfrm>
            <a:off x="3059280" y="2708280"/>
            <a:ext cx="100800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5"/>
          <p:cNvSpPr/>
          <p:nvPr/>
        </p:nvSpPr>
        <p:spPr>
          <a:xfrm>
            <a:off x="4572000" y="2708280"/>
            <a:ext cx="100800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6"/>
          <p:cNvSpPr/>
          <p:nvPr/>
        </p:nvSpPr>
        <p:spPr>
          <a:xfrm>
            <a:off x="6084720" y="2708280"/>
            <a:ext cx="1008360" cy="865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7"/>
          <p:cNvSpPr/>
          <p:nvPr/>
        </p:nvSpPr>
        <p:spPr>
          <a:xfrm>
            <a:off x="4572000" y="522936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8"/>
          <p:cNvSpPr/>
          <p:nvPr/>
        </p:nvSpPr>
        <p:spPr>
          <a:xfrm>
            <a:off x="6084720" y="5084640"/>
            <a:ext cx="1008360" cy="86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9"/>
          <p:cNvSpPr/>
          <p:nvPr/>
        </p:nvSpPr>
        <p:spPr>
          <a:xfrm>
            <a:off x="6156360" y="3933720"/>
            <a:ext cx="1008000" cy="8636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0"/>
          <p:cNvSpPr/>
          <p:nvPr/>
        </p:nvSpPr>
        <p:spPr>
          <a:xfrm>
            <a:off x="3059280" y="5084640"/>
            <a:ext cx="1008000" cy="8654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39636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еличить  </a:t>
            </a:r>
            <a:br>
              <a:rPr sz="8000"/>
            </a:b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 …. раз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634920" y="3573360"/>
            <a:ext cx="52167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60" y="2130120"/>
            <a:ext cx="9396360" cy="353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увеличить  </a:t>
            </a:r>
            <a:br>
              <a:rPr sz="8000"/>
            </a:br>
            <a:r>
              <a:rPr b="1" lang="ru-RU" sz="8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9  в  2 раза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634920" y="5805360"/>
            <a:ext cx="5216760" cy="10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Увеличение в несколько раз»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34920" y="3573360"/>
            <a:ext cx="5216760" cy="32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-360" y="1341360"/>
            <a:ext cx="8101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 уро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яснить-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значит        увеличить число в несколько раз;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3"/>
          <p:cNvSpPr/>
          <p:nvPr/>
        </p:nvSpPr>
        <p:spPr>
          <a:xfrm>
            <a:off x="900000" y="3933720"/>
            <a:ext cx="6408720" cy="2924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Картинки по запросу скачать шаблон презентации по математике"/>
          <p:cNvPicPr/>
          <p:nvPr/>
        </p:nvPicPr>
        <p:blipFill>
          <a:blip r:embed="rId1"/>
          <a:stretch/>
        </p:blipFill>
        <p:spPr>
          <a:xfrm>
            <a:off x="0" y="-747720"/>
            <a:ext cx="9144000" cy="77058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0" y="549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дачи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6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рока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иться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ть число в несколько раз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ть –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знания при выполнении различных задани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0" y="2708280"/>
            <a:ext cx="9144000" cy="1512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0" y="5084640"/>
            <a:ext cx="9144000" cy="15130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20T15:54:36Z</dcterms:created>
  <dc:creator>Пользователь</dc:creator>
  <dc:description/>
  <dc:language>en-US</dc:language>
  <cp:lastModifiedBy>Руслан</cp:lastModifiedBy>
  <dcterms:modified xsi:type="dcterms:W3CDTF">2018-01-28T18:01:30Z</dcterms:modified>
  <cp:revision>84</cp:revision>
  <dc:subject/>
  <dc:title>Тема:  «Увеличение в несколько раз»</dc:title>
</cp:coreProperties>
</file>