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48C-5C8B-4EAE-9AAB-6F062A87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9DD-2DEE-49BD-8127-12B0F4FB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50C-0083-4C3E-AF1F-2CA34D9E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F2C0-C9E5-482F-A52E-97F377F2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7B1D-5843-48ED-A778-B3316175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8E57-FA16-45C7-8A2C-77194CF1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3BC0-7D29-435D-B971-6B48D0E0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84F0-EF1B-4909-A9D6-D6101EA5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C36F-AD24-4E87-B1BD-69749B26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1D2B-C943-4E31-9911-DD7AAE58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B716-A27B-4546-AD70-B9C24498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8F1-1091-422F-892D-2E9C52DB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2E69-4C33-4149-8E60-0C0F3711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BB55-6EA8-4D22-B14C-6E9CA3F1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4CAD-4C4A-4FE1-9240-D1E6A2A6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6BBF-9AFD-4676-A2C5-CA7F035A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1052-9992-4B55-A8A6-2676180D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2F3-C4B7-46A1-89DF-184F45AF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340-5480-4A23-9CC6-72C9BC77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0E9-C57B-49DC-9E41-754B02D5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D72-FDC7-4D3C-81B6-0E70A226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D8A3-0D30-4142-816A-2D578432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210-678C-4602-B799-20D4EE46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AB3-7532-4802-9223-493B65F3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0915-03C6-4939-B5D6-10AB437A026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1540-B9F6-4491-8014-387C656113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108000" y="0"/>
            <a:ext cx="9036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Глава 1. Безопасность и защита человека в опасных ситуациях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1.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5.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ы безопасности жизнедеятельности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9280" y="2707920"/>
            <a:ext cx="770436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ебник ОБЖ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ирнов А.Т. Хренников Б.О.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1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р. 28-33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просы и задания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7" descr="065F9D098A43EAF441BF69EFFF3D37DE"/>
          <p:cNvPicPr/>
          <p:nvPr/>
        </p:nvPicPr>
        <p:blipFill>
          <a:blip r:embed="rId1"/>
          <a:stretch/>
        </p:blipFill>
        <p:spPr>
          <a:xfrm>
            <a:off x="0" y="2997360"/>
            <a:ext cx="1835280" cy="1263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0" y="3284640"/>
            <a:ext cx="91440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С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же делятся н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иродны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техногенны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оциальные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E5A7BED2C994625A3AE3CEC691BFB2AB"/>
          <p:cNvPicPr/>
          <p:nvPr/>
        </p:nvPicPr>
        <p:blipFill>
          <a:blip r:embed="rId2"/>
          <a:stretch/>
        </p:blipFill>
        <p:spPr>
          <a:xfrm>
            <a:off x="0" y="0"/>
            <a:ext cx="8675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ЧС природного характера могут быть вызван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млетрясением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воднением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аганом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урей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мерчем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олзне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лем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унам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вержением вулкан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иклон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ди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ЧС техногенного характера могут быть вызван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мышленной авари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рыв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портной авари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жар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дродинамической аварие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8532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С социального характера наступают вследствие ведения военных действий, при террористических актах, при эпидемиях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3789360"/>
            <a:ext cx="82296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того чтобы научиться безопасному поведению, необходимо: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решать ситуационные задачи, продумывая свое поведение в различных условиях;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стоянно совершенствовать свои физические качества, занимаясь физической культурой и спортом, закаливанием организма;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стоянно воспитывать в себе волевые качества и уравновешенность, которые помогут сохранить спокойствие в сложной обстановке и найти рациональный путь выхода из не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9F4A9BB255A9EF182FAC9B0058BFD765"/>
          <p:cNvPicPr/>
          <p:nvPr/>
        </p:nvPicPr>
        <p:blipFill>
          <a:blip r:embed="rId1"/>
          <a:stretch/>
        </p:blipFill>
        <p:spPr>
          <a:xfrm>
            <a:off x="0" y="0"/>
            <a:ext cx="914400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4" descr="90CBDF9857DDACA0B8F2F3B4B3B2BA1F"/>
          <p:cNvPicPr/>
          <p:nvPr/>
        </p:nvPicPr>
        <p:blipFill>
          <a:blip r:embed="rId1"/>
          <a:stretch/>
        </p:blipFill>
        <p:spPr>
          <a:xfrm>
            <a:off x="0" y="0"/>
            <a:ext cx="8820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которые люди считают, что с ними никогда не случится ничего плохого, что все неприятности существуют не для них. До определенного времени так может и быть. Однако самые тяжелые последствия опасной ситуации постигают человека, который ее не ожидал и не был готов к грамотным действиям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мните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обеспечить себе благополучную жизнь и максимально использовать все блага жизни в городе, человек должен не только соблюдать ряд общепринятых правил поведения, но и целенаправленно готовиться к безопасному поведению в различных опасных и чрезвычайных ситуациях, владеть определенными знаниями, умениями и навыками в области безопасности жизнедеятельност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ы безопасности жизнедеятельности - это система поведения человека в повседневной жизни, снижающего вероятность опасной ситуации и уменьшающего ущерб от последствий опасных и чрезвычайных ситуац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 всем этом более подробно будет идти разговор на уроках ОБЖ во всех классах общеобразовательной школы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защиты человека от последствий опасных и чрезвычайных ситуаций, а также для ликвидации этих последствий в нашей стране создан и действует целый ряд служб, номера телефонов которых и правила их вызова надо зн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новные службы и номера их телефонов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жарная охрана и спасатели - 01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лиция - 02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рая медицинская помощь - 03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арийная газовая служба - 04. </a:t>
            </a:r>
            <a:br>
              <a:rPr sz="3200"/>
            </a:br>
            <a:br>
              <a:rPr sz="3200"/>
            </a:b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 недавнего времени любую из этих служб можно вызвать по телефону 01 или сот.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Аннотация к уроку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Жизнь в городах была всегда привлекательна для человека, потому что город позволил людям наиболее полно обеспечить их насущные потребности, в то же время очень часто город становится источником опасной ситуации для тех, кто незнаком с основными правилами безопасности</a:t>
            </a:r>
            <a:br>
              <a:rPr sz="1400"/>
            </a:br>
            <a:br>
              <a:rPr sz="24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лан:</a:t>
            </a: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Основные особенности город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Опасные ситуации создает человек, нарушающий правила поведения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Опасные ситуации техногенного, природного и социального характер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Чрезвычайная ситуация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Классификация Ч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Обучение и подготовка к безопасному поведе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Правила вызова экстренных служб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Заключение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Вопросы для самопровер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ля вызова этих служб по телефону необходимо: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- набрать номер службы;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- коротко сообщить диспетчеру причину вызова службы;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- сообщить свой точный адрес (улица, номер дома и квартиры, этаж, подъезд, код);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- назвать свою фамилию и номер телефона, с которого передается вызов;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- записать фамилию дежурного, принявшего ваш вызов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77314F8D70F2F6444E64362749DE3475"/>
          <p:cNvPicPr/>
          <p:nvPr/>
        </p:nvPicPr>
        <p:blipFill>
          <a:blip r:embed="rId1"/>
          <a:stretch/>
        </p:blipFill>
        <p:spPr>
          <a:xfrm>
            <a:off x="0" y="0"/>
            <a:ext cx="3564000" cy="245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ECA296C321AC20706C86C2F5B2034B78"/>
          <p:cNvPicPr/>
          <p:nvPr/>
        </p:nvPicPr>
        <p:blipFill>
          <a:blip r:embed="rId2"/>
          <a:stretch/>
        </p:blipFill>
        <p:spPr>
          <a:xfrm>
            <a:off x="4932360" y="0"/>
            <a:ext cx="33908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ы узнали, что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- При стечении обстоятельств опасность может привести к несчастному случаю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- Опасные ситуации создает человек, нарушающий правила поведения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- Чрезвычайная ситуация отличается от опасной, тяжестью последствий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- Необходимо владеть знаниями, умениями и навыками в области безопасность жизнедеятельност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. Дайте определение опасной ситуации. В чем ее отличие от чрезвычайной ситуации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. Что такое безопасное поведение?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. Узнайте и запишите номера телефонов оперативного дежурного Управления по делам гражданской обороны и чрезвычайным ситуациям города и Службы спас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МНИТЕ!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езопасное поведение - предвидеть опасности, уметь их избегать, знать, как вести себя в опасной ситуации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МНИТЕ!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жарная охрана и МЧС- 01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МНИТЕ!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илиция - 02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МНИТЕ!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корая медицинская помощь - 03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МНИТЕ!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варийная газовая служба - 04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-360" y="5229360"/>
            <a:ext cx="889308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новные особенности города - это наличие в нем большого количества людей, транспортных средств, промышленных предприятий и необходимость соблюдения всеми определенных правил поведения для обеспечения личной безопасности и безопасности окружающих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7" descr="211A67CB43F9505782C58C484E0DD570"/>
          <p:cNvPicPr/>
          <p:nvPr/>
        </p:nvPicPr>
        <p:blipFill>
          <a:blip r:embed="rId1"/>
          <a:stretch/>
        </p:blipFill>
        <p:spPr>
          <a:xfrm>
            <a:off x="826920" y="0"/>
            <a:ext cx="7452000" cy="51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процессе жизнедеятельности человека всегда существуют различные опасности (опасность дорожно-транспортного происшествия, опасность возникновения пожара, криминальная опасность и др.). При стечении определенных обстоятельств опасность может привести к несчастному случаю. Уточним наше определение опасной ситу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1C49BBC1C3A0A85C55B787B90C92889F"/>
          <p:cNvPicPr/>
          <p:nvPr/>
        </p:nvPicPr>
        <p:blipFill>
          <a:blip r:embed="rId1"/>
          <a:stretch/>
        </p:blipFill>
        <p:spPr>
          <a:xfrm>
            <a:off x="826920" y="2044800"/>
            <a:ext cx="69850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498600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большинстве случаев опасные ситуации создает сам человек, нарушающий общепринятые правила поведени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асная ситуация может возникнуть на дороге, если пешеход переходит проезжую часть в неустанов­ленном месте или на красный свет светофора, если человек нарушает правила пожарной безопасности, если не соблюдает правила общественной безопас­ности и общественного порядк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асные ситуации, с которыми наиболее часто человек может встретиться в повседневной жизни, можно условно разделить на три групп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B6575267A9989625C8B2256D99DCC61F"/>
          <p:cNvPicPr/>
          <p:nvPr/>
        </p:nvPicPr>
        <p:blipFill>
          <a:blip r:embed="rId1"/>
          <a:stretch/>
        </p:blipFill>
        <p:spPr>
          <a:xfrm>
            <a:off x="1042920" y="0"/>
            <a:ext cx="71643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пасные ситуации техногенного характер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ни могут возникнуть при общении человека с техникой и различными техническими устройствами. К ним можно отнести опасные ситуации на дорогах, опасные ситуации при обращении с огнем и различными бытовыми приборами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0108CB51096F62CCFBDEABD49D5B2CD7"/>
          <p:cNvPicPr/>
          <p:nvPr/>
        </p:nvPicPr>
        <p:blipFill>
          <a:blip r:embed="rId1"/>
          <a:stretch/>
        </p:blipFill>
        <p:spPr>
          <a:xfrm>
            <a:off x="826920" y="1947960"/>
            <a:ext cx="7129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пасные ситуации природного характера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гут возникнуть из-за невнимательного отношения человека к особенностям природных условий в регионе его проживания, из-за нарушения правил поведения в природных условиях в различное время год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760839D11D56DF4B9F47F914427D2165"/>
          <p:cNvPicPr/>
          <p:nvPr/>
        </p:nvPicPr>
        <p:blipFill>
          <a:blip r:embed="rId1"/>
          <a:stretch/>
        </p:blipFill>
        <p:spPr>
          <a:xfrm>
            <a:off x="1332000" y="2071800"/>
            <a:ext cx="69483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пасные ситуации социального характер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и связаны с нарушениями людьми правил общественной безопасности и общественного порядка. Эти ситуации зачастую носят криминальный характе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001A4CF6051935FC7973C6CEA5A0B7A0"/>
          <p:cNvPicPr/>
          <p:nvPr/>
        </p:nvPicPr>
        <p:blipFill>
          <a:blip r:embed="rId1"/>
          <a:stretch/>
        </p:blipFill>
        <p:spPr>
          <a:xfrm>
            <a:off x="1403280" y="2146320"/>
            <a:ext cx="684072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что мы называем чрезвычайной ситуацией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Чрезвычайная ситуация - это обстановка, сложившаяся в результате аварии или опасного природного явления, которые повлекли человеческие жертвы, нанесли ущерб здоровью людей или окружающей природной среде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резвычайная ситуация отличается от опасной, прежде всего тяжестью последствий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065F9D098A43EAF441BF69EFFF3D37DE"/>
          <p:cNvPicPr/>
          <p:nvPr/>
        </p:nvPicPr>
        <p:blipFill>
          <a:blip r:embed="rId1"/>
          <a:stretch/>
        </p:blipFill>
        <p:spPr>
          <a:xfrm>
            <a:off x="2987640" y="4576680"/>
            <a:ext cx="33130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2:57:09Z</dcterms:created>
  <dc:creator>Сергей</dc:creator>
  <dc:description/>
  <dc:language>en-US</dc:language>
  <cp:lastModifiedBy>Гуменников С.В.</cp:lastModifiedBy>
  <dcterms:modified xsi:type="dcterms:W3CDTF">2014-10-03T03:01:26Z</dcterms:modified>
  <cp:revision>20</cp:revision>
  <dc:subject/>
  <dc:title>Слайд 1</dc:title>
</cp:coreProperties>
</file>