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3BF-9301-45D0-B0E0-BA624241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05A-16D7-44D3-8A81-FA773137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55F-AEAA-44CC-9009-A5717E38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3EF-D3D2-4C8C-A98D-6CCC20E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2067-142A-4D97-8A7B-32E8BF01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612F-14E4-4423-AD25-05C0C0DB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1B2-171C-424C-BD1F-8AB43C01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0D88-8B0E-42E1-A488-6BDF7B52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A431-E2EE-4881-9DF0-5F933101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1908-4501-45D0-A1CB-35E4ED1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D44-0C4E-45C5-9C93-4AA5F06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DBE-ACEC-48FA-BE80-06E23F4C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DAA6-E126-4B63-8920-2E846AA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AB0D-CD6B-44D4-A3C0-B9CAE36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2079-E2A1-45B6-91EC-07ECF5B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AEA7-8CEC-47D3-AE54-F17CF02F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3D47-42F4-479C-8D78-A7913055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B8E-88CE-43FD-9EA3-7A442DE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40C-6746-4C0D-BA8C-2708411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8AA-0298-48D6-8D3F-3B24C71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CF5-4632-4C39-99F6-874475D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6BA-3573-4FD3-94CD-9D9C178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3F7-B24D-49A5-88F1-29B1277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67F-408F-415B-A5C9-341F1DB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7A3F-7E7C-466B-9F35-9B7355D8C3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D5FE-6D34-4B97-9085-596C19AA61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108000" y="0"/>
            <a:ext cx="9036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Глава 1. Безопасность и защита человека в опасных ситуациях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1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ы безопасности жизнедеятельности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9280" y="2707920"/>
            <a:ext cx="770436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ебник ОБЖ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ирнов А.Т. Хренников Б.О.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р. 28-33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росы и задания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0560" y="-36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065F9D098A43EAF441BF69EFFF3D37DE"/>
          <p:cNvPicPr/>
          <p:nvPr/>
        </p:nvPicPr>
        <p:blipFill>
          <a:blip r:embed="rId1"/>
          <a:stretch/>
        </p:blipFill>
        <p:spPr>
          <a:xfrm>
            <a:off x="0" y="2997360"/>
            <a:ext cx="1835280" cy="1263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С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же делятся н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ирод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техногенны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циальные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E5A7BED2C994625A3AE3CEC691BFB2AB"/>
          <p:cNvPicPr/>
          <p:nvPr/>
        </p:nvPicPr>
        <p:blipFill>
          <a:blip r:embed="rId2"/>
          <a:stretch/>
        </p:blipFill>
        <p:spPr>
          <a:xfrm>
            <a:off x="0" y="0"/>
            <a:ext cx="8675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ЧС природного характера могут быть вызва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етрясени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воднени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агано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рей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рч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олзне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ле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унам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ржением вулкан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икло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и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ЧС техногенного характера могут быть вызва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ышленной авар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ыв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ной авар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ар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динамической авари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85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С социального характера наступают вследствие ведения военных действий, при террористических актах, при эпидемиях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3789360"/>
            <a:ext cx="82296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ого чтобы научиться безопасному поведению, необходимо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шать ситуационные задачи, продумывая свое поведение в различных условиях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тоянно совершенствовать свои физические качества, занимаясь физической культурой и спортом, закаливанием организма;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тоянно воспитывать в себе волевые качества и уравновешенность, которые помогут сохранить спокойствие в сложной обстановке и найти рациональный путь выхода из не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9F4A9BB255A9EF182FAC9B0058BFD765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90CBDF9857DDACA0B8F2F3B4B3B2BA1F"/>
          <p:cNvPicPr/>
          <p:nvPr/>
        </p:nvPicPr>
        <p:blipFill>
          <a:blip r:embed="rId1"/>
          <a:stretch/>
        </p:blipFill>
        <p:spPr>
          <a:xfrm>
            <a:off x="0" y="0"/>
            <a:ext cx="8820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люди считают, что с ними никогда не случится ничего плохого, что все неприятности существуют не для них. До определенного времени так может и быть. Однако самые тяжелые последствия опасной ситуации постигают человека, который ее не ожидал и не был готов к грамотным действия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обеспечить себе благополучную жизнь и максимально использовать все блага жизни в городе, человек должен не только соблюдать ряд общепринятых правил поведения, но и целенаправленно готовиться к безопасному поведению в различных опасных и чрезвычайных ситуациях, владеть определенными знаниями, умениями и навыками в области безопасности жизне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ы безопасности жизнедеятельности - это система поведения человека в повседневной жизни, снижающего вероятность опасной ситуации и уменьшающего ущерб от последствий опасных и чрезвычайных ситуа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 всем этом более подробно будет идти разговор на уроках ОБЖ во всех классах общеобразовательной школы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защиты человека от последствий опасных и чрезвычайных ситуаций, а также для ликвидации этих последствий в нашей стране создан и действует целый ряд служб, номера телефонов которых и правила их вызова надо зн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новные службы и номера их телефон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жарная охрана и спасатели - 01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лиция - 02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рая медицинская помощь - 03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арийная газовая служба - 04. </a:t>
            </a:r>
            <a:br>
              <a:rPr sz="3200"/>
            </a:br>
            <a:br>
              <a:rPr sz="32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недавнего времени любую из этих служб можно вызвать по телефону 01 или сот.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ннотация к уроку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Жизнь в городах была всегда привлекательна для человека, потому что город позволил людям наиболее полно обеспечить их насущные потребности, в то же время очень часто город становится источником опасной ситуации для тех, кто незнаком с основными правилами безопасности</a:t>
            </a:r>
            <a:br>
              <a:rPr sz="1400"/>
            </a:b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н: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сновные особенности город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пасные ситуации создает человек, нарушающий правила поведения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пасные ситуации техногенного, природного и социального характер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Чрезвычайная ситуация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Классификация Ч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Обучение и подготовка к безопасному поведе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Правила вызова экстренных служб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ключени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Вопросы для самопровер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ля вызова этих служб по телефону необходимо: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набрать номер службы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коротко сообщить диспетчеру причину вызова службы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сообщить свой точный адрес (улица, номер дома и квартиры, этаж, подъезд, код)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назвать свою фамилию и номер телефона, с которого передается вызов;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- записать фамилию дежурного, принявшего ваш вызо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77314F8D70F2F6444E64362749DE3475"/>
          <p:cNvPicPr/>
          <p:nvPr/>
        </p:nvPicPr>
        <p:blipFill>
          <a:blip r:embed="rId1"/>
          <a:stretch/>
        </p:blipFill>
        <p:spPr>
          <a:xfrm>
            <a:off x="0" y="0"/>
            <a:ext cx="3564000" cy="245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ECA296C321AC20706C86C2F5B2034B78"/>
          <p:cNvPicPr/>
          <p:nvPr/>
        </p:nvPicPr>
        <p:blipFill>
          <a:blip r:embed="rId2"/>
          <a:stretch/>
        </p:blipFill>
        <p:spPr>
          <a:xfrm>
            <a:off x="4932360" y="0"/>
            <a:ext cx="33908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ы узнали, что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При стечении обстоятельств опасность может привести к несчастному случа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Опасные ситуации создает человек, нарушающий правила поведен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Чрезвычайная ситуация отличается от опасной, тяжестью последствий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- Необходимо владеть знаниями, умениями и навыками в области безопасность жизне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. Дайте определение опасной ситуации. В чем ее отличие от чрезвычайной ситуации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. Что такое безопасное поведение?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 Узнайте и запишите номера телефонов оперативного дежурного Управления по делам гражданской обороны и чрезвычайным ситуациям города и Службы спас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опасное поведение - предвидеть опасности, уметь их избегать, знать, как вести себя в опасной ситуаци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жарная охрана и МЧС- 01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илиция - 02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корая медицинская помощь - 03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арийная газовая служба - 0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-360" y="5229360"/>
            <a:ext cx="889308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особенности города - это наличие в нем большого количества людей, транспортных средств, промышленных предприятий и необходимость соблюдения всеми определенных правил поведения для обеспечения личной безопасности и безопасности окружающих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7" descr="211A67CB43F9505782C58C484E0DD570"/>
          <p:cNvPicPr/>
          <p:nvPr/>
        </p:nvPicPr>
        <p:blipFill>
          <a:blip r:embed="rId1"/>
          <a:stretch/>
        </p:blipFill>
        <p:spPr>
          <a:xfrm>
            <a:off x="826920" y="0"/>
            <a:ext cx="745200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процессе жизнедеятельности человека всегда существуют различные опасности (опасность дорожно-транспортного происшествия, опасность возникновения пожара, криминальная опасность и др.). При стечении определенных обстоятельств опасность может привести к несчастному случаю. Уточним наше определение опасной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1C49BBC1C3A0A85C55B787B90C92889F"/>
          <p:cNvPicPr/>
          <p:nvPr/>
        </p:nvPicPr>
        <p:blipFill>
          <a:blip r:embed="rId1"/>
          <a:stretch/>
        </p:blipFill>
        <p:spPr>
          <a:xfrm>
            <a:off x="826920" y="2044800"/>
            <a:ext cx="69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4986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ольшинстве случаев опасные ситуации создает сам человек, нарушающий общепринятые правила повед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асная ситуация может возникнуть на дороге, если пешеход переходит проезжую часть в неустанов­ленном месте или на красный свет светофора, если человек нарушает правила пожарной безопасности, если не соблюдает правила общественной безопас­ности и общественного поряд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асные ситуации, с которыми наиболее часто человек может встретиться в повседневной жизни, можно условно разделить на три групп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B6575267A9989625C8B2256D99DCC61F"/>
          <p:cNvPicPr/>
          <p:nvPr/>
        </p:nvPicPr>
        <p:blipFill>
          <a:blip r:embed="rId1"/>
          <a:stretch/>
        </p:blipFill>
        <p:spPr>
          <a:xfrm>
            <a:off x="1042920" y="0"/>
            <a:ext cx="71643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пасные ситуации техногенного характер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ни могут возникнуть при общении человека с техникой и различными техническими устройствами. К ним можно отнести опасные ситуации на дорогах, опасные ситуации при обращении с огнем и различными бытовыми приборам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0108CB51096F62CCFBDEABD49D5B2CD7"/>
          <p:cNvPicPr/>
          <p:nvPr/>
        </p:nvPicPr>
        <p:blipFill>
          <a:blip r:embed="rId1"/>
          <a:stretch/>
        </p:blipFill>
        <p:spPr>
          <a:xfrm>
            <a:off x="826920" y="1947960"/>
            <a:ext cx="7129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асные ситуации природного характера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гут возникнуть из-за невнимательного отношения человека к особенностям природных условий в регионе его проживания, из-за нарушения правил поведения в природных условиях в различное время год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760839D11D56DF4B9F47F914427D2165"/>
          <p:cNvPicPr/>
          <p:nvPr/>
        </p:nvPicPr>
        <p:blipFill>
          <a:blip r:embed="rId1"/>
          <a:stretch/>
        </p:blipFill>
        <p:spPr>
          <a:xfrm>
            <a:off x="1332000" y="2071800"/>
            <a:ext cx="6948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Опасные ситуации социального характер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связаны с нарушениями людьми правил общественной безопасности и общественного порядка. Эти ситуации зачастую носят криминальный характе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001A4CF6051935FC7973C6CEA5A0B7A0"/>
          <p:cNvPicPr/>
          <p:nvPr/>
        </p:nvPicPr>
        <p:blipFill>
          <a:blip r:embed="rId1"/>
          <a:stretch/>
        </p:blipFill>
        <p:spPr>
          <a:xfrm>
            <a:off x="1403280" y="2146320"/>
            <a:ext cx="68407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называем чрезвычайной ситуацией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резвычайная ситуация - это обстановка, сложившаяся в результате аварии или опасного природного явления, которые повлекли человеческие жертвы, нанесли ущерб здоровью людей или окружающей природной сред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резвычайная ситуация отличается от опасной, прежде всего тяжестью последстви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065F9D098A43EAF441BF69EFFF3D37DE"/>
          <p:cNvPicPr/>
          <p:nvPr/>
        </p:nvPicPr>
        <p:blipFill>
          <a:blip r:embed="rId1"/>
          <a:stretch/>
        </p:blipFill>
        <p:spPr>
          <a:xfrm>
            <a:off x="2987640" y="4576680"/>
            <a:ext cx="33130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2:57:09Z</dcterms:created>
  <dc:creator>Сергей</dc:creator>
  <dc:description/>
  <dc:language>en-US</dc:language>
  <cp:lastModifiedBy>Гуменников С.В.</cp:lastModifiedBy>
  <dcterms:modified xsi:type="dcterms:W3CDTF">2014-10-03T03:01:26Z</dcterms:modified>
  <cp:revision>20</cp:revision>
  <dc:subject/>
  <dc:title>Слайд 1</dc:title>
</cp:coreProperties>
</file>