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2F1-11F3-484E-B69A-2E400368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372-8545-4B48-9DBD-E1E474E5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8E5-379D-430A-9686-06390294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020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4232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020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4232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2FC-4D86-40FC-B377-8F2D6E0D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A6B9-185D-44E8-AF15-A530708C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E04A-F094-45BA-8CCF-3A26A3E8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BE83-B875-40C4-80E4-6966E98A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A29F-08E5-432C-90F1-8D6BFDAA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9E7A-9127-436E-AD23-AD1D515D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4215-77AE-4087-BA67-A4C44EB9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9A66-E999-464F-B4EC-656F4EAB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6A9-DAED-4E6A-B43F-297F9FF2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00C7-AD70-4097-8584-840867D1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4DFA-9D93-4B22-84A1-639E045A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330B-7CA2-45E8-96A4-FD15B86B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2DC4-0C31-43E4-9567-D9C3D7D7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9020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4232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9020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34232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8179-62A0-41E9-9C6C-AE61AEE8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ABE2-1CCA-4357-B003-F9D1EC69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61B5-A583-4399-9D4B-10E5D472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5C01-2981-4098-8000-99A22CDA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7A5E-41CA-4737-A53E-90EC16D7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20866-81AF-4240-8CB8-223A2C3E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667-5864-48C4-B7BA-A05F87D8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88BB-9EDD-4E1A-A526-E3A1A1A2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EEBD9-89B3-456B-BE93-48E1B31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A099-556F-4F95-BEB4-2DEEB181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60AC-16E2-4101-8F3E-FDF8EE36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4C4D-98B9-4A59-9483-D8D14E34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7274-4CEF-4A6C-A720-04B14394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59020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42320" y="182556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59020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342320" y="4098240"/>
            <a:ext cx="1668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F372-05E0-4AC7-8CED-037C1D3C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871-D236-4760-8449-F43597FF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12F-E893-40A6-948F-F74C292E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250-2624-4BEB-B34F-9032BDCA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C0A-5544-4457-B15F-BF3EB5C8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93080" y="409824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2E8-44E2-4D50-93B9-A1CE729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93080" y="1825560"/>
            <a:ext cx="25282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811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1417"/>
              </a:spcAft>
              <a:buNone/>
            </a:pP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A6A-13FF-4018-8385-983EBBE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2f2b20"/>
                </a:solidFill>
                <a:latin typeface="Calibri Light"/>
              </a:rPr>
              <a:t>Для правки текста заголовка щелкните мышьюОбразец заголовка</a:t>
            </a:r>
            <a:endParaRPr b="0" lang="ru-RU" sz="6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61AD579C-3C46-4108-82B3-DFCF5EAE1FE7}" type="datetime">
              <a:rPr b="0" lang="ru-RU" sz="1800" spc="-1" strike="noStrike">
                <a:solidFill>
                  <a:srgbClr val="2f2b20"/>
                </a:solidFill>
                <a:latin typeface="Calibri"/>
              </a:rPr>
              <a:t>29.7.26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418DD662-A80B-4A6B-B290-754F3F842B16}" type="slidenum">
              <a:rPr b="0" lang="ru-RU" sz="18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lnSpc>
                <a:spcPct val="90000"/>
              </a:lnSpc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2f2b20"/>
                </a:solidFill>
                <a:latin typeface="Calibri Light"/>
              </a:rPr>
              <a:t>Для правки текста заголовка щелкните мышьюОбразец заголовка</a:t>
            </a:r>
            <a:endParaRPr b="0" lang="ru-RU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ля правки структуры щелкните мышью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тор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Трети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Четвёр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я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Шест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ед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7" marL="3456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ос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8" marL="3888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евятый уровень структурыОбразец текста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59BB780C-83D0-4820-BECC-5C8089AB8105}" type="datetime">
              <a:rPr b="0" lang="ru-RU" sz="1800" spc="-1" strike="noStrike">
                <a:solidFill>
                  <a:srgbClr val="2f2b20"/>
                </a:solidFill>
                <a:latin typeface="Calibri"/>
              </a:rPr>
              <a:t>29.7.26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FE0EC997-466B-4A6D-9F5C-D4CF1F0E3061}" type="slidenum">
              <a:rPr b="0" lang="ru-RU" sz="18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2f2b20"/>
                </a:solidFill>
                <a:latin typeface="Calibri Light"/>
              </a:rPr>
              <a:t>Для правки текста заголовка щелкните мышьюОбразец заголовка</a:t>
            </a:r>
            <a:endParaRPr b="0" lang="ru-RU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ля правки структуры щелкните мышью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тор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Трети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Четвёр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я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Шест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ед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7" marL="3456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ос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8" marL="3888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евятый уровень структурыОбразец текста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9" marL="4320000" indent="-21600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617220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ля правки структуры щелкните мышью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тор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Трети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Четвёр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яты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Шест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ед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7" marL="3456000" indent="-216000">
              <a:lnSpc>
                <a:spcPct val="90000"/>
              </a:lnSpc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Восьмой уровень структуры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Девятый уровень структурыОбразец текста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lvl="1" marL="685800" indent="-22824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75000"/>
              <a:buFont typeface="Arial"/>
              <a:buChar char="•"/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24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24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75000"/>
              <a:buFont typeface="Arial"/>
              <a:buChar char="•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240">
              <a:lnSpc>
                <a:spcPct val="90000"/>
              </a:lnSpc>
              <a:spcBef>
                <a:spcPts val="49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9A9FE07B-50A3-4634-A4AD-464BE9FF5C07}" type="datetime">
              <a:rPr b="0" lang="ru-RU" sz="1800" spc="-1" strike="noStrike">
                <a:solidFill>
                  <a:srgbClr val="2f2b20"/>
                </a:solidFill>
                <a:latin typeface="Calibri"/>
              </a:rPr>
              <a:t>29.7.26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2f2b20"/>
                </a:solidFill>
                <a:latin typeface="Calibri"/>
              </a:defRPr>
            </a:lvl1pPr>
          </a:lstStyle>
          <a:p>
            <a:pPr indent="0">
              <a:buNone/>
            </a:pPr>
            <a:fld id="{8896B05A-96E1-4207-9D15-893BA4C7144B}" type="slidenum">
              <a:rPr b="0" lang="ru-RU" sz="18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2f2b20"/>
                </a:solidFill>
                <a:latin typeface="Times New Roman"/>
              </a:rPr>
              <a:t>Глобальные проблемы человечества:</a:t>
            </a:r>
            <a:r>
              <a:rPr b="1" lang="ru-RU" sz="4400" spc="-1" strike="noStrike">
                <a:solidFill>
                  <a:srgbClr val="2f2b20"/>
                </a:solidFill>
                <a:latin typeface="Times New Roman"/>
              </a:rPr>
              <a:t>Терроризм</a:t>
            </a:r>
            <a:endParaRPr b="0" lang="ru-RU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2400" y="17499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1 сентября 2004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Россия, г.Беслан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335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4" name="Изображение 6" descr=""/>
          <p:cNvPicPr/>
          <p:nvPr/>
        </p:nvPicPr>
        <p:blipFill>
          <a:blip r:embed="rId1"/>
          <a:stretch/>
        </p:blipFill>
        <p:spPr>
          <a:xfrm>
            <a:off x="5834520" y="201240"/>
            <a:ext cx="6056280" cy="4037760"/>
          </a:xfrm>
          <a:prstGeom prst="rect">
            <a:avLst/>
          </a:prstGeom>
          <a:ln w="0">
            <a:noFill/>
          </a:ln>
        </p:spPr>
      </p:pic>
      <p:pic>
        <p:nvPicPr>
          <p:cNvPr id="145" name="Замещающее содержимое 4" descr=""/>
          <p:cNvPicPr/>
          <p:nvPr/>
        </p:nvPicPr>
        <p:blipFill>
          <a:blip r:embed="rId2"/>
          <a:stretch/>
        </p:blipFill>
        <p:spPr>
          <a:xfrm>
            <a:off x="4444920" y="3683520"/>
            <a:ext cx="5181120" cy="29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82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23 июня 1985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Ирландия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329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8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4979160" y="1249560"/>
            <a:ext cx="7010640" cy="400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56960" y="100764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5-6 мая 2014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Нигерия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более 300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0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5491440" y="552600"/>
            <a:ext cx="6337080" cy="3564360"/>
          </a:xfrm>
          <a:prstGeom prst="rect">
            <a:avLst/>
          </a:prstGeom>
          <a:ln w="0">
            <a:noFill/>
          </a:ln>
        </p:spPr>
      </p:pic>
      <p:pic>
        <p:nvPicPr>
          <p:cNvPr id="151" name="Изображение 6" descr=""/>
          <p:cNvPicPr/>
          <p:nvPr/>
        </p:nvPicPr>
        <p:blipFill>
          <a:blip r:embed="rId2"/>
          <a:stretch/>
        </p:blipFill>
        <p:spPr>
          <a:xfrm>
            <a:off x="4042440" y="3516120"/>
            <a:ext cx="4803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01960" y="79560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21 декабря 1988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Шотландия, г. Локерби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70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3" name="Изображение 6" descr=""/>
          <p:cNvPicPr/>
          <p:nvPr/>
        </p:nvPicPr>
        <p:blipFill>
          <a:blip r:embed="rId1"/>
          <a:stretch/>
        </p:blipFill>
        <p:spPr>
          <a:xfrm>
            <a:off x="5383440" y="407520"/>
            <a:ext cx="6583320" cy="3739680"/>
          </a:xfrm>
          <a:prstGeom prst="rect">
            <a:avLst/>
          </a:prstGeom>
          <a:ln w="0">
            <a:noFill/>
          </a:ln>
        </p:spPr>
      </p:pic>
      <p:pic>
        <p:nvPicPr>
          <p:cNvPr id="154" name="Замещающее содержимое 4" descr=""/>
          <p:cNvPicPr/>
          <p:nvPr/>
        </p:nvPicPr>
        <p:blipFill>
          <a:blip r:embed="rId2"/>
          <a:stretch/>
        </p:blipFill>
        <p:spPr>
          <a:xfrm>
            <a:off x="2400840" y="3701520"/>
            <a:ext cx="5181120" cy="26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080" y="169092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12 марта 1993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Индия, г. Бомбей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57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7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4702680" y="617760"/>
            <a:ext cx="7231680" cy="47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5200" y="135648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31 октября 2015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Синайский п-ов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24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9" name="Изображение 6" descr=""/>
          <p:cNvPicPr/>
          <p:nvPr/>
        </p:nvPicPr>
        <p:blipFill>
          <a:blip r:embed="rId1"/>
          <a:stretch/>
        </p:blipFill>
        <p:spPr>
          <a:xfrm>
            <a:off x="5867280" y="402480"/>
            <a:ext cx="6043680" cy="4532400"/>
          </a:xfrm>
          <a:prstGeom prst="rect">
            <a:avLst/>
          </a:prstGeom>
          <a:ln w="0">
            <a:noFill/>
          </a:ln>
        </p:spPr>
      </p:pic>
      <p:pic>
        <p:nvPicPr>
          <p:cNvPr id="160" name="Замещающее содержимое 4" descr=""/>
          <p:cNvPicPr/>
          <p:nvPr/>
        </p:nvPicPr>
        <p:blipFill>
          <a:blip r:embed="rId2"/>
          <a:stretch/>
        </p:blipFill>
        <p:spPr>
          <a:xfrm>
            <a:off x="3672720" y="3940200"/>
            <a:ext cx="4042800" cy="269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7 августа 1998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Кения, Танзания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24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3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6687360" y="526320"/>
            <a:ext cx="5181120" cy="3889080"/>
          </a:xfrm>
          <a:prstGeom prst="rect">
            <a:avLst/>
          </a:prstGeom>
          <a:ln w="0">
            <a:noFill/>
          </a:ln>
        </p:spPr>
      </p:pic>
      <p:pic>
        <p:nvPicPr>
          <p:cNvPr id="164" name="Изображение 6" descr=""/>
          <p:cNvPicPr/>
          <p:nvPr/>
        </p:nvPicPr>
        <p:blipFill>
          <a:blip r:embed="rId2"/>
          <a:stretch/>
        </p:blipFill>
        <p:spPr>
          <a:xfrm>
            <a:off x="4758120" y="3562920"/>
            <a:ext cx="32508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11 июля 2006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Индия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09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7" name="Изображение 6" descr=""/>
          <p:cNvPicPr/>
          <p:nvPr/>
        </p:nvPicPr>
        <p:blipFill>
          <a:blip r:embed="rId1"/>
          <a:stretch/>
        </p:blipFill>
        <p:spPr>
          <a:xfrm>
            <a:off x="6019920" y="365040"/>
            <a:ext cx="5713920" cy="4285080"/>
          </a:xfrm>
          <a:prstGeom prst="rect">
            <a:avLst/>
          </a:prstGeom>
          <a:ln w="0">
            <a:noFill/>
          </a:ln>
        </p:spPr>
      </p:pic>
      <p:pic>
        <p:nvPicPr>
          <p:cNvPr id="168" name="Замещающее содержимое 4" descr=""/>
          <p:cNvPicPr/>
          <p:nvPr/>
        </p:nvPicPr>
        <p:blipFill>
          <a:blip r:embed="rId2"/>
          <a:stretch/>
        </p:blipFill>
        <p:spPr>
          <a:xfrm>
            <a:off x="3505320" y="3725640"/>
            <a:ext cx="5181120" cy="29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12 октября 2002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Индонезия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02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71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5208120" y="966600"/>
            <a:ext cx="6681240" cy="41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899280" y="1332360"/>
            <a:ext cx="10532880" cy="5309640"/>
          </a:xfrm>
          <a:prstGeom prst="rect">
            <a:avLst/>
          </a:prstGeom>
          <a:ln w="0">
            <a:noFill/>
          </a:ln>
        </p:spPr>
      </p:pic>
      <p:sp>
        <p:nvSpPr>
          <p:cNvPr id="127" name="Текстовое поле 99"/>
          <p:cNvSpPr/>
          <p:nvPr/>
        </p:nvSpPr>
        <p:spPr>
          <a:xfrm>
            <a:off x="774720" y="143640"/>
            <a:ext cx="10657440" cy="1187640"/>
          </a:xfrm>
          <a:prstGeom prst="rect">
            <a:avLst/>
          </a:prstGeom>
          <a:noFill/>
          <a:ln w="936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/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Глобальные проблемы современности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- совокупность социально-природных проблем, от решения которых зависит социальный прогресс человечества и сохранение цивилизаци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501480" y="365040"/>
            <a:ext cx="5418000" cy="5727240"/>
          </a:xfrm>
          <a:prstGeom prst="rect">
            <a:avLst/>
          </a:prstGeom>
          <a:ln w="0">
            <a:noFill/>
          </a:ln>
        </p:spPr>
      </p:pic>
      <p:sp>
        <p:nvSpPr>
          <p:cNvPr id="129" name="Текстовое поле 99"/>
          <p:cNvSpPr/>
          <p:nvPr/>
        </p:nvSpPr>
        <p:spPr>
          <a:xfrm>
            <a:off x="6649200" y="1341720"/>
            <a:ext cx="5079600" cy="3503160"/>
          </a:xfrm>
          <a:prstGeom prst="rect">
            <a:avLst/>
          </a:prstGeom>
          <a:noFill/>
          <a:ln w="936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480" algn="just">
              <a:buClr>
                <a:srgbClr val="ff0000"/>
              </a:buClr>
              <a:buSzPct val="45000"/>
              <a:buFont typeface="Arial"/>
              <a:buChar char="•"/>
            </a:pPr>
            <a:r>
              <a:rPr b="1" i="1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Терроризм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- политика, основанная на систематическом применении террора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480" algn="just">
              <a:buClr>
                <a:srgbClr val="ff0000"/>
              </a:buClr>
              <a:buSzPct val="45000"/>
              <a:buFont typeface="Arial"/>
              <a:buChar char="•"/>
            </a:pPr>
            <a:r>
              <a:rPr b="1" i="1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Террор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- устрашение мирного населения, выражающееся в физическом насилии, вплоть до уничтожения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мещающее содержимое 5" descr=""/>
          <p:cNvPicPr/>
          <p:nvPr/>
        </p:nvPicPr>
        <p:blipFill>
          <a:blip r:embed="rId1"/>
          <a:stretch/>
        </p:blipFill>
        <p:spPr>
          <a:xfrm>
            <a:off x="543600" y="991800"/>
            <a:ext cx="7386480" cy="5835240"/>
          </a:xfrm>
          <a:prstGeom prst="rect">
            <a:avLst/>
          </a:prstGeom>
          <a:ln w="0">
            <a:noFill/>
          </a:ln>
        </p:spPr>
      </p:pic>
      <p:sp>
        <p:nvSpPr>
          <p:cNvPr id="131" name="Текстовое поле 6"/>
          <p:cNvSpPr/>
          <p:nvPr/>
        </p:nvSpPr>
        <p:spPr>
          <a:xfrm>
            <a:off x="8434080" y="1718280"/>
            <a:ext cx="235224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СШ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Россия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Индия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Израил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Колумбия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Ирак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Алжир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Пакистан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Уганд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2720">
              <a:buClr>
                <a:srgbClr val="000000"/>
              </a:buClr>
              <a:buSzPct val="45000"/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Шри- Ланк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Текстовое поле 99"/>
          <p:cNvSpPr/>
          <p:nvPr/>
        </p:nvSpPr>
        <p:spPr>
          <a:xfrm>
            <a:off x="1033200" y="150480"/>
            <a:ext cx="10125360" cy="577800"/>
          </a:xfrm>
          <a:prstGeom prst="rect">
            <a:avLst/>
          </a:prstGeom>
          <a:noFill/>
          <a:ln w="936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/>
            <a:r>
              <a:rPr b="1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раны, наиболее пострадавшие от терроризма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9900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f2b20"/>
                </a:solidFill>
                <a:latin typeface="Times New Roman"/>
              </a:rPr>
              <a:t>Основные виды терроризма:</a:t>
            </a:r>
            <a:endParaRPr b="0" lang="ru-RU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8960" y="142488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националистически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религиоз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ядер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транспорт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государствен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международ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криминальны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3600" spc="-1" strike="noStrike">
                <a:solidFill>
                  <a:srgbClr val="2f2b20"/>
                </a:solidFill>
                <a:latin typeface="Calibri"/>
              </a:rPr>
              <a:t>экологический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5" name="Замещающее содержимое 6" descr=""/>
          <p:cNvPicPr/>
          <p:nvPr/>
        </p:nvPicPr>
        <p:blipFill>
          <a:blip r:embed="rId1"/>
          <a:stretch/>
        </p:blipFill>
        <p:spPr>
          <a:xfrm>
            <a:off x="7045200" y="1781640"/>
            <a:ext cx="463464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01640" y="622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f2b20"/>
                </a:solidFill>
                <a:latin typeface="Times New Roman"/>
              </a:rPr>
              <a:t>Методы борьбы с терроризмом</a:t>
            </a:r>
            <a:endParaRPr b="0" lang="ru-RU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Текстовое поле 99"/>
          <p:cNvSpPr/>
          <p:nvPr/>
        </p:nvSpPr>
        <p:spPr>
          <a:xfrm>
            <a:off x="73080" y="1086480"/>
            <a:ext cx="8411400" cy="5452200"/>
          </a:xfrm>
          <a:prstGeom prst="rect">
            <a:avLst/>
          </a:prstGeom>
          <a:noFill/>
          <a:ln w="936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) Путем совершенствования деятельности специальных структур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) Проведения войсковых операций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) Использование переговорного процесс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)  Проведение экономических и политических реформ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)Идеологическая кампания, тотальная информационная войн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6) Ужесточение внутренней политик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7) Физическое уничтожение лидеров террористов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мещающее содержимое 4" descr=""/>
          <p:cNvPicPr/>
          <p:nvPr/>
        </p:nvPicPr>
        <p:blipFill>
          <a:blip r:embed="rId1"/>
          <a:stretch/>
        </p:blipFill>
        <p:spPr>
          <a:xfrm>
            <a:off x="7572960" y="3613680"/>
            <a:ext cx="4392000" cy="292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9872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5400" spc="-1" strike="noStrike">
                <a:solidFill>
                  <a:srgbClr val="2f2b20"/>
                </a:solidFill>
                <a:latin typeface="Calibri Light"/>
              </a:rPr>
              <a:t>Теракты</a:t>
            </a:r>
            <a:endParaRPr b="0" lang="ru-RU" sz="5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1480" y="152460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Дата: 11 сентября 2001 г.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Страна: США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marL="228600" indent="-22824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Arial"/>
              <a:buChar char="•"/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</a:rPr>
              <a:t>Число погибших: 2996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417"/>
              </a:spcAft>
              <a:buNone/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 </a:t>
            </a:r>
            <a:endParaRPr b="0" lang="ru-RU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1" name="Замещающее содержимое 3" descr=""/>
          <p:cNvPicPr/>
          <p:nvPr/>
        </p:nvPicPr>
        <p:blipFill>
          <a:blip r:embed="rId1"/>
          <a:stretch/>
        </p:blipFill>
        <p:spPr>
          <a:xfrm>
            <a:off x="7621920" y="1410480"/>
            <a:ext cx="4352040" cy="3401280"/>
          </a:xfrm>
          <a:prstGeom prst="rect">
            <a:avLst/>
          </a:prstGeom>
          <a:ln w="0">
            <a:noFill/>
          </a:ln>
        </p:spPr>
      </p:pic>
      <p:pic>
        <p:nvPicPr>
          <p:cNvPr id="142" name="Изображение 4" descr=""/>
          <p:cNvPicPr/>
          <p:nvPr/>
        </p:nvPicPr>
        <p:blipFill>
          <a:blip r:embed="rId2"/>
          <a:stretch/>
        </p:blipFill>
        <p:spPr>
          <a:xfrm>
            <a:off x="3279240" y="3345120"/>
            <a:ext cx="5059440" cy="33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ll </cp:lastModifiedBy>
  <dcterms:modified xsi:type="dcterms:W3CDTF">2018-06-17T18:42:48Z</dcterms:modified>
  <cp:revision>1</cp:revision>
  <dc:subject/>
  <dc:title/>
</cp:coreProperties>
</file>