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EC1-3C36-45C1-A109-404406A2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99D-8DE0-434A-B1F4-152E3106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5A9-6E38-4EB1-B082-E224F508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020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4232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020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4232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E19-7076-47F0-8395-AECD1B16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42D7-7F56-441F-A096-3210DC96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3810-A520-4431-ACCD-99887514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844C-233C-4786-8B00-36C72724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5DA8-3346-4B85-9A35-DB289F93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F200-3DB0-41AC-BE20-D4660534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2EE3-9B6D-4721-88DD-62A2221B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31B0-C718-45A1-8E79-7E24820C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635-3D33-40D4-B716-5B195E12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395F-C7C3-42F6-AABC-A75E451E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B64C-E8DB-4A3B-9294-0593B513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F907-86DC-434A-BB0F-46FA9FAF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7DEA-56AC-4B74-94BB-2B45FF08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9020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4232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9020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34232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7463-7984-4071-908D-6D338A01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3C2B-0875-41FF-AAC8-762449B2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60B3-1C97-4410-A9E4-8214DE11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2600-440C-429D-AB4E-0B0759B2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9E386-15A4-43DF-9014-C553A648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76442-6328-41F9-98F0-4A266207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CC7-BBE5-4A28-ACD7-02C7B976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017B1-D05D-4FAC-8696-E34094F0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69987-40BE-49A6-B3DF-042524E3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8B03B-EA5C-45B8-AE53-15BC8FB1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C553-A1D5-48A5-B7B8-227C54F3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6B11-1870-44FB-9B23-96AA110F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1231-81BD-4335-ABAD-9F415B52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59020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4232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59020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34232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92295-879B-4884-BADB-0731B7D8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E86-C309-400B-B721-48721E2B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3AF-BA93-4B26-82F7-361E1DB6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BB6-A38B-4408-8BAE-02BF06F7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D4B-FE8A-4B6B-9AC0-26C84465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440-C9E5-4298-A366-7E2F23A7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10A-45EC-4ABE-89DC-4A76FC00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2f2b20"/>
                </a:solidFill>
                <a:latin typeface="Calibri Light"/>
              </a:rPr>
              <a:t>Для правки текста заголовка щелкните мышьюОбразец заголовка</a:t>
            </a:r>
            <a:endParaRPr b="0" lang="ru-RU" sz="6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79701D69-CB94-4B5E-BFCA-14768E2C1865}" type="datetime">
              <a:rPr b="0" lang="ru-RU" sz="1800" spc="-1" strike="noStrike">
                <a:solidFill>
                  <a:srgbClr val="2f2b20"/>
                </a:solidFill>
                <a:latin typeface="Calibri"/>
              </a:rPr>
              <a:t>29.7.26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1F381468-9832-44C4-937A-E02011A7134D}" type="slidenum">
              <a:rPr b="0" lang="ru-RU" sz="18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lnSpc>
                <a:spcPct val="90000"/>
              </a:lnSpc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2f2b20"/>
                </a:solidFill>
                <a:latin typeface="Calibri Light"/>
              </a:rPr>
              <a:t>Для правки текста заголовка щелкните мышьюОбразец заголовка</a:t>
            </a:r>
            <a:endParaRPr b="0" lang="ru-RU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ля правки структуры щелкните мышью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тор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Трети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Четвёр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я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Шест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ед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7" marL="3456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ос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8" marL="3888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евятый уровень структурыОбразец текста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E53EA13B-384A-4A55-861F-7777746172EA}" type="datetime">
              <a:rPr b="0" lang="ru-RU" sz="1800" spc="-1" strike="noStrike">
                <a:solidFill>
                  <a:srgbClr val="2f2b20"/>
                </a:solidFill>
                <a:latin typeface="Calibri"/>
              </a:rPr>
              <a:t>29.7.26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819A14BB-A77B-40A9-89DB-0E8027808B67}" type="slidenum">
              <a:rPr b="0" lang="ru-RU" sz="18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2f2b20"/>
                </a:solidFill>
                <a:latin typeface="Calibri Light"/>
              </a:rPr>
              <a:t>Для правки текста заголовка щелкните мышьюОбразец заголовка</a:t>
            </a:r>
            <a:endParaRPr b="0" lang="ru-RU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ля правки структуры щелкните мышью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тор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Трети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Четвёр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я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Шест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ед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7" marL="3456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ос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8" marL="3888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евятый уровень структурыОбразец текста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617220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ля правки структуры щелкните мышью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тор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Трети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Четвёр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я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Шест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ед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7" marL="3456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ос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евятый уровень структурыОбразец текста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1" marL="685800" indent="-22824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75000"/>
              <a:buFont typeface="Arial"/>
              <a:buChar char="•"/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24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24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75000"/>
              <a:buFont typeface="Arial"/>
              <a:buChar char="•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24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1B540C07-38E9-40AA-8739-62B3A9A77A97}" type="datetime">
              <a:rPr b="0" lang="ru-RU" sz="1800" spc="-1" strike="noStrike">
                <a:solidFill>
                  <a:srgbClr val="2f2b20"/>
                </a:solidFill>
                <a:latin typeface="Calibri"/>
              </a:rPr>
              <a:t>29.7.26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83331586-2D55-4778-876D-B2D6E3B0CBB0}" type="slidenum">
              <a:rPr b="0" lang="ru-RU" sz="18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2f2b20"/>
                </a:solidFill>
                <a:latin typeface="Times New Roman"/>
              </a:rPr>
              <a:t>Глобальные проблемы человечества:</a:t>
            </a:r>
            <a:r>
              <a:rPr b="1" lang="ru-RU" sz="4400" spc="-1" strike="noStrike">
                <a:solidFill>
                  <a:srgbClr val="2f2b20"/>
                </a:solidFill>
                <a:latin typeface="Times New Roman"/>
              </a:rPr>
              <a:t>Терроризм</a:t>
            </a:r>
            <a:endParaRPr b="0" lang="ru-RU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2400" y="17499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1 сентября 2004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Россия, г.Беслан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335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4" name="Изображение 6" descr=""/>
          <p:cNvPicPr/>
          <p:nvPr/>
        </p:nvPicPr>
        <p:blipFill>
          <a:blip r:embed="rId1"/>
          <a:stretch/>
        </p:blipFill>
        <p:spPr>
          <a:xfrm>
            <a:off x="5834520" y="201240"/>
            <a:ext cx="6056280" cy="4037760"/>
          </a:xfrm>
          <a:prstGeom prst="rect">
            <a:avLst/>
          </a:prstGeom>
          <a:ln w="0">
            <a:noFill/>
          </a:ln>
        </p:spPr>
      </p:pic>
      <p:pic>
        <p:nvPicPr>
          <p:cNvPr id="145" name="Замещающее содержимое 4" descr=""/>
          <p:cNvPicPr/>
          <p:nvPr/>
        </p:nvPicPr>
        <p:blipFill>
          <a:blip r:embed="rId2"/>
          <a:stretch/>
        </p:blipFill>
        <p:spPr>
          <a:xfrm>
            <a:off x="4444920" y="3683520"/>
            <a:ext cx="5181120" cy="29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82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23 июня 1985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Ирландия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329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8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4979160" y="1249560"/>
            <a:ext cx="7010640" cy="400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6960" y="100764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5-6 мая 2014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Нигерия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более 300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0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5491440" y="552600"/>
            <a:ext cx="6337080" cy="3564360"/>
          </a:xfrm>
          <a:prstGeom prst="rect">
            <a:avLst/>
          </a:prstGeom>
          <a:ln w="0">
            <a:noFill/>
          </a:ln>
        </p:spPr>
      </p:pic>
      <p:pic>
        <p:nvPicPr>
          <p:cNvPr id="151" name="Изображение 6" descr=""/>
          <p:cNvPicPr/>
          <p:nvPr/>
        </p:nvPicPr>
        <p:blipFill>
          <a:blip r:embed="rId2"/>
          <a:stretch/>
        </p:blipFill>
        <p:spPr>
          <a:xfrm>
            <a:off x="4042440" y="3516120"/>
            <a:ext cx="4803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01960" y="79560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21 декабря 1988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Шотландия, г. Локерби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70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3" name="Изображение 6" descr=""/>
          <p:cNvPicPr/>
          <p:nvPr/>
        </p:nvPicPr>
        <p:blipFill>
          <a:blip r:embed="rId1"/>
          <a:stretch/>
        </p:blipFill>
        <p:spPr>
          <a:xfrm>
            <a:off x="5383440" y="407520"/>
            <a:ext cx="6583320" cy="3739680"/>
          </a:xfrm>
          <a:prstGeom prst="rect">
            <a:avLst/>
          </a:prstGeom>
          <a:ln w="0">
            <a:noFill/>
          </a:ln>
        </p:spPr>
      </p:pic>
      <p:pic>
        <p:nvPicPr>
          <p:cNvPr id="154" name="Замещающее содержимое 4" descr=""/>
          <p:cNvPicPr/>
          <p:nvPr/>
        </p:nvPicPr>
        <p:blipFill>
          <a:blip r:embed="rId2"/>
          <a:stretch/>
        </p:blipFill>
        <p:spPr>
          <a:xfrm>
            <a:off x="2400840" y="3701520"/>
            <a:ext cx="5181120" cy="26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080" y="169092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12 марта 1993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Индия, г. Бомбей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57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7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4702680" y="617760"/>
            <a:ext cx="723168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5200" y="135648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31 октября 2015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Синайский п-ов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24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9" name="Изображение 6" descr=""/>
          <p:cNvPicPr/>
          <p:nvPr/>
        </p:nvPicPr>
        <p:blipFill>
          <a:blip r:embed="rId1"/>
          <a:stretch/>
        </p:blipFill>
        <p:spPr>
          <a:xfrm>
            <a:off x="5867280" y="402480"/>
            <a:ext cx="6043680" cy="4532400"/>
          </a:xfrm>
          <a:prstGeom prst="rect">
            <a:avLst/>
          </a:prstGeom>
          <a:ln w="0">
            <a:noFill/>
          </a:ln>
        </p:spPr>
      </p:pic>
      <p:pic>
        <p:nvPicPr>
          <p:cNvPr id="160" name="Замещающее содержимое 4" descr=""/>
          <p:cNvPicPr/>
          <p:nvPr/>
        </p:nvPicPr>
        <p:blipFill>
          <a:blip r:embed="rId2"/>
          <a:stretch/>
        </p:blipFill>
        <p:spPr>
          <a:xfrm>
            <a:off x="3672720" y="3940200"/>
            <a:ext cx="4042800" cy="269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7 августа 1998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Кения, Танзания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24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3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6687360" y="526320"/>
            <a:ext cx="5181120" cy="3889080"/>
          </a:xfrm>
          <a:prstGeom prst="rect">
            <a:avLst/>
          </a:prstGeom>
          <a:ln w="0">
            <a:noFill/>
          </a:ln>
        </p:spPr>
      </p:pic>
      <p:pic>
        <p:nvPicPr>
          <p:cNvPr id="164" name="Изображение 6" descr=""/>
          <p:cNvPicPr/>
          <p:nvPr/>
        </p:nvPicPr>
        <p:blipFill>
          <a:blip r:embed="rId2"/>
          <a:stretch/>
        </p:blipFill>
        <p:spPr>
          <a:xfrm>
            <a:off x="4758120" y="3562920"/>
            <a:ext cx="32508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11 июля 2006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Индия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09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7" name="Изображение 6" descr=""/>
          <p:cNvPicPr/>
          <p:nvPr/>
        </p:nvPicPr>
        <p:blipFill>
          <a:blip r:embed="rId1"/>
          <a:stretch/>
        </p:blipFill>
        <p:spPr>
          <a:xfrm>
            <a:off x="6019920" y="365040"/>
            <a:ext cx="5713920" cy="4285080"/>
          </a:xfrm>
          <a:prstGeom prst="rect">
            <a:avLst/>
          </a:prstGeom>
          <a:ln w="0">
            <a:noFill/>
          </a:ln>
        </p:spPr>
      </p:pic>
      <p:pic>
        <p:nvPicPr>
          <p:cNvPr id="168" name="Замещающее содержимое 4" descr=""/>
          <p:cNvPicPr/>
          <p:nvPr/>
        </p:nvPicPr>
        <p:blipFill>
          <a:blip r:embed="rId2"/>
          <a:stretch/>
        </p:blipFill>
        <p:spPr>
          <a:xfrm>
            <a:off x="3505320" y="3725640"/>
            <a:ext cx="5181120" cy="29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12 октября 2002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Индонезия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02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71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5208120" y="966600"/>
            <a:ext cx="668124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899280" y="1332360"/>
            <a:ext cx="10532880" cy="5309640"/>
          </a:xfrm>
          <a:prstGeom prst="rect">
            <a:avLst/>
          </a:prstGeom>
          <a:ln w="0">
            <a:noFill/>
          </a:ln>
        </p:spPr>
      </p:pic>
      <p:sp>
        <p:nvSpPr>
          <p:cNvPr id="127" name="Текстовое поле 99"/>
          <p:cNvSpPr/>
          <p:nvPr/>
        </p:nvSpPr>
        <p:spPr>
          <a:xfrm>
            <a:off x="774720" y="143640"/>
            <a:ext cx="10657440" cy="1187640"/>
          </a:xfrm>
          <a:prstGeom prst="rect">
            <a:avLst/>
          </a:prstGeom>
          <a:noFill/>
          <a:ln w="936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/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Глобальные проблемы современности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- совокупность социально-природных проблем, от решения которых зависит социальный прогресс человечества и сохранение цивилизаци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501480" y="365040"/>
            <a:ext cx="5418000" cy="5727240"/>
          </a:xfrm>
          <a:prstGeom prst="rect">
            <a:avLst/>
          </a:prstGeom>
          <a:ln w="0">
            <a:noFill/>
          </a:ln>
        </p:spPr>
      </p:pic>
      <p:sp>
        <p:nvSpPr>
          <p:cNvPr id="129" name="Текстовое поле 99"/>
          <p:cNvSpPr/>
          <p:nvPr/>
        </p:nvSpPr>
        <p:spPr>
          <a:xfrm>
            <a:off x="6649200" y="1341720"/>
            <a:ext cx="5079600" cy="3503160"/>
          </a:xfrm>
          <a:prstGeom prst="rect">
            <a:avLst/>
          </a:prstGeom>
          <a:noFill/>
          <a:ln w="936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480" algn="just">
              <a:buClr>
                <a:srgbClr val="ff0000"/>
              </a:buClr>
              <a:buSzPct val="45000"/>
              <a:buFont typeface="Arial"/>
              <a:buChar char="•"/>
            </a:pPr>
            <a:r>
              <a:rPr b="1" i="1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Терроризм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- политика, основанная на систематическом применении террора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480" algn="just">
              <a:buClr>
                <a:srgbClr val="ff0000"/>
              </a:buClr>
              <a:buSzPct val="45000"/>
              <a:buFont typeface="Arial"/>
              <a:buChar char="•"/>
            </a:pPr>
            <a:r>
              <a:rPr b="1" i="1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Террор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- устрашение мирного населения, выражающееся в физическом насилии, вплоть до уничтожения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мещающее содержимое 5" descr=""/>
          <p:cNvPicPr/>
          <p:nvPr/>
        </p:nvPicPr>
        <p:blipFill>
          <a:blip r:embed="rId1"/>
          <a:stretch/>
        </p:blipFill>
        <p:spPr>
          <a:xfrm>
            <a:off x="543600" y="991800"/>
            <a:ext cx="7386480" cy="5835240"/>
          </a:xfrm>
          <a:prstGeom prst="rect">
            <a:avLst/>
          </a:prstGeom>
          <a:ln w="0">
            <a:noFill/>
          </a:ln>
        </p:spPr>
      </p:pic>
      <p:sp>
        <p:nvSpPr>
          <p:cNvPr id="131" name="Текстовое поле 6"/>
          <p:cNvSpPr/>
          <p:nvPr/>
        </p:nvSpPr>
        <p:spPr>
          <a:xfrm>
            <a:off x="8434080" y="1718280"/>
            <a:ext cx="235224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СШ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Россия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Индия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Израил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Колумбия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Ирак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Алжир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Пакистан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Уганд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Шри- Ланк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Текстовое поле 99"/>
          <p:cNvSpPr/>
          <p:nvPr/>
        </p:nvSpPr>
        <p:spPr>
          <a:xfrm>
            <a:off x="1033200" y="150480"/>
            <a:ext cx="10125360" cy="577800"/>
          </a:xfrm>
          <a:prstGeom prst="rect">
            <a:avLst/>
          </a:prstGeom>
          <a:noFill/>
          <a:ln w="936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/>
            <a:r>
              <a:rPr b="1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раны, наиболее пострадавшие от терроризма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9900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f2b20"/>
                </a:solidFill>
                <a:latin typeface="Times New Roman"/>
              </a:rPr>
              <a:t>Основные виды терроризма:</a:t>
            </a:r>
            <a:endParaRPr b="0" lang="ru-RU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8960" y="142488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националистически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религиоз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ядер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транспорт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государствен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международ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криминаль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экологически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5" name="Замещающее содержимое 6" descr=""/>
          <p:cNvPicPr/>
          <p:nvPr/>
        </p:nvPicPr>
        <p:blipFill>
          <a:blip r:embed="rId1"/>
          <a:stretch/>
        </p:blipFill>
        <p:spPr>
          <a:xfrm>
            <a:off x="7045200" y="1781640"/>
            <a:ext cx="463464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1640" y="622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f2b20"/>
                </a:solidFill>
                <a:latin typeface="Times New Roman"/>
              </a:rPr>
              <a:t>Методы борьбы с терроризмом</a:t>
            </a:r>
            <a:endParaRPr b="0" lang="ru-RU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Текстовое поле 99"/>
          <p:cNvSpPr/>
          <p:nvPr/>
        </p:nvSpPr>
        <p:spPr>
          <a:xfrm>
            <a:off x="73080" y="1086480"/>
            <a:ext cx="8411400" cy="5452200"/>
          </a:xfrm>
          <a:prstGeom prst="rect">
            <a:avLst/>
          </a:prstGeom>
          <a:noFill/>
          <a:ln w="936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) Путем совершенствования деятельности специальных структур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) Проведения войсковых операций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) Использование переговорного процесс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)  Проведение экономических и политических реформ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)Идеологическая кампания, тотальная информационная вой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6) Ужесточение внутренней политик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7) Физическое уничтожение лидеров террористов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7572960" y="3613680"/>
            <a:ext cx="4392000" cy="292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9872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5400" spc="-1" strike="noStrike">
                <a:solidFill>
                  <a:srgbClr val="2f2b20"/>
                </a:solidFill>
                <a:latin typeface="Calibri Light"/>
              </a:rPr>
              <a:t>Теракты</a:t>
            </a:r>
            <a:endParaRPr b="0" lang="ru-RU" sz="5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1480" y="152460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11 сентября 2001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США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996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None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 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1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7621920" y="1410480"/>
            <a:ext cx="4352040" cy="3401280"/>
          </a:xfrm>
          <a:prstGeom prst="rect">
            <a:avLst/>
          </a:prstGeom>
          <a:ln w="0">
            <a:noFill/>
          </a:ln>
        </p:spPr>
      </p:pic>
      <p:pic>
        <p:nvPicPr>
          <p:cNvPr id="142" name="Изображение 4" descr=""/>
          <p:cNvPicPr/>
          <p:nvPr/>
        </p:nvPicPr>
        <p:blipFill>
          <a:blip r:embed="rId2"/>
          <a:stretch/>
        </p:blipFill>
        <p:spPr>
          <a:xfrm>
            <a:off x="3279240" y="3345120"/>
            <a:ext cx="5059440" cy="33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ll </cp:lastModifiedBy>
  <dcterms:modified xsi:type="dcterms:W3CDTF">2018-06-17T18:42:48Z</dcterms:modified>
  <cp:revision>1</cp:revision>
  <dc:subject/>
  <dc:title/>
</cp:coreProperties>
</file>