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99C-9C75-4388-9961-11190586C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068C-40BD-4AD5-920A-3B1AEC52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145C-4504-441C-83A7-93F282F16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9294-1257-4B03-8143-8B6A4052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CFFC-73A4-4E80-8A49-390FA6C7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BEE5-ECA3-428F-A041-0F852BE3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5AF6-7EDF-49FF-AB95-6BD3EE30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E2F8-8849-4D81-B1D1-380EB664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0CC79-FAA0-45B1-ADD3-C6A15EE32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32E1-D44A-4274-A92D-460FF966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621B-3361-4120-B052-8DFA8881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0E6-273C-473B-891F-980361B99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7CD96-123A-48D8-AE67-465F3DD7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1A74-7A56-48CE-AEB4-A96DBBB4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57AB-DAFA-4B0E-B502-EB2C1747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DA5E-D33B-4AEC-AD14-F8F48FCFD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3FB7-5673-43C8-A7CB-8451F677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DADFA-C403-41EA-B45D-8F97A664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7D80E-7162-4454-8C06-CE7D6994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2C011-0D0E-41B9-8EBB-7C7F445C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2DC58-B297-4137-BD92-04ABCC9D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AD4F5-8A7D-4E6C-A84A-489D1033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FE4B-E249-47D7-A92F-9296A9BF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77712-2813-476B-85BE-B686C479B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782AD-B7C6-4AA9-B3F7-0EC02E25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462F-94B8-4756-BCE1-FFB860A1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7B84D-6EFB-4911-BB8E-218B5D62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4C717-FB58-4B91-8AE0-7B36741B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FC402-DA53-4937-8AE4-81F0C42E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29543-0D65-4F79-B39E-4857E1803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0297-3952-4745-94B8-26C1EE19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7D098-4B0E-4412-833B-E8C130E3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744A6-85D5-43D3-B814-C8EC2ECA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222F-576C-41DC-AFAB-012717F2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B3E97-9DC4-4C68-A3B1-4A0A4638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91702-561A-4FB0-A2D4-9557E796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FF49D-3495-47FC-8064-721D770C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DE736-BCEB-4259-AB1F-A57D8B78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43788-3CD4-48F1-A288-F3534476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8331F-3A27-4E11-A9BC-BCF7CAD7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3C9EB-8999-426E-8C88-3D050781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0676F-DE73-4469-A0CA-D5FFE3AEC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721E2-0DC6-4AF4-B335-06DDCFE49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F7FC58-163F-437D-BC5F-0BA81E1D9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4F7-C03B-46A3-8BF2-7892F775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B5898-923B-4348-8239-A381EC61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8ECD5-9C21-4A73-8B8F-8DA060F4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EB158-6583-4BB6-BDA7-B59A908D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ADF72-E191-4602-901A-16A27BAA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6ACCE-D369-4421-814D-46BDD257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4CC2E-2FFD-43ED-80FA-48F4188A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B6BDD-8C9B-4324-99CD-A49F76C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29CEE-D318-4045-B9BB-87BEDEE1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D6537-D7F6-4E74-89F5-115FF4A1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9AFBC-7CE4-4222-8908-B8990865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D4A3-0AFA-4714-88BB-8112BADF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E6770-7FC8-4313-B648-1E45E8FA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F1E45-4F17-4FA2-80AA-6357C89F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2465E-E9D5-4E93-94ED-68D08AD4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3CCE8-A692-485E-A5DB-D6680ABF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672E1-116D-4674-8696-B0938747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B9CEC-8F97-4B9C-A420-ADB3296F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8B17F-923C-4270-B584-5BAE9C56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F0EAB-0B11-4A03-A55A-5F603013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9FCA3-568B-430A-A704-FFC42C2A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8C6AB-0D38-4974-9BC1-E35A6CFB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954E-7F52-4B7E-B8D1-F6AF22F8C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BD3637-71DF-430F-93A4-3AFD40E6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72D835-186A-4ECB-9F0F-1A1C172C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6F892-CA59-4E4D-9F2F-9F1DE427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8AD56-A353-453E-B337-6ED1EA3A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D0544-326A-4E80-B28F-AF6A83F4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4A6C3D-9AF5-4FB3-8592-8B7AF566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AE914-29BB-45D8-9446-65F52AB64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2B91A-C991-4877-9685-473C1721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C9016-4A9E-480F-85A4-06EFAD5C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A48D3-B33C-49F8-9C42-685EF456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6822-006F-46C1-B2A2-EDEA2747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8F8DB-76A6-48B4-9655-8F81F67B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5C4EC-5295-48D1-BB13-E119CFE2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67ED6-A6BB-49D4-A7D3-A2973F98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99AB4-FF98-4BF3-BB9E-6C987C86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B5106-5A37-48F1-A12A-5B0DC980A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C56-5489-43D1-96AF-DC1DDD4E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8AF2-8A1C-4447-8B6C-5F4D1414EE3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77B9-73DB-47EE-8B72-E9113C85708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C97A-7215-4018-899F-9C3E0F9E9F9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BDC8A-FB4F-49B7-9C8C-8FFB14B384D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2C93-FF0C-4F06-B4A1-2089A81064A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5477-F892-4027-85DE-9FA3B713028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F447-A277-4CBF-BFA6-013E099C615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ndara"/>
              </a:rPr>
              <a:t>Время инженеров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71640" y="2852640"/>
            <a:ext cx="69055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То, что сегодня наука, - завтра техника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Э.Геллер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1916280"/>
            <a:ext cx="7408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3000" spc="-1" strike="noStrike">
                <a:solidFill>
                  <a:srgbClr val="073e87"/>
                </a:solidFill>
                <a:latin typeface="Candara"/>
              </a:rPr>
              <a:t>«инженер» произошло от латинского ingenium - способность, изобретательность)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3000" spc="-1" strike="noStrike">
                <a:solidFill>
                  <a:srgbClr val="073e87"/>
                </a:solidFill>
                <a:latin typeface="Candara"/>
              </a:rPr>
              <a:t>- это человек, которые способен к работе с техникой, к техническому творчеству 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ndara"/>
              </a:rPr>
              <a:t>Инженер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проводит съемку на местности и составляет планы и карты, осуществляет геодезический контроль за взаиморасположением важных промышленных, жилых сооружений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-геодезис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рганизует работу по улучшению земель, эксплуатации необходимой техники, осуществляет мероприятия по осушению и орошению земель, участвует в приемке земель, контролирует выполнение природоохранных мероприятий в процессе мелиора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-мелиоратор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рабатывает, планирует и организует технологические процессы обработки деталей и сборки машин; проектирует технологическое оборудование, машины, станки и механизмы; рассчитывает экономическую эффективность решен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-машиностроител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рганизует бесперебойную работу и правильную эксплуатацию энергетического оборудования и коммуникаций на промышленных предприятиях; разрабатывает нормы расхода энергии и мероприятия по ее эконом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-энергети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рганизует работу по эффективному использованию земель, контролирует соблюдение земельного законодательства; внедряет проекты землеустройства и освоения новых земель; ведет кадастровые книги; дает заключение об использования территор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 по кадастр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ектирует станции и узлы связи; разрабатывает структурные и принципиальные схемы сетей связи; проводит пусконаладочные и ремонтные работы; осуществляет контроль и диагностику оборудования; рассчитывает эффективность внедряемых решен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 связ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T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отрасль – 30%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нженерная отрасль – 24%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инансовый сектор – 18%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фера продаж –12%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фис-менеджеры – 7%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аркетинг – 6%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PR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менеджеры – 3%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Рейтинг професс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Для настоящего инженера все существующие в природе предметы делятся на 2 категории: те, которые требуют ремонта и те, которые потребуют ремонта, как только кто-нибудь до них дотрон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Для инженеров больше всего важны две вещи: собственный интеллект (IQ) и умение применять свои зна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Об инженерах с улыбко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Инженеры любят решать проблемы. Если нет никаких проблем, будьте уверены: инженер обязательно создаст их сам. Обычные люди придерживаются такой точки зрения: «Если вещь работает, ее не нужно ремонтировать». Инженеры же думают так: «Если вещь работает, ее работа может быть улучшена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95280" y="33336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Геодезис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Машиностроитель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Механик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Строитель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Технолог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Конструктор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Энергетик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Инженер связи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МЧС, военный инженер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Профессия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Специальность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Должность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Квалификация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—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од трудовой деятельности  человека, владеющего комплексом специальных теоретических знаний и практических навыков, приобретённых в результате специальной подготовки, опыта рабо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Професс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—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мплекс приобретённых путём специальной подготовки и опыта работы знаний, умений и навыков, необходимых для определённого вида деятельности в рамках той или иной професс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Специаль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—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лужебное место, связанное с определённым кругом обязанностей и полномоч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Долж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степень и вид профессиональной обученности работника, наличие у него знаний, умения и навыков, необходимых для выполнения им определённой рабо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Квалификац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71560" y="1484280"/>
            <a:ext cx="740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.     Выбрал (а) ли ты профессию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А.  Да               Б. Не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.     Если да, то какую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Анке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Что ты знаешь о своей будущей профессии? (несколько вариантов)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)     предмет, содержание, условия труда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)  профессионально важные качества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)  места, где можно получить эту профессию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4)  спрос на эту профессию на рынке труда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5)  медицинские противопоказания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3.  (А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Что тебе мешает выбрать профессию? (несколько вариантов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)     плохо знаю мир професси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)  плохо знаю свои возможност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3)  не могу выбрать из нескольких вариант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4)  не знаю, как выбирать профессию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5)     еще не думал(а) о выборе професс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3. (Б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1).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Человек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дети и взрослые, ученики и студенты, клиенты и пациенты, покупатели и пассажиры, зрители и читатели и т.д.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2).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Информация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тексты, формулы, схемы, коды, чертежи, иностранные языки, языки программирования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3).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Финансы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деньги, акции, фонды, лимиты, кредиты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4) 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Техника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механизмы, станки, здания, конструкции, приборы, машины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5)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Искусство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литература, музыка, театр, кино, балет, живопись и т.д.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6)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Животные и растения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дикие, домашние, декоративные и т.д.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7)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Изделия и продукты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металл, ткани, мех, кожа, дерево, камень, лекарства, хлеб, мясо, молоко, плоды, овощи, фрукты и т.д.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8)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Природные ресурсы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земля, леса, горы, водоемы, месторождения и т.д.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4. Какой предмет труда тебя привлекает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правлени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руководство чьей-либо деятельностью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бслуживани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оказание различных услуг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бразовани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воспитание, обучение, формирование личности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оизводство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изготовление продукции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Конструировани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проектирование деталей и объектов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Исследовани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научное изучение чего-либо или кого-либо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ащит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охрана от болезней и враждебных действий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Контроль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проверка и наблюдение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5. Какой вид деятельности тебя привлекает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249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40680" indent="-40680" algn="ctr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создал способ отливки пушек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оптический прицел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механи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Иван Петрович Кулибин (1735-1818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емафорный телеграф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чудо-мосты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механи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Андрей Константинович Нарт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(1698-1756)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Может быть, немного разобраться вам в себе самом поможет шуточный тест с геометрическими фигурами. Используя три геометрические фигуры- треугольник, круг и квадрат, нарисуйте человечка. Состоящего из 10 элементов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Должны быть использованы все три вида фигур. Качество рисунка не имеет значения.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Теперь подсчитаем количество 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треугольников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Тес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073e87"/>
                </a:solidFill>
                <a:uFillTx/>
                <a:latin typeface="Candara"/>
              </a:rPr>
              <a:t>Первый тип</a:t>
            </a:r>
            <a:r>
              <a:rPr b="1" lang="ru-RU" sz="3700" spc="-1" strike="noStrike">
                <a:solidFill>
                  <a:srgbClr val="073e87"/>
                </a:solidFill>
                <a:latin typeface="Candara"/>
              </a:rPr>
              <a:t>:</a:t>
            </a: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 тип руководителя, хорошие преподаватели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Ярко выражено стремление к лидерству, хорошо разбираются в людях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6-8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треугольнико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073e87"/>
                </a:solidFill>
                <a:uFillTx/>
                <a:latin typeface="Candara"/>
              </a:rPr>
              <a:t>Второй тип:</a:t>
            </a:r>
            <a:r>
              <a:rPr b="1" lang="ru-RU" sz="37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Очень ответственные люди. хорошие организаторские способности.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До мелочей продумывает свою деятельность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5 треугольнико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Третий тип: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Разнообразие интересов и талантов.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Склонность к индивидуальной работе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4 треугольн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Четвёртый тип: 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Тип учёного.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Рационален, объективен, легко переключается с одного вида деятельности на другой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3 треугольн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Пятый тип: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 Интерес к искусству и человеку.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Тонко чувствует всё новое и необычное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2 треугольн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Шестой тип: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 Изобретатель, конструктор, художник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Обладает богатым воображени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1 треугольни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1) Диплом о профессиональном образовании. Причем, чем выше полученные во время учебы оценки, тем более привлекательно в глазах работодателя выглядит обладатель диплом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2) Владение компьютером. Знание компьютера не подразумевает достижения заоблачных высот программирования - достаточно просто уметь самостоятельно включить машину, найти там нужную программу, поработать в ней и, сохранив все на диске, выйти из системы. "Нужными программами" обычно являются Microsoft Word, Microsoft Exсel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3) Знание иностранных язык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4) Здоровый образ жизни, хорошая физическая форма. Сегодня в моде не субтильные кашляющие очкарики, а крепкие и энергичные парни и девушк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5) Общая эрудиция, кругозор, начитаннос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6) Презентабельный внешний вид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7) Ораторские способности, коммуникабельность, обаяние, сообразительнос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8) Наличие второй специальности; дополнительные профессиональные навыки. Лишних знаний и навыков не бывает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«Джентельменский набор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68000" y="285264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первые в России паровозы и железная дорога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2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электротехн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 Александр Николаевич Лодыгин (1847-1923) 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Павел Николаевич Яблочк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(1847-1894)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изобретатели электричества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Изобретатели отец и сын Черепановы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 Ефим Алексеевич (1774-1842) 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Мирон Ефимович (1803-1849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923920"/>
            <a:ext cx="75708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физик и электротехни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Александр Степанович Попов </a:t>
            </a:r>
            <a:br>
              <a:rPr sz="3600"/>
            </a:br>
            <a:r>
              <a:rPr b="1" i="1" lang="ru-RU" sz="2200" spc="-1" strike="noStrike">
                <a:solidFill>
                  <a:srgbClr val="073e87"/>
                </a:solidFill>
                <a:latin typeface="Candara"/>
              </a:rPr>
              <a:t>изобретатель радиосвязи</a:t>
            </a: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инженер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Николай Егорович  Жуковски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(1847-1921)</a:t>
            </a:r>
            <a:br>
              <a:rPr sz="3600"/>
            </a:b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оздатель аэродинамики</a:t>
            </a: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создатель аэродинамики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900" spc="-1" strike="noStrike">
                <a:solidFill>
                  <a:srgbClr val="ffffff"/>
                </a:solidFill>
                <a:latin typeface="Candara"/>
              </a:rPr>
              <a:t>(1859- 1906)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299700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основатель отечественного самолетостро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авиаконструктор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Андрей Николаевич Туполев (1887-1972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новый способ переработки нефти и резервуары для хранения нефтепродуктов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по формулам Шухова во всем мире рассчитывают нефтепроводы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телебашня на Шаболовке высотой 148,3 метра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инженер и изобретатель Владимир Григорьевич Шухов (1853-1939)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он участвовал в возведении Московского государственного университета на Ленинских горах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главное его творение - Останкинская радиотелевизионная башня, построенная в Москве в 1976 г. Это самое высокое свободностоящее сооружение в Европе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-строитель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Николай Васильевич Никитин (1907-1977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это люди, которые умеют воплощать в жизнь замыслы фантастов, умеют делать открытия, облегчающие нашу жизнь.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ndara"/>
              </a:rPr>
              <a:t>Инженеры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2:43:02Z</dcterms:created>
  <dc:creator>Пользователь</dc:creator>
  <dc:description/>
  <dc:language>en-US</dc:language>
  <cp:lastModifiedBy>Пользователь Windows</cp:lastModifiedBy>
  <dcterms:modified xsi:type="dcterms:W3CDTF">2017-08-31T15:44:55Z</dcterms:modified>
  <cp:revision>9</cp:revision>
  <dc:subject/>
  <dc:title>Время инженеров</dc:title>
</cp:coreProperties>
</file>