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9DA4-872A-4147-93B8-77E95E69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70F-E772-4331-AC62-8CFB6AF6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5948-5E37-42F5-940A-AFE4728BB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50D-4A53-4D55-B0E1-4B2AAF97B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3D0AE-AD20-4F24-8DB4-8A842F76D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1B91-3B0A-41A3-A2CA-081ECE5BE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81D2-C351-4391-A0E7-1FE41E83F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778D-5393-4654-89B1-0D27A0D9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DD89-3734-43F0-A207-4684B9C7C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F825-4018-4BC8-A10B-C9E6CF931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52826-C209-419A-BAC6-B75BDD7B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B1E0-912B-4E07-8792-2F1E3D04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F18F-03D5-4758-9311-46AD3161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B72D-A27C-495A-A7F5-E89BEB4B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AEE3-3D4B-4C04-8222-DF630195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9DB6-65AB-4A2C-8764-2119D4AF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32A9-8CD8-497E-A4D1-A215411BD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75BA5-4507-48BD-AC89-B2E415EC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74671-B231-4728-B621-3E85F05AA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3A19-BAD2-4F44-8211-90787C106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A0AF2-960E-467D-8F13-E57645E36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AEF89-60B1-4624-9A19-3716366D7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C1A4-8845-4C21-B315-74729935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A0500-2B86-4BBC-A6F5-94DC5F03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DE897-1CFF-4FEA-8F92-45BA0C90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7299-AC9B-44C8-A9ED-486DF9A3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9FDB-808A-4658-B4C0-E09B9986C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431F3-612F-4A09-AC07-1EB17A1A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AAFF7-D00C-45DD-B1EF-B7834B5DC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E1F66-4C31-45BB-B791-77266ADFB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F4369-6774-4659-B216-91C45D10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36D0B-6D62-498B-A3C4-C519EB23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369F1-E323-4A32-908B-194F44BA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C4BF-AE0B-46D8-8539-BF56997AD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4C920-4924-430B-BB3E-AF8A08AC6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BE550-3D52-4CD9-8CA5-876526B1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26AF9-FD31-410B-9ECF-53039821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D7203B-16A8-4BD2-AC47-A75F054A0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51320-3A98-448B-B326-5C1F72CE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5911F-ACB9-48EE-8D29-D8FFC893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D5854-E388-4CC5-B6C7-7C3161E3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A11B9-02D5-474D-89BC-2D0F9A65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A2332-C039-452D-92C3-0543EE674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6F743-5D96-4E66-9C21-869109234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8CEE-F6A4-49CA-BA50-18A43520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C6B27-AC32-4E62-AEC6-674FDCF3B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813CF-4973-4FE8-B871-B25570933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721946-9F69-460E-B987-E1225FC6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2C101-0B69-4E88-A467-40A34160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D332E-B63F-4E1E-8AFD-EC958CAB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312FF-F831-47BB-AF6F-F5B73CD8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8F60D-999D-4635-8718-2C60A693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3296D-1BA5-473D-AF02-CBD48A4F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BC89D-F4DC-4122-9C6B-50AF52F2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716CC8-E602-42FA-94C8-D36D2954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9A4-C70F-475C-90C7-72E2B009F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ED4CA-0B7A-4CE5-ACE1-6991413D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7EACC6-431B-4B62-9EDF-3A39FC67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2918E-5862-46B3-A504-8E55A140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3FAD5-7CB8-4756-90B6-E26C9577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BF652-F76F-40C4-85F5-6A5D55F6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12E08-5003-4EAA-BDB8-89912CDE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25519-D25C-4122-853A-E72D35FA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02224-8222-42A0-8D3E-421A9E40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1FFDF5-9521-4ABB-8CC3-62DCBD905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C783C3-3C19-4833-B7B7-E2E8830E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091-F2EB-4424-B627-70E4B1DF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891D29-D533-4098-9CFA-554F7C8F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D6F36B-D5BF-4D58-AE37-E18B3021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7A91B-946E-491B-8415-F217096B6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77C79-13AE-4A37-904E-B3479EC74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CBCE6B-66A4-41FF-8D37-8AE66288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905A4-8690-49FD-A625-8D97F14F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32E27F-CCE4-43FF-91BC-6D9C81C4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D101C-5837-483D-B317-52D5215E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5BEB5-B6E5-4EBA-AD6D-30C04AF7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60E97-ACDF-443A-8D36-2344F159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90E2-22A3-4A9E-8024-83186AAF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A6744-883F-4EF4-AF67-1A0B6F91A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A7EE6-6F3E-49F9-8491-5EC12916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EDCF2-B77F-4507-B2A2-8ACE599F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E7C7C-1A09-46D8-8FBA-53585638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68E92-0348-4F27-85FA-D6BE66BC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9FE4-AA95-4118-B3BA-DD70D681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B062-383C-423C-9C65-1A69CA10B13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BD8C-7186-48B7-9C3D-2F98FD94594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056C-9A4D-4A74-A158-2F9A8E23C1C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F7E0-2EC7-4A4B-BE7D-EB0256E1901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CF0C-F57F-47D6-9976-1B6140AA1EFF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25143-D65B-4DCA-A5A2-51287CEC430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A710-99D8-4F8A-B8C4-44D0C41A3C8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Candara"/>
              </a:rPr>
              <a:t>Время инженеров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971640" y="2852640"/>
            <a:ext cx="690552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То, что сегодня наука, - завтра техника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Э.Геллер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871560" y="1916280"/>
            <a:ext cx="74088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3000" spc="-1" strike="noStrike">
                <a:solidFill>
                  <a:srgbClr val="073e87"/>
                </a:solidFill>
                <a:latin typeface="Candara"/>
              </a:rPr>
              <a:t>«инженер» произошло от латинского ingenium - способность, изобретательность)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3000" spc="-1" strike="noStrike">
                <a:solidFill>
                  <a:srgbClr val="073e87"/>
                </a:solidFill>
                <a:latin typeface="Candara"/>
              </a:rPr>
              <a:t>- это человек, которые способен к работе с техникой, к техническому творчеству </a:t>
            </a:r>
            <a:endParaRPr b="0" lang="en-US" sz="3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ndara"/>
              </a:rPr>
              <a:t>Инженер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проводит съемку на местности и составляет планы и карты, осуществляет геодезический контроль за взаиморасположением важных промышленных, жилых сооружений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-геодезист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рганизует работу по улучшению земель, эксплуатации необходимой техники, осуществляет мероприятия по осушению и орошению земель, участвует в приемке земель, контролирует выполнение природоохранных мероприятий в процессе мелиорац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-мелиоратор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азрабатывает, планирует и организует технологические процессы обработки деталей и сборки машин; проектирует технологическое оборудование, машины, станки и механизмы; рассчитывает экономическую эффективность решен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-машиностроител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рганизует бесперебойную работу и правильную эксплуатацию энергетического оборудования и коммуникаций на промышленных предприятиях; разрабатывает нормы расхода энергии и мероприятия по ее эконом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-энергети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рганизует работу по эффективному использованию земель, контролирует соблюдение земельного законодательства; внедряет проекты землеустройства и освоения новых земель; ведет кадастровые книги; дает заключение об использования территор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 по кадастр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проектирует станции и узлы связи; разрабатывает структурные и принципиальные схемы сетей связи; проводит пусконаладочные и ремонтные работы; осуществляет контроль и диагностику оборудования; рассчитывает эффективность внедряемых решен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 связи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IT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отрасль – 30%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Инженерная отрасль – 24%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Финансовый сектор – 18%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Сфера продаж –12%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фис-менеджеры – 7%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Маркетинг – 6%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PR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менеджеры – 3%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Рейтинг професси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457200" y="1699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Для настоящего инженера все существующие в природе предметы делятся на 2 категории: те, которые требуют ремонта и те, которые потребуют ремонта, как только кто-нибудь до них дотронетс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Для инженеров больше всего важны две вещи: собственный интеллект (IQ) и умение применять свои зна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Об инженерах с улыбкой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Инженеры любят решать проблемы. Если нет никаких проблем, будьте уверены: инженер обязательно создаст их сам. Обычные люди придерживаются такой точки зрения: «Если вещь работает, ее не нужно ремонтировать». Инженеры же думают так: «Если вещь работает, ее работа может быть улучшена»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95280" y="333360"/>
            <a:ext cx="82915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Геодезист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Машиностроитель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Механик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Строитель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Технолог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Конструктор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Энергетик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Инженер связи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73e87"/>
                </a:solidFill>
                <a:latin typeface="Candara"/>
              </a:rPr>
              <a:t>МЧС, военный инженер</a:t>
            </a: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9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Профессия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Специальность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Должность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73e87"/>
                </a:solidFill>
                <a:latin typeface="Candara"/>
              </a:rPr>
              <a:t>Квалификация</a:t>
            </a:r>
            <a:endParaRPr b="0" lang="en-US" sz="5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— 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род трудовой деятельности  человека, владеющего комплексом специальных теоретических знаний и практических навыков, приобретённых в результате специальной подготовки, опыта рабо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Професс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— 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комплекс приобретённых путём специальной подготовки и опыта работы знаний, умений и навыков, необходимых для определённого вида деятельности в рамках той или иной професс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Специаль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— </a:t>
            </a: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служебное место, связанное с определённым кругом обязанностей и полномочий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Должность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- степень и вид профессиональной обученности работника, наличие у него знаний, умения и навыков, необходимых для выполнения им определённой работы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Квалификация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871560" y="1484280"/>
            <a:ext cx="7408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1.     Выбрал (а) ли ты профессию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           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А.  Да               Б. Нет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2.     Если да, то какую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Анкет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Что ты знаешь о своей будущей профессии? (несколько вариантов)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1)     предмет, содержание, условия труда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2)  профессионально важные качества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3)  места, где можно получить эту профессию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4)  спрос на эту профессию на рынке труда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45520" indent="-2455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73e87"/>
                </a:solidFill>
                <a:latin typeface="Candara"/>
              </a:rPr>
              <a:t>5)  медицинские противопоказания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3.  (А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Что тебе мешает выбрать профессию? (несколько вариантов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1)     плохо знаю мир профессий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2)  плохо знаю свои возможност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3)  не могу выбрать из нескольких вариант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4)  не знаю, как выбирать профессию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5)     еще не думал(а) о выборе професс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3. (Б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1).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Человек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дети и взрослые, ученики и студенты, клиенты и пациенты, покупатели и пассажиры, зрители и читатели и т.д.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2).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Информация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тексты, формулы, схемы, коды, чертежи, иностранные языки, языки программирования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3).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Финансы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деньги, акции, фонды, лимиты, кредиты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4) 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Техника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механизмы, станки, здания, конструкции, приборы, машины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5)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Искусство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литература, музыка, театр, кино, балет, живопись и т.д.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6)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Животные и растения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дикие, домашние, декоративные и т.д.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7)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Изделия и продукты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металл, ткани, мех, кожа, дерево, камень, лекарства, хлеб, мясо, молоко, плоды, овощи, фрукты и т.д.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marL="264600" indent="-264600">
              <a:lnSpc>
                <a:spcPct val="80000"/>
              </a:lnSpc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8) </a:t>
            </a:r>
            <a:r>
              <a:rPr b="1" lang="ru-RU" sz="2200" spc="-1" strike="noStrike">
                <a:solidFill>
                  <a:srgbClr val="073e87"/>
                </a:solidFill>
                <a:latin typeface="Candara"/>
              </a:rPr>
              <a:t>Природные ресурсы</a:t>
            </a: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 (земля, леса, горы, водоемы, месторождения и т.д.)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4. Какой предмет труда тебя привлекает?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457200" y="184464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1)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Управлени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руководство чьей-либо деятельностью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2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бслуживани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оказание различных услуг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3) 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Образовани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воспитание, обучение, формирование личности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4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Производство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изготовление продукции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5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Конструировани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проектирование деталей и объектов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6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Исследование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научное изучение чего-либо или кого-либо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7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Защита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охрана от болезней и враждебных действий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8)  </a:t>
            </a: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Контроль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(проверка и наблюдение)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5. Какой вид деятельности тебя привлекает?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457200" y="2491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5000"/>
          </a:bodyPr>
          <a:p>
            <a:pPr marL="40680" indent="-40680" algn="ctr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создал способ отливки пушек,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ndara"/>
              </a:rPr>
              <a:t>оптический прицел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механи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Иван Петрович Кулибин (1735-1818)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семафорный телеграф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ndara"/>
              </a:rPr>
              <a:t>чудо-мосты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40680" indent="-406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механик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Андрей Константинович Нартов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(1698-1756) 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Может быть, немного разобраться вам в себе самом поможет шуточный тест с геометрическими фигурами. Используя три геометрические фигуры- треугольник, круг и квадрат, нарисуйте человечка. Состоящего из 10 элементов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     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Должны быть использованы все три вида фигур. Качество рисунка не имеет значения. 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Теперь подсчитаем количество </a:t>
            </a:r>
            <a:r>
              <a:rPr b="1" lang="ru-RU" sz="2600" spc="-1" strike="noStrike">
                <a:solidFill>
                  <a:srgbClr val="073e87"/>
                </a:solidFill>
                <a:latin typeface="Candara"/>
              </a:rPr>
              <a:t>треугольников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609480" indent="-609480">
              <a:lnSpc>
                <a:spcPct val="6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6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Тестирование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073e87"/>
                </a:solidFill>
                <a:uFillTx/>
                <a:latin typeface="Candara"/>
              </a:rPr>
              <a:t>Первый тип</a:t>
            </a:r>
            <a:r>
              <a:rPr b="1" lang="ru-RU" sz="3700" spc="-1" strike="noStrike">
                <a:solidFill>
                  <a:srgbClr val="073e87"/>
                </a:solidFill>
                <a:latin typeface="Candara"/>
              </a:rPr>
              <a:t>:</a:t>
            </a: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 тип руководителя, хорошие преподаватели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50920" indent="-2509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Ярко выражено стремление к лидерству, хорошо разбираются в людях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6-8</a:t>
            </a: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треугольнико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 u="sng">
                <a:solidFill>
                  <a:srgbClr val="073e87"/>
                </a:solidFill>
                <a:uFillTx/>
                <a:latin typeface="Candara"/>
              </a:rPr>
              <a:t>Второй тип:</a:t>
            </a:r>
            <a:r>
              <a:rPr b="1" lang="ru-RU" sz="37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Очень ответственные люди. хорошие организаторские способности. 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lnSpc>
                <a:spcPct val="90000"/>
              </a:lnSpc>
              <a:spcBef>
                <a:spcPts val="924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73e87"/>
                </a:solidFill>
                <a:latin typeface="Candara"/>
              </a:rPr>
              <a:t>До мелочей продумывает свою деятельность.</a:t>
            </a:r>
            <a:endParaRPr b="0" lang="en-US" sz="3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5 треугольников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Третий тип: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Разнообразие интересов и талантов.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Склонность к индивидуальной работе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4 треугольн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Четвёртый тип: 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Тип учёного.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Рационален, объективен, легко переключается с одного вида деятельности на другой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3 треугольн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Пятый тип: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 Интерес к искусству и человеку. 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Тонко чувствует всё новое и необычное.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2 треугольник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73e87"/>
                </a:solidFill>
                <a:latin typeface="Candara"/>
              </a:rPr>
              <a:t>Шестой тип: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 Изобретатель, конструктор, художник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spcBef>
                <a:spcPts val="10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Обладает богатым воображением.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1 треугольник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25056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1) Диплом о профессиональном образовании. Причем, чем выше полученные во время учебы оценки, тем более привлекательно в глазах работодателя выглядит обладатель диплома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2) Владение компьютером. Знание компьютера не подразумевает достижения заоблачных высот программирования - достаточно просто уметь самостоятельно включить машину, найти там нужную программу, поработать в ней и, сохранив все на диске, выйти из системы. "Нужными программами" обычно являются Microsoft Word, Microsoft Exсel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3) Знание иностранных языко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4) Здоровый образ жизни, хорошая физическая форма. Сегодня в моде не субтильные кашляющие очкарики, а крепкие и энергичные парни и девушк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5) Общая эрудиция, кругозор, начитаннос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6) Презентабельный внешний вид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7) Ораторские способности, коммуникабельность, обаяние, сообразительность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48040" indent="-24804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ndara"/>
              </a:rPr>
              <a:t>8) Наличие второй специальности; дополнительные профессиональные навыки. Лишних знаний и навыков не бывает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«Джентельменский набор»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468000" y="2852640"/>
            <a:ext cx="8218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первые в России паровозы и железная дорога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2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электротехники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 Александр Николаевич Лодыгин (1847-1923) 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Павел Николаевич Яблочков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(1847-1894)</a:t>
            </a:r>
            <a:r>
              <a:rPr b="0" lang="ru-RU" sz="4000" spc="-1" strike="noStrike">
                <a:solidFill>
                  <a:srgbClr val="073e87"/>
                </a:solidFill>
                <a:latin typeface="Candara"/>
              </a:rPr>
              <a:t> </a:t>
            </a: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изобретатели электричества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Изобретатели отец и сын Черепановы –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 Ефим Алексеевич (1774-1842) и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ndara"/>
              </a:rPr>
              <a:t>Мирон Ефимович (1803-1849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16000" y="2923920"/>
            <a:ext cx="75708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физик и электротехник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Александр Степанович Попов </a:t>
            </a:r>
            <a:br>
              <a:rPr sz="3600"/>
            </a:br>
            <a:r>
              <a:rPr b="1" i="1" lang="ru-RU" sz="2200" spc="-1" strike="noStrike">
                <a:solidFill>
                  <a:srgbClr val="073e87"/>
                </a:solidFill>
                <a:latin typeface="Candara"/>
              </a:rPr>
              <a:t>изобретатель радиосвязи</a:t>
            </a:r>
            <a:br>
              <a:rPr sz="2200"/>
            </a:br>
            <a:br>
              <a:rPr sz="2200"/>
            </a:b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инженер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Николай Егорович  Жуковски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ndara"/>
              </a:rPr>
              <a:t> (1847-1921)</a:t>
            </a:r>
            <a:br>
              <a:rPr sz="3600"/>
            </a:b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создатель аэродинамики</a:t>
            </a:r>
            <a:br>
              <a:rPr sz="3600"/>
            </a:br>
            <a:r>
              <a:rPr b="0" lang="ru-RU" sz="3200" spc="-1" strike="noStrike">
                <a:solidFill>
                  <a:srgbClr val="ffffff"/>
                </a:solidFill>
                <a:latin typeface="Candara"/>
              </a:rPr>
              <a:t>создатель аэродинамики </a:t>
            </a:r>
            <a:br>
              <a:rPr sz="32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4900" spc="-1" strike="noStrike">
                <a:solidFill>
                  <a:srgbClr val="ffffff"/>
                </a:solidFill>
                <a:latin typeface="Candara"/>
              </a:rPr>
              <a:t>(1859- 1906)</a:t>
            </a:r>
            <a:endParaRPr b="0" lang="en-US" sz="4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2997000"/>
            <a:ext cx="8229600" cy="50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73e87"/>
                </a:solidFill>
                <a:latin typeface="Candara"/>
              </a:rPr>
              <a:t>основатель отечественного самолетостроения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авиаконструктор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Андрей Николаевич Туполев (1887-1972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457200" y="3573000"/>
            <a:ext cx="8229600" cy="25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новый способ переработки нефти и резервуары для хранения нефтепродуктов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по формулам Шухова во всем мире рассчитывают нефтепроводы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67120" indent="-26712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телебашня на Шаболовке высотой 148,3 метра.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инженер и изобретатель Владимир Григорьевич Шухов (1853-1939).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он участвовал в возведении Московского государственного университета на Ленинских горах,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главное его творение - Останкинская радиотелевизионная башня, построенная в Москве в 1976 г. Это самое высокое свободностоящее сооружение в Европе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инженер-строитель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Candara"/>
              </a:rPr>
              <a:t>Николай Васильевич Никитин (1907-1977)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11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- </a:t>
            </a:r>
            <a:r>
              <a:rPr b="0" lang="ru-RU" sz="4400" spc="-1" strike="noStrike">
                <a:solidFill>
                  <a:srgbClr val="073e87"/>
                </a:solidFill>
                <a:latin typeface="Candara"/>
              </a:rPr>
              <a:t>это люди, которые умеют воплощать в жизнь замыслы фантастов, умеют делать открытия, облегчающие нашу жизнь. </a:t>
            </a:r>
            <a:endParaRPr b="0" lang="en-US" sz="4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Candara"/>
              </a:rPr>
              <a:t>Инженеры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2T12:43:02Z</dcterms:created>
  <dc:creator>Пользователь</dc:creator>
  <dc:description/>
  <dc:language>en-US</dc:language>
  <cp:lastModifiedBy>Пользователь Windows</cp:lastModifiedBy>
  <dcterms:modified xsi:type="dcterms:W3CDTF">2017-08-31T15:44:55Z</dcterms:modified>
  <cp:revision>9</cp:revision>
  <dc:subject/>
  <dc:title>Время инженеров</dc:title>
</cp:coreProperties>
</file>