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57B3-FD2B-4F80-B5CD-47FF7B66A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FA93-8049-4163-88F8-18F4FC35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9AC0-7AD1-4CFA-8617-37516DDF9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74CF-414A-40AE-AAFC-9835514BA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ABDF-56E6-48C9-BD47-DBB310775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8A11-5DF5-434A-A3FC-0AA79F9E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5F9A-6D34-4727-8E94-E2C79574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1924-CE85-4EC7-84EF-F5A29CA8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35CF-2AA8-4379-849C-7D69E587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79CC-BD0A-486C-ACCB-6DF44B15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A5A5-756A-427D-82D7-185C6D3C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0DED-439C-436E-B3C9-42EC1F79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67D23-E002-4AAE-85FC-AB677B108E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b9cb5"/>
                </a:solidFill>
                <a:latin typeface="Tahoma"/>
              </a:rPr>
              <a:t>Обобщающий урок</a:t>
            </a:r>
            <a:br>
              <a:rPr sz="4400"/>
            </a:br>
            <a:r>
              <a:rPr b="0" lang="ru-RU" sz="4400" spc="-1" strike="noStrike">
                <a:solidFill>
                  <a:srgbClr val="7b9cb5"/>
                </a:solidFill>
                <a:latin typeface="Tahoma"/>
                <a:ea typeface="Tahoma"/>
              </a:rPr>
              <a:t>на тему: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72948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хание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Заболевания органов дыхания</a:t>
            </a:r>
            <a:r>
              <a:rPr b="0" lang="he-IL" sz="3200" spc="-1" strike="noStrike">
                <a:solidFill>
                  <a:srgbClr val="000000"/>
                </a:solidFill>
                <a:latin typeface="Tahoma"/>
                <a:cs typeface="Tahoma"/>
              </a:rPr>
              <a:t>ֽ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их предупреждения</a:t>
            </a:r>
            <a:r>
              <a:rPr b="0" lang="he-IL" sz="3200" spc="-1" strike="noStrike">
                <a:solidFill>
                  <a:srgbClr val="000000"/>
                </a:solidFill>
                <a:latin typeface="Tahoma"/>
                <a:cs typeface="Tahoma"/>
              </a:rPr>
              <a:t>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плохо проветриваемом помещении накапливаются летучие продукты жизнедеятельности. Пребывание в таком помещении снижается работоспособность человека, вызывает головную боль и другие нарушения самочувствия человек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b9cb5"/>
                </a:solidFill>
                <a:latin typeface="Tahoma"/>
              </a:rPr>
              <a:t>Невидимые враги в воздухе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b9cb5"/>
                </a:solidFill>
                <a:latin typeface="Tahoma"/>
              </a:rPr>
              <a:t>Заболевания органов дыхания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воздухе находится огромное количество болезнетворных бактерий и микроорганизмов. Особенно их концентрация увеличивается во время возникновения вспышек инфекционных заболеваний, таких как грипп, туберкулез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акже существуют следующие  заболевания органов дыхания: бронхит, бронхиальная астма, рак органов дых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Состав табачного дыма"/>
          <p:cNvPicPr/>
          <p:nvPr/>
        </p:nvPicPr>
        <p:blipFill>
          <a:blip r:embed="rId1"/>
          <a:stretch/>
        </p:blipFill>
        <p:spPr>
          <a:xfrm>
            <a:off x="539640" y="11430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3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b9cb5"/>
                </a:solidFill>
                <a:latin typeface="Tahoma"/>
              </a:rPr>
              <a:t>Вредные привычки, способствующие развитию заболеваний органов дыхания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Пассивное курение"/>
          <p:cNvPicPr/>
          <p:nvPr/>
        </p:nvPicPr>
        <p:blipFill>
          <a:blip r:embed="rId1"/>
          <a:stretch/>
        </p:blipFill>
        <p:spPr>
          <a:xfrm>
            <a:off x="684360" y="54936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b9cb5"/>
                </a:solidFill>
                <a:latin typeface="Tahoma"/>
              </a:rPr>
              <a:t>Краткая история курения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Последствия табакокурения"/>
          <p:cNvPicPr/>
          <p:nvPr/>
        </p:nvPicPr>
        <p:blipFill>
          <a:blip r:embed="rId1"/>
          <a:stretch/>
        </p:blipFill>
        <p:spPr>
          <a:xfrm>
            <a:off x="611280" y="981000"/>
            <a:ext cx="8001000" cy="50799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b9cb5"/>
                </a:solidFill>
                <a:latin typeface="Tahoma"/>
              </a:rPr>
              <a:t>Последствие курения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b9cb5"/>
                </a:solidFill>
                <a:latin typeface="Tahoma"/>
              </a:rPr>
              <a:t>Закрепление: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Тест 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. Органы дыхани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А. мышцы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Б. ребр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. легки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. почк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. В процессе дыхания организм получает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А. органические веществ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Б. минеральные сол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. Углекислый газ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. кислород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3.Углекислый газ образуется в организме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А. в легких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Б. в клетках тел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. В легочных капиллярах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. В капиллярах большого круг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. Жизненная емкость легких составляет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. 500 см.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. 3500 см.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. 1500 см.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. 2000 см.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. Помещения нужно регулярно проветривать, чтоб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. удалить избыток кислоро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. удалить избыток углекислого газ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. Увеличить влажность воздух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. Удалить пы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6. Что измеряется спирометром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. давление кров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. температура тел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. Пуль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. Жизненная емкость легки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7. К вредным газообразным примесям в воздухе относитс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. азо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. водоро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. Угарный газ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. кислоро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8. К инфекционным болезням передающимся через воздух относитс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. инфаркт миокар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. СПИ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. Малокров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. Туберкулез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9. В выдыхаемом воздухе содержится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. 30% кислоро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. 2% кислоро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. 16% кислоро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. 21% кислоро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0. В качестве профилактики от заболевания гриппом нужно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. заниматься спорто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. прикрывать рот и нос марлевой повязкой при общении с больным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. делать зарядк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. не бывать на улиц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b9cb5"/>
                </a:solidFill>
                <a:latin typeface="Tahoma"/>
              </a:rPr>
              <a:t>ответы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.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.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.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7.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8.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9.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0.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b9cb5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р 146-14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b9cb5"/>
                </a:solidFill>
                <a:latin typeface="Tahoma"/>
              </a:rPr>
              <a:t>Цели: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. расширить знания учащихся о возможных заболеваниях и нарушениях органов дыхания, их причинах и профилактических мерах; гигиенических требованиях к окружающей среде; правилах дых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. формировать умения: разъяснить необходимость проветривания в жилых помещениях; обосновывать вредное воздействие кур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b9cb5"/>
                </a:solidFill>
                <a:latin typeface="Tahoma"/>
              </a:rPr>
              <a:t>Тип урока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мбинированн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b9cb5"/>
                </a:solidFill>
                <a:latin typeface="Tahoma"/>
              </a:rPr>
              <a:t>Ход урока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рганизационный момен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иологическая размин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верка домашнего зада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учение нового материа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креплени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Воздухоносные пути"/>
          <p:cNvPicPr/>
          <p:nvPr/>
        </p:nvPicPr>
        <p:blipFill>
          <a:blip r:embed="rId1"/>
          <a:stretch/>
        </p:blipFill>
        <p:spPr>
          <a:xfrm>
            <a:off x="3203640" y="90792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b9cb5"/>
                </a:solidFill>
                <a:latin typeface="Tahoma"/>
              </a:rPr>
              <a:t>Биологический диктант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 органам дыхания относятся: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дгортанник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ронхиальное дерев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левр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львео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иафраг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олосовые связ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Воздухоносные пути"/>
          <p:cNvPicPr/>
          <p:nvPr/>
        </p:nvPicPr>
        <p:blipFill>
          <a:blip r:embed="rId1"/>
          <a:stretch/>
        </p:blipFill>
        <p:spPr>
          <a:xfrm>
            <a:off x="4221000" y="404640"/>
            <a:ext cx="4923000" cy="62373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b9cb5"/>
                </a:solidFill>
                <a:latin typeface="Tahoma"/>
              </a:rPr>
              <a:t>Ответы: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5410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4"/>
                </a:solidFill>
                <a:latin typeface="Tahoma"/>
              </a:rPr>
              <a:t>Носовая полость, носоглотка, гортань, трахея, бронхи и легк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4"/>
                </a:solidFill>
                <a:latin typeface="Tahoma"/>
              </a:rPr>
              <a:t>Особый эластичный и гибкий хрящ, он закрывает вход в гортань, когда мы глотаем пищу, предохраняя дыхательные пути от попадания в них пищевых частичек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4"/>
                </a:solidFill>
                <a:latin typeface="Tahoma"/>
              </a:rPr>
              <a:t>Ветвление главных бронх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4"/>
                </a:solidFill>
                <a:latin typeface="Tahoma"/>
              </a:rPr>
              <a:t>Тонкая оболочка покрывающая снаружи легко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4"/>
                </a:solidFill>
                <a:latin typeface="Tahoma"/>
              </a:rPr>
              <a:t>Тонкостенные легочные пузырьк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4"/>
                </a:solidFill>
                <a:latin typeface="Tahoma"/>
              </a:rPr>
              <a:t>Мышечная перегородка, разделяющая грудную и брюшную полости. Участвует в дыхательных движения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4"/>
                </a:solidFill>
                <a:latin typeface="Tahoma"/>
              </a:rPr>
              <a:t>Складки слизистой оболочки, натянутые, как струн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Альвеолы легких"/>
          <p:cNvPicPr/>
          <p:nvPr/>
        </p:nvPicPr>
        <p:blipFill>
          <a:blip r:embed="rId1"/>
          <a:stretch/>
        </p:blipFill>
        <p:spPr>
          <a:xfrm>
            <a:off x="1619280" y="549360"/>
            <a:ext cx="6095880" cy="5715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b9cb5"/>
                </a:solidFill>
                <a:latin typeface="Tahoma"/>
              </a:rPr>
              <a:t>Фронтальный опрос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 происходит газообмен в легких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ов механизм газообмена в тканях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им образом совершаются дыхательные движения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 такое жизненная емкость легких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 регулируется дыхани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Изучение нового материала: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дыхательном  центре находятся клетки, чувствительные к малейшему изменению содержанию углекислого газа в межклеточном веществе. Избыток углекислого газа возбуждает дыхательный центр, это в свою очередь вызывает учащение дыхания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ебывание людей в закрытых помещениях неизбежно приводит к изменению химического состава и физических свойств воздух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выдыхаемом человеком воздухе всего 16.4 % кислорода, до 4 % С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много водяных пар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" name="Picture 5" descr="Принципиальная схема газообмена в организме"/>
          <p:cNvPicPr/>
          <p:nvPr/>
        </p:nvPicPr>
        <p:blipFill>
          <a:blip r:embed="rId1"/>
          <a:stretch/>
        </p:blipFill>
        <p:spPr>
          <a:xfrm>
            <a:off x="5518080" y="4246560"/>
            <a:ext cx="362592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09:33:29Z</dcterms:created>
  <dc:creator>Ефремова</dc:creator>
  <dc:description/>
  <dc:language>en-US</dc:language>
  <cp:lastModifiedBy>Коля</cp:lastModifiedBy>
  <dcterms:modified xsi:type="dcterms:W3CDTF">2013-05-29T16:06:13Z</dcterms:modified>
  <cp:revision>4</cp:revision>
  <dc:subject/>
  <dc:title>Обобщающий урок на тему:</dc:title>
</cp:coreProperties>
</file>