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73EE-8029-4990-8D2B-7B575B14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09A0A-DF88-4D20-9DDF-9DD4799DA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103B-9B64-4241-B1FA-271878B96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F84-F8EE-4524-B1DD-144866D78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5A61-EBCE-4955-B31F-C6031B45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89DD-2025-40F0-87BD-ED84619E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435-7320-4E63-B439-A1C44D06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0AAB-5F8F-4A02-A726-38586ED95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7A61-841F-4C59-93D4-63135719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7435-117E-4461-8188-0E4BE08E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EAE2-31F0-493A-AE97-C4A79479F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1777-E889-496D-B8D6-6BCD9A4C9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3FA9-1954-407D-A2F8-31A596CB0E4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Обобщающий урок</a:t>
            </a:r>
            <a:br>
              <a:rPr sz="4400"/>
            </a:br>
            <a:r>
              <a:rPr b="0" lang="ru-RU" sz="4400" spc="-1" strike="noStrike">
                <a:solidFill>
                  <a:srgbClr val="7b9cb5"/>
                </a:solidFill>
                <a:latin typeface="Tahoma"/>
                <a:ea typeface="Tahoma"/>
              </a:rPr>
              <a:t>на тему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729480" cy="235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ы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хани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Заболевания органов дыхания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  <a:cs typeface="Tahoma"/>
              </a:rPr>
              <a:t>ֽ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их предупреждения</a:t>
            </a:r>
            <a:r>
              <a:rPr b="0" lang="he-IL" sz="3200" spc="-1" strike="noStrike">
                <a:solidFill>
                  <a:srgbClr val="000000"/>
                </a:solidFill>
                <a:latin typeface="Tahoma"/>
                <a:cs typeface="Tahoma"/>
              </a:rPr>
              <a:t>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плохо проветриваемом помещении накапливаются летучие продукты жизнедеятельности. Пребывание в таком помещении снижается работоспособность человека, вызывает головную боль и другие нарушения самочувствия челове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Невидимые враги в воздухе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Заболевания органов дыха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воздухе находится огромное количество болезнетворных бактерий и микроорганизмов. Особенно их концентрация увеличивается во время возникновения вспышек инфекционных заболеваний, таких как грипп, туберкулез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акже существуют следующие  заболевания органов дыхания: бронхит, бронхиальная астма, рак органов дых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Состав табачного дыма"/>
          <p:cNvPicPr/>
          <p:nvPr/>
        </p:nvPicPr>
        <p:blipFill>
          <a:blip r:embed="rId1"/>
          <a:stretch/>
        </p:blipFill>
        <p:spPr>
          <a:xfrm>
            <a:off x="539640" y="11430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3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b9cb5"/>
                </a:solidFill>
                <a:latin typeface="Tahoma"/>
              </a:rPr>
              <a:t>Вредные привычки, способствующие развитию заболеваний органов дыхания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Пассивное курение"/>
          <p:cNvPicPr/>
          <p:nvPr/>
        </p:nvPicPr>
        <p:blipFill>
          <a:blip r:embed="rId1"/>
          <a:stretch/>
        </p:blipFill>
        <p:spPr>
          <a:xfrm>
            <a:off x="684360" y="54936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Краткая история кур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Последствия табакокурения"/>
          <p:cNvPicPr/>
          <p:nvPr/>
        </p:nvPicPr>
        <p:blipFill>
          <a:blip r:embed="rId1"/>
          <a:stretch/>
        </p:blipFill>
        <p:spPr>
          <a:xfrm>
            <a:off x="611280" y="981000"/>
            <a:ext cx="8001000" cy="50799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Последствие кур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Закрепление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ест 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1. Органы дых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. мышцы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. ребр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. легкие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. поч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2. В процессе дыхания организм получает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. органические веществ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. минеральные сол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. Углекислый газ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. кислород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3.Углекислый газ образуется в организме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. в легки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. в клетках тел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. В легочных капиллярах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. В капиллярах большого круга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4. Жизненная емкость легких составляет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. 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. 3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. 15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2000 см.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5. Помещения нужно регулярно проветривать, чтоб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. удалить избыток кислор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. удалить избыток углекислого газ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. Увеличить влажность воздух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Удалить пыл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6. Что измеряется спирометром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. давление кров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. температура тел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. Пульс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Жизненная емкость легки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7. К вредным газообразным примесям в воздухе относитс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. азо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. водор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. Угарный газ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. кислоро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8. К инфекционным болезням передающимся через воздух относитс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. инфаркт миокар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. СПИ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. Малокров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. Туберкулез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9. В выдыхаемом воздухе содержитс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. 30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. 2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. 16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. 21% кислор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0. В качестве профилактики от заболевания гриппом нужно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. заниматься спорто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. прикрывать рот и нос марлевой повязкой при общении с больным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. делать зарядку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. не бывать на улиц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ответы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8.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9.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0.б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Домашнее задание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тр 146-14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Цели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1. расширить знания учащихся о возможных заболеваниях и нарушениях органов дыхания, их причинах и профилактических мерах; гигиенических требованиях к окружающей среде; правилах дых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. формировать умения: разъяснить необходимость проветривания в жилых помещениях; обосновывать вредное воздействие кур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Тип урока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мбинированн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Ход урока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ганизационный момен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иологическая размин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верка домашнего зада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зучение нового материа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реплен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Воздухоносные пути"/>
          <p:cNvPicPr/>
          <p:nvPr/>
        </p:nvPicPr>
        <p:blipFill>
          <a:blip r:embed="rId1"/>
          <a:stretch/>
        </p:blipFill>
        <p:spPr>
          <a:xfrm>
            <a:off x="3203640" y="90792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Биологический диктант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 органам дыхания относятся: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дгортанник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ронхиальное дерев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лев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львеол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иафрагм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олосовые связ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Воздухоносные пути"/>
          <p:cNvPicPr/>
          <p:nvPr/>
        </p:nvPicPr>
        <p:blipFill>
          <a:blip r:embed="rId1"/>
          <a:stretch/>
        </p:blipFill>
        <p:spPr>
          <a:xfrm>
            <a:off x="4221000" y="404640"/>
            <a:ext cx="4923000" cy="62373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Ответы: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5410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4"/>
                </a:solidFill>
                <a:latin typeface="Tahoma"/>
              </a:rPr>
              <a:t>Носовая полость, носоглотка, гортань, трахея, бронхи и легк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4"/>
                </a:solidFill>
                <a:latin typeface="Tahoma"/>
              </a:rPr>
              <a:t>Особый эластичный и гибкий хрящ, он закрывает вход в гортань, когда мы глотаем пищу, предохраняя дыхательные пути от попадания в них пищевых частиче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4"/>
                </a:solidFill>
                <a:latin typeface="Tahoma"/>
              </a:rPr>
              <a:t>Ветвление главных бронх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4"/>
                </a:solidFill>
                <a:latin typeface="Tahoma"/>
              </a:rPr>
              <a:t>Тонкая оболочка покрывающая снаружи легко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4"/>
                </a:solidFill>
                <a:latin typeface="Tahoma"/>
              </a:rPr>
              <a:t>Тонкостенные легочные пузырь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4"/>
                </a:solidFill>
                <a:latin typeface="Tahoma"/>
              </a:rPr>
              <a:t>Мышечная перегородка, разделяющая грудную и брюшную полости. Участвует в дыхательных движения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a3d74"/>
                </a:solidFill>
                <a:latin typeface="Tahoma"/>
              </a:rPr>
              <a:t>Складки слизистой оболочки, натянутые, как струн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Альвеолы легких"/>
          <p:cNvPicPr/>
          <p:nvPr/>
        </p:nvPicPr>
        <p:blipFill>
          <a:blip r:embed="rId1"/>
          <a:stretch/>
        </p:blipFill>
        <p:spPr>
          <a:xfrm>
            <a:off x="1619280" y="549360"/>
            <a:ext cx="609588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Фронтальный опрос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происходит газообмен в легки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ов механизм газообмена в тканя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м образом совершаются дыхательные движения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такое жизненная емкость легких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85000" indent="-585000">
              <a:spcBef>
                <a:spcPts val="799"/>
              </a:spcBef>
              <a:buClr>
                <a:srgbClr val="8a8ad8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 регулируется дыхание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ahoma"/>
              </a:rPr>
              <a:t>Изучение нового материала: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дыхательном  центре находятся клетки, чувствительные к малейшему изменению содержанию углекислого газа в межклеточном веществе. Избыток углекислого газа возбуждает дыхательный центр, это в свою очередь вызывает учащение дыха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бывание людей в закрытых помещениях неизбежно приводит к изменению химического состава и физических свойств воздух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выдыхаемом человеком воздухе всего 16.4 % кислорода, до 4 % СО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много водяных пар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5" descr="Принципиальная схема газообмена в организме"/>
          <p:cNvPicPr/>
          <p:nvPr/>
        </p:nvPicPr>
        <p:blipFill>
          <a:blip r:embed="rId1"/>
          <a:stretch/>
        </p:blipFill>
        <p:spPr>
          <a:xfrm>
            <a:off x="5518080" y="4246560"/>
            <a:ext cx="362592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0T09:33:29Z</dcterms:created>
  <dc:creator>Ефремова</dc:creator>
  <dc:description/>
  <dc:language>en-US</dc:language>
  <cp:lastModifiedBy>Коля</cp:lastModifiedBy>
  <dcterms:modified xsi:type="dcterms:W3CDTF">2013-05-29T16:06:13Z</dcterms:modified>
  <cp:revision>4</cp:revision>
  <dc:subject/>
  <dc:title>Обобщающий урок на тему:</dc:title>
</cp:coreProperties>
</file>