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3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dt" idx="1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sldNum" idx="2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2DFC5E-68C5-44A5-AF5D-E30200A652D3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335ABC-E5C8-4D9A-85A6-56F9AAEFD9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DB52B6-2136-42EF-B21C-4C67F4F144C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84AC93-9EF3-4D11-8B7E-AC43097DD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31E9E2-3785-4C01-995F-0F96BA4F5D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1F0135-6072-4F48-B861-847559E9D80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5CEADE-395E-4B58-81F0-A3910BE67F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11E915B-3FEC-45BB-A6B3-00856FE1D03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C32E20-A25C-496F-AD43-C80A3ACC3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5D19E-F1CA-4D20-A290-D74C94C58D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A0697-6706-4A6B-927C-2FB6794F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E3859-B162-4BAF-AF42-E8453059E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5DF6D2-558D-4270-808B-49AE82D9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394F5-000C-4977-A839-BF4E381CE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83DA5-2483-40B5-94C6-0B8CE1DF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7BB7D-5BE6-48F1-A292-C7E174F32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88F78-5EF1-4FAA-8FE8-8CE84668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BF833-501E-4BEE-8354-450F09E5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1C155-2B13-47E6-9D52-CF9E4BA5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0BE5EF-2F6A-4EA8-9777-21EE855EE6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C13BA-AC0B-4C7F-A356-CC4AADCE4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84F6A-F631-4AA2-832A-0DF7BCB024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7B9F2C-356D-4910-B5F3-B816C9BB83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D96AAA-D0ED-4EBF-951B-BB89973F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029775-9D9D-4733-BD37-6D96C185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EB9F65-05D6-4F57-A1E5-5790729C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C7333-25EB-4F02-BFCD-32C560567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ADAA5-B676-4B94-BFAF-6DCEB3BFD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7726C-7239-4F2A-8C4D-DA6DA460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FEEA8-818E-4EBE-84A0-181596D3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9FC0A-E54D-4614-8C89-A2FD0B71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62ED5-47CD-4B70-8E1F-0B4F8239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B14CA-1070-4AC4-83E8-E2B3B5B9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9A9B5-0147-49BE-9DC5-AB798300C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4936FA-FFF2-4D89-A2A9-50A251E522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56E7-8735-41FE-9931-576D1C89E5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0D8E5-CEF0-446F-9BAC-220F07DE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DE3AB-1472-4BAE-832F-8FC3E234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DD63-1EEB-4A22-AFD2-090C19FE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D913B-A9AB-4C80-AFEF-DF9DA18DF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BA954-4555-4B36-993E-25CACC042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CAECD-8705-44E5-BF03-147CD0930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A9F3-DD25-4E2B-8AC4-53692852C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3A84-BDE9-440D-A898-411FBD25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2C00-8218-4751-B9B8-1EF8020E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7B9CD-8F89-47E3-921D-98856D41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F89CC-AB56-48B3-8508-B4DC6C38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851D-4889-4CC4-AD3D-76C4F95A3D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7671F-A116-4AE4-94B3-78DE1A273E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068F33-E88D-4DE0-93AD-59D299FF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8F1268-2CB1-499D-96A5-0BA603C6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8FE326-DBD1-447F-AE59-2FF2B959F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39B8EA-905A-43FF-9A33-D3AB1563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0BE950-508F-444F-88AE-5C6D203F8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5D9A6F-5C73-427F-978F-CFA9B874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3FEF0C-6FC5-4D91-97A1-38A21D26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366B4-A253-4E5F-89A0-EF512CCB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63D51-E757-4528-9866-3481DDED8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264BE4-9848-4425-B883-5BEBA6D3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DD3F68-8CD1-42E1-B793-E58384B1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3C816-AF0A-4305-8ADD-3C65B4AB5F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F0EDEF-FF78-4855-B24B-A3B0C4450D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3D513-0A17-48E5-AD01-7F568A2C6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DDF1DF-5C19-4FDD-90DD-61EC6530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E5D31F-BC68-4C5D-B3D4-26A5E125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600905-C151-4BA0-9461-3AA9887F3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C4654F-4A9F-4C45-A1F6-CDBD6FF5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198F4C-0B5B-425C-BB81-B6982F33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E6A75F-9550-4FC2-B474-34AA1EC7F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0FEF7D-0D8F-4FCC-A23A-99A0EE89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3443D0-D2C3-435A-AEF2-2D7652FD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11C4F3-009D-4AF4-A8CF-DEFB1D4F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13651E-C45B-463E-B823-2FEC1E58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1800B-103B-4402-9139-DDDB9548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628C93-EB1E-4FBE-98E8-04FA8ED69E4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A8FFF-0DB8-4B79-9C5D-A8BD791349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E9527-AFC8-46EF-BFA6-AE41164D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7B7D7-76F4-4EA0-A47C-E8B431373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2253C-22B0-4EA2-AC62-90F1A6F6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2715C-F9FC-4B80-A493-BEC6D66FB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72FB8-F03B-4A9C-96CD-58E025009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B1A22-6C32-45EF-AE92-581A3B7E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56A3B-7FB6-44BA-94DF-682F8D330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639F2-E55D-46F5-9A6F-1B55B9B7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69673-3723-420C-A2E0-A8134D87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B849D-B581-415E-BD35-264E60B41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84662-880B-49BF-9D18-D290139B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354DC-33D0-4095-9219-62322EF14D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D4BA8-B0F4-4CD5-AC37-37F4D6DA54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D6BF02-B3AD-4E44-8EEA-8655C6498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277D9F-DC92-4FFD-84DB-1731AF004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4CD83C-EFE1-4402-A6E3-67599748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4D785-57EA-436F-BB0C-C480F590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68ABE5-1341-4CCA-A275-AD613256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50E8DC-AB57-48C8-9126-FC8DF773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A381B-6824-4B81-8780-8A533D4D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3637C7-585A-4464-9E89-D440BE4F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24949C-CA18-4FD1-AA53-25FA1D5C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6ABBD3-1124-4F6F-A34A-0C6C6378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98D57-988D-415E-87A3-44185384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6BFDF5-0AEA-4F71-9D85-6532BFD92B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4DA121-5311-4278-B4C9-8DEA4445D63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AE0FD0-0C9B-4E3B-87FC-E847C6D8C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A1846C-34A7-484D-832B-9EDC3EFD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C02271-82B2-4A1B-94E1-2CDBA493B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F9D232-3130-47DB-A29D-BA261DFA1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AC5AC-A543-4A9A-AB72-747BE27E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560" y="457200"/>
            <a:ext cx="86850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A9BC6A-B8CA-4A3B-99EA-181189920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8E2A10-C5FD-4C0C-BAF4-6FC8A7D2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C761EC-CAD4-47AE-909D-310276038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4E664D-1236-4375-A712-0E672D819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560" y="3917520"/>
            <a:ext cx="868500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A40E04-7978-4C5E-86BB-1B91EC086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4880" y="15541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56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4880" y="3917520"/>
            <a:ext cx="423792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29E5E4-348A-4174-970D-F070A4977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108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7960" y="15541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5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108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7960" y="3917520"/>
            <a:ext cx="27964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C0519EB-F468-4B1F-8D1A-9C8BBB0876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80A5A-2221-4359-A76B-E9B22048C0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94211A-37FA-43AA-868A-3EA63C68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6B41D-D663-4CB8-9CB9-A6D395A8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F84DDA7-635C-4633-AA3A-2C8AF8B32605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2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506520" y="5340240"/>
            <a:ext cx="8642160" cy="22320"/>
            <a:chOff x="506520" y="5340240"/>
            <a:chExt cx="8642160" cy="2232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4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4BB06EE-6D21-4A40-916F-57122B9C1EC3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5" name="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6520" y="1036800"/>
            <a:ext cx="8642160" cy="28440"/>
            <a:chOff x="506520" y="1036800"/>
            <a:chExt cx="8642160" cy="28440"/>
          </a:xfrm>
        </p:grpSpPr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2160" cy="2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506520" y="1047600"/>
            <a:ext cx="8642160" cy="24120"/>
            <a:chOff x="506520" y="1047600"/>
            <a:chExt cx="8642160" cy="24120"/>
          </a:xfrm>
        </p:grpSpPr>
        <p:pic>
          <p:nvPicPr>
            <p:cNvPr id="101" name="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21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8229240" y="6473520"/>
            <a:ext cx="75708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DF962BD1-3FCC-4D0D-B364-9C067DC49EB0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506520" y="3432240"/>
            <a:ext cx="8642160" cy="22320"/>
            <a:chOff x="506520" y="3432240"/>
            <a:chExt cx="8642160" cy="22320"/>
          </a:xfrm>
        </p:grpSpPr>
        <p:pic>
          <p:nvPicPr>
            <p:cNvPr id="145" name="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8C4B105E-28AB-4FB2-9694-B9D09B6D11C7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506520" y="6010200"/>
            <a:ext cx="8642160" cy="23760"/>
            <a:chOff x="506520" y="6010200"/>
            <a:chExt cx="8642160" cy="23760"/>
          </a:xfrm>
        </p:grpSpPr>
        <p:pic>
          <p:nvPicPr>
            <p:cNvPr id="189" name="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21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9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sldNum" idx="10"/>
          </p:nvPr>
        </p:nvSpPr>
        <p:spPr>
          <a:xfrm>
            <a:off x="8229600" y="6476760"/>
            <a:ext cx="760320" cy="24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0DE7342-CB8B-413C-9E0D-C9A8685EE00F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1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sldNum" idx="12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46652EA-0AAD-4611-BB75-CE2EEE924BC6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"/>
          <p:cNvGrpSpPr/>
          <p:nvPr/>
        </p:nvGrpSpPr>
        <p:grpSpPr>
          <a:xfrm>
            <a:off x="506520" y="5840280"/>
            <a:ext cx="8642160" cy="22320"/>
            <a:chOff x="506520" y="5840280"/>
            <a:chExt cx="8642160" cy="22320"/>
          </a:xfrm>
        </p:grpSpPr>
        <p:pic>
          <p:nvPicPr>
            <p:cNvPr id="274" name="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2160" cy="2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3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4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5F3E922-AA22-44DA-9C1D-A99B38B6D694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5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6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1D7BB6C-810B-442B-AEE2-96DD3AB051B5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560" y="1554120"/>
            <a:ext cx="86850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560" y="457200"/>
            <a:ext cx="8685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17"/>
          </p:nvPr>
        </p:nvSpPr>
        <p:spPr>
          <a:xfrm>
            <a:off x="6477120" y="76320"/>
            <a:ext cx="25128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sldNum" idx="18"/>
          </p:nvPr>
        </p:nvSpPr>
        <p:spPr>
          <a:xfrm>
            <a:off x="8229600" y="6477120"/>
            <a:ext cx="760320" cy="2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0871350-138A-4100-A895-F39A18C02654}" type="slidenum">
              <a:rPr b="0" lang="ru-RU" sz="1200" spc="-1" strike="noStrike">
                <a:solidFill>
                  <a:srgbClr val="d38e27"/>
                </a:solidFill>
                <a:latin typeface="Franklin Gothic Book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09440" y="1951200"/>
            <a:ext cx="9021960" cy="18777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95280" y="260280"/>
            <a:ext cx="84582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3"/>
          <a:stretch/>
        </p:blipFill>
        <p:spPr>
          <a:xfrm>
            <a:off x="3348000" y="4076640"/>
            <a:ext cx="2519280" cy="2109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11280" y="1413000"/>
            <a:ext cx="8137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Franklin Gothic Book"/>
              </a:rPr>
              <a:t>Подготовил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преподаватель-организатор ОБЖ </a:t>
            </a:r>
            <a:r>
              <a:rPr b="1" i="1" lang="ru-RU" sz="3600" spc="-1" strike="noStrike">
                <a:solidFill>
                  <a:srgbClr val="000000"/>
                </a:solidFill>
                <a:latin typeface="Franklin Gothic Book"/>
              </a:rPr>
              <a:t>Брыкало Александр Александрови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22400" y="311040"/>
            <a:ext cx="5394240" cy="22608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3492360" y="2781360"/>
            <a:ext cx="4703760" cy="352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2"/>
          <a:stretch/>
        </p:blipFill>
        <p:spPr>
          <a:xfrm>
            <a:off x="6480" y="255600"/>
            <a:ext cx="9051840" cy="64198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5435640" y="404640"/>
            <a:ext cx="3097080" cy="352296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6480" y="328680"/>
            <a:ext cx="8966160" cy="100008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"/>
          <a:stretch/>
        </p:blipFill>
        <p:spPr>
          <a:xfrm>
            <a:off x="539640" y="1484280"/>
            <a:ext cx="3021120" cy="45435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3851280" y="198900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 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покраснение и припухлость к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I 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появление пузыр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II 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омертвение ко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V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обугливание кожи, мыш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2"/>
          <a:stretch/>
        </p:blipFill>
        <p:spPr>
          <a:xfrm>
            <a:off x="6480" y="328680"/>
            <a:ext cx="8966160" cy="1000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539640" y="1341360"/>
            <a:ext cx="4572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 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судорожное сокращение мышц без потери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I 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судорожное сокращение мышц с потерей с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II 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потеря сознания и нарушение функции сердечной деятельности или дых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800" spc="-1" strike="noStrike">
                <a:solidFill>
                  <a:srgbClr val="443329"/>
                </a:solidFill>
                <a:latin typeface="Arial"/>
              </a:rPr>
              <a:t>IV</a:t>
            </a:r>
            <a:r>
              <a:rPr b="1" i="1" lang="ru-RU" sz="1800" spc="-1" strike="noStrike">
                <a:solidFill>
                  <a:srgbClr val="443329"/>
                </a:solidFill>
                <a:latin typeface="Arial"/>
              </a:rPr>
              <a:t>степень: </a:t>
            </a:r>
            <a:br>
              <a:rPr sz="1800"/>
            </a:br>
            <a:r>
              <a:rPr b="0" i="1" lang="ru-RU" sz="1800" spc="-1" strike="noStrike">
                <a:solidFill>
                  <a:srgbClr val="443329"/>
                </a:solidFill>
                <a:latin typeface="Arial"/>
              </a:rPr>
              <a:t>клиническая смер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5364000" y="1484280"/>
            <a:ext cx="3378240" cy="3716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152280" y="328680"/>
            <a:ext cx="8455320" cy="10191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"/>
          <a:stretch/>
        </p:blipFill>
        <p:spPr>
          <a:xfrm>
            <a:off x="1042920" y="1413000"/>
            <a:ext cx="7191360" cy="511164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152280" y="328680"/>
            <a:ext cx="8674200" cy="274320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3"/>
          <a:stretch/>
        </p:blipFill>
        <p:spPr>
          <a:xfrm>
            <a:off x="395280" y="2924280"/>
            <a:ext cx="4392720" cy="360360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5435640" y="2781360"/>
            <a:ext cx="3214800" cy="37972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2"/>
          <a:stretch/>
        </p:blipFill>
        <p:spPr>
          <a:xfrm>
            <a:off x="176040" y="341280"/>
            <a:ext cx="8650440" cy="914400"/>
          </a:xfrm>
          <a:prstGeom prst="rect">
            <a:avLst/>
          </a:prstGeom>
          <a:ln w="0">
            <a:noFill/>
          </a:ln>
        </p:spPr>
      </p:pic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8136000" cy="568008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4000" y="620640"/>
            <a:ext cx="8569080" cy="5537520"/>
          </a:xfrm>
          <a:prstGeom prst="rect">
            <a:avLst/>
          </a:prstGeom>
          <a:solidFill>
            <a:srgbClr val="db5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допустим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касаться к пострадавшему без предварительного обесточи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рять время на поиски рубильника и выключателей, если можно сбросить или перерубить про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екращать реанимационные мероприятия до появления признаков биологической смерти (трупных пяте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ближаться к лежащему на земле проводу бегом или большими шагами</a:t>
            </a:r>
            <a:r>
              <a:rPr b="0" lang="ru-RU" sz="2400" spc="-1" strike="noStrike">
                <a:solidFill>
                  <a:srgbClr val="fbeec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1:26:42Z</dcterms:created>
  <dc:creator>Сан Саныч</dc:creator>
  <dc:description/>
  <dc:language>en-US</dc:language>
  <cp:lastModifiedBy>Сан Саныч</cp:lastModifiedBy>
  <dcterms:modified xsi:type="dcterms:W3CDTF">2016-05-31T22:21:55Z</dcterms:modified>
  <cp:revision>26</cp:revision>
  <dc:subject/>
  <dc:title>«Профессиональный праздник ветеранов органов внутренних дел и внутренних войск»</dc:title>
</cp:coreProperties>
</file>