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63E4D-5C51-4CFB-A256-3CABE3402DF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926191-16DF-49DD-B8C8-EA446B3FFB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2AA395-7E36-4869-B881-80B276860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CF9CEB1-D518-4E8E-B659-D1B8C30F46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89FE875-7923-4555-93E5-AC62E343E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EC2D97-CC0C-411E-9B3A-DBB236F73B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B49E8A-E66B-4C98-8EEF-53A442B15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604472-D536-4CD2-99FE-918A640466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D3B6D63-39CE-419E-B393-D95794ECAC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6E9E-BA88-4DA9-94E9-3384D18E837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2929D-6684-4EDA-80AB-CB79A44E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868D6-9D97-4EA0-BCB6-5DC0DB57C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7A00B-AB06-41A7-8EF2-820E728E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64D72-A0BF-4E48-A950-DEF5148F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F0E79-60D2-4ED4-BA2E-21C3F890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94A6B-5932-4909-904C-78A82D44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9DA24-FC1A-40F4-800D-E7CF78632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B98A6E-13F0-46E8-88B5-A9DEF002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6845FA-95A1-4980-A213-55C15930F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5B00B-19E7-460D-908A-6F8F174260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3AAD9-E40C-4A5A-9FFA-83A24854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8BF4F-F55A-4BCC-9A40-CF9A81806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D718FB-93DF-4597-83B4-6BBAF2DFCB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CC482-1B45-4D91-8F4E-007F7401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779930-EBB2-4338-B315-4127A52A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D9C0DA-96D3-47FE-B481-E76B3B8B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EA501-918D-4E02-8455-D1C8D751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7DE75-7C60-470E-AEA1-85946DD1A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7076F-1A2D-4D5E-B277-0C26445F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DAB72-7D4B-4DEA-A3AF-9C314F0E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892FB-621E-4E9D-9529-1AA4E525F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2B7631-3A13-4B80-A6FA-B0E6CC90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4EEE2-2A00-41E7-A2E6-4855BD331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5FDF5-7E3A-4777-A65E-796E2D55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24DA6-4457-469D-8290-EE37F37FF7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CE33-3214-46AE-8D9E-E8AE83DACC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79BC-63B2-4F8E-8A70-3E4793733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3E64-0FD2-4649-800A-8B26A4A8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F34CE-24EF-474D-BD6C-EFB700BF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9C6F-7F1F-4BA3-AED2-394287E6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FC407-E1F7-41C5-8005-586CF53A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9A5F-66B2-412F-9FCB-AB11ACE0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EDB9-0C53-4BC5-9065-2216A5F6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D7A6-9840-4B5A-833B-C453B54B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3ABE-81E6-4D38-8952-19938E22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56E2-75B8-4BD4-AB5F-433681BA5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BC6-F265-4DA9-906E-D0B57BF6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94AF4-9396-44B0-AE9D-93B56BEE39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B966A7-098B-49B8-B29D-8BF5ED51D36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FA3010-88D2-48B4-AE80-BC9BDB2F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C2E19-C4A3-4856-A745-75FAEC2D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C5D16-FE32-411F-A9E6-497E17E6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B9F877-3F0A-4FF1-A59B-A39257F74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8002B-11CD-43DF-A14A-2243D5E7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F01315-796F-4195-BA6D-3C25ED3BF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10C92B-E498-46B3-8D57-3DE3DA4A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30ABF-8D80-4A07-AEB5-446FFD8D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0C03D-B55A-42F5-820A-94CD3B5A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30D39-82C2-4375-ABC0-48EB01E4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D12A71-D436-4E74-8F13-FB2F1F09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7E1F0C-8AE5-4313-AD4B-868C859FC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D252C-F0C6-4F4E-B73A-C1F654ACA9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4838A-E680-4BA5-9D18-8F4F48620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755D6D-55F1-4D95-B940-D11F0CD6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85C5D7-DD60-4B06-86B8-86635940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53AD4-9978-4B4F-A44C-FF07EAA1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241B8-2F97-4A6E-84C6-62E7C366D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46935-4346-4554-99FF-7C30C265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746CD0-50FD-4A3A-A43D-E30DDE854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921F51-3CA6-479C-B589-37636B008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394652-77A1-41AE-95C9-E40F71F58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F4B4B4-D203-495D-80BB-AC2F1F2E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BE7710-753B-4BAD-80EC-97A63D4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9A81B-32D0-499C-96FB-6AC7B491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FDBA5-1A00-40E7-890E-C2C8B5CD20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16E2-5A6B-4A99-94D0-079F553724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3BBE2-8A95-4A91-9585-8508368E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4EE48-ADFC-485C-B6E8-9D743814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B44B-37D2-407E-8E98-075F64C4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B163-EDA5-4721-93E3-79A683339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D2B1-F2A5-4214-9E75-3D345193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8347D-1984-4C17-AF1B-BF22471C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47F36-21C0-47E2-B7B8-C4D8D16A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59389-958B-499E-BFBF-3EDFAE48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77B95-20C7-49E1-AB1A-53BD526C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473DC-98EC-4131-B349-B10C3A347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BE8FB-71D9-4A6C-BF96-DFFA9271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CAE6A-4D52-467A-B80A-5BEF7AA771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B37AA-981D-44A5-AD48-52C47DEF94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C067E2-E034-40B0-8AE1-980FE3B1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2F22F-A46B-42E4-9365-5222D786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EF023A-EBBB-4F73-9B6F-EC38E3F3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C3C546-C097-4D47-9CD6-D07391A6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61FF75-EAA5-4626-B4AB-CCCEBA63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8E59B-D2E3-4ACE-B9F0-3D8C00F6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562C3-112A-4A24-BDE9-D9CE0F224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9A4795-A880-40D8-9335-240E2C7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50DBCF-656E-40ED-90FD-A5C587356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E6A156-2F64-479E-9E25-F78516EB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1DEA16-49E5-4360-B130-F2207F78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D1CEE-63F9-4537-A552-59ECC02B07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80757F-6849-4CE4-B067-338129FF1C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422E00-DC01-4BC8-8614-2D4B0610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D16D48-73C0-49FF-A943-598AF09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225F98-746F-426E-9441-3BAE23BF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C87E6D-FCB0-4860-A49B-132C2CB1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86F66-CF3B-49E2-A711-95CEBF81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AC8690-B37D-454F-A26D-3DB61CF88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33CB0A-F5D4-4FC4-A8DB-C78253C93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28821-87C7-4F08-92A7-23255A91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B42E74-D09F-433C-AA06-A19D75C0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0DA7F7-4106-4A4A-9728-F05CC649E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00747-6A54-4132-BA3A-846C20E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A09D6A-3605-4DE8-A5BD-6B97DD6A9F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CA1C37-43E1-481F-B1D2-8A960CA9C7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06142-B1CB-412A-ADD0-A59E1999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724E-536A-4B4B-A3BF-B0B26304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6A404B-66C9-43B0-94C4-CA4EF5B593F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1040C92-56E1-4838-98C9-7D308D052B5F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3F5F74E-AA8E-4987-B064-198E6EDBD306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3746D84B-AEDD-4469-9C85-1EA317682089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4C31EC61-F0EB-4993-B364-790642ADE0A2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F79C5FD-FC95-42DB-87BE-2AE9C7609931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A2B0C2F-9036-443D-8855-E5222E440DB1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48EF782-79C1-4418-AD38-301BBF5D8DAC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6406E238-71F8-476C-BBBA-CF2B53735BB9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09440" y="1951200"/>
            <a:ext cx="9021960" cy="187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95280" y="260280"/>
            <a:ext cx="845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3348000" y="4076640"/>
            <a:ext cx="251928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11280" y="1413000"/>
            <a:ext cx="813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Подготов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реподаватель-организатор ОБЖ </a:t>
            </a:r>
            <a:r>
              <a:rPr b="1" i="1" lang="ru-RU" sz="3600" spc="-1" strike="noStrike">
                <a:solidFill>
                  <a:srgbClr val="000000"/>
                </a:solidFill>
                <a:latin typeface="Franklin Gothic Book"/>
              </a:rPr>
              <a:t>Брыкало Александр Александ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22400" y="311040"/>
            <a:ext cx="5394240" cy="2260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492360" y="2781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480" y="255600"/>
            <a:ext cx="9051840" cy="64198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435640" y="404640"/>
            <a:ext cx="3097080" cy="3522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480" y="328680"/>
            <a:ext cx="8966160" cy="10000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3021120" cy="4543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51280" y="1989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 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покраснение и припухлость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появление пузы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омертвение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обугливание кожи,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480" y="328680"/>
            <a:ext cx="896616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9640" y="1341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 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судорожное сокращение мышц без потери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судорожное сокращение мышц с потерей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потеря сознания и нарушение функции сердечной деятельности или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клиническая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3782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52280" y="328680"/>
            <a:ext cx="8455320" cy="10191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1042920" y="1413000"/>
            <a:ext cx="7191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52280" y="328680"/>
            <a:ext cx="8674200" cy="2743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4392720" cy="36036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321480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76040" y="341280"/>
            <a:ext cx="86504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813600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4000" y="620640"/>
            <a:ext cx="8569080" cy="5537520"/>
          </a:xfrm>
          <a:prstGeom prst="rect">
            <a:avLst/>
          </a:prstGeom>
          <a:solidFill>
            <a:srgbClr val="db5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пуст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касаться к пострадавшему без предварительного обесточ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ять время на поиски рубильника и выключателей, если можно сбросить или перерубить 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кращать реанимационные мероприятия до появления признаков биологической смерти (трупных пят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ближаться к лежащему на земле проводу бегом или большими шагами</a:t>
            </a:r>
            <a:r>
              <a:rPr b="0" lang="ru-RU" sz="2400" spc="-1" strike="noStrike">
                <a:solidFill>
                  <a:srgbClr val="fbeec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1:26:42Z</dcterms:created>
  <dc:creator>Сан Саныч</dc:creator>
  <dc:description/>
  <dc:language>en-US</dc:language>
  <cp:lastModifiedBy>Сан Саныч</cp:lastModifiedBy>
  <dcterms:modified xsi:type="dcterms:W3CDTF">2016-05-31T22:21:55Z</dcterms:modified>
  <cp:revision>26</cp:revision>
  <dc:subject/>
  <dc:title>«Профессиональный праздник ветеранов органов внутренних дел и внутренних войск»</dc:title>
</cp:coreProperties>
</file>