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8.png" ContentType="image/png"/>
  <Override PartName="/ppt/media/image12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3.png" ContentType="image/png"/>
  <Override PartName="/ppt/media/image10.png" ContentType="image/png"/>
  <Override PartName="/ppt/media/image2.png" ContentType="image/png"/>
  <Override PartName="/ppt/media/image3.png" ContentType="image/png"/>
  <Override PartName="/ppt/media/camera.wav" ContentType="audio/x-wav"/>
  <Override PartName="/ppt/media/image6.png" ContentType="image/png"/>
  <Override PartName="/ppt/media/image11.png" ContentType="image/png"/>
  <Override PartName="/ppt/media/image4.png" ContentType="image/png"/>
  <Override PartName="/ppt/media/image1.jpeg" ContentType="image/jpeg"/>
  <Override PartName="/ppt/media/image7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B2F50-903B-416D-BC30-343346199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365BB-45E5-4C82-AF97-B7D341080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6C4E2B4-D36C-4A65-A78E-405D3588A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C62D402-F07E-469B-B8B8-555AD4B33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C540516-4F9C-4948-BC0C-71DA67C9C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3CDF94B-BDDD-41BA-A8D2-3D59332A3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BA1ACC1-357C-47A6-9F54-C9BC01416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AEB2C34-9889-4657-87CD-349E1D931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5108847-9635-4044-B347-4C938F651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0EE0568-D03C-4D3A-A85D-DCA5A9035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866F952-CC56-4AB3-A089-503FF2CF4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AF9CE-2E8F-4DBC-9671-7E9F7F8EF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0D6E3-F938-4F4B-BCA8-1918A54DC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2DBE97-F8B4-4307-A49E-ED3DB0E64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5A3772-E855-41ED-8A4A-4D13CAFDA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C4A4B5-C55B-4E26-A858-A91CA4EA6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409EC9-4AE2-46F9-8C1F-904E36A74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2A57CE-13D5-4E9F-B0DD-AF2B16417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614512-C1B3-4510-B5BD-B7A8DA5F0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A8EE1F-5106-4D5B-B4C4-E0E44FB64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0A385-9B4B-4528-B445-624AA033F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EFEF5E-F9E6-406B-85B7-6F5763A75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10E579-A91B-40EC-B926-A4B79772D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47C33E-843E-427C-A856-2241E533D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A5DA83-08FF-4C04-91F4-87EE1E089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EA75A0-7871-4F50-8D41-2256A4181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22D24F-AA65-40CC-BE70-4E9A78C5E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2649C3-E62B-45E4-8817-B9C1CD5CF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5997D7-1F31-4547-8E54-9FE0633C1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35FD36-7357-4C6C-B66F-F853C9CB1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2BE9EC-C69B-4941-BB7A-5942D0247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B3B49-3A0F-4300-A836-22C4E11DD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B300A5-3FB4-44A8-972E-88CB4606B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C567DA-673B-4B6C-8CD9-98EE96561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F07040-C966-4FAC-A4C5-EB5A45C72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098627-058E-4901-AD43-030C76490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71330E-1F45-4483-BD80-71D398560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7221B5-90B3-4100-81EE-00C031893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95F010-299F-4106-A074-530726AA1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3B6D750-355C-4519-B797-C0B2892CE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3297FC9-1EC0-4F40-80F5-89316ACE1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6597AB3-294F-4A40-A684-288D08E0D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38463-2605-4B30-A916-3AA201D07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94C6E4F-4D6B-41BE-ABCF-64288850B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16D26ED-9334-4E5A-BCAF-530A33C70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FBEC6C6-C5BB-449E-BEEA-9A39DA33B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A6AC88D-B3D8-4A49-A59F-7C038CE51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5562AB5-8B40-4DC7-9D62-228C59122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C198588-E937-418C-92B6-2F9B246DE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5CADA3F-5DE0-4932-B541-72B80D7BD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9500145-6D50-4081-8D42-BF0A41BCE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A0C80E1-E139-4F00-B4E3-F453B9CB8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D516A4-53E5-4ED6-85AF-ACB276D87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8A1D1-1CCB-4C57-AE48-239968746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97103C-C0F5-40CE-A7BA-569593AE6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4A2023-FAD8-4B08-934A-A4655C685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278177-8CFE-42CD-B3FA-74253D2ED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4294E8-438E-4038-B753-681C51F23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2E7BDF-2B02-4DEC-B09D-9E23B1ACF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7F52AC-CB6F-4B9A-9DCD-53B17BD3F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92383E-B2DE-433E-908C-CBA08896B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D5938D-0905-4D29-9F54-68B655FF6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30189F-E170-450A-8058-0115F439B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07CB19-0AAB-4048-BD93-C4779B033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033DA-41DF-4F34-94EB-47AED6FA2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E60FC0-1DDE-463D-96BD-13E4B8E40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FD6BE1-AA82-43EF-BB50-9130A9E37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FC1FB7-9438-45BD-AE33-59F3022E5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7A2DCF-B81E-42D3-88B5-06C0F5412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1A1C77-2F12-470C-9291-0649C844A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0E59D3-44C1-4738-95DF-3E562DC08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CE82D2-9174-43E3-8F51-30ED3670D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915686-9244-4C75-A351-5A9FA5CCD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B5E89D-96B8-4C91-9DBE-B87EB2385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CC1511-7A03-465A-AD00-2762B2FC6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94E7F-12A6-4165-B131-D6F0CDD5A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ADB1C3-49C3-4EED-B925-4EB5839B6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B5CA95-C2FF-43CE-8A4D-BDD8EB450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95A243-1EB3-4CF6-8EFB-4E4E79CF6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56FB03-290E-4F70-920E-6314829F1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30C19A-8D5A-415E-9E71-7351CF4C0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DD4401-C044-4CC6-AAAC-187A59541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1CEA7A-60E8-40B0-979C-D5E7494BF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8B6E6C-6D40-40E8-98F9-F29DF563C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077BFC-1829-413C-8721-852815145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364162-C30D-4491-A0B3-4DF16DCA5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75DB2-DB6A-45F0-A208-354A2D4BE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42042C-8B6C-40C2-BE22-B04155B2F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A4437A-5817-4997-BDDA-93F017F27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6C4B97-5D9A-4025-8F46-7F0F3C95A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71893F-C805-406A-9D08-3D84CB17D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28C528-F1A8-4D1F-AB1F-180297A69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AB81A6A-13B0-431B-AF06-9857CAA0A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E5A3DEA-5167-48F6-8A0E-9FAEA555A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AD1928B-5FB9-4420-9493-8217CD2BA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0735F42-C033-4878-97CA-D607547F7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86EEDAC-1AA5-42DB-8132-CB3C57D65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77343-8111-427D-81D0-2768C1398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859B6D7-A396-4621-BA14-EEEB81707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A4720B8-C7B0-436C-91E3-C4C8DB158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1DF174B-8F4C-42A7-90FE-2F9DE2969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80D33C7-6C7E-438B-932D-9B7ECB150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A156A02-AB43-4653-B716-9761E99ED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C16B0A7-BA0B-4299-A297-D05B5C59D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30ADE21-9937-4E67-92BE-340253137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34C9B38-E4CB-4B92-86FE-F581966B8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987F363-8418-4C54-B4F3-C6DD5E3D9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2982057-70F7-4967-A698-AE58353FD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B39DC-549A-4729-BA58-79071A03EB2B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с двумя скругленными противолежащими углами 7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45" name="Прямоугольник с двумя скругленными противолежащими углами 7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ACB6A-EA28-494A-A9B2-2CBFEA9247D7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89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1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3B1C7-150D-4D3F-B194-7108843699A9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233AE-7A02-4567-B474-0DCA5A5034E8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76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8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F95D5-2DB6-4B72-8A9F-4FAFCEC01C6A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21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3" name="Прямоугольник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Прямоугольник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D7C1F-93C8-4189-9A27-ACA6935EAEC5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67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9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910BF-45C1-45F2-93C3-61D448AA4F5F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Прямоугольник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AA26F-4E60-4936-8BD6-4020F5FB3E69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A570C-6469-477D-8D9C-65FCBBECC640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1.pn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2.pn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WordArt 4"/>
          <p:cNvSpPr txBox="1"/>
          <p:nvPr/>
        </p:nvSpPr>
        <p:spPr>
          <a:xfrm>
            <a:off x="2057400" y="838080"/>
            <a:ext cx="52578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равила </a:t>
            </a:r>
            <a:endParaRPr b="0" lang="en-US" sz="3200" spc="1" strike="noStrike">
              <a:ln w="9360">
                <a:solidFill>
                  <a:srgbClr val="ffffff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95" name="WordArt 6"/>
          <p:cNvSpPr txBox="1"/>
          <p:nvPr/>
        </p:nvSpPr>
        <p:spPr>
          <a:xfrm>
            <a:off x="2666880" y="2362320"/>
            <a:ext cx="3872160" cy="1487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движения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96" name="WordArt 7"/>
          <p:cNvSpPr txBox="1"/>
          <p:nvPr/>
        </p:nvSpPr>
        <p:spPr>
          <a:xfrm>
            <a:off x="1828800" y="3809880"/>
            <a:ext cx="5791320" cy="181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339966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велосипедиста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339966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pull dir="rd"/>
    <p:sndAc>
      <p:stSnd>
        <p:snd r:embed="rId1" name="camera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Rectangle 2" descr=""/>
          <p:cNvPicPr/>
          <p:nvPr/>
        </p:nvPicPr>
        <p:blipFill>
          <a:blip r:embed="rId1"/>
          <a:stretch/>
        </p:blipFill>
        <p:spPr>
          <a:xfrm>
            <a:off x="450720" y="-96840"/>
            <a:ext cx="8674200" cy="166356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 txBox="1"/>
          <p:nvPr/>
        </p:nvSpPr>
        <p:spPr>
          <a:xfrm>
            <a:off x="457200" y="1904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82960" indent="-282960" algn="just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когда садишься на велосипед, проверь руль и тормоза;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82960" indent="-282960" algn="just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ездить на велосипедах по дорогам можно только с 14 лет, а на мопедах с 16 лет;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82960" indent="-282960" algn="just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запрещается ездить по проезжей части, если есть велосипедная дорожка;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transition spd="med">
    <p:pull dir="rd"/>
    <p:sndAc>
      <p:stSnd>
        <p:snd r:embed="rId2" name="camera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Rectangle 4" descr=""/>
          <p:cNvPicPr/>
          <p:nvPr/>
        </p:nvPicPr>
        <p:blipFill>
          <a:blip r:embed="rId1"/>
          <a:stretch/>
        </p:blipFill>
        <p:spPr>
          <a:xfrm>
            <a:off x="450720" y="-96840"/>
            <a:ext cx="8674200" cy="166356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 txBox="1"/>
          <p:nvPr/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 algn="just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если надо пересечь дорогу, это делается пешком, держа велосипед за руль,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по обычным правилам для пешеходов;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 algn="just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 algn="just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во время езды на велосипеде не выпускай руль из рук.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transition spd="med">
    <p:pull dir="rd"/>
    <p:sndAc>
      <p:stSnd>
        <p:snd r:embed="rId2" name="camera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Rectangle 2" descr=""/>
          <p:cNvPicPr/>
          <p:nvPr/>
        </p:nvPicPr>
        <p:blipFill>
          <a:blip r:embed="rId1"/>
          <a:stretch/>
        </p:blipFill>
        <p:spPr>
          <a:xfrm>
            <a:off x="3041640" y="-66600"/>
            <a:ext cx="3998880" cy="123660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4" descr="Задача2"/>
          <p:cNvPicPr/>
          <p:nvPr/>
        </p:nvPicPr>
        <p:blipFill>
          <a:blip r:embed="rId2"/>
          <a:srcRect l="0" t="0" r="4904" b="33711"/>
          <a:stretch/>
        </p:blipFill>
        <p:spPr>
          <a:xfrm>
            <a:off x="457200" y="741240"/>
            <a:ext cx="6934320" cy="3144960"/>
          </a:xfrm>
          <a:prstGeom prst="rect">
            <a:avLst/>
          </a:prstGeom>
          <a:ln w="0">
            <a:noFill/>
          </a:ln>
        </p:spPr>
      </p:pic>
      <p:sp>
        <p:nvSpPr>
          <p:cNvPr id="423" name="Text Box 5"/>
          <p:cNvSpPr/>
          <p:nvPr/>
        </p:nvSpPr>
        <p:spPr>
          <a:xfrm>
            <a:off x="380880" y="4191120"/>
            <a:ext cx="830592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По проезжей части дороги со скоростью 9 км/ч движется велосипедист и на расстоянии 15 м видит выезжающий из арки наперерез автомобиль. Успеет ли велосипедист предотвратить ДТП? Скорость автомобиля 18 км/ч, ширина тротуара 3 м. Нарушает ли Правила водитель автомобиля?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ll dir="rd"/>
    <p:sndAc>
      <p:stSnd>
        <p:snd r:embed="rId3" name="camera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WordArt 4"/>
          <p:cNvSpPr txBox="1"/>
          <p:nvPr/>
        </p:nvSpPr>
        <p:spPr>
          <a:xfrm rot="527400">
            <a:off x="1142640" y="609120"/>
            <a:ext cx="6248520" cy="579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4332000"/>
                </a:gradFill>
                <a:latin typeface="Impact"/>
              </a:rPr>
              <a:t>Спасибо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4332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4332000"/>
                </a:gradFill>
                <a:latin typeface="Impact"/>
              </a:rPr>
              <a:t>за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4332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4332000"/>
                </a:gradFill>
                <a:latin typeface="Impact"/>
              </a:rPr>
              <a:t>урок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4332000"/>
              </a:gradFill>
              <a:latin typeface="Impact"/>
              <a:ea typeface="Impact"/>
            </a:endParaRPr>
          </a:p>
        </p:txBody>
      </p:sp>
    </p:spTree>
  </p:cSld>
  <p:transition spd="med">
    <p:pull dir="rd"/>
    <p:sndAc>
      <p:stSnd>
        <p:snd r:embed="rId1" name="camera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Rectangle 2" descr=""/>
          <p:cNvPicPr/>
          <p:nvPr/>
        </p:nvPicPr>
        <p:blipFill>
          <a:blip r:embed="rId1"/>
          <a:stretch/>
        </p:blipFill>
        <p:spPr>
          <a:xfrm>
            <a:off x="450720" y="201600"/>
            <a:ext cx="8637840" cy="1571760"/>
          </a:xfrm>
          <a:prstGeom prst="rect">
            <a:avLst/>
          </a:prstGeom>
          <a:ln w="0">
            <a:noFill/>
          </a:ln>
        </p:spPr>
      </p:pic>
      <p:sp>
        <p:nvSpPr>
          <p:cNvPr id="398" name=""/>
          <p:cNvSpPr txBox="1"/>
          <p:nvPr/>
        </p:nvSpPr>
        <p:spPr>
          <a:xfrm>
            <a:off x="457200" y="19047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В </a:t>
            </a:r>
            <a:r>
              <a:rPr b="1" lang="ru-RU" sz="3200" spc="-1" strike="noStrike">
                <a:solidFill>
                  <a:srgbClr val="ffffff"/>
                </a:solidFill>
                <a:latin typeface="Cambria"/>
              </a:rPr>
              <a:t>1791 году</a:t>
            </a: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 русский изобретатель </a:t>
            </a:r>
            <a:r>
              <a:rPr b="1" lang="ru-RU" sz="3200" spc="-1" strike="noStrike">
                <a:solidFill>
                  <a:srgbClr val="ffffff"/>
                </a:solidFill>
                <a:latin typeface="Cambria"/>
              </a:rPr>
              <a:t>Кулибин</a:t>
            </a: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 изготовил повозку, два колеса которой с помощью ножных рычагов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399" name="Picture 6" descr="bicycle_1865_Оливье"/>
          <p:cNvPicPr/>
          <p:nvPr/>
        </p:nvPicPr>
        <p:blipFill>
          <a:blip r:embed="rId2"/>
          <a:stretch/>
        </p:blipFill>
        <p:spPr>
          <a:xfrm>
            <a:off x="4495680" y="3765600"/>
            <a:ext cx="4648320" cy="3092400"/>
          </a:xfrm>
          <a:prstGeom prst="rect">
            <a:avLst/>
          </a:prstGeom>
          <a:ln w="0">
            <a:noFill/>
          </a:ln>
        </p:spPr>
      </p:pic>
      <p:sp>
        <p:nvSpPr>
          <p:cNvPr id="400" name="Rectangle 7"/>
          <p:cNvSpPr/>
          <p:nvPr/>
        </p:nvSpPr>
        <p:spPr>
          <a:xfrm>
            <a:off x="457200" y="3429000"/>
            <a:ext cx="441972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рутил водитель, стоящий н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апятках повозк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ll dir="rd"/>
    <p:sndAc>
      <p:stSnd>
        <p:snd r:embed="rId3" name="camera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Rectangle 5" descr=""/>
          <p:cNvPicPr/>
          <p:nvPr/>
        </p:nvPicPr>
        <p:blipFill>
          <a:blip r:embed="rId1"/>
          <a:stretch/>
        </p:blipFill>
        <p:spPr>
          <a:xfrm>
            <a:off x="450720" y="201600"/>
            <a:ext cx="8637840" cy="157176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 txBox="1"/>
          <p:nvPr/>
        </p:nvSpPr>
        <p:spPr>
          <a:xfrm>
            <a:off x="457200" y="22096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 algn="just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В </a:t>
            </a:r>
            <a:r>
              <a:rPr b="1" lang="ru-RU" sz="3200" spc="-1" strike="noStrike">
                <a:solidFill>
                  <a:srgbClr val="ffffff"/>
                </a:solidFill>
                <a:latin typeface="Cambria"/>
              </a:rPr>
              <a:t>1839 г</a:t>
            </a: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. шотландец </a:t>
            </a:r>
            <a:r>
              <a:rPr b="1" lang="ru-RU" sz="3200" spc="-1" strike="noStrike">
                <a:solidFill>
                  <a:srgbClr val="ffffff"/>
                </a:solidFill>
                <a:latin typeface="Cambria"/>
              </a:rPr>
              <a:t>Макмиллан </a:t>
            </a: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сконструировал двухколесную машину, движимую педалями. 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 algn="just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 algn="just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В </a:t>
            </a:r>
            <a:r>
              <a:rPr b="1" lang="ru-RU" sz="3200" spc="-1" strike="noStrike">
                <a:solidFill>
                  <a:srgbClr val="ffffff"/>
                </a:solidFill>
                <a:latin typeface="Cambria"/>
              </a:rPr>
              <a:t>1855 г.</a:t>
            </a: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 Французский механик </a:t>
            </a:r>
            <a:r>
              <a:rPr b="1" lang="ru-RU" sz="3200" spc="-1" strike="noStrike">
                <a:solidFill>
                  <a:srgbClr val="ffffff"/>
                </a:solidFill>
                <a:latin typeface="Cambria"/>
              </a:rPr>
              <a:t>Пьер Мишо</a:t>
            </a: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 приделал к переднему колесу дрезины пару педалей точно так, как сейчас устанавливают педали в трехколесных детских велосипедах.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transition spd="med">
    <p:pull dir="rd"/>
    <p:sndAc>
      <p:stSnd>
        <p:snd r:embed="rId2" name="camera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Rectangle 4" descr=""/>
          <p:cNvPicPr/>
          <p:nvPr/>
        </p:nvPicPr>
        <p:blipFill>
          <a:blip r:embed="rId1"/>
          <a:stretch/>
        </p:blipFill>
        <p:spPr>
          <a:xfrm>
            <a:off x="450720" y="304920"/>
            <a:ext cx="8637840" cy="157320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 txBox="1"/>
          <p:nvPr/>
        </p:nvSpPr>
        <p:spPr>
          <a:xfrm>
            <a:off x="380880" y="2133360"/>
            <a:ext cx="8229600" cy="41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К </a:t>
            </a:r>
            <a:r>
              <a:rPr b="1" lang="ru-RU" sz="3200" spc="-1" strike="noStrike">
                <a:solidFill>
                  <a:srgbClr val="ffffff"/>
                </a:solidFill>
                <a:latin typeface="Cambria"/>
              </a:rPr>
              <a:t>1920 г. </a:t>
            </a: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велосипед стал основным транспортным средством для рабочих, служащих, крестьян, почтальонов и врачей.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 algn="ctr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Cambria"/>
              </a:rPr>
              <a:t>Велосипед – «быстроног»</a:t>
            </a: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transition spd="med">
    <p:pull dir="rd"/>
    <p:sndAc>
      <p:stSnd>
        <p:snd r:embed="rId2" name="camera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Rectangle 2" descr=""/>
          <p:cNvPicPr/>
          <p:nvPr/>
        </p:nvPicPr>
        <p:blipFill>
          <a:blip r:embed="rId1"/>
          <a:stretch/>
        </p:blipFill>
        <p:spPr>
          <a:xfrm>
            <a:off x="450720" y="128520"/>
            <a:ext cx="8620200" cy="148104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 txBox="1"/>
          <p:nvPr/>
        </p:nvSpPr>
        <p:spPr>
          <a:xfrm>
            <a:off x="457200" y="20570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 algn="just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Несоблюдение правил дорожного движения.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 algn="just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Неумение ориентироваться в дорожной обстановке.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 algn="just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Слабые навыки владения техникой управления велосипедом, особенно в условиях дорожного движения.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transition spd="med">
    <p:pull dir="rd"/>
    <p:sndAc>
      <p:stSnd>
        <p:snd r:embed="rId2" name="camera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Rectangle 2" descr=""/>
          <p:cNvPicPr/>
          <p:nvPr/>
        </p:nvPicPr>
        <p:blipFill>
          <a:blip r:embed="rId1"/>
          <a:stretch/>
        </p:blipFill>
        <p:spPr>
          <a:xfrm>
            <a:off x="450720" y="1292400"/>
            <a:ext cx="8942400" cy="4706640"/>
          </a:xfrm>
          <a:prstGeom prst="rect">
            <a:avLst/>
          </a:prstGeom>
          <a:ln w="0">
            <a:noFill/>
          </a:ln>
        </p:spPr>
      </p:pic>
    </p:spTree>
  </p:cSld>
  <p:transition spd="med">
    <p:pull dir="rd"/>
    <p:sndAc>
      <p:stSnd>
        <p:snd r:embed="rId2" name="camera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553600" cy="1500120"/>
          </a:xfrm>
          <a:prstGeom prst="rect">
            <a:avLst/>
          </a:prstGeom>
          <a:ln w="0">
            <a:noFill/>
          </a:ln>
        </p:spPr>
      </p:pic>
      <p:sp>
        <p:nvSpPr>
          <p:cNvPr id="409" name=""/>
          <p:cNvSpPr txBox="1"/>
          <p:nvPr/>
        </p:nvSpPr>
        <p:spPr>
          <a:xfrm>
            <a:off x="1371240" y="54864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 algn="ctr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Cambria"/>
              </a:rPr>
              <a:t>Сигнал левого поворота 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Cambria"/>
              </a:rPr>
              <a:t>или разворота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10" name="Picture 4" descr="Сигнал левого поворота"/>
          <p:cNvPicPr/>
          <p:nvPr/>
        </p:nvPicPr>
        <p:blipFill>
          <a:blip r:embed="rId2"/>
          <a:stretch/>
        </p:blipFill>
        <p:spPr>
          <a:xfrm>
            <a:off x="380880" y="1841400"/>
            <a:ext cx="8001000" cy="3400560"/>
          </a:xfrm>
          <a:prstGeom prst="rect">
            <a:avLst/>
          </a:prstGeom>
          <a:ln w="0">
            <a:noFill/>
          </a:ln>
        </p:spPr>
      </p:pic>
    </p:spTree>
  </p:cSld>
  <p:transition spd="med">
    <p:pull dir="rd"/>
    <p:sndAc>
      <p:stSnd>
        <p:snd r:embed="rId3" name="camera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553600" cy="1500120"/>
          </a:xfrm>
          <a:prstGeom prst="rect">
            <a:avLst/>
          </a:prstGeom>
          <a:ln w="0">
            <a:noFill/>
          </a:ln>
        </p:spPr>
      </p:pic>
      <p:sp>
        <p:nvSpPr>
          <p:cNvPr id="412" name=""/>
          <p:cNvSpPr txBox="1"/>
          <p:nvPr/>
        </p:nvSpPr>
        <p:spPr>
          <a:xfrm>
            <a:off x="1447920" y="5638320"/>
            <a:ext cx="62481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 algn="ctr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Cambria"/>
              </a:rPr>
              <a:t>Сигнал правого поворота 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13" name="Picture 5" descr="сигнал правого поворота"/>
          <p:cNvPicPr/>
          <p:nvPr/>
        </p:nvPicPr>
        <p:blipFill>
          <a:blip r:embed="rId2"/>
          <a:stretch/>
        </p:blipFill>
        <p:spPr>
          <a:xfrm>
            <a:off x="457200" y="2057400"/>
            <a:ext cx="8077320" cy="3357720"/>
          </a:xfrm>
          <a:prstGeom prst="rect">
            <a:avLst/>
          </a:prstGeom>
          <a:ln w="0">
            <a:noFill/>
          </a:ln>
        </p:spPr>
      </p:pic>
    </p:spTree>
  </p:cSld>
  <p:transition spd="med">
    <p:pull dir="rd"/>
    <p:sndAc>
      <p:stSnd>
        <p:snd r:embed="rId3" name="camera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553600" cy="1500120"/>
          </a:xfrm>
          <a:prstGeom prst="rect">
            <a:avLst/>
          </a:prstGeom>
          <a:ln w="0">
            <a:noFill/>
          </a:ln>
        </p:spPr>
      </p:pic>
      <p:sp>
        <p:nvSpPr>
          <p:cNvPr id="415" name=""/>
          <p:cNvSpPr txBox="1"/>
          <p:nvPr/>
        </p:nvSpPr>
        <p:spPr>
          <a:xfrm>
            <a:off x="1371240" y="5486040"/>
            <a:ext cx="6248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 algn="ctr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Cambria"/>
              </a:rPr>
              <a:t>Сигнал остановки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16" name="Picture 5" descr="сигнал остановки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3098880"/>
          </a:xfrm>
          <a:prstGeom prst="rect">
            <a:avLst/>
          </a:prstGeom>
          <a:ln w="0">
            <a:noFill/>
          </a:ln>
        </p:spPr>
      </p:pic>
    </p:spTree>
  </p:cSld>
  <p:transition spd="med">
    <p:pull dir="rd"/>
    <p:sndAc>
      <p:stSnd>
        <p:snd r:embed="rId3" name="camera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z</dc:creator>
  <dc:description/>
  <dc:language>en-US</dc:language>
  <cp:lastModifiedBy>z</cp:lastModifiedBy>
  <dcterms:modified xsi:type="dcterms:W3CDTF">2018-06-17T14:37:46Z</dcterms:modified>
  <cp:revision>3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