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0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94C-3FDB-4111-8F31-1AACF8B4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026-B408-4F99-9C4A-2B7717D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F56C7-6423-46E0-A73E-9ED39896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9133F5-F404-479F-83E7-4DF32DD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740EDA-2488-422E-928A-DEC4F504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02DB24-59E6-437E-8584-FDEDC25B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07EA1F-8142-47A4-9FCB-9E476BA6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DADD9-E8B2-44C6-AC6E-A4625E6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70A62A-AA98-4CCF-BE7D-0BB90D5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E46A1A-ECB4-42AF-9A81-5C91126D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762913-789B-4064-8C53-9950485B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8F7-096B-404A-82A5-7CB78B72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953-6C0F-4080-8F16-D4BEF5F4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5F363-00B3-4B4B-B3F2-B1B3741F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4B619-2B15-423F-80CC-4033657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BFBC2-9EE4-44DC-BE17-36BE866C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8E8A9-BAEE-41D2-9EFC-AE8F214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4B775-9D98-4760-8C01-C652CA49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4BCE6-8663-48A6-91C6-AF4559A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1823E-13D9-48A4-B0AD-D2E80F6B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E15-304E-4B89-97E8-DF3EBA59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AF8C6-75B7-4A5C-B4F2-F9E483F6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F355-1C13-4EF5-8315-D4E2DFB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F5A2D-B626-402E-B36F-0DBC9976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2ED4C-E74B-4191-B867-3F2CBC25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D50BD-9BFB-4CA1-A196-8B33E82D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CBD2-AC8E-4675-B2B1-5F3DF946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CFEB-F7B7-43DA-BE49-04E40B18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FF21-4905-400B-BC7D-1102C69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66C6-4CFB-4CF1-A947-FB056D0F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C6E4-771E-4541-83F4-8547993E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839-85D2-46B1-8E02-E8DF1C0E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FF68-20CD-4137-B355-296C4973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3961-D929-4769-9F90-F6AF7F8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E392-3ADC-40A4-9C23-8D51AA4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1DDF-0EF5-499F-A3AB-DB51B79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C9F5-ECEF-4DFA-BE31-5A47C62F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1A23-54B0-4EA7-9B1E-86C83635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18B4-AFAF-433C-A531-7F6FC04E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3CD624-65BD-49DB-AD54-21442A78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D85C9-6021-4571-AEA7-52AE4B7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07845-2D89-44E2-832F-2E871DEF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AE8-DF46-466D-8C26-BB6AFDF1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A1F19-6708-4272-B138-E64128B4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9B757-98D5-493D-89ED-617BA01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97368-E28D-4400-ADD2-22082A0B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4F723-9A6C-4209-9DA8-B398A4C8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02D83-5FEA-40C8-AFEF-AAB2653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B4CB7-2A77-4E43-96D2-ADBEE10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11A10-50C3-4890-8366-1040CA8A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5DB00-F641-428D-8B9F-B0CBFE82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EABE6-FBD7-49A6-BC17-99B670C4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8285-7129-4AF6-A702-32AEDD5A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38C-A94B-4E76-A208-B6F2258E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3894-1DD7-4FC6-8DCB-9DA8A270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7AA1-B2E4-4157-B8BB-164567F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E51B-2158-47CD-BC3D-57AA54E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50C5-F801-4916-B558-4A346B0B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D4DE-5BB7-46B6-ABDE-149DBBEA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4EA23-37A5-45BC-B5A4-E572A00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61C0-ADFE-4980-8993-0BD52519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C390-1967-42AB-891D-1B5B9E6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95F1F-246D-485E-9B6B-E758FBDB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0DF30-3639-4AB2-8034-9267CA03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C7A-D4F8-481F-B2EE-9CE5346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813EA-F1F5-4F22-822F-6B587ADA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8B0B-361E-4B16-9597-6B786D85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EF227-FAF7-472C-A9CC-05E8B4A6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8F58-45F0-4D36-95A9-79F5C94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1E1D-9B91-4EFB-949C-4EA9E3B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9345-3D21-4D72-A87F-EBBD300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73FD-9529-44F7-9958-28B669A2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D0BC0-9DA2-47FE-8E17-EAF775B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EF339-1CE3-4EA2-81F5-27461FF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12BE-0FC4-4F97-B970-63C1AA6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840-63A5-40B8-AC8B-FE159FC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F3FB9-986C-497A-B534-F6F2643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043B-58DF-4836-BF9C-A0B90EEB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21B4-22DF-4AC7-83A6-A9A857E1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CC80-095D-4C1A-B628-A7831329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81EC-99B2-4407-B463-AD0CCE5E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C7728-43D3-410D-85C7-B26E508E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93B1A-1850-4EFD-B713-00CCD08D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61DA-5177-4322-A079-C5EB6A5E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6D8D-BA37-4327-9C36-304ABFC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EB9A3-5F26-46E7-925C-BC58DD7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D7E-9002-4087-9485-E83A42DA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6943-9864-40B2-9172-2815A1B0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023DA-C245-4868-B7CF-2785DF0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6B01-6D4A-4FA6-BED6-D3CDC60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1A275-371A-4CC1-90CF-1F9E6E66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01459-3C72-4866-95C4-3862B9DD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08E65-FCA2-4E49-BF80-CC7A9BF4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5AAD8-459C-4D32-BCE7-68DAB63B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DF987-76C0-4183-81BE-4C5B4E87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E5253-E328-4B0E-86D9-F3C15F9D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E1C808-CA86-41B3-8945-AD7EE42E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A2C-74D3-4002-9964-6F3D032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94DCC-0B54-48F1-AD7E-012FBFC4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CD5D15-DBAE-4E45-8776-C7E6497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73376-738E-4F03-97D5-C13E214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E7600-99D9-4068-9CA9-D165B7F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8C0EB-7279-4E0A-9DCB-6A57DD9A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90CBC-1538-4547-AE31-782A79BD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B24519-55D8-493E-9CD7-6FC1D41A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627026-0DD7-4F79-9DB4-560F4895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EB681-2E48-4AA7-BC02-430E5847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67674-9035-44BA-A18E-A6128533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0E0-8410-4766-87D4-042230F26F1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4F3-7664-4D6D-8EA1-80B1FEC896F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681-612B-4084-9BE4-2FABD14B3E4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F887-C14A-472A-ABC1-35370B0EE8A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ED7B-EFE5-435D-805B-2C9696791B1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F3F-85D2-430A-987C-F31F040096C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7A5-B82F-47DF-9410-1DE440F6A1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C1A-EE49-49A6-9057-1B6D6135E72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EB48-6626-48FA-A41A-0834991CFF2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4"/>
          <p:cNvSpPr txBox="1"/>
          <p:nvPr/>
        </p:nvSpPr>
        <p:spPr>
          <a:xfrm>
            <a:off x="2057400" y="8380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2666880" y="2362320"/>
            <a:ext cx="38721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же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7"/>
          <p:cNvSpPr txBox="1"/>
          <p:nvPr/>
        </p:nvSpPr>
        <p:spPr>
          <a:xfrm>
            <a:off x="1828800" y="3809880"/>
            <a:ext cx="57913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лосипедис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674200" cy="1663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гда садишься на велосипед, проверь руль и тормоз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здить на велосипедах по дорогам можно только с 14 лет, а на мопедах с 16 лет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апрещается ездить по проезжей части, если есть велосипедная дорожк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4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674200" cy="1663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сли надо пересечь дорогу, это делается пешком, держа велосипед за рул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 обычным правилам для пешеходов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о время езды на велосипеде не выпускай руль из ру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3041640" y="-66600"/>
            <a:ext cx="3998880" cy="123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Задача2"/>
          <p:cNvPicPr/>
          <p:nvPr/>
        </p:nvPicPr>
        <p:blipFill>
          <a:blip r:embed="rId2"/>
          <a:srcRect l="0" t="0" r="4904" b="33711"/>
          <a:stretch/>
        </p:blipFill>
        <p:spPr>
          <a:xfrm>
            <a:off x="457200" y="741240"/>
            <a:ext cx="6934320" cy="314496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5"/>
          <p:cNvSpPr/>
          <p:nvPr/>
        </p:nvSpPr>
        <p:spPr>
          <a:xfrm>
            <a:off x="380880" y="4191120"/>
            <a:ext cx="8305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 проезжей части дороги со скоростью 9 км/ч движется велосипедист и на расстоянии 15 м видит выезжающий из арки наперерез автомобиль. Успеет ли велосипедист предотвратить ДТП? Скорость автомобиля 18 км/ч, ширина тротуара 3 м. Нарушает ли Правила водитель автомобиля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 rot="527400">
            <a:off x="1142640" y="609120"/>
            <a:ext cx="62485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2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2000"/>
                </a:gradFill>
                <a:latin typeface="Impact"/>
              </a:rPr>
              <a:t>з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2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32000"/>
                </a:gradFill>
                <a:latin typeface="Impact"/>
              </a:rPr>
              <a:t>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32000"/>
              </a:gradFill>
              <a:latin typeface="Impact"/>
              <a:ea typeface="Impact"/>
            </a:endParaRPr>
          </a:p>
        </p:txBody>
      </p:sp>
    </p:spTree>
  </p:cSld>
  <p:transition spd="med">
    <p:pull dir="r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637840" cy="1571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791 году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русский изобретатель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улиби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изготовил повозку, два колеса которой с помощью ножных рычагов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Picture 6" descr="bicycle_1865_Оливье"/>
          <p:cNvPicPr/>
          <p:nvPr/>
        </p:nvPicPr>
        <p:blipFill>
          <a:blip r:embed="rId2"/>
          <a:stretch/>
        </p:blipFill>
        <p:spPr>
          <a:xfrm>
            <a:off x="4495680" y="3765600"/>
            <a:ext cx="4648320" cy="30924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457200" y="3429000"/>
            <a:ext cx="4419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тил водитель, стоящий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ятках пово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5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637840" cy="1571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839 г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. шотландец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Макмиллан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конструировал двухколесную машину, движимую педалям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855 г.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Французский механик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ьер Мишо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риделал к переднему колесу дрезины пару педалей точно так, как сейчас устанавливают педали в трехколесных детских велосипедах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450720" y="304920"/>
            <a:ext cx="8637840" cy="1573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80880" y="21333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1920 г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елосипед стал основным транспортным средством для рабочих, служащих, крестьян, почтальонов и врачей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mbria"/>
              </a:rPr>
              <a:t>Велосипед – «быстроног»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20200" cy="1481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соблюдение правил дорожного движ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умение ориентироваться в дорожной обстановк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лабые навыки владения техникой управления велосипедом, особенно в условиях дорожного движения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med">
    <p:pull dir="r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942400" cy="4706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53600" cy="1500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371240" y="54864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игнал левого поворот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или разворот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4" descr="Сигнал левого поворота"/>
          <p:cNvPicPr/>
          <p:nvPr/>
        </p:nvPicPr>
        <p:blipFill>
          <a:blip r:embed="rId2"/>
          <a:stretch/>
        </p:blipFill>
        <p:spPr>
          <a:xfrm>
            <a:off x="380880" y="1841400"/>
            <a:ext cx="800100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53600" cy="1500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447920" y="563832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игнал правого поворот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5" descr="сигнал правого поворота"/>
          <p:cNvPicPr/>
          <p:nvPr/>
        </p:nvPicPr>
        <p:blipFill>
          <a:blip r:embed="rId2"/>
          <a:stretch/>
        </p:blipFill>
        <p:spPr>
          <a:xfrm>
            <a:off x="457200" y="2057400"/>
            <a:ext cx="807732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53600" cy="15001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1371240" y="54860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</a:rPr>
              <a:t>Сигнал останов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5" descr="сигнал остановки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309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</dc:creator>
  <dc:description/>
  <dc:language>en-US</dc:language>
  <cp:lastModifiedBy>z</cp:lastModifiedBy>
  <dcterms:modified xsi:type="dcterms:W3CDTF">2018-06-17T14:37:4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