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476-7470-4C5D-AAE5-EA3BD94E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8CB-1111-4B4C-B5D7-5E55E88A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A50-64F2-42A5-9C0C-B86D994D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731-0612-4BD5-B034-451E08FB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98A-3B40-450C-9FE2-8674E80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4C6-3C18-489E-A96E-761EBED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933-43BE-4A4C-8A7C-3713F2C0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C5C-72CC-486C-AA3A-F78A1B65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B04-41BE-4269-9471-6185007F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C63-DEB9-4766-BA53-6785625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315-8003-45F9-A0B7-CEC3778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32E-671A-42A1-8723-86651211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D0E-5557-4CB1-B4C8-DB427BE74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чебная деятельность школьников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начение мотивации в учеб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2840" y="45716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Не бойся, что не знаешь - бойся, что не учиш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ff"/>
                </a:solidFill>
                <a:latin typeface="Monotype Corsiva"/>
              </a:rPr>
              <a:t>Китайское изречени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32"/>
          <p:cNvPicPr/>
          <p:nvPr/>
        </p:nvPicPr>
        <p:blipFill>
          <a:blip r:embed="rId1"/>
          <a:stretch/>
        </p:blipFill>
        <p:spPr>
          <a:xfrm>
            <a:off x="609480" y="4419720"/>
            <a:ext cx="19814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6934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270000">
              <a:spcBef>
                <a:spcPts val="60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Учение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это основной род деятельности ученика, и его основная цель успешное усвоение знаний и умений, необходимых для того, чтобы он смог их использовать в дальнейшем для себя, а значит и для общества. Поэтому каждого ученика можно оценить по тому, как он относится к учебе и каковы его собственные цели и 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080" indent="270000">
              <a:spcBef>
                <a:spcPts val="60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Шко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ет базовые знания в основных сферах наук. На этой базе человек впоследствии становится хорошим специалистом в какой-либо более узкой области своей специ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35"/>
          <p:cNvPicPr/>
          <p:nvPr/>
        </p:nvPicPr>
        <p:blipFill>
          <a:blip r:embed="rId1"/>
          <a:stretch/>
        </p:blipFill>
        <p:spPr>
          <a:xfrm rot="20555400">
            <a:off x="6324120" y="4495680"/>
            <a:ext cx="2238480" cy="90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141"/>
          <p:cNvPicPr/>
          <p:nvPr/>
        </p:nvPicPr>
        <p:blipFill>
          <a:blip r:embed="rId2"/>
          <a:stretch/>
        </p:blipFill>
        <p:spPr>
          <a:xfrm flipH="1">
            <a:off x="7162560" y="533520"/>
            <a:ext cx="1390680" cy="2133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00044[1]"/>
          <p:cNvPicPr/>
          <p:nvPr/>
        </p:nvPicPr>
        <p:blipFill>
          <a:blip r:embed="rId3"/>
          <a:stretch/>
        </p:blipFill>
        <p:spPr>
          <a:xfrm>
            <a:off x="7238880" y="30481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Уч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прежде всего, достижение, стремление к определенным целям и настойчивость в этом достижен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 уровень мотивации 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 для достижения успеха в учебе и в этом вклад мотивации в общую успешность деятельности школьника можно рассматривать наравне со способностями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мотивации учен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школь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о происходить на основе четко поставленной цели — получения хорош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ru-RU" sz="2400" spc="-1" strike="noStrike">
                <a:solidFill>
                  <a:srgbClr val="ff00ff"/>
                </a:solidFill>
                <a:latin typeface="Times New Roman"/>
              </a:rPr>
              <a:t>Задача взросл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помочь им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знании  этой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079190"/>
          <p:cNvPicPr/>
          <p:nvPr/>
        </p:nvPicPr>
        <p:blipFill>
          <a:blip r:embed="rId1"/>
          <a:stretch/>
        </p:blipFill>
        <p:spPr>
          <a:xfrm flipH="1">
            <a:off x="1143000" y="4724280"/>
            <a:ext cx="1023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ктуальность вопроса учебной мотивации обусловлена обновлением содержания обучения, постановкой задач формирования у школьников приемов самостоятельного приобретения знаний и развития активной жизненной пози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3059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знание ребенком объективной важности учения, которая определяется выработанными в обществе нравственными ценностями, принятыми в социальном окружении и в семье данно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имание значимости учения лично для себя, которое обязательно преломляется через уровень притязаний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самоконтроль и самооценку учебной работы, ее отдельных звен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2286000"/>
            <a:ext cx="79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ысл учения для каждого ученика определяется систем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идеалов, ценностей, которые он заимствуе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го окружения (семьи, друзей, соуче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ВИДЫ МО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053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вид класс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знавательные мо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циальные мо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609480" y="1371600"/>
            <a:ext cx="3353040" cy="152388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4876920" y="1295280"/>
            <a:ext cx="3429000" cy="1524240"/>
            <a:chOff x="4876920" y="1295280"/>
            <a:chExt cx="3429000" cy="1524240"/>
          </a:xfrm>
        </p:grpSpPr>
        <p:sp>
          <p:nvSpPr>
            <p:cNvPr id="58" name="Rectangle 4"/>
            <p:cNvSpPr/>
            <p:nvPr/>
          </p:nvSpPr>
          <p:spPr>
            <a:xfrm>
              <a:off x="5029200" y="1447920"/>
              <a:ext cx="3276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I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вид классифик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Внутренние мотивы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Внешние  мотивы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>
              <a:off x="4876920" y="1295280"/>
              <a:ext cx="3352680" cy="152424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9"/>
          <p:cNvGrpSpPr/>
          <p:nvPr/>
        </p:nvGrpSpPr>
        <p:grpSpPr>
          <a:xfrm>
            <a:off x="2362320" y="4343400"/>
            <a:ext cx="3962160" cy="1600200"/>
            <a:chOff x="2362320" y="4343400"/>
            <a:chExt cx="3962160" cy="1600200"/>
          </a:xfrm>
        </p:grpSpPr>
        <p:sp>
          <p:nvSpPr>
            <p:cNvPr id="61" name="Rectangle 5"/>
            <p:cNvSpPr/>
            <p:nvPr/>
          </p:nvSpPr>
          <p:spPr>
            <a:xfrm>
              <a:off x="2514600" y="4495680"/>
              <a:ext cx="38098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II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вид классифика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к достижению успеха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buClr>
                  <a:srgbClr val="ff00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недопущению неудач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utoShape 8"/>
            <p:cNvSpPr/>
            <p:nvPr/>
          </p:nvSpPr>
          <p:spPr>
            <a:xfrm>
              <a:off x="2362320" y="4343400"/>
              <a:ext cx="3962160" cy="160020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Line 11"/>
          <p:cNvSpPr/>
          <p:nvPr/>
        </p:nvSpPr>
        <p:spPr>
          <a:xfrm flipH="1">
            <a:off x="2361960" y="762120"/>
            <a:ext cx="609480" cy="380880"/>
          </a:xfrm>
          <a:prstGeom prst="line">
            <a:avLst/>
          </a:prstGeom>
          <a:ln w="44280">
            <a:solidFill>
              <a:srgbClr val="0066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4495680" y="1600200"/>
            <a:ext cx="0" cy="2438280"/>
          </a:xfrm>
          <a:prstGeom prst="line">
            <a:avLst/>
          </a:prstGeom>
          <a:ln w="44280">
            <a:solidFill>
              <a:srgbClr val="0066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6019920" y="762120"/>
            <a:ext cx="685800" cy="304560"/>
          </a:xfrm>
          <a:prstGeom prst="line">
            <a:avLst/>
          </a:prstGeom>
          <a:ln w="44280">
            <a:solidFill>
              <a:srgbClr val="0066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направлен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а на выполнение отдельных действий, относящихся к учебной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Эмоциональный компонент мотив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арактеризуется переживаниями школьников в процессе учебной деятельности, эмоциональным отношением к обуче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33520" y="320040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«Мотив в поведе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ключает в себя ряд динамических характеристик: реальное влияние мотивов учения на ход учебной деятельности и поведение ребенка, степень распространения влияния мотива на разные виды деятельности, освоение учебных предметов, выбор форм учебных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52480" y="121896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чеб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циаль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зицион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ценочны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грово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нешний мо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23880" y="990720"/>
            <a:ext cx="5410440" cy="4190760"/>
          </a:xfrm>
          <a:prstGeom prst="roundRect">
            <a:avLst>
              <a:gd name="adj" fmla="val 16667"/>
            </a:avLst>
          </a:prstGeom>
          <a:noFill/>
          <a:ln cap="rnd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J0079190"/>
          <p:cNvPicPr/>
          <p:nvPr/>
        </p:nvPicPr>
        <p:blipFill>
          <a:blip r:embed="rId1"/>
          <a:stretch/>
        </p:blipFill>
        <p:spPr>
          <a:xfrm>
            <a:off x="6705720" y="1981080"/>
            <a:ext cx="153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06-17T19:12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