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79A-8241-4FAB-BD4D-65F77925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773-CB6C-4D8F-8893-C217646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436-0DE6-466E-A879-739E7D5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083-8260-4D9A-A441-4D9F6547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44E-16C4-4DDB-948C-698E8B83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765-9E90-4D2B-9477-8426693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B69-0B7D-46AB-A803-F06C9B5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78A-209D-45E3-B946-71DC998D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49C-E8EF-4A38-851B-93FE77EC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3AF-B32D-4BEB-A865-5327AD8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04C-A9B6-415D-99CF-CD5BE4D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CF8-10D6-4265-BC41-7E06EB4D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56D6-EADD-4CA9-918B-5BD08E68D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чебная деятельность школьников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начение мотивации в учеб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2840" y="45716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Не бойся, что не знаешь - бойся, что не учиш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ff"/>
                </a:solidFill>
                <a:latin typeface="Monotype Corsiva"/>
              </a:rPr>
              <a:t>Китайское изречени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32"/>
          <p:cNvPicPr/>
          <p:nvPr/>
        </p:nvPicPr>
        <p:blipFill>
          <a:blip r:embed="rId1"/>
          <a:stretch/>
        </p:blipFill>
        <p:spPr>
          <a:xfrm>
            <a:off x="609480" y="4419720"/>
            <a:ext cx="19814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6934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270000">
              <a:spcBef>
                <a:spcPts val="60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чение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это основной род деятельности ученика, и его основная цель успешное усвоение знаний и умений, необходимых для того, чтобы он смог их использовать в дальнейшем для себя, а значит и для общества. Поэтому каждого ученика можно оценить по тому, как он относится к учебе и каковы его собственные цели и 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080" indent="270000">
              <a:spcBef>
                <a:spcPts val="60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Шко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базовые знания в основных сферах наук. На этой базе человек впоследствии становится хорошим специалистом в какой-либо более узкой области своей специ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35"/>
          <p:cNvPicPr/>
          <p:nvPr/>
        </p:nvPicPr>
        <p:blipFill>
          <a:blip r:embed="rId1"/>
          <a:stretch/>
        </p:blipFill>
        <p:spPr>
          <a:xfrm rot="20555400">
            <a:off x="6324120" y="4495680"/>
            <a:ext cx="2238480" cy="90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141"/>
          <p:cNvPicPr/>
          <p:nvPr/>
        </p:nvPicPr>
        <p:blipFill>
          <a:blip r:embed="rId2"/>
          <a:stretch/>
        </p:blipFill>
        <p:spPr>
          <a:xfrm flipH="1">
            <a:off x="7162560" y="533520"/>
            <a:ext cx="1390680" cy="2133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00044[1]"/>
          <p:cNvPicPr/>
          <p:nvPr/>
        </p:nvPicPr>
        <p:blipFill>
          <a:blip r:embed="rId3"/>
          <a:stretch/>
        </p:blipFill>
        <p:spPr>
          <a:xfrm>
            <a:off x="7238880" y="30481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прежде всего, достижение, стремление к определенным целям и настойчивость в этом достижен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 уровень мотивации 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 для достижения успеха в учебе и в этом вклад мотивации в общую успешность деятельности школьника можно рассматривать наравне со способностями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мотивации уч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школь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о происходить на основе четко поставленной цели — получения хорош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ru-RU" sz="2400" spc="-1" strike="noStrike">
                <a:solidFill>
                  <a:srgbClr val="ff00ff"/>
                </a:solidFill>
                <a:latin typeface="Times New Roman"/>
              </a:rPr>
              <a:t>Задача взросл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помочь им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знании  этой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079190"/>
          <p:cNvPicPr/>
          <p:nvPr/>
        </p:nvPicPr>
        <p:blipFill>
          <a:blip r:embed="rId1"/>
          <a:stretch/>
        </p:blipFill>
        <p:spPr>
          <a:xfrm flipH="1">
            <a:off x="1143000" y="4724280"/>
            <a:ext cx="1023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ктуальность вопроса учебной мотивации обусловлена обновлением содержания обучения, постановкой задач формирования у школьников приемов самостоятельного приобретения знаний и развития активной жизненной пози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305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знание ребенком объективной важности учения, которая определяется выработанными в обществе нравственными ценностями, принятыми в социальном окружении и в семье данно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имание значимости учения лично для себя, которое обязательно преломляется через уровень притязаний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самоконтроль и самооценку учебной работы, ее отдельных звен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2286000"/>
            <a:ext cx="79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ысл учения для каждого ученика определяется систем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идеалов, ценностей, которые он заимствуе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го окружения (семьи, друзей, соуче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ВИДЫ МО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053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вид класс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е мо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циальные мо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609480" y="1371600"/>
            <a:ext cx="3353040" cy="152388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4876920" y="1295280"/>
            <a:ext cx="3429000" cy="1524240"/>
            <a:chOff x="4876920" y="1295280"/>
            <a:chExt cx="3429000" cy="1524240"/>
          </a:xfrm>
        </p:grpSpPr>
        <p:sp>
          <p:nvSpPr>
            <p:cNvPr id="58" name="Rectangle 4"/>
            <p:cNvSpPr/>
            <p:nvPr/>
          </p:nvSpPr>
          <p:spPr>
            <a:xfrm>
              <a:off x="5029200" y="1447920"/>
              <a:ext cx="3276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I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вид классифик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Внутренние мотивы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Внешние  мотивы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>
              <a:off x="4876920" y="1295280"/>
              <a:ext cx="3352680" cy="152424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2362320" y="4343400"/>
            <a:ext cx="3962160" cy="1600200"/>
            <a:chOff x="2362320" y="4343400"/>
            <a:chExt cx="3962160" cy="1600200"/>
          </a:xfrm>
        </p:grpSpPr>
        <p:sp>
          <p:nvSpPr>
            <p:cNvPr id="61" name="Rectangle 5"/>
            <p:cNvSpPr/>
            <p:nvPr/>
          </p:nvSpPr>
          <p:spPr>
            <a:xfrm>
              <a:off x="2514600" y="4495680"/>
              <a:ext cx="38098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II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ид классифик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к достижению успех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недопущению неудач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8"/>
            <p:cNvSpPr/>
            <p:nvPr/>
          </p:nvSpPr>
          <p:spPr>
            <a:xfrm>
              <a:off x="2362320" y="4343400"/>
              <a:ext cx="3962160" cy="160020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Line 11"/>
          <p:cNvSpPr/>
          <p:nvPr/>
        </p:nvSpPr>
        <p:spPr>
          <a:xfrm flipH="1">
            <a:off x="2361960" y="762120"/>
            <a:ext cx="609480" cy="380880"/>
          </a:xfrm>
          <a:prstGeom prst="line">
            <a:avLst/>
          </a:prstGeom>
          <a:ln w="44280">
            <a:solidFill>
              <a:srgbClr val="0066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4495680" y="1600200"/>
            <a:ext cx="0" cy="2438280"/>
          </a:xfrm>
          <a:prstGeom prst="line">
            <a:avLst/>
          </a:prstGeom>
          <a:ln w="44280">
            <a:solidFill>
              <a:srgbClr val="0066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6019920" y="762120"/>
            <a:ext cx="685800" cy="304560"/>
          </a:xfrm>
          <a:prstGeom prst="line">
            <a:avLst/>
          </a:prstGeom>
          <a:ln w="44280">
            <a:solidFill>
              <a:srgbClr val="0066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направлен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а на выполнение отдельных действий, относящихся к учебной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Эмоциональный компонент мотив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арактеризуется переживаниями школьников в процессе учебной деятельности, эмоциональным отношением к обуч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520" y="32004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«Мотив в поведе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ключает в себя ряд динамических характеристик: реальное влияние мотивов учения на ход учебной деятельности и поведение ребенка, степень распространения влияния мотива на разные виды деятельности, освоение учебных предметов, выбор форм учебных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52480" y="12189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чеб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циаль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зицион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ценоч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грово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нешни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23880" y="990720"/>
            <a:ext cx="5410440" cy="419076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J0079190"/>
          <p:cNvPicPr/>
          <p:nvPr/>
        </p:nvPicPr>
        <p:blipFill>
          <a:blip r:embed="rId1"/>
          <a:stretch/>
        </p:blipFill>
        <p:spPr>
          <a:xfrm>
            <a:off x="6705720" y="1981080"/>
            <a:ext cx="153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6-17T19:12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