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04C-430C-48F8-BE62-A7782F41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8AF-13A1-4438-8357-610C467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D51-22C0-49FF-92F9-7E54BE96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867-A8BC-46E4-A827-AC61B3EC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701-F6E9-496D-A792-8F1ED8BF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F94A-50F5-4D5D-B36F-650C22B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4A9-3FBB-4521-9C57-C824A2A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B494-A989-4143-AD75-AC313370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7C9A-9006-452D-8CAA-C97350BF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AA00-39FC-4C6E-9E7A-40A1394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CDEC-FCEE-4817-80CA-C0EC18B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0A2-B924-43B0-ADB7-C6AF011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318-556D-4285-B3C1-82AB5AA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69C-D23E-44B3-AF9C-D711A80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CD2-C830-4270-B215-E44DEE2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CF2E-E156-44D7-A76B-46956BC6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4CA-6176-467F-BC37-AF1055F6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27A-1982-436F-9815-17FBB2C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97C-16F5-49CB-8C75-2D2ADA6A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6B5-8A7A-4DA9-897A-987C43A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0B1-C3F8-4831-9860-E816915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51B8-561C-428C-ADA9-2DC6CF6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C2E-A0A0-4AE6-BC6C-46EEF83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D53-29D9-45E5-908E-F6086686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C202-CBFC-49CA-AB5B-2F8C162535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A1D4-02EE-43FD-8195-725816F399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Garamond"/>
              </a:rPr>
              <a:t>ТЕМА: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Открытие нейтрона. Состав атомного ядра. Массовое число.  Изотопы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6360" y="4508280"/>
            <a:ext cx="331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Урок для 9 класса подгото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Юрина Н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156680" indent="-70416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99"/>
                </a:solidFill>
                <a:latin typeface="Times New Roman"/>
              </a:rPr>
              <a:t>РАБОТА В ГРУППА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1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1) учебника и №.1178 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2) учебника и №.1179 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3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упражнения 45(3) учебника и №.1180 по сборнику задач по физике 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 №.1173 и №1181 по сборнику задач по физик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Группа №5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 №.1172 и №1182 по сборнику задач по физик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.П. Рымкевич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ирование понятий о массовом и зарядовом числах, об основных законах сохранения в ядерной физике; и рассмотреть открытие нейтрона, что такое изотоп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План уро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Проверка знаний и ум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Закрепление. Работа в группа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Подведение итог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бъяснение нового материал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</a:rPr>
              <a:t>СОСТАВ АТОМНОГО Я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45600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40360" y="227664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дро атома состоит из нуклонов, которые подразделяются на протоны и нейтр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655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Символическое обозначение ядра ато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08360" y="1341360"/>
            <a:ext cx="1297080" cy="13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71640" y="2924280"/>
            <a:ext cx="7632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нуклонов, т.е. протонов + нейтронов ( или атомная масса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протонов ( равно числу электронов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исло нейтронов ( или атомный номер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300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ff99"/>
                </a:solidFill>
                <a:latin typeface="Times New Roman"/>
              </a:rPr>
              <a:t>Искусственные превращения яд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1919 год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- впервые осуществлена Резерфордом реакция превращения одного ядра в друго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Резерфорд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ысказал предположение, что должна существовать 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частиц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массой, равной массе протона, но </a:t>
            </a: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не имеюща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электрического заряда. Однако, обнаружить такую частицу Резерфорду не удалось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1932г английский ученый Дж.Чедви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выдвинул гипотезу, согласно которой в  экспериментах вылетали не - кванты, а другие нейтральные частицы, близкие по размеру и массе к протонам. Эти частицы он назвал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нейтронами</a:t>
            </a:r>
            <a:r>
              <a:rPr b="1" lang="en-US" sz="3200" spc="-1" strike="noStrike">
                <a:solidFill>
                  <a:srgbClr val="ff3399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55640" y="4149720"/>
                <a:ext cx="74883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Garamond"/>
              </a:rPr>
              <a:t>Свойства нейтро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стабильная част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заряд отсутству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асса приблизительно 1840 массы электр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не ионизирует возд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могучее средство для расщепления яд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Строение ядра ат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В 1932 г Иваненко и Гейзенбер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положили протонно - нейтронную модель ядра ат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сса ядра чуть меньше суммы масс протонов и нейтро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Изотоп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учение радиоактивности показало, что в природе встречаются </a:t>
            </a:r>
            <a:r>
              <a:rPr b="1" lang="ru-RU" sz="3200" spc="-1" strike="noStrike">
                <a:solidFill>
                  <a:srgbClr val="0033cc"/>
                </a:solidFill>
                <a:latin typeface="Garamond"/>
              </a:rPr>
              <a:t>атомные ядра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с одинаковыми зарядами, но с различными массовыми числами.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Содд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предложил назвать такие ядра </a:t>
            </a:r>
            <a:r>
              <a:rPr b="1" lang="ru-RU" sz="3200" spc="-1" strike="noStrike">
                <a:solidFill>
                  <a:srgbClr val="ff3399"/>
                </a:solidFill>
                <a:latin typeface="Garamond"/>
              </a:rPr>
              <a:t>изотопам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Свойства изотоп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) Одинаковые химические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) Разные физические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) Имеются у всех химических элемен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) Получают в атомных реакторах и на ускорител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99"/>
                </a:solidFill>
                <a:latin typeface="Garamond"/>
              </a:rPr>
              <a:t>Применение радиоактивных изотоп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) исследование обмена веществ, кровообращ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) лечение базетовой болезни, раковых заболева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3:25:17Z</dcterms:created>
  <dc:creator>Admin</dc:creator>
  <dc:description/>
  <dc:language>en-US</dc:language>
  <cp:lastModifiedBy>Admin</cp:lastModifiedBy>
  <dcterms:modified xsi:type="dcterms:W3CDTF">2011-01-19T14:49:56Z</dcterms:modified>
  <cp:revision>15</cp:revision>
  <dc:subject/>
  <dc:title>ТЕМА: Открытие нейтрона. Состав атомного ядра. Массовое число.  Изотопы.</dc:title>
</cp:coreProperties>
</file>