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FE3-E5A0-40D7-A12B-B9804A11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45E-FA5E-4475-9F84-E408216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AEB-8916-41C1-881C-0C8E645C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558-57EC-4C8B-9A1E-15479FDB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C85F-C0EA-484D-87C3-B0883622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EF49-E587-4FB8-B31B-B7105A8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1317-9C25-4EFE-9D80-17F1C43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8C9B-CD61-40AB-BF47-69C2385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78D9-2DAF-4D9D-B4F9-A8658C8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81D5-07DF-4CC6-AACF-BAE9DBDC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519-8C28-4635-9A10-A1FE67E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80B-10A9-4D05-8206-BF990C9C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EFC-98C4-4E3F-8C48-4B3F5D9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4C3-BD34-413D-BD2B-39E026F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9259-89E9-43CE-8D90-5407729C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E04E-406B-4317-819C-A9009DF6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F604-2DD5-4A25-BB07-E5848DC6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519-8FD3-404E-8B43-8EEA4DEE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BB8-D4C5-4F41-924A-8ADEABC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A7A-5F0B-4DE9-8EF1-F9959D6F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562-BE3F-42B7-9282-D5C2624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841-5564-4E31-BBAA-52B6D97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CC0-86D5-4BBF-92A9-0DEC8030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E16-EB0C-4FCE-9502-C0956A21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572-2768-41F4-9BCC-3591A08EEB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78A-10B1-49F5-842C-69F0F1CBCC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Garamond"/>
              </a:rPr>
              <a:t>ТЕМА: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Открытие нейтрона. Состав атомного ядра. Массовое число.  Изотопы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360" y="4508280"/>
            <a:ext cx="331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Урок для 9 класса подгото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Юрина Н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156680" indent="-70416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Times New Roman"/>
              </a:rPr>
              <a:t>РАБОТА В ГРУПП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упражнения 45(1) учебника и №.1178  по сборнику задач по физике 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упражнения 45(2) учебника и №.1179  по сборнику задач по физике 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упражнения 45(3) учебника и №.1180 по сборнику задач по физике 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 №.1173 и №1181 по сборнику задач по физик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5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 №.1172 и №1182 по сборнику задач по физик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ормирование понятий о массовом и зарядовом числах, об основных законах сохранения в ядерной физике; и рассмотреть открытие нейтрона, что такое изотоп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План уро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Проверка знаний и ум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Объясн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Закрепление. Работа в групп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Подведение итог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Объяснение нового материал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</a:rPr>
              <a:t>СОСТАВ АТОМНОГО ЯД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45600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40360" y="227664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дро атома состоит из нуклонов, которые подразделяются на протоны и нейт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655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Символическое обозначение ядра ато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08360" y="1341360"/>
            <a:ext cx="1297080" cy="136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71640" y="2924280"/>
            <a:ext cx="7632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сло нуклонов, т.е. протонов + нейтронов ( или атомная масса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сло протонов ( равно числу электронов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сло нейтронов ( или атомный номер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300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Искусственные превращения яд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1919 год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впервые осуществлена Резерфордом реакция превращения одного ядра в друго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Резерфорд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ысказал предположение, что должна существовать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частиц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массой, равной массе протона, но </a:t>
            </a: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не имеюща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электрического заряда. Однако, обнаружить такую частицу Резерфорду не удалось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1932г английский ученый Дж.Чедви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выдвинул гипотезу, согласно которой в  экспериментах вылетали не - кванты, а другие нейтральные частицы, близкие по размеру и массе к протонам. Эти частицы он назвал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нейтронами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55640" y="4149720"/>
                <a:ext cx="7488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Garamond"/>
              </a:rPr>
              <a:t>Свойства нейтро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стабильная част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ряд отсутству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асса приблизительно 1840 массы электр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 ионизирует возд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огучее средство для расщепления яд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Строение ядра ато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В 1932 г Иваненко и Гейзенбер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положили протонно - нейтронную модель ядра ато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сса ядра чуть меньше суммы масс протонов и нейтро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Изотоп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учение радиоактивности показало, что в природе встречаются </a:t>
            </a:r>
            <a:r>
              <a:rPr b="1" lang="ru-RU" sz="3200" spc="-1" strike="noStrike">
                <a:solidFill>
                  <a:srgbClr val="0033cc"/>
                </a:solidFill>
                <a:latin typeface="Garamond"/>
              </a:rPr>
              <a:t>атомные ядра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с одинаковыми зарядами, но с различными массовыми числами. </a:t>
            </a: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Содд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предложил назвать такие ядра </a:t>
            </a: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изотопам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Свойства изотоп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Одинаковые химические свой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Разные физические свой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Имеются у всех химических элемен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Получают в атомных реакторах и на ускорител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Применение радиоактивных изотоп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) исследование обмена веществ, кровообращ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) лечение базетовой болезни, раковых заболева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3:25:17Z</dcterms:created>
  <dc:creator>Admin</dc:creator>
  <dc:description/>
  <dc:language>en-US</dc:language>
  <cp:lastModifiedBy>Admin</cp:lastModifiedBy>
  <dcterms:modified xsi:type="dcterms:W3CDTF">2011-01-19T14:49:56Z</dcterms:modified>
  <cp:revision>15</cp:revision>
  <dc:subject/>
  <dc:title>ТЕМА: Открытие нейтрона. Состав атомного ядра. Массовое число.  Изотопы.</dc:title>
</cp:coreProperties>
</file>