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870A-D12D-4275-AD18-EAE51346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5D7-D5B8-43E1-BC6B-2DD556A5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BB6-348E-401F-B8DD-D2138281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E0E-2C48-4890-99F8-FD3560D6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8690-5450-435A-8114-A3C68104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FD0F-46E3-4CD5-9CDE-8ABD86E9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F05D-F119-4AAF-BF4E-A0E0C515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E75E-859E-4BCF-B4AE-F2200458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B0CB-4444-43B5-8CF9-8D9E884B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9E24-A0C8-4AA3-B709-9BA8222A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9D0D-1D01-49BE-BEB3-0509A339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CBD0-E4E8-41D8-86E4-97B70803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4E45-DEE6-4E3B-8FAB-5D9EDCA2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1983-0CA1-4ADA-BA82-547DAA50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6AB2-ED7E-4992-8E1D-4BDFD09E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D772-D98B-4251-B224-74E1C888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4A5D-6690-48CF-B663-36688862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A97DF-FE03-4AAA-A311-EB65FB43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DAD0C-95D3-4BEB-8CD3-B25FAEAC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B76F4-CC12-4F78-9D94-EF6319BB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24D5D-DBC4-443C-BA11-C9965980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84BC9-CD44-409A-9754-013E2351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C29-D5A5-4A54-BAC9-48AE40F8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86603-AA6D-4D84-9F87-CE0AC508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B66F5-76C7-4C98-BDB0-CEEB2048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2C3A3-3E86-4B30-80FF-29EA940E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A1C9F-F166-4C16-B61C-A48CE6FE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0D47E-5683-47EF-914D-67715890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3CAB3-1313-42F4-8A98-F72A8E7C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8DCD0-4077-403B-ACDD-814F057E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6A5B3-223D-4F50-B270-01173775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C11ED-2C90-45A6-B447-006F05A4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EF377-1173-406D-B918-CB012CA1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B66-DC8B-44E0-BB64-179F9B46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91AC6-CFD2-4CF8-A32C-C85CD043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7D428-5BEE-46A9-AA72-0776812B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5294D-BC67-43EF-B027-FE8BD50D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84D4C-FBDA-4D42-8F8B-EDDCA85D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2F8D7-06F5-4C48-B06F-5C2F1BEF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02933-F53F-4891-AFB0-183C3F56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A15D4-5809-48EE-9030-8AAD8403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10D05-C5E2-4DE6-A37C-AEEFE74B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FA665-74C9-4777-AEEA-14ABA16E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7AF93-AE9A-426A-9929-C60475C2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5CA0-FBC4-4737-8DC1-DB59E2F0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07CF3-CC76-4005-A902-D52F2ABB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A7239-59A0-4C24-8F05-067B2B46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D5006-B641-476A-A23A-0AE33A93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04B71-035A-493F-A56F-F815BA7D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1067E-B0A8-46BB-9F7D-28B0A926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00734-3D08-4CE7-8076-C5033405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EF9AC-657D-406B-A3F8-92E7DAE7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0B63B-C546-4F0D-B3F1-4EF77ED9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ACF8B-651A-4515-BD40-B8CA9896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6D026-0A5E-4D22-B900-91E96010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7BE-6CE0-4E0D-A53A-222B44A0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64044-973F-45A7-B3AD-38DCEEE8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F8672-A5CB-46CC-AB78-A49F7C9C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C9A26-3FCF-43B8-8396-B62EECB9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8E8A4-C331-4B5B-8459-85DDEBBD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ADD22-3086-4D1A-9D4A-F2A98E54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B7617-E77F-4A68-AB89-5F7A22C2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E7C46-155C-4555-92D4-780C87A3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888C5-A4DE-4B9F-A817-0B5EB32F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5529A-1428-4AD0-AC54-85D8D413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DEE49-984C-4ACD-933E-FFE228D1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04E-8584-4318-95CD-C7D1A65B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CD8F2-EBCE-4566-AC95-22E92FD2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0D8E5-9B9F-4BB0-9F8B-8DDE2157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40138-6EDE-4ABD-8A37-9FA0863B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1F42-442E-4A9C-8262-EB210EFB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20B5-627F-47B7-9376-DAD4D3C2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2891-D082-49AB-9989-E7492F0B173F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B07C-B878-4E74-BABE-8E5CA6148CD1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13C0-B866-4E4D-B872-2A4AF55D96B4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5069-A383-4D79-95E0-C8CED201E93D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6FB5-B369-4ED5-AD0E-EF016A97702F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2C6C-6C07-49C0-991E-BF9A03F1F36B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3;&#1086;&#1074;&#1086;&#1083;&#1086;&#1084;&#1082;&#1072;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333cc"/>
                </a:solidFill>
                <a:latin typeface="Franklin Gothic Book"/>
              </a:rPr>
              <a:t>               </a:t>
            </a:r>
            <a:r>
              <a:rPr b="0" lang="ru-RU" sz="4600" spc="-1" strike="noStrike">
                <a:solidFill>
                  <a:srgbClr val="3333cc"/>
                </a:solidFill>
                <a:latin typeface="Arial"/>
              </a:rPr>
              <a:t>Мотивация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50560" y="1197000"/>
            <a:ext cx="8435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это зна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для меня ново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не бы хотелось узнать о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м больш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6"/>
          <p:cNvSpPr/>
          <p:nvPr/>
        </p:nvSpPr>
        <p:spPr>
          <a:xfrm>
            <a:off x="855720" y="1341360"/>
            <a:ext cx="1622520" cy="1533600"/>
          </a:xfrm>
          <a:prstGeom prst="rect">
            <a:avLst/>
          </a:prstGeom>
          <a:solidFill>
            <a:srgbClr val="0066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7"/>
          <p:cNvSpPr/>
          <p:nvPr/>
        </p:nvSpPr>
        <p:spPr>
          <a:xfrm>
            <a:off x="855720" y="3068640"/>
            <a:ext cx="1622520" cy="1535040"/>
          </a:xfrm>
          <a:prstGeom prst="rect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9"/>
          <p:cNvSpPr/>
          <p:nvPr/>
        </p:nvSpPr>
        <p:spPr>
          <a:xfrm>
            <a:off x="855720" y="4797360"/>
            <a:ext cx="1622520" cy="153360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омер слайда 8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6D2A-0B73-4D5E-BA87-8298F48152BE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Объект 7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2666880" cy="266544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8" descr=""/>
          <p:cNvPicPr/>
          <p:nvPr/>
        </p:nvPicPr>
        <p:blipFill>
          <a:blip r:embed="rId2"/>
          <a:srcRect l="0" t="0" r="37104" b="0"/>
          <a:stretch/>
        </p:blipFill>
        <p:spPr>
          <a:xfrm>
            <a:off x="826920" y="1773360"/>
            <a:ext cx="2965680" cy="2943000"/>
          </a:xfrm>
          <a:prstGeom prst="rect">
            <a:avLst/>
          </a:prstGeom>
          <a:ln w="0">
            <a:noFill/>
          </a:ln>
        </p:spPr>
      </p:pic>
      <p:sp>
        <p:nvSpPr>
          <p:cNvPr id="314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F260-DF56-4450-B977-834168BCB8AF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00"/>
                </a:solidFill>
                <a:latin typeface="Franklin Gothic Book"/>
              </a:rPr>
              <a:t>                           </a:t>
            </a:r>
            <a:r>
              <a:rPr b="0" lang="ru-RU" sz="4600" spc="-1" strike="noStrike">
                <a:solidFill>
                  <a:srgbClr val="ff3300"/>
                </a:solidFill>
                <a:latin typeface="Franklin Gothic Book"/>
              </a:rPr>
              <a:t>Лиса.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6" name="Picture 7" descr=""/>
          <p:cNvPicPr/>
          <p:nvPr/>
        </p:nvPicPr>
        <p:blipFill>
          <a:blip r:embed="rId1"/>
          <a:stretch/>
        </p:blipFill>
        <p:spPr>
          <a:xfrm>
            <a:off x="755640" y="1501920"/>
            <a:ext cx="8232840" cy="4303440"/>
          </a:xfrm>
          <a:prstGeom prst="rect">
            <a:avLst/>
          </a:prstGeom>
          <a:ln w="0">
            <a:noFill/>
          </a:ln>
        </p:spPr>
      </p:pic>
      <p:sp>
        <p:nvSpPr>
          <p:cNvPr id="317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A9A3-CB6E-4739-8D23-9F45E6201657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cc"/>
                </a:solidFill>
                <a:latin typeface="Franklin Gothic Book"/>
              </a:rPr>
              <a:t>Склады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cc"/>
                </a:solidFill>
                <a:latin typeface="Franklin Gothic Book"/>
              </a:rPr>
              <a:t> </a:t>
            </a:r>
            <a:r>
              <a:rPr b="0" lang="ru-RU" sz="3000" spc="-1" strike="noStrike">
                <a:solidFill>
                  <a:srgbClr val="3333cc"/>
                </a:solidFill>
                <a:latin typeface="Franklin Gothic Book"/>
              </a:rPr>
              <a:t>фигу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cc"/>
                </a:solidFill>
                <a:latin typeface="Franklin Gothic Book"/>
              </a:rPr>
              <a:t> </a:t>
            </a:r>
            <a:r>
              <a:rPr b="0" lang="ru-RU" sz="3000" spc="-1" strike="noStrike">
                <a:solidFill>
                  <a:srgbClr val="3333cc"/>
                </a:solidFill>
                <a:latin typeface="Franklin Gothic Book"/>
              </a:rPr>
              <a:t>по образцу-контур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Рисунок 1" descr=""/>
          <p:cNvPicPr/>
          <p:nvPr/>
        </p:nvPicPr>
        <p:blipFill>
          <a:blip r:embed="rId1"/>
          <a:stretch/>
        </p:blipFill>
        <p:spPr>
          <a:xfrm>
            <a:off x="4649760" y="692280"/>
            <a:ext cx="4248000" cy="5329080"/>
          </a:xfrm>
          <a:prstGeom prst="rect">
            <a:avLst/>
          </a:prstGeom>
          <a:ln w="0">
            <a:noFill/>
          </a:ln>
        </p:spPr>
      </p:pic>
      <p:sp>
        <p:nvSpPr>
          <p:cNvPr id="320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1B0A-32C1-4A81-8686-A99F92F44F8D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0066"/>
                </a:solidFill>
                <a:latin typeface="Franklin Gothic Book"/>
              </a:rPr>
              <a:t>       </a:t>
            </a:r>
            <a:r>
              <a:rPr b="0" lang="ru-RU" sz="4100" spc="-1" strike="noStrike">
                <a:solidFill>
                  <a:srgbClr val="ff3399"/>
                </a:solidFill>
                <a:latin typeface="Arial"/>
              </a:rPr>
              <a:t>Сказка про «Танграм».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Прямоугольник 1"/>
          <p:cNvSpPr/>
          <p:nvPr/>
        </p:nvSpPr>
        <p:spPr>
          <a:xfrm>
            <a:off x="826920" y="750960"/>
            <a:ext cx="6913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некотором царстве, в математическом государстве жил – был  Квадратик. Было ему очень скучно, ведь никто с ним не играл. Тогда Квадратик решил позабавиться: начал он бегать, прыгать и упал. Раскололся он на 7 частей. Подошёл к квадрату маленький мальчик и решил собрать его из частей, но 1 детальку  он положил неправильно и вместо квадрата у мальчика получился  кораблик.               « А квадратик – то стал волшебным» -  воскликнул  мальчик. Ведь из него можно собирать множество фигурок . С тех пор с Квадратиком стали играть много детей и имя ему дали «Танграм». Квадратик обрадовался, что у него появилось много друзей, ведь с друзьями жить вес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9225-5780-463B-8AEB-51EFA8033CF7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3300"/>
              </a:solidFill>
              <a:latin typeface="Franklin Gothic Book"/>
            </a:endParaRPr>
          </a:p>
        </p:txBody>
      </p:sp>
      <p:pic>
        <p:nvPicPr>
          <p:cNvPr id="325" name="Объект 5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3676680" cy="528624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6" descr=""/>
          <p:cNvPicPr/>
          <p:nvPr/>
        </p:nvPicPr>
        <p:blipFill>
          <a:blip r:embed="rId2"/>
          <a:stretch/>
        </p:blipFill>
        <p:spPr>
          <a:xfrm>
            <a:off x="4067280" y="942840"/>
            <a:ext cx="3889440" cy="5185080"/>
          </a:xfrm>
          <a:prstGeom prst="rect">
            <a:avLst/>
          </a:prstGeom>
          <a:ln w="0">
            <a:noFill/>
          </a:ln>
        </p:spPr>
      </p:pic>
      <p:sp>
        <p:nvSpPr>
          <p:cNvPr id="327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F743-EEF1-48A2-9C0C-356A94C7B853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казка про « Танграм»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Прямоугольник 1"/>
          <p:cNvSpPr/>
          <p:nvPr/>
        </p:nvSpPr>
        <p:spPr>
          <a:xfrm>
            <a:off x="971640" y="1203480"/>
            <a:ext cx="7489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еми горами, за семи холмами в королевстве математики  жили не тужили мудрые человечки. Они были весёлыми , добрыми и дружили со сказочными животными и пти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лижался праздник – день рожденье принцессы  Математики. Дворец был украшен цветными геометрическими фигурами и цифрами. Были приглашены на праздник  все жители математического королевства, животные и птицы близлежащих  лесов. И вот ,когда гости стали праздновать, над дворцом пролетел злой  колдун. « О» - воскликнул он . « А про меня то забыли». И тут он взмахнул своей волшебной палочкой и превратил всех в квадраты: и принцессу Математики, и мудрых человечков, и птиц, и зверей. Даже дворец и ёлки, росшие рядом, стали  квадратными. А расколдовать их могут только добрые и сообразительные д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ята, давайте мы с вами  снимем заклятие злого колдуна со сказочного Математического королев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7FB5-4688-43A8-B843-67AE960CD205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00"/>
                </a:solidFill>
                <a:latin typeface="Franklin Gothic Book"/>
              </a:rPr>
              <a:t>    </a:t>
            </a: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Математическое королевство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32" name="Рисунок 1" descr=""/>
          <p:cNvPicPr/>
          <p:nvPr/>
        </p:nvPicPr>
        <p:blipFill>
          <a:blip r:embed="rId1"/>
          <a:srcRect l="6003" t="0" r="3762" b="7842"/>
          <a:stretch/>
        </p:blipFill>
        <p:spPr>
          <a:xfrm>
            <a:off x="468360" y="2349360"/>
            <a:ext cx="4602240" cy="31687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2" descr=""/>
          <p:cNvPicPr/>
          <p:nvPr/>
        </p:nvPicPr>
        <p:blipFill>
          <a:blip r:embed="rId2"/>
          <a:srcRect l="7248" t="21081" r="21142" b="5612"/>
          <a:stretch/>
        </p:blipFill>
        <p:spPr>
          <a:xfrm>
            <a:off x="5219640" y="2349360"/>
            <a:ext cx="3367080" cy="3168720"/>
          </a:xfrm>
          <a:prstGeom prst="rect">
            <a:avLst/>
          </a:prstGeom>
          <a:ln w="0">
            <a:noFill/>
          </a:ln>
        </p:spPr>
      </p:pic>
      <p:sp>
        <p:nvSpPr>
          <p:cNvPr id="334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E502-DCAD-4178-A8B4-2DDAAE95A1E8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"/>
          <p:cNvGrpSpPr/>
          <p:nvPr/>
        </p:nvGrpSpPr>
        <p:grpSpPr>
          <a:xfrm>
            <a:off x="4837680" y="238680"/>
            <a:ext cx="3893400" cy="2898720"/>
            <a:chOff x="4837680" y="238680"/>
            <a:chExt cx="3893400" cy="2898720"/>
          </a:xfrm>
        </p:grpSpPr>
        <p:sp>
          <p:nvSpPr>
            <p:cNvPr id="336" name="Freeform 5"/>
            <p:cNvSpPr/>
            <p:nvPr/>
          </p:nvSpPr>
          <p:spPr>
            <a:xfrm rot="21447600">
              <a:off x="4859280" y="259920"/>
              <a:ext cx="1002600" cy="100188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6"/>
            <p:cNvSpPr/>
            <p:nvPr/>
          </p:nvSpPr>
          <p:spPr>
            <a:xfrm rot="16039200">
              <a:off x="4633200" y="1017720"/>
              <a:ext cx="1000080" cy="50688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7"/>
            <p:cNvSpPr/>
            <p:nvPr/>
          </p:nvSpPr>
          <p:spPr>
            <a:xfrm rot="10673400">
              <a:off x="5399280" y="1735200"/>
              <a:ext cx="1000440" cy="5065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8"/>
            <p:cNvSpPr/>
            <p:nvPr/>
          </p:nvSpPr>
          <p:spPr>
            <a:xfrm rot="2655600">
              <a:off x="6097680" y="1223640"/>
              <a:ext cx="1004400" cy="100368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9"/>
            <p:cNvSpPr/>
            <p:nvPr/>
          </p:nvSpPr>
          <p:spPr>
            <a:xfrm flipH="1" rot="16080600">
              <a:off x="4882680" y="1245960"/>
              <a:ext cx="1502280" cy="50148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0"/>
            <p:cNvGrpSpPr/>
            <p:nvPr/>
          </p:nvGrpSpPr>
          <p:grpSpPr>
            <a:xfrm>
              <a:off x="5886720" y="992160"/>
              <a:ext cx="2844360" cy="2145240"/>
              <a:chOff x="5886720" y="992160"/>
              <a:chExt cx="2844360" cy="2145240"/>
            </a:xfrm>
          </p:grpSpPr>
          <p:sp>
            <p:nvSpPr>
              <p:cNvPr id="342" name="Freeform 11"/>
              <p:cNvSpPr/>
              <p:nvPr/>
            </p:nvSpPr>
            <p:spPr>
              <a:xfrm rot="8050200">
                <a:off x="6453720" y="1070280"/>
                <a:ext cx="1011960" cy="2008440"/>
              </a:xfrm>
              <a:prstGeom prst="pi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2"/>
              <p:cNvSpPr/>
              <p:nvPr/>
            </p:nvSpPr>
            <p:spPr>
              <a:xfrm rot="2650200">
                <a:off x="7162200" y="1061280"/>
                <a:ext cx="1012680" cy="2007000"/>
              </a:xfrm>
              <a:prstGeom prst="pi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3"/>
          <p:cNvGrpSpPr/>
          <p:nvPr/>
        </p:nvGrpSpPr>
        <p:grpSpPr>
          <a:xfrm>
            <a:off x="-2520" y="4115880"/>
            <a:ext cx="5393880" cy="2543040"/>
            <a:chOff x="-2520" y="4115880"/>
            <a:chExt cx="5393880" cy="2543040"/>
          </a:xfrm>
        </p:grpSpPr>
        <p:sp>
          <p:nvSpPr>
            <p:cNvPr id="345" name="Freeform 14"/>
            <p:cNvSpPr/>
            <p:nvPr/>
          </p:nvSpPr>
          <p:spPr>
            <a:xfrm rot="19422600">
              <a:off x="0" y="5643360"/>
              <a:ext cx="1486800" cy="495720"/>
            </a:xfrm>
            <a:prstGeom prst="pie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15"/>
            <p:cNvGrpSpPr/>
            <p:nvPr/>
          </p:nvGrpSpPr>
          <p:grpSpPr>
            <a:xfrm>
              <a:off x="495360" y="4115880"/>
              <a:ext cx="4896000" cy="2543040"/>
              <a:chOff x="495360" y="4115880"/>
              <a:chExt cx="4896000" cy="2543040"/>
            </a:xfrm>
          </p:grpSpPr>
          <p:sp>
            <p:nvSpPr>
              <p:cNvPr id="347" name="Freeform 16"/>
              <p:cNvSpPr/>
              <p:nvPr/>
            </p:nvSpPr>
            <p:spPr>
              <a:xfrm rot="2733600">
                <a:off x="3310920" y="4398480"/>
                <a:ext cx="989640" cy="501120"/>
              </a:xfrm>
              <a:prstGeom prst="pie">
                <a:avLst/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Group 17"/>
              <p:cNvGrpSpPr/>
              <p:nvPr/>
            </p:nvGrpSpPr>
            <p:grpSpPr>
              <a:xfrm>
                <a:off x="495360" y="4470840"/>
                <a:ext cx="4552200" cy="2188080"/>
                <a:chOff x="495360" y="4470840"/>
                <a:chExt cx="4552200" cy="2188080"/>
              </a:xfrm>
            </p:grpSpPr>
            <p:sp>
              <p:nvSpPr>
                <p:cNvPr id="349" name="Freeform 18"/>
                <p:cNvSpPr/>
                <p:nvPr/>
              </p:nvSpPr>
              <p:spPr>
                <a:xfrm rot="2675400">
                  <a:off x="2107080" y="5444640"/>
                  <a:ext cx="993240" cy="993240"/>
                </a:xfrm>
                <a:prstGeom prst="pie">
                  <a:avLst/>
                </a:prstGeom>
                <a:solidFill>
                  <a:srgbClr val="3399ff"/>
                </a:solidFill>
                <a:ln w="936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19"/>
                <p:cNvSpPr/>
                <p:nvPr/>
              </p:nvSpPr>
              <p:spPr>
                <a:xfrm rot="2688000">
                  <a:off x="3850920" y="4676040"/>
                  <a:ext cx="991440" cy="991440"/>
                </a:xfrm>
                <a:prstGeom prst="pie">
                  <a:avLst/>
                </a:prstGeom>
                <a:solidFill>
                  <a:srgbClr val="3399ff"/>
                </a:solidFill>
                <a:ln w="936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20"/>
                <p:cNvSpPr/>
                <p:nvPr/>
              </p:nvSpPr>
              <p:spPr>
                <a:xfrm flipH="1" rot="13469400">
                  <a:off x="1046880" y="4606200"/>
                  <a:ext cx="1001880" cy="1986120"/>
                </a:xfrm>
                <a:prstGeom prst="pie">
                  <a:avLst/>
                </a:prstGeom>
                <a:solidFill>
                  <a:srgbClr val="3399ff"/>
                </a:solidFill>
                <a:ln w="936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21"/>
                <p:cNvSpPr/>
                <p:nvPr/>
              </p:nvSpPr>
              <p:spPr>
                <a:xfrm rot="8050800">
                  <a:off x="3151800" y="4582080"/>
                  <a:ext cx="1001520" cy="1986480"/>
                </a:xfrm>
                <a:prstGeom prst="pie">
                  <a:avLst/>
                </a:prstGeom>
                <a:solidFill>
                  <a:srgbClr val="3399ff"/>
                </a:solidFill>
                <a:ln w="936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Freeform 22"/>
              <p:cNvSpPr/>
              <p:nvPr/>
            </p:nvSpPr>
            <p:spPr>
              <a:xfrm flipH="1" rot="18866400">
                <a:off x="4370400" y="4393800"/>
                <a:ext cx="989640" cy="501120"/>
              </a:xfrm>
              <a:prstGeom prst="pie">
                <a:avLst/>
              </a:prstGeom>
              <a:solidFill>
                <a:srgbClr val="3399ff"/>
              </a:solidFill>
              <a:ln w="93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" name="Group 23"/>
          <p:cNvGrpSpPr/>
          <p:nvPr/>
        </p:nvGrpSpPr>
        <p:grpSpPr>
          <a:xfrm>
            <a:off x="6587640" y="3500280"/>
            <a:ext cx="2370240" cy="3097440"/>
            <a:chOff x="6587640" y="3500280"/>
            <a:chExt cx="2370240" cy="3097440"/>
          </a:xfrm>
        </p:grpSpPr>
        <p:sp>
          <p:nvSpPr>
            <p:cNvPr id="355" name="Freeform 24"/>
            <p:cNvSpPr/>
            <p:nvPr/>
          </p:nvSpPr>
          <p:spPr>
            <a:xfrm flipH="1" rot="2706600">
              <a:off x="7454160" y="5234760"/>
              <a:ext cx="1184040" cy="394920"/>
            </a:xfrm>
            <a:prstGeom prst="pie">
              <a:avLst/>
            </a:prstGeom>
            <a:solidFill>
              <a:srgbClr val="ed13ce"/>
            </a:solidFill>
            <a:ln w="9360">
              <a:solidFill>
                <a:srgbClr val="ed13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Group 25"/>
            <p:cNvGrpSpPr/>
            <p:nvPr/>
          </p:nvGrpSpPr>
          <p:grpSpPr>
            <a:xfrm>
              <a:off x="6587640" y="3500280"/>
              <a:ext cx="2370240" cy="3097440"/>
              <a:chOff x="6587640" y="3500280"/>
              <a:chExt cx="2370240" cy="3097440"/>
            </a:xfrm>
          </p:grpSpPr>
          <p:sp>
            <p:nvSpPr>
              <p:cNvPr id="357" name="Freeform 26"/>
              <p:cNvSpPr/>
              <p:nvPr/>
            </p:nvSpPr>
            <p:spPr>
              <a:xfrm rot="5400000">
                <a:off x="6393240" y="4478760"/>
                <a:ext cx="788040" cy="399240"/>
              </a:xfrm>
              <a:prstGeom prst="pie">
                <a:avLst/>
              </a:prstGeom>
              <a:solidFill>
                <a:srgbClr val="ed13ce"/>
              </a:solidFill>
              <a:ln w="9360">
                <a:solidFill>
                  <a:srgbClr val="ed13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7"/>
              <p:cNvSpPr/>
              <p:nvPr/>
            </p:nvSpPr>
            <p:spPr>
              <a:xfrm rot="18874800">
                <a:off x="7370640" y="4453560"/>
                <a:ext cx="790920" cy="791280"/>
              </a:xfrm>
              <a:prstGeom prst="pie">
                <a:avLst/>
              </a:prstGeom>
              <a:solidFill>
                <a:srgbClr val="ed13ce"/>
              </a:solidFill>
              <a:ln w="9360">
                <a:solidFill>
                  <a:srgbClr val="ed13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" name="Group 28"/>
              <p:cNvGrpSpPr/>
              <p:nvPr/>
            </p:nvGrpSpPr>
            <p:grpSpPr>
              <a:xfrm>
                <a:off x="7372080" y="5012640"/>
                <a:ext cx="1585800" cy="1585080"/>
                <a:chOff x="7372080" y="5012640"/>
                <a:chExt cx="1585800" cy="1585080"/>
              </a:xfrm>
            </p:grpSpPr>
            <p:sp>
              <p:nvSpPr>
                <p:cNvPr id="360" name="Freeform 29"/>
                <p:cNvSpPr/>
                <p:nvPr/>
              </p:nvSpPr>
              <p:spPr>
                <a:xfrm flipH="1" rot="16200000">
                  <a:off x="7767720" y="5407560"/>
                  <a:ext cx="797760" cy="1582560"/>
                </a:xfrm>
                <a:prstGeom prst="pie">
                  <a:avLst/>
                </a:prstGeom>
                <a:solidFill>
                  <a:srgbClr val="ed13ce"/>
                </a:solidFill>
                <a:ln w="9360">
                  <a:solidFill>
                    <a:srgbClr val="ed13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30"/>
                <p:cNvSpPr/>
                <p:nvPr/>
              </p:nvSpPr>
              <p:spPr>
                <a:xfrm flipH="1">
                  <a:off x="7371720" y="5012640"/>
                  <a:ext cx="798120" cy="1581840"/>
                </a:xfrm>
                <a:prstGeom prst="pie">
                  <a:avLst/>
                </a:prstGeom>
                <a:solidFill>
                  <a:srgbClr val="ed13ce"/>
                </a:solidFill>
                <a:ln w="9360">
                  <a:solidFill>
                    <a:srgbClr val="ed13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Freeform 31"/>
              <p:cNvSpPr/>
              <p:nvPr/>
            </p:nvSpPr>
            <p:spPr>
              <a:xfrm>
                <a:off x="7184160" y="3500280"/>
                <a:ext cx="789840" cy="789480"/>
              </a:xfrm>
              <a:prstGeom prst="pie">
                <a:avLst/>
              </a:prstGeom>
              <a:solidFill>
                <a:srgbClr val="ed13ce"/>
              </a:solidFill>
              <a:ln w="9360">
                <a:solidFill>
                  <a:srgbClr val="ed13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32"/>
              <p:cNvSpPr/>
              <p:nvPr/>
            </p:nvSpPr>
            <p:spPr>
              <a:xfrm>
                <a:off x="6976080" y="4288320"/>
                <a:ext cx="788400" cy="399240"/>
              </a:xfrm>
              <a:prstGeom prst="pie">
                <a:avLst/>
              </a:prstGeom>
              <a:solidFill>
                <a:srgbClr val="ed13ce"/>
              </a:solidFill>
              <a:ln w="9360">
                <a:solidFill>
                  <a:srgbClr val="ed13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4" name="Group 33"/>
          <p:cNvGrpSpPr/>
          <p:nvPr/>
        </p:nvGrpSpPr>
        <p:grpSpPr>
          <a:xfrm>
            <a:off x="395280" y="85680"/>
            <a:ext cx="1511280" cy="3746520"/>
            <a:chOff x="395280" y="85680"/>
            <a:chExt cx="1511280" cy="3746520"/>
          </a:xfrm>
        </p:grpSpPr>
        <p:sp>
          <p:nvSpPr>
            <p:cNvPr id="365" name="Freeform 34"/>
            <p:cNvSpPr/>
            <p:nvPr/>
          </p:nvSpPr>
          <p:spPr>
            <a:xfrm rot="17196000">
              <a:off x="579960" y="492480"/>
              <a:ext cx="1130400" cy="377280"/>
            </a:xfrm>
            <a:prstGeom prst="pie">
              <a:avLst/>
            </a:pr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 rot="5400000">
              <a:off x="770040" y="2695680"/>
              <a:ext cx="761760" cy="1511280"/>
            </a:xfrm>
            <a:prstGeom prst="pie">
              <a:avLst/>
            </a:pr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777600" y="1951560"/>
              <a:ext cx="761760" cy="1509840"/>
            </a:xfrm>
            <a:prstGeom prst="pie">
              <a:avLst/>
            </a:pr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 rot="2745000">
              <a:off x="795600" y="1155960"/>
              <a:ext cx="753840" cy="754200"/>
            </a:xfrm>
            <a:prstGeom prst="pie">
              <a:avLst/>
            </a:pr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 flipV="1" rot="18915000">
              <a:off x="781200" y="1424160"/>
              <a:ext cx="755640" cy="755280"/>
            </a:xfrm>
            <a:prstGeom prst="pie">
              <a:avLst/>
            </a:pr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9"/>
            <p:cNvSpPr/>
            <p:nvPr/>
          </p:nvSpPr>
          <p:spPr>
            <a:xfrm flipH="1" rot="16199400">
              <a:off x="590400" y="2142000"/>
              <a:ext cx="752040" cy="381240"/>
            </a:xfrm>
            <a:prstGeom prst="pie">
              <a:avLst/>
            </a:pr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0"/>
            <p:cNvSpPr/>
            <p:nvPr/>
          </p:nvSpPr>
          <p:spPr>
            <a:xfrm flipH="1" flipV="1" rot="5400000">
              <a:off x="591120" y="2888640"/>
              <a:ext cx="752040" cy="381240"/>
            </a:xfrm>
            <a:prstGeom prst="pie">
              <a:avLst/>
            </a:prstGeom>
            <a:solidFill>
              <a:srgbClr val="fcfc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41"/>
          <p:cNvSpPr/>
          <p:nvPr/>
        </p:nvSpPr>
        <p:spPr>
          <a:xfrm>
            <a:off x="7164000" y="69228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2"/>
          <p:cNvSpPr/>
          <p:nvPr/>
        </p:nvSpPr>
        <p:spPr>
          <a:xfrm>
            <a:off x="1161720" y="4508640"/>
            <a:ext cx="205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Соба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3"/>
          <p:cNvSpPr/>
          <p:nvPr/>
        </p:nvSpPr>
        <p:spPr>
          <a:xfrm>
            <a:off x="4524840" y="5459400"/>
            <a:ext cx="28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Принцес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матема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4"/>
          <p:cNvSpPr/>
          <p:nvPr/>
        </p:nvSpPr>
        <p:spPr>
          <a:xfrm>
            <a:off x="1250280" y="1916280"/>
            <a:ext cx="330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Свеча горе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на ст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Номер слайда 4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7A38-E6B1-4036-B2E0-9752D91791E5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F:\Танграм\IMG_7015.JPG"/>
          <p:cNvPicPr/>
          <p:nvPr/>
        </p:nvPicPr>
        <p:blipFill>
          <a:blip r:embed="rId1"/>
          <a:stretch/>
        </p:blipFill>
        <p:spPr>
          <a:xfrm>
            <a:off x="900000" y="692280"/>
            <a:ext cx="7782120" cy="5189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8497800" cy="5883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"/>
          <p:cNvPicPr/>
          <p:nvPr/>
        </p:nvPicPr>
        <p:blipFill>
          <a:blip r:embed="rId3"/>
          <a:stretch/>
        </p:blipFill>
        <p:spPr>
          <a:xfrm>
            <a:off x="317520" y="476280"/>
            <a:ext cx="8629560" cy="5761080"/>
          </a:xfrm>
          <a:prstGeom prst="rect">
            <a:avLst/>
          </a:prstGeom>
          <a:ln w="0">
            <a:noFill/>
          </a:ln>
        </p:spPr>
      </p:pic>
      <p:sp>
        <p:nvSpPr>
          <p:cNvPr id="380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9F83-C39C-448B-AC70-7E527C7CD896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6"/>
          <p:cNvGrpSpPr/>
          <p:nvPr/>
        </p:nvGrpSpPr>
        <p:grpSpPr>
          <a:xfrm>
            <a:off x="2143080" y="1143000"/>
            <a:ext cx="4429080" cy="3929040"/>
            <a:chOff x="2143080" y="1143000"/>
            <a:chExt cx="4429080" cy="3929040"/>
          </a:xfrm>
        </p:grpSpPr>
        <p:grpSp>
          <p:nvGrpSpPr>
            <p:cNvPr id="382" name="Group 7"/>
            <p:cNvGrpSpPr/>
            <p:nvPr/>
          </p:nvGrpSpPr>
          <p:grpSpPr>
            <a:xfrm>
              <a:off x="2143080" y="1143000"/>
              <a:ext cx="4429080" cy="3929040"/>
              <a:chOff x="2143080" y="1143000"/>
              <a:chExt cx="4429080" cy="3929040"/>
            </a:xfrm>
          </p:grpSpPr>
          <p:grpSp>
            <p:nvGrpSpPr>
              <p:cNvPr id="383" name="Group 8"/>
              <p:cNvGrpSpPr/>
              <p:nvPr/>
            </p:nvGrpSpPr>
            <p:grpSpPr>
              <a:xfrm>
                <a:off x="2143080" y="1143000"/>
                <a:ext cx="4429080" cy="3929040"/>
                <a:chOff x="2143080" y="1143000"/>
                <a:chExt cx="4429080" cy="3929040"/>
              </a:xfrm>
            </p:grpSpPr>
            <p:grpSp>
              <p:nvGrpSpPr>
                <p:cNvPr id="384" name="Group 9"/>
                <p:cNvGrpSpPr/>
                <p:nvPr/>
              </p:nvGrpSpPr>
              <p:grpSpPr>
                <a:xfrm>
                  <a:off x="2143080" y="1143000"/>
                  <a:ext cx="4423680" cy="1958040"/>
                  <a:chOff x="2143080" y="1143000"/>
                  <a:chExt cx="4423680" cy="1958040"/>
                </a:xfrm>
              </p:grpSpPr>
              <p:sp>
                <p:nvSpPr>
                  <p:cNvPr id="385" name="Freeform 10"/>
                  <p:cNvSpPr/>
                  <p:nvPr/>
                </p:nvSpPr>
                <p:spPr>
                  <a:xfrm>
                    <a:off x="2143080" y="1143000"/>
                    <a:ext cx="2207160" cy="1958040"/>
                  </a:xfrm>
                  <a:prstGeom prst="pi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Freeform 11"/>
                  <p:cNvSpPr/>
                  <p:nvPr/>
                </p:nvSpPr>
                <p:spPr>
                  <a:xfrm>
                    <a:off x="3262320" y="1143000"/>
                    <a:ext cx="3304440" cy="977400"/>
                  </a:xfrm>
                  <a:prstGeom prst="pi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Freeform 12"/>
                <p:cNvSpPr/>
                <p:nvPr/>
              </p:nvSpPr>
              <p:spPr>
                <a:xfrm rot="5400000">
                  <a:off x="3368520" y="1877400"/>
                  <a:ext cx="1974600" cy="4414320"/>
                </a:xfrm>
                <a:prstGeom prst="pi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13"/>
                <p:cNvSpPr/>
                <p:nvPr/>
              </p:nvSpPr>
              <p:spPr>
                <a:xfrm>
                  <a:off x="4345920" y="1148040"/>
                  <a:ext cx="2226240" cy="3915720"/>
                </a:xfrm>
                <a:prstGeom prst="pi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Freeform 14"/>
              <p:cNvSpPr/>
              <p:nvPr/>
            </p:nvSpPr>
            <p:spPr>
              <a:xfrm>
                <a:off x="3261600" y="2117160"/>
                <a:ext cx="2199240" cy="9882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5"/>
              <p:cNvSpPr/>
              <p:nvPr/>
            </p:nvSpPr>
            <p:spPr>
              <a:xfrm rot="16200000">
                <a:off x="1730160" y="3520440"/>
                <a:ext cx="1950840" cy="111384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Freeform 16"/>
            <p:cNvSpPr/>
            <p:nvPr/>
          </p:nvSpPr>
          <p:spPr>
            <a:xfrm>
              <a:off x="2205360" y="2121480"/>
              <a:ext cx="2150280" cy="1954800"/>
            </a:xfrm>
            <a:prstGeom prst="pi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Номер слайда 1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FF7A-F33F-4674-9881-21B00C2F9630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2" descr=""/>
          <p:cNvPicPr/>
          <p:nvPr/>
        </p:nvPicPr>
        <p:blipFill>
          <a:blip r:embed="rId1"/>
          <a:stretch/>
        </p:blipFill>
        <p:spPr>
          <a:xfrm>
            <a:off x="4462560" y="506520"/>
            <a:ext cx="3620880" cy="31017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2295360" y="4770000"/>
            <a:ext cx="6740640" cy="1467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Егорова С.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МОУ СОШ №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403200" y="658800"/>
            <a:ext cx="3779640" cy="3777840"/>
            <a:chOff x="403200" y="658800"/>
            <a:chExt cx="3779640" cy="3777840"/>
          </a:xfrm>
        </p:grpSpPr>
        <p:grpSp>
          <p:nvGrpSpPr>
            <p:cNvPr id="263" name="Group 5"/>
            <p:cNvGrpSpPr/>
            <p:nvPr/>
          </p:nvGrpSpPr>
          <p:grpSpPr>
            <a:xfrm>
              <a:off x="403200" y="658800"/>
              <a:ext cx="3779640" cy="3777840"/>
              <a:chOff x="403200" y="658800"/>
              <a:chExt cx="3779640" cy="3777840"/>
            </a:xfrm>
          </p:grpSpPr>
          <p:grpSp>
            <p:nvGrpSpPr>
              <p:cNvPr id="264" name="Group 6"/>
              <p:cNvGrpSpPr/>
              <p:nvPr/>
            </p:nvGrpSpPr>
            <p:grpSpPr>
              <a:xfrm>
                <a:off x="403200" y="658800"/>
                <a:ext cx="3779640" cy="3777840"/>
                <a:chOff x="403200" y="658800"/>
                <a:chExt cx="3779640" cy="3777840"/>
              </a:xfrm>
            </p:grpSpPr>
            <p:grpSp>
              <p:nvGrpSpPr>
                <p:cNvPr id="265" name="Group 7"/>
                <p:cNvGrpSpPr/>
                <p:nvPr/>
              </p:nvGrpSpPr>
              <p:grpSpPr>
                <a:xfrm>
                  <a:off x="403200" y="658800"/>
                  <a:ext cx="3775320" cy="1883160"/>
                  <a:chOff x="403200" y="658800"/>
                  <a:chExt cx="3775320" cy="1883160"/>
                </a:xfrm>
              </p:grpSpPr>
              <p:sp>
                <p:nvSpPr>
                  <p:cNvPr id="266" name="Freeform 8"/>
                  <p:cNvSpPr/>
                  <p:nvPr/>
                </p:nvSpPr>
                <p:spPr>
                  <a:xfrm>
                    <a:off x="403200" y="658800"/>
                    <a:ext cx="1883880" cy="1883160"/>
                  </a:xfrm>
                  <a:prstGeom prst="pi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9"/>
                  <p:cNvSpPr/>
                  <p:nvPr/>
                </p:nvSpPr>
                <p:spPr>
                  <a:xfrm>
                    <a:off x="1358280" y="658800"/>
                    <a:ext cx="2820240" cy="940320"/>
                  </a:xfrm>
                  <a:prstGeom prst="pi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8" name="Freeform 10"/>
                <p:cNvSpPr/>
                <p:nvPr/>
              </p:nvSpPr>
              <p:spPr>
                <a:xfrm rot="5400000">
                  <a:off x="1342080" y="1603440"/>
                  <a:ext cx="1898640" cy="3767400"/>
                </a:xfrm>
                <a:prstGeom prst="pi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11"/>
                <p:cNvSpPr/>
                <p:nvPr/>
              </p:nvSpPr>
              <p:spPr>
                <a:xfrm>
                  <a:off x="2283120" y="663480"/>
                  <a:ext cx="1899720" cy="3765600"/>
                </a:xfrm>
                <a:prstGeom prst="pi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Freeform 12"/>
              <p:cNvSpPr/>
              <p:nvPr/>
            </p:nvSpPr>
            <p:spPr>
              <a:xfrm>
                <a:off x="1357920" y="1595520"/>
                <a:ext cx="1876680" cy="95040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3"/>
              <p:cNvSpPr/>
              <p:nvPr/>
            </p:nvSpPr>
            <p:spPr>
              <a:xfrm rot="16200000">
                <a:off x="-54000" y="3005280"/>
                <a:ext cx="1875960" cy="9507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Freeform 14"/>
            <p:cNvSpPr/>
            <p:nvPr/>
          </p:nvSpPr>
          <p:spPr>
            <a:xfrm>
              <a:off x="410760" y="1599480"/>
              <a:ext cx="1880640" cy="1879920"/>
            </a:xfrm>
            <a:prstGeom prst="pi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Номер слайда 1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B67C-7656-4389-B004-57B16E55922B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133200" y="963720"/>
            <a:ext cx="7993080" cy="20844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33080" y="404640"/>
            <a:ext cx="8026200" cy="54007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Учитесь думать, объясня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Учитесь мыслить, рассуж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Ведь в математике , друз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Без логики никак нельз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F07B-108A-4465-B228-532B78AF885B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i="1" lang="ru-RU" sz="4100" spc="-1" strike="noStrike">
                <a:solidFill>
                  <a:srgbClr val="ffc000"/>
                </a:solidFill>
                <a:latin typeface="Franklin Gothic Book"/>
              </a:rPr>
              <a:t>Спасибо за просмотр!!!</a:t>
            </a:r>
            <a:endParaRPr b="0" lang="en-US" sz="4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7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F74A-8CD2-455F-8CF9-8920F9B553D7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4321080" cy="1150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00"/>
                </a:solidFill>
                <a:latin typeface="Franklin Gothic Book"/>
              </a:rPr>
              <a:t>        </a:t>
            </a:r>
            <a:r>
              <a:rPr b="0" lang="ru-RU" sz="4600" spc="-1" strike="noStrike">
                <a:solidFill>
                  <a:srgbClr val="3333cc"/>
                </a:solidFill>
                <a:latin typeface="Arial"/>
              </a:rPr>
              <a:t>ТАНГРАМ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940360" y="188640"/>
            <a:ext cx="289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гр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 переводе с китайского                                языка обозначает «семь дощечек                           мастерства», а ещё её назы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онной головолом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</a:t>
            </a:r>
            <a:r>
              <a:rPr b="0" lang="ru-RU" sz="24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головолом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стоящая из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лоских фигу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е складывают определённым образом для получения другой, более сложной, фигуры (изображающей человека, животное, предмет домашнего обихода, букву или цифру и т. д.).Фигура, которую необходимо получить, при этом обычно задаётся в виде силуэта или внешнего конт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9"/>
          <p:cNvGrpSpPr/>
          <p:nvPr/>
        </p:nvGrpSpPr>
        <p:grpSpPr>
          <a:xfrm>
            <a:off x="6084720" y="189000"/>
            <a:ext cx="2772000" cy="2592360"/>
            <a:chOff x="6084720" y="189000"/>
            <a:chExt cx="2772000" cy="2592360"/>
          </a:xfrm>
        </p:grpSpPr>
        <p:grpSp>
          <p:nvGrpSpPr>
            <p:cNvPr id="278" name="Group 20"/>
            <p:cNvGrpSpPr/>
            <p:nvPr/>
          </p:nvGrpSpPr>
          <p:grpSpPr>
            <a:xfrm>
              <a:off x="6084720" y="189000"/>
              <a:ext cx="2772000" cy="2592360"/>
              <a:chOff x="6084720" y="189000"/>
              <a:chExt cx="2772000" cy="2592360"/>
            </a:xfrm>
          </p:grpSpPr>
          <p:grpSp>
            <p:nvGrpSpPr>
              <p:cNvPr id="279" name="Group 21"/>
              <p:cNvGrpSpPr/>
              <p:nvPr/>
            </p:nvGrpSpPr>
            <p:grpSpPr>
              <a:xfrm>
                <a:off x="6084720" y="189000"/>
                <a:ext cx="2772000" cy="2592360"/>
                <a:chOff x="6084720" y="189000"/>
                <a:chExt cx="2772000" cy="2592360"/>
              </a:xfrm>
            </p:grpSpPr>
            <p:grpSp>
              <p:nvGrpSpPr>
                <p:cNvPr id="280" name="Group 22"/>
                <p:cNvGrpSpPr/>
                <p:nvPr/>
              </p:nvGrpSpPr>
              <p:grpSpPr>
                <a:xfrm>
                  <a:off x="6084720" y="189000"/>
                  <a:ext cx="2768760" cy="1292040"/>
                  <a:chOff x="6084720" y="189000"/>
                  <a:chExt cx="2768760" cy="1292040"/>
                </a:xfrm>
              </p:grpSpPr>
              <p:sp>
                <p:nvSpPr>
                  <p:cNvPr id="281" name="Freeform 23"/>
                  <p:cNvSpPr/>
                  <p:nvPr/>
                </p:nvSpPr>
                <p:spPr>
                  <a:xfrm>
                    <a:off x="6084720" y="189000"/>
                    <a:ext cx="1381320" cy="1292040"/>
                  </a:xfrm>
                  <a:prstGeom prst="pi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24"/>
                  <p:cNvSpPr/>
                  <p:nvPr/>
                </p:nvSpPr>
                <p:spPr>
                  <a:xfrm>
                    <a:off x="6785280" y="189000"/>
                    <a:ext cx="2068200" cy="645120"/>
                  </a:xfrm>
                  <a:prstGeom prst="pi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Freeform 25"/>
                <p:cNvSpPr/>
                <p:nvPr/>
              </p:nvSpPr>
              <p:spPr>
                <a:xfrm rot="5400000">
                  <a:off x="6818040" y="748440"/>
                  <a:ext cx="1302840" cy="2762640"/>
                </a:xfrm>
                <a:prstGeom prst="pi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26"/>
                <p:cNvSpPr/>
                <p:nvPr/>
              </p:nvSpPr>
              <p:spPr>
                <a:xfrm>
                  <a:off x="7463520" y="192240"/>
                  <a:ext cx="1393200" cy="2583720"/>
                </a:xfrm>
                <a:prstGeom prst="pie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Freeform 27"/>
              <p:cNvSpPr/>
              <p:nvPr/>
            </p:nvSpPr>
            <p:spPr>
              <a:xfrm>
                <a:off x="6784560" y="831960"/>
                <a:ext cx="1376280" cy="65196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8"/>
              <p:cNvSpPr/>
              <p:nvPr/>
            </p:nvSpPr>
            <p:spPr>
              <a:xfrm rot="16200000">
                <a:off x="5793480" y="1776240"/>
                <a:ext cx="1287000" cy="697320"/>
              </a:xfrm>
              <a:prstGeom prst="pi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Freeform 29"/>
            <p:cNvSpPr/>
            <p:nvPr/>
          </p:nvSpPr>
          <p:spPr>
            <a:xfrm>
              <a:off x="6090120" y="834480"/>
              <a:ext cx="1379160" cy="1289880"/>
            </a:xfrm>
            <a:prstGeom prst="pi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Номер слайда 1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7D5D-6352-44F9-A7C1-4075862AD44D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0066"/>
                </a:solidFill>
                <a:latin typeface="Franklin Gothic Book"/>
              </a:rPr>
              <a:t>              </a:t>
            </a:r>
            <a:r>
              <a:rPr b="0" lang="ru-RU" sz="4600" spc="-1" strike="noStrike">
                <a:solidFill>
                  <a:srgbClr val="ff3399"/>
                </a:solidFill>
                <a:latin typeface="Arial"/>
              </a:rPr>
              <a:t>Немного истории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11280" y="1196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 с половиной тысячи лет тому назад у немолодого императора Китая родился сын. Шли годы. Мальчик рос здоровым и сообразительным, однако будущий властелин не хотел учиться. Император призвал к себе трёх мудрецов: математика, художника и философа, и повелел им придумать игру, забавляясь которой, его сын постиг бы начало математики, научился смотреть на мир глазами художника, стал бы терпеливым как истинный философ, и понял бы, что зачастую сложные вещи состоят из простых вещей. Три мудреца придумали игру « Ши – Чао – Тю» - квадрат разрезанный на 7 частей. Позднее игру – головоломку завезли в Америку китайские моряки, а из Америки она уже попала в Европу, где получила название                             « Танграм»  ( тан –китаец, грам – букв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3521-E330-406D-BC7E-C04E327E578E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3" name="Picture 7" descr="tangram_04"/>
          <p:cNvPicPr/>
          <p:nvPr/>
        </p:nvPicPr>
        <p:blipFill>
          <a:blip r:embed="rId1"/>
          <a:srcRect l="2212" t="21061" r="64320" b="36094"/>
          <a:stretch/>
        </p:blipFill>
        <p:spPr>
          <a:xfrm>
            <a:off x="3564000" y="189000"/>
            <a:ext cx="1979640" cy="36734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tangram_08"/>
          <p:cNvPicPr/>
          <p:nvPr/>
        </p:nvPicPr>
        <p:blipFill>
          <a:blip r:embed="rId2"/>
          <a:srcRect l="8052" t="39018" r="51701" b="32399"/>
          <a:stretch/>
        </p:blipFill>
        <p:spPr>
          <a:xfrm>
            <a:off x="250920" y="692280"/>
            <a:ext cx="2871720" cy="2952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tangram_06"/>
          <p:cNvPicPr/>
          <p:nvPr/>
        </p:nvPicPr>
        <p:blipFill>
          <a:blip r:embed="rId3"/>
          <a:srcRect l="55817" t="6652" r="2013" b="61454"/>
          <a:stretch/>
        </p:blipFill>
        <p:spPr>
          <a:xfrm>
            <a:off x="6012000" y="692280"/>
            <a:ext cx="2695320" cy="3024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4"/>
          <a:stretch/>
        </p:blipFill>
        <p:spPr>
          <a:xfrm>
            <a:off x="1547640" y="3645000"/>
            <a:ext cx="5112000" cy="2671560"/>
          </a:xfrm>
          <a:prstGeom prst="rect">
            <a:avLst/>
          </a:prstGeom>
          <a:ln w="0">
            <a:noFill/>
          </a:ln>
        </p:spPr>
      </p:pic>
      <p:sp>
        <p:nvSpPr>
          <p:cNvPr id="297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42CA-2237-40B1-B79A-98AB476EBCF7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0000"/>
                </a:solidFill>
                <a:latin typeface="Franklin Gothic Book"/>
              </a:rPr>
              <a:t>     </a:t>
            </a:r>
            <a:r>
              <a:rPr b="0" lang="ru-RU" sz="4600" spc="-1" strike="noStrike">
                <a:solidFill>
                  <a:srgbClr val="ff3399"/>
                </a:solidFill>
                <a:latin typeface="Arial"/>
              </a:rPr>
              <a:t>«Танграм» своими руками.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4762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анграм лёгок в изготовлении , смастерим его мы с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Рисунок 8" descr=""/>
          <p:cNvPicPr/>
          <p:nvPr/>
        </p:nvPicPr>
        <p:blipFill>
          <a:blip r:embed="rId1"/>
          <a:stretch/>
        </p:blipFill>
        <p:spPr>
          <a:xfrm>
            <a:off x="5092560" y="1916280"/>
            <a:ext cx="3872160" cy="3170160"/>
          </a:xfrm>
          <a:prstGeom prst="rect">
            <a:avLst/>
          </a:prstGeom>
          <a:ln w="0">
            <a:noFill/>
          </a:ln>
        </p:spPr>
      </p:pic>
      <p:sp>
        <p:nvSpPr>
          <p:cNvPr id="301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F68F-3A7B-459E-A337-37799179902E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Franklin Gothic Book"/>
              </a:rPr>
              <a:t>При решении головоломки требуется соблюдать два условия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3" name="Picture 5" descr="220px-Tangram-man"/>
          <p:cNvPicPr/>
          <p:nvPr/>
        </p:nvPicPr>
        <p:blipFill>
          <a:blip r:embed="rId1"/>
          <a:stretch/>
        </p:blipFill>
        <p:spPr>
          <a:xfrm>
            <a:off x="900000" y="1844640"/>
            <a:ext cx="2624400" cy="39369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необходимо использовать все семь фигур тангра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фигуры не должны перекрываться между собо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26ED-AA47-4374-84B0-AAF8527F01E4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r>
              <a:rPr b="0" lang="ru-RU" sz="4100" spc="-1" strike="noStrike">
                <a:solidFill>
                  <a:srgbClr val="ff0066"/>
                </a:solidFill>
                <a:latin typeface="Franklin Gothic Book"/>
              </a:rPr>
              <a:t>      </a:t>
            </a:r>
            <a:r>
              <a:rPr b="0" lang="ru-RU" sz="3600" spc="-1" strike="noStrike">
                <a:solidFill>
                  <a:srgbClr val="ff0066"/>
                </a:solidFill>
                <a:latin typeface="Franklin Gothic Book"/>
              </a:rPr>
              <a:t>Ну, а теперь</a:t>
            </a:r>
            <a:r>
              <a:rPr b="0" lang="en-US" sz="3600" spc="-1" strike="noStrike">
                <a:solidFill>
                  <a:srgbClr val="ff0066"/>
                </a:solidFill>
                <a:latin typeface="Franklin Gothic Book"/>
              </a:rPr>
              <a:t> -</a:t>
            </a:r>
            <a:r>
              <a:rPr b="0" lang="ru-RU" sz="3600" spc="-1" strike="noStrike">
                <a:solidFill>
                  <a:srgbClr val="ff0066"/>
                </a:solidFill>
                <a:latin typeface="Franklin Gothic Book"/>
              </a:rPr>
              <a:t> смелее за работу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755640" y="1441440"/>
            <a:ext cx="7620120" cy="5076720"/>
          </a:xfrm>
          <a:prstGeom prst="rect">
            <a:avLst/>
          </a:prstGeom>
          <a:ln w="0">
            <a:noFill/>
          </a:ln>
        </p:spPr>
      </p:pic>
      <p:sp>
        <p:nvSpPr>
          <p:cNvPr id="308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7FEC-4079-4F50-9769-98FA5CDBDBF0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Franklin Gothic Book"/>
              </a:rPr>
              <a:t>            </a:t>
            </a:r>
            <a:r>
              <a:rPr b="0" lang="ru-RU" sz="4600" spc="-1" strike="noStrike">
                <a:solidFill>
                  <a:srgbClr val="3333cc"/>
                </a:solidFill>
                <a:latin typeface="Franklin Gothic Book"/>
              </a:rPr>
              <a:t>Сборка квадрата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Прямоугольник 3"/>
          <p:cNvSpPr/>
          <p:nvPr/>
        </p:nvSpPr>
        <p:spPr>
          <a:xfrm>
            <a:off x="2195640" y="1628640"/>
            <a:ext cx="4537080" cy="446436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2596-2A0E-4742-9185-AD900FD9F387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09:45:12Z</dcterms:created>
  <dc:creator>User</dc:creator>
  <dc:description/>
  <dc:language>en-US</dc:language>
  <cp:lastModifiedBy>Комп10</cp:lastModifiedBy>
  <dcterms:modified xsi:type="dcterms:W3CDTF">2017-05-17T07:44:14Z</dcterms:modified>
  <cp:revision>80</cp:revision>
  <dc:subject/>
  <dc:title>Слайд 1</dc:title>
</cp:coreProperties>
</file>