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073-6CCF-4F52-8D7D-0A014CEE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393-C569-4145-974A-763FE49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232-5BD6-4021-825C-92DCC26D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EAF-E03F-4FD8-9D3D-0F83B4C1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54D0-23C8-49F3-A8D1-DC00455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117A-29E6-43EE-8474-8201034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01B4-EAB7-4410-9255-D12F8347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DAA-46E2-43E7-85AE-97CACADE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DDF3-029A-442F-A3C2-E5802A3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E23-9FBB-4BB8-8EE5-21B5079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198A-98E8-48E1-9665-1D8CC28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2CC-A399-4EE5-A420-8F8ED71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61B-4E36-4F69-89C7-1AA5255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7D62-51DE-4709-9994-2A2A214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A90F-92CE-4821-952D-75F0D423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CC6-6159-422C-B9AC-6B268F2C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F3D-0B9E-48FA-91AE-D054719E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D44E-A338-4ACD-A5D1-C3D62EDC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1C30-A4FA-4FDE-BDE9-639C535C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4E5A-0398-4F9D-9D88-921E5B1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DB3A-66EF-46E4-A0B0-96BDE51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9304-E81A-4036-AFD8-B4085A77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A6A-A51D-42C2-8321-63EACF43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F92A-A999-4001-9A09-1594EAA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A31E-2DE7-4C64-94B4-385EC4B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FB47-633E-4C8D-920F-16CCD5A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BA7B-9B03-466A-A5E8-4811E65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EFD3-A583-42D8-944B-47DF88A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AE61-1D0C-45B4-803B-398555C4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471A-AA70-4E63-909D-3B2DFACD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2C6F-8F9E-4FC3-95CB-C67737E4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7C83-1CC9-4FEF-91DB-9533400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D1EB-B5A0-4A84-AC7A-2B019EC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295-03EF-4A5C-962E-09D386AB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34D4-E8A3-4EA1-A097-4EB97E2C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D96E-0A22-4B03-843C-09D5D7FA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9240-217C-4FDC-B361-DED9D7E5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278B-51C3-41FF-A06F-3ABD169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B642-E252-45AB-A3AC-BB0C1389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42A4-A5DB-4924-9CE4-6719E2B0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8E57-D904-432A-9153-7841BA11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4BB1-B831-4385-B29F-1820D5D1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5D61-A6EC-4F47-B1E1-244748E0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4BE95-A028-49BD-91BB-D91B6444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315-B9AF-4CEF-93EB-FB3FB373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54E6-699E-4C2F-A78E-01E0035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59B0-58CB-4852-AB5F-6B6BE4A7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BC09-FC5F-437E-B0E1-F1C9630E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F7E81-7332-44D2-896B-FDB16C9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66571-1111-4AA1-9841-2531413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2A530-337E-4840-9F21-9525C4C5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91F6-653C-4712-BAAE-1067B499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A372-9BC0-4039-8A1A-593D99D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1DE3-584B-4BFA-9FB3-E5E56B8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9CEC-1C09-4DC5-B807-1FE7AAF9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D8A-2EE5-4D59-94EB-8C9B5866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9586E-DCA3-4D42-91B0-48218D2D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00ED-B0FC-4FDA-B518-D41C644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B04F2-314A-4870-AA4D-D04A2C0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DC7FE-E2CD-48DA-9A1B-0DDFDC1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FBA1-A9A0-4342-A54C-4D2FD675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16CE-BF60-41BD-AC88-1087C52E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E371-9664-48BE-A913-37573B79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C852-46A5-4DEB-9417-AFB75AD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B124-E17F-4AB6-BB2B-6B124B1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2556-BB41-4EDB-BF9B-89BAE74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01B-A0DA-4EB9-96A4-D96810F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2E61-5868-4EFF-87FC-93245B8D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E636-FAA3-42FE-825E-E689413F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22E64-5FC6-4626-8215-6857DB06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7F9-BFA7-43EF-833B-4524582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943-8336-4E4C-BB76-5586EB6B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51D-9BA2-4922-8B24-76AF28DDCA3A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F6F-CCD0-44AD-B7F6-41DA7973911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C402-3600-4098-9A60-663FBF21386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F49-0757-4CF6-8B9F-F79FF9D2859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6E2C-7214-45B5-8007-1E880D8E553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374F-4462-4F2A-B30A-1C451C6D2044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6;&#1074;&#1086;&#1083;&#1086;&#1084;&#1082;&#1072;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33cc"/>
                </a:solidFill>
                <a:latin typeface="Franklin Gothic Book"/>
              </a:rPr>
              <a:t>               </a:t>
            </a:r>
            <a:r>
              <a:rPr b="0" lang="ru-RU" sz="4600" spc="-1" strike="noStrike">
                <a:solidFill>
                  <a:srgbClr val="3333cc"/>
                </a:solidFill>
                <a:latin typeface="Arial"/>
              </a:rPr>
              <a:t>Мотивация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560" y="119700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это зна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для меня нов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е бы хотелось узнать о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м боль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855720" y="1341360"/>
            <a:ext cx="1622520" cy="1533600"/>
          </a:xfrm>
          <a:prstGeom prst="rect">
            <a:avLst/>
          </a:prstGeom>
          <a:solidFill>
            <a:srgbClr val="0066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7"/>
          <p:cNvSpPr/>
          <p:nvPr/>
        </p:nvSpPr>
        <p:spPr>
          <a:xfrm>
            <a:off x="855720" y="3068640"/>
            <a:ext cx="1622520" cy="1535040"/>
          </a:xfrm>
          <a:prstGeom prst="rec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55720" y="4797360"/>
            <a:ext cx="1622520" cy="153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6C9-D7CE-4A11-BDBB-0D385CD6B4D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Объект 7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2666880" cy="26654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"/>
          <p:cNvPicPr/>
          <p:nvPr/>
        </p:nvPicPr>
        <p:blipFill>
          <a:blip r:embed="rId2"/>
          <a:srcRect l="0" t="0" r="37104" b="0"/>
          <a:stretch/>
        </p:blipFill>
        <p:spPr>
          <a:xfrm>
            <a:off x="826920" y="1773360"/>
            <a:ext cx="2965680" cy="2943000"/>
          </a:xfrm>
          <a:prstGeom prst="rect">
            <a:avLst/>
          </a:prstGeom>
          <a:ln w="0">
            <a:noFill/>
          </a:ln>
        </p:spPr>
      </p:pic>
      <p:sp>
        <p:nvSpPr>
          <p:cNvPr id="314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7004-CCEA-4CC4-A7E3-9019777FD9E3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                           </a:t>
            </a: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Лиса.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1"/>
          <a:stretch/>
        </p:blipFill>
        <p:spPr>
          <a:xfrm>
            <a:off x="755640" y="1501920"/>
            <a:ext cx="8232840" cy="4303440"/>
          </a:xfrm>
          <a:prstGeom prst="rect">
            <a:avLst/>
          </a:prstGeom>
          <a:ln w="0">
            <a:noFill/>
          </a:ln>
        </p:spPr>
      </p:pic>
      <p:sp>
        <p:nvSpPr>
          <p:cNvPr id="317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7B8-D806-4CF7-9C24-84B4870715D2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Склады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фигу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по образцу-контур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4649760" y="692280"/>
            <a:ext cx="4248000" cy="5329080"/>
          </a:xfrm>
          <a:prstGeom prst="rect">
            <a:avLst/>
          </a:prstGeom>
          <a:ln w="0">
            <a:noFill/>
          </a:ln>
        </p:spPr>
      </p:pic>
      <p:sp>
        <p:nvSpPr>
          <p:cNvPr id="320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758-5286-4ECF-8982-1B9786E279B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66"/>
                </a:solidFill>
                <a:latin typeface="Franklin Gothic Book"/>
              </a:rPr>
              <a:t>       </a:t>
            </a:r>
            <a:r>
              <a:rPr b="0" lang="ru-RU" sz="4100" spc="-1" strike="noStrike">
                <a:solidFill>
                  <a:srgbClr val="ff3399"/>
                </a:solidFill>
                <a:latin typeface="Arial"/>
              </a:rPr>
              <a:t>Сказка про «Танграм».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Прямоугольник 1"/>
          <p:cNvSpPr/>
          <p:nvPr/>
        </p:nvSpPr>
        <p:spPr>
          <a:xfrm>
            <a:off x="826920" y="750960"/>
            <a:ext cx="691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екотором царстве, в математическом государстве жил – был  Квадратик. Было ему очень скучно, ведь никто с ним не играл. Тогда Квадратик решил позабавиться: начал он бегать, прыгать и упал. Раскололся он на 7 частей. Подошёл к квадрату маленький мальчик и решил собрать его из частей, но 1 детальку  он положил неправильно и вместо квадрата у мальчика получился  кораблик.               « А квадратик – то стал волшебным» -  воскликнул  мальчик. Ведь из него можно собирать множество фигурок . С тех пор с Квадратиком стали играть много детей и имя ему дали «Танграм». Квадратик обрадовался, что у него появилось много друзей, ведь с друзьями жить вес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6E44-AE85-427E-B570-B88AACB0C91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3300"/>
              </a:solidFill>
              <a:latin typeface="Franklin Gothic Book"/>
            </a:endParaRPr>
          </a:p>
        </p:txBody>
      </p:sp>
      <p:pic>
        <p:nvPicPr>
          <p:cNvPr id="325" name="Объект 5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3676680" cy="528624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"/>
          <p:cNvPicPr/>
          <p:nvPr/>
        </p:nvPicPr>
        <p:blipFill>
          <a:blip r:embed="rId2"/>
          <a:stretch/>
        </p:blipFill>
        <p:spPr>
          <a:xfrm>
            <a:off x="4067280" y="94284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327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9FF-6C4D-4733-81E3-EDD31F60CE32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зка про « Танграм»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Прямоугольник 1"/>
          <p:cNvSpPr/>
          <p:nvPr/>
        </p:nvSpPr>
        <p:spPr>
          <a:xfrm>
            <a:off x="971640" y="1203480"/>
            <a:ext cx="7489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еми горами, за семи холмами в королевстве математики  жили не тужили мудрые человечки. Они были весёлыми , добрыми и дружили со сказочными животными и п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лижался праздник – день рожденье принцессы  Математики. Дворец был украшен цветными геометрическими фигурами и цифрами. Были приглашены на праздник  все жители математического королевства, животные и птицы близлежащих  лесов. И вот ,когда гости стали праздновать, над дворцом пролетел злой  колдун. « О» - воскликнул он . « А про меня то забыли». И тут он взмахнул своей волшебной палочкой и превратил всех в квадраты: и принцессу Математики, и мудрых человечков, и птиц, и зверей. Даже дворец и ёлки, росшие рядом, стали  квадратными. А расколдовать их могут только добрые и сообразительны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давайте мы с вами  снимем заклятие злого колдуна со сказочного Математического королев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BE1-49AD-4DDE-9A78-516C2FEE5784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атематическое королевство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1"/>
          <a:srcRect l="6003" t="0" r="3762" b="7842"/>
          <a:stretch/>
        </p:blipFill>
        <p:spPr>
          <a:xfrm>
            <a:off x="468360" y="2349360"/>
            <a:ext cx="4602240" cy="3168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" descr=""/>
          <p:cNvPicPr/>
          <p:nvPr/>
        </p:nvPicPr>
        <p:blipFill>
          <a:blip r:embed="rId2"/>
          <a:srcRect l="7248" t="21081" r="21142" b="5612"/>
          <a:stretch/>
        </p:blipFill>
        <p:spPr>
          <a:xfrm>
            <a:off x="5219640" y="2349360"/>
            <a:ext cx="3367080" cy="3168720"/>
          </a:xfrm>
          <a:prstGeom prst="rect">
            <a:avLst/>
          </a:prstGeom>
          <a:ln w="0">
            <a:noFill/>
          </a:ln>
        </p:spPr>
      </p:pic>
      <p:sp>
        <p:nvSpPr>
          <p:cNvPr id="33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5A1D-3A1E-46ED-954D-035AE2A794AD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4837680" y="238680"/>
            <a:ext cx="3893400" cy="2898720"/>
            <a:chOff x="4837680" y="238680"/>
            <a:chExt cx="3893400" cy="2898720"/>
          </a:xfrm>
        </p:grpSpPr>
        <p:sp>
          <p:nvSpPr>
            <p:cNvPr id="336" name="Freeform 5"/>
            <p:cNvSpPr/>
            <p:nvPr/>
          </p:nvSpPr>
          <p:spPr>
            <a:xfrm rot="21447600">
              <a:off x="4859280" y="259920"/>
              <a:ext cx="1002600" cy="10018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 rot="16039200">
              <a:off x="4633200" y="1017720"/>
              <a:ext cx="1000080" cy="5068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 rot="10673400">
              <a:off x="5399280" y="1735200"/>
              <a:ext cx="1000440" cy="5065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 rot="2655600">
              <a:off x="6097680" y="1223640"/>
              <a:ext cx="1004400" cy="10036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 flipH="1" rot="16080600">
              <a:off x="4882680" y="1245960"/>
              <a:ext cx="1502280" cy="5014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0"/>
            <p:cNvGrpSpPr/>
            <p:nvPr/>
          </p:nvGrpSpPr>
          <p:grpSpPr>
            <a:xfrm>
              <a:off x="5886720" y="992160"/>
              <a:ext cx="2844360" cy="2145240"/>
              <a:chOff x="5886720" y="992160"/>
              <a:chExt cx="2844360" cy="2145240"/>
            </a:xfrm>
          </p:grpSpPr>
          <p:sp>
            <p:nvSpPr>
              <p:cNvPr id="342" name="Freeform 11"/>
              <p:cNvSpPr/>
              <p:nvPr/>
            </p:nvSpPr>
            <p:spPr>
              <a:xfrm rot="8050200">
                <a:off x="6453720" y="1070280"/>
                <a:ext cx="1011960" cy="200844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rot="2650200">
                <a:off x="7162200" y="1061280"/>
                <a:ext cx="1012680" cy="200700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3"/>
          <p:cNvGrpSpPr/>
          <p:nvPr/>
        </p:nvGrpSpPr>
        <p:grpSpPr>
          <a:xfrm>
            <a:off x="-2520" y="4115880"/>
            <a:ext cx="5393880" cy="2543040"/>
            <a:chOff x="-2520" y="4115880"/>
            <a:chExt cx="5393880" cy="2543040"/>
          </a:xfrm>
        </p:grpSpPr>
        <p:sp>
          <p:nvSpPr>
            <p:cNvPr id="345" name="Freeform 14"/>
            <p:cNvSpPr/>
            <p:nvPr/>
          </p:nvSpPr>
          <p:spPr>
            <a:xfrm rot="19422600">
              <a:off x="0" y="5643360"/>
              <a:ext cx="1486800" cy="49572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5"/>
            <p:cNvGrpSpPr/>
            <p:nvPr/>
          </p:nvGrpSpPr>
          <p:grpSpPr>
            <a:xfrm>
              <a:off x="495360" y="4115880"/>
              <a:ext cx="4896000" cy="2543040"/>
              <a:chOff x="495360" y="4115880"/>
              <a:chExt cx="4896000" cy="2543040"/>
            </a:xfrm>
          </p:grpSpPr>
          <p:sp>
            <p:nvSpPr>
              <p:cNvPr id="347" name="Freeform 16"/>
              <p:cNvSpPr/>
              <p:nvPr/>
            </p:nvSpPr>
            <p:spPr>
              <a:xfrm rot="2733600">
                <a:off x="3310920" y="4398480"/>
                <a:ext cx="989640" cy="501120"/>
              </a:xfrm>
              <a:prstGeom prst="pi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17"/>
              <p:cNvGrpSpPr/>
              <p:nvPr/>
            </p:nvGrpSpPr>
            <p:grpSpPr>
              <a:xfrm>
                <a:off x="495360" y="4470840"/>
                <a:ext cx="4552200" cy="2188080"/>
                <a:chOff x="495360" y="4470840"/>
                <a:chExt cx="4552200" cy="2188080"/>
              </a:xfrm>
            </p:grpSpPr>
            <p:sp>
              <p:nvSpPr>
                <p:cNvPr id="349" name="Freeform 18"/>
                <p:cNvSpPr/>
                <p:nvPr/>
              </p:nvSpPr>
              <p:spPr>
                <a:xfrm rot="2675400">
                  <a:off x="2107080" y="5444640"/>
                  <a:ext cx="993240" cy="99324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9"/>
                <p:cNvSpPr/>
                <p:nvPr/>
              </p:nvSpPr>
              <p:spPr>
                <a:xfrm rot="2688000">
                  <a:off x="3850920" y="4676040"/>
                  <a:ext cx="991440" cy="99144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0"/>
                <p:cNvSpPr/>
                <p:nvPr/>
              </p:nvSpPr>
              <p:spPr>
                <a:xfrm flipH="1" rot="13469400">
                  <a:off x="1046880" y="4606200"/>
                  <a:ext cx="1001880" cy="198612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1"/>
                <p:cNvSpPr/>
                <p:nvPr/>
              </p:nvSpPr>
              <p:spPr>
                <a:xfrm rot="8050800">
                  <a:off x="3151800" y="4582080"/>
                  <a:ext cx="1001520" cy="198648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Freeform 22"/>
              <p:cNvSpPr/>
              <p:nvPr/>
            </p:nvSpPr>
            <p:spPr>
              <a:xfrm flipH="1" rot="18866400">
                <a:off x="4370400" y="4393800"/>
                <a:ext cx="989640" cy="501120"/>
              </a:xfrm>
              <a:prstGeom prst="pi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3"/>
          <p:cNvGrpSpPr/>
          <p:nvPr/>
        </p:nvGrpSpPr>
        <p:grpSpPr>
          <a:xfrm>
            <a:off x="6587640" y="3500280"/>
            <a:ext cx="2370240" cy="3097440"/>
            <a:chOff x="6587640" y="3500280"/>
            <a:chExt cx="2370240" cy="3097440"/>
          </a:xfrm>
        </p:grpSpPr>
        <p:sp>
          <p:nvSpPr>
            <p:cNvPr id="355" name="Freeform 24"/>
            <p:cNvSpPr/>
            <p:nvPr/>
          </p:nvSpPr>
          <p:spPr>
            <a:xfrm flipH="1" rot="2706600">
              <a:off x="7454160" y="5234760"/>
              <a:ext cx="1184040" cy="394920"/>
            </a:xfrm>
            <a:prstGeom prst="pie">
              <a:avLst/>
            </a:prstGeom>
            <a:solidFill>
              <a:srgbClr val="ed13ce"/>
            </a:solidFill>
            <a:ln w="9360">
              <a:solidFill>
                <a:srgbClr val="ed13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5"/>
            <p:cNvGrpSpPr/>
            <p:nvPr/>
          </p:nvGrpSpPr>
          <p:grpSpPr>
            <a:xfrm>
              <a:off x="6587640" y="3500280"/>
              <a:ext cx="2370240" cy="3097440"/>
              <a:chOff x="6587640" y="3500280"/>
              <a:chExt cx="2370240" cy="3097440"/>
            </a:xfrm>
          </p:grpSpPr>
          <p:sp>
            <p:nvSpPr>
              <p:cNvPr id="357" name="Freeform 26"/>
              <p:cNvSpPr/>
              <p:nvPr/>
            </p:nvSpPr>
            <p:spPr>
              <a:xfrm rot="5400000">
                <a:off x="6393240" y="4478760"/>
                <a:ext cx="788040" cy="39924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7"/>
              <p:cNvSpPr/>
              <p:nvPr/>
            </p:nvSpPr>
            <p:spPr>
              <a:xfrm rot="18874800">
                <a:off x="7370640" y="4453560"/>
                <a:ext cx="790920" cy="79128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Group 28"/>
              <p:cNvGrpSpPr/>
              <p:nvPr/>
            </p:nvGrpSpPr>
            <p:grpSpPr>
              <a:xfrm>
                <a:off x="7372080" y="5012640"/>
                <a:ext cx="1585800" cy="1585080"/>
                <a:chOff x="7372080" y="5012640"/>
                <a:chExt cx="1585800" cy="1585080"/>
              </a:xfrm>
            </p:grpSpPr>
            <p:sp>
              <p:nvSpPr>
                <p:cNvPr id="360" name="Freeform 29"/>
                <p:cNvSpPr/>
                <p:nvPr/>
              </p:nvSpPr>
              <p:spPr>
                <a:xfrm flipH="1" rot="16200000">
                  <a:off x="7767720" y="5407560"/>
                  <a:ext cx="797760" cy="1582560"/>
                </a:xfrm>
                <a:prstGeom prst="pie">
                  <a:avLst/>
                </a:prstGeom>
                <a:solidFill>
                  <a:srgbClr val="ed13ce"/>
                </a:solidFill>
                <a:ln w="9360">
                  <a:solidFill>
                    <a:srgbClr val="ed13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0"/>
                <p:cNvSpPr/>
                <p:nvPr/>
              </p:nvSpPr>
              <p:spPr>
                <a:xfrm flipH="1">
                  <a:off x="7371720" y="5012640"/>
                  <a:ext cx="798120" cy="1581840"/>
                </a:xfrm>
                <a:prstGeom prst="pie">
                  <a:avLst/>
                </a:prstGeom>
                <a:solidFill>
                  <a:srgbClr val="ed13ce"/>
                </a:solidFill>
                <a:ln w="9360">
                  <a:solidFill>
                    <a:srgbClr val="ed13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Freeform 31"/>
              <p:cNvSpPr/>
              <p:nvPr/>
            </p:nvSpPr>
            <p:spPr>
              <a:xfrm>
                <a:off x="7184160" y="3500280"/>
                <a:ext cx="789840" cy="78948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2"/>
              <p:cNvSpPr/>
              <p:nvPr/>
            </p:nvSpPr>
            <p:spPr>
              <a:xfrm>
                <a:off x="6976080" y="4288320"/>
                <a:ext cx="788400" cy="39924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33"/>
          <p:cNvGrpSpPr/>
          <p:nvPr/>
        </p:nvGrpSpPr>
        <p:grpSpPr>
          <a:xfrm>
            <a:off x="395280" y="85680"/>
            <a:ext cx="1511280" cy="3746520"/>
            <a:chOff x="395280" y="85680"/>
            <a:chExt cx="1511280" cy="3746520"/>
          </a:xfrm>
        </p:grpSpPr>
        <p:sp>
          <p:nvSpPr>
            <p:cNvPr id="365" name="Freeform 34"/>
            <p:cNvSpPr/>
            <p:nvPr/>
          </p:nvSpPr>
          <p:spPr>
            <a:xfrm rot="17196000">
              <a:off x="579960" y="492480"/>
              <a:ext cx="1130400" cy="37728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 rot="5400000">
              <a:off x="770040" y="2695680"/>
              <a:ext cx="761760" cy="151128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77600" y="1951560"/>
              <a:ext cx="761760" cy="150984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 rot="2745000">
              <a:off x="795600" y="1155960"/>
              <a:ext cx="753840" cy="75420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 flipV="1" rot="18915000">
              <a:off x="781200" y="1424160"/>
              <a:ext cx="755640" cy="75528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9"/>
            <p:cNvSpPr/>
            <p:nvPr/>
          </p:nvSpPr>
          <p:spPr>
            <a:xfrm flipH="1" rot="16199400">
              <a:off x="590400" y="2142000"/>
              <a:ext cx="752040" cy="38124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0"/>
            <p:cNvSpPr/>
            <p:nvPr/>
          </p:nvSpPr>
          <p:spPr>
            <a:xfrm flipH="1" flipV="1" rot="5400000">
              <a:off x="591120" y="2888640"/>
              <a:ext cx="752040" cy="38124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41"/>
          <p:cNvSpPr/>
          <p:nvPr/>
        </p:nvSpPr>
        <p:spPr>
          <a:xfrm>
            <a:off x="7164000" y="69228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1161720" y="450864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Соба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4524840" y="5459400"/>
            <a:ext cx="28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ринц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4"/>
          <p:cNvSpPr/>
          <p:nvPr/>
        </p:nvSpPr>
        <p:spPr>
          <a:xfrm>
            <a:off x="1250280" y="1916280"/>
            <a:ext cx="33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Свеча горе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на ст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4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7E18-7391-46AA-BF9F-356309522792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F:\Танграм\IMG_7015.JPG"/>
          <p:cNvPicPr/>
          <p:nvPr/>
        </p:nvPicPr>
        <p:blipFill>
          <a:blip r:embed="rId1"/>
          <a:stretch/>
        </p:blipFill>
        <p:spPr>
          <a:xfrm>
            <a:off x="900000" y="692280"/>
            <a:ext cx="7782120" cy="5189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97800" cy="5883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3"/>
          <a:stretch/>
        </p:blipFill>
        <p:spPr>
          <a:xfrm>
            <a:off x="317520" y="476280"/>
            <a:ext cx="8629560" cy="5761080"/>
          </a:xfrm>
          <a:prstGeom prst="rect">
            <a:avLst/>
          </a:prstGeom>
          <a:ln w="0">
            <a:noFill/>
          </a:ln>
        </p:spPr>
      </p:pic>
      <p:sp>
        <p:nvSpPr>
          <p:cNvPr id="38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8C2E-D843-40CD-A67D-C65BB2383541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2143080" y="1143000"/>
            <a:ext cx="4429080" cy="3929040"/>
            <a:chOff x="2143080" y="1143000"/>
            <a:chExt cx="4429080" cy="3929040"/>
          </a:xfrm>
        </p:grpSpPr>
        <p:grpSp>
          <p:nvGrpSpPr>
            <p:cNvPr id="382" name="Group 7"/>
            <p:cNvGrpSpPr/>
            <p:nvPr/>
          </p:nvGrpSpPr>
          <p:grpSpPr>
            <a:xfrm>
              <a:off x="2143080" y="1143000"/>
              <a:ext cx="4429080" cy="3929040"/>
              <a:chOff x="2143080" y="1143000"/>
              <a:chExt cx="4429080" cy="3929040"/>
            </a:xfrm>
          </p:grpSpPr>
          <p:grpSp>
            <p:nvGrpSpPr>
              <p:cNvPr id="383" name="Group 8"/>
              <p:cNvGrpSpPr/>
              <p:nvPr/>
            </p:nvGrpSpPr>
            <p:grpSpPr>
              <a:xfrm>
                <a:off x="2143080" y="1143000"/>
                <a:ext cx="4429080" cy="3929040"/>
                <a:chOff x="2143080" y="1143000"/>
                <a:chExt cx="4429080" cy="3929040"/>
              </a:xfrm>
            </p:grpSpPr>
            <p:grpSp>
              <p:nvGrpSpPr>
                <p:cNvPr id="384" name="Group 9"/>
                <p:cNvGrpSpPr/>
                <p:nvPr/>
              </p:nvGrpSpPr>
              <p:grpSpPr>
                <a:xfrm>
                  <a:off x="2143080" y="1143000"/>
                  <a:ext cx="4423680" cy="1958040"/>
                  <a:chOff x="2143080" y="1143000"/>
                  <a:chExt cx="4423680" cy="1958040"/>
                </a:xfrm>
              </p:grpSpPr>
              <p:sp>
                <p:nvSpPr>
                  <p:cNvPr id="385" name="Freeform 10"/>
                  <p:cNvSpPr/>
                  <p:nvPr/>
                </p:nvSpPr>
                <p:spPr>
                  <a:xfrm>
                    <a:off x="2143080" y="1143000"/>
                    <a:ext cx="2207160" cy="195804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11"/>
                  <p:cNvSpPr/>
                  <p:nvPr/>
                </p:nvSpPr>
                <p:spPr>
                  <a:xfrm>
                    <a:off x="3262320" y="1143000"/>
                    <a:ext cx="3304440" cy="9774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Freeform 12"/>
                <p:cNvSpPr/>
                <p:nvPr/>
              </p:nvSpPr>
              <p:spPr>
                <a:xfrm rot="5400000">
                  <a:off x="3368520" y="1877400"/>
                  <a:ext cx="1974600" cy="441432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3"/>
                <p:cNvSpPr/>
                <p:nvPr/>
              </p:nvSpPr>
              <p:spPr>
                <a:xfrm>
                  <a:off x="4345920" y="1148040"/>
                  <a:ext cx="2226240" cy="391572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14"/>
              <p:cNvSpPr/>
              <p:nvPr/>
            </p:nvSpPr>
            <p:spPr>
              <a:xfrm>
                <a:off x="3261600" y="2117160"/>
                <a:ext cx="2199240" cy="9882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5"/>
              <p:cNvSpPr/>
              <p:nvPr/>
            </p:nvSpPr>
            <p:spPr>
              <a:xfrm rot="16200000">
                <a:off x="1730160" y="3520440"/>
                <a:ext cx="1950840" cy="11138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Freeform 16"/>
            <p:cNvSpPr/>
            <p:nvPr/>
          </p:nvSpPr>
          <p:spPr>
            <a:xfrm>
              <a:off x="2205360" y="2121480"/>
              <a:ext cx="2150280" cy="19548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Номер слайда 1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CFCF-DA60-4E2A-8367-B091C5DAEBA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462560" y="506520"/>
            <a:ext cx="3620880" cy="3101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295360" y="4770000"/>
            <a:ext cx="6740640" cy="146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горова С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403200" y="658800"/>
            <a:ext cx="3779640" cy="3777840"/>
            <a:chOff x="403200" y="658800"/>
            <a:chExt cx="3779640" cy="3777840"/>
          </a:xfrm>
        </p:grpSpPr>
        <p:grpSp>
          <p:nvGrpSpPr>
            <p:cNvPr id="263" name="Group 5"/>
            <p:cNvGrpSpPr/>
            <p:nvPr/>
          </p:nvGrpSpPr>
          <p:grpSpPr>
            <a:xfrm>
              <a:off x="403200" y="658800"/>
              <a:ext cx="3779640" cy="3777840"/>
              <a:chOff x="403200" y="658800"/>
              <a:chExt cx="3779640" cy="3777840"/>
            </a:xfrm>
          </p:grpSpPr>
          <p:grpSp>
            <p:nvGrpSpPr>
              <p:cNvPr id="264" name="Group 6"/>
              <p:cNvGrpSpPr/>
              <p:nvPr/>
            </p:nvGrpSpPr>
            <p:grpSpPr>
              <a:xfrm>
                <a:off x="403200" y="658800"/>
                <a:ext cx="3779640" cy="3777840"/>
                <a:chOff x="403200" y="658800"/>
                <a:chExt cx="3779640" cy="3777840"/>
              </a:xfrm>
            </p:grpSpPr>
            <p:grpSp>
              <p:nvGrpSpPr>
                <p:cNvPr id="265" name="Group 7"/>
                <p:cNvGrpSpPr/>
                <p:nvPr/>
              </p:nvGrpSpPr>
              <p:grpSpPr>
                <a:xfrm>
                  <a:off x="403200" y="658800"/>
                  <a:ext cx="3775320" cy="1883160"/>
                  <a:chOff x="403200" y="658800"/>
                  <a:chExt cx="3775320" cy="1883160"/>
                </a:xfrm>
              </p:grpSpPr>
              <p:sp>
                <p:nvSpPr>
                  <p:cNvPr id="266" name="Freeform 8"/>
                  <p:cNvSpPr/>
                  <p:nvPr/>
                </p:nvSpPr>
                <p:spPr>
                  <a:xfrm>
                    <a:off x="403200" y="658800"/>
                    <a:ext cx="1883880" cy="188316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9"/>
                  <p:cNvSpPr/>
                  <p:nvPr/>
                </p:nvSpPr>
                <p:spPr>
                  <a:xfrm>
                    <a:off x="1358280" y="658800"/>
                    <a:ext cx="2820240" cy="94032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Freeform 10"/>
                <p:cNvSpPr/>
                <p:nvPr/>
              </p:nvSpPr>
              <p:spPr>
                <a:xfrm rot="5400000">
                  <a:off x="1342080" y="1603440"/>
                  <a:ext cx="1898640" cy="376740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1"/>
                <p:cNvSpPr/>
                <p:nvPr/>
              </p:nvSpPr>
              <p:spPr>
                <a:xfrm>
                  <a:off x="2283120" y="663480"/>
                  <a:ext cx="1899720" cy="376560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Freeform 12"/>
              <p:cNvSpPr/>
              <p:nvPr/>
            </p:nvSpPr>
            <p:spPr>
              <a:xfrm>
                <a:off x="1357920" y="1595520"/>
                <a:ext cx="1876680" cy="9504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"/>
              <p:cNvSpPr/>
              <p:nvPr/>
            </p:nvSpPr>
            <p:spPr>
              <a:xfrm rot="16200000">
                <a:off x="-54000" y="3005280"/>
                <a:ext cx="1875960" cy="9507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14"/>
            <p:cNvSpPr/>
            <p:nvPr/>
          </p:nvSpPr>
          <p:spPr>
            <a:xfrm>
              <a:off x="410760" y="1599480"/>
              <a:ext cx="1880640" cy="187992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Номер слайда 1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6E2-2BB8-4BB1-A71B-BD1509497AF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33200" y="963720"/>
            <a:ext cx="7993080" cy="20844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33080" y="404640"/>
            <a:ext cx="8026200" cy="5400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Учитесь думать, объяс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Учитесь мыслить, рассу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едь в математике 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Без логики никак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6BCD-6B3B-4E5A-B8EB-7BB9A8796E7E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4100" spc="-1" strike="noStrike">
                <a:solidFill>
                  <a:srgbClr val="ffc000"/>
                </a:solidFill>
                <a:latin typeface="Franklin Gothic Book"/>
              </a:rPr>
              <a:t>Спасибо за просмотр!!!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7DC3-F1EB-4F8A-AAFB-C9CBEA7E2738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432108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        </a:t>
            </a:r>
            <a:r>
              <a:rPr b="0" lang="ru-RU" sz="4600" spc="-1" strike="noStrike">
                <a:solidFill>
                  <a:srgbClr val="3333cc"/>
                </a:solidFill>
                <a:latin typeface="Arial"/>
              </a:rPr>
              <a:t>ТАНГРАМ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940360" y="188640"/>
            <a:ext cx="289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гр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переводе с китайского                                языка обозначает «семь дощечек                           мастерства», а ещё её наз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нной головолом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головолом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стоящая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лоских фигу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складывают определённым образом для получения другой, более сложной, фигуры (изображающей человека, животное, предмет домашнего обихода, букву или цифру и т. д.).Фигура, которую необходимо получить, при этом обычно задаётся в виде силуэта или внешнего кон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9"/>
          <p:cNvGrpSpPr/>
          <p:nvPr/>
        </p:nvGrpSpPr>
        <p:grpSpPr>
          <a:xfrm>
            <a:off x="6084720" y="189000"/>
            <a:ext cx="2772000" cy="2592360"/>
            <a:chOff x="6084720" y="189000"/>
            <a:chExt cx="2772000" cy="2592360"/>
          </a:xfrm>
        </p:grpSpPr>
        <p:grpSp>
          <p:nvGrpSpPr>
            <p:cNvPr id="278" name="Group 20"/>
            <p:cNvGrpSpPr/>
            <p:nvPr/>
          </p:nvGrpSpPr>
          <p:grpSpPr>
            <a:xfrm>
              <a:off x="6084720" y="189000"/>
              <a:ext cx="2772000" cy="2592360"/>
              <a:chOff x="6084720" y="189000"/>
              <a:chExt cx="2772000" cy="2592360"/>
            </a:xfrm>
          </p:grpSpPr>
          <p:grpSp>
            <p:nvGrpSpPr>
              <p:cNvPr id="279" name="Group 21"/>
              <p:cNvGrpSpPr/>
              <p:nvPr/>
            </p:nvGrpSpPr>
            <p:grpSpPr>
              <a:xfrm>
                <a:off x="6084720" y="189000"/>
                <a:ext cx="2772000" cy="2592360"/>
                <a:chOff x="6084720" y="189000"/>
                <a:chExt cx="2772000" cy="2592360"/>
              </a:xfrm>
            </p:grpSpPr>
            <p:grpSp>
              <p:nvGrpSpPr>
                <p:cNvPr id="280" name="Group 22"/>
                <p:cNvGrpSpPr/>
                <p:nvPr/>
              </p:nvGrpSpPr>
              <p:grpSpPr>
                <a:xfrm>
                  <a:off x="6084720" y="189000"/>
                  <a:ext cx="2768760" cy="1292040"/>
                  <a:chOff x="6084720" y="189000"/>
                  <a:chExt cx="2768760" cy="1292040"/>
                </a:xfrm>
              </p:grpSpPr>
              <p:sp>
                <p:nvSpPr>
                  <p:cNvPr id="281" name="Freeform 23"/>
                  <p:cNvSpPr/>
                  <p:nvPr/>
                </p:nvSpPr>
                <p:spPr>
                  <a:xfrm>
                    <a:off x="6084720" y="189000"/>
                    <a:ext cx="1381320" cy="129204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24"/>
                  <p:cNvSpPr/>
                  <p:nvPr/>
                </p:nvSpPr>
                <p:spPr>
                  <a:xfrm>
                    <a:off x="6785280" y="189000"/>
                    <a:ext cx="2068200" cy="64512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Freeform 25"/>
                <p:cNvSpPr/>
                <p:nvPr/>
              </p:nvSpPr>
              <p:spPr>
                <a:xfrm rot="5400000">
                  <a:off x="6818040" y="748440"/>
                  <a:ext cx="1302840" cy="276264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6"/>
                <p:cNvSpPr/>
                <p:nvPr/>
              </p:nvSpPr>
              <p:spPr>
                <a:xfrm>
                  <a:off x="7463520" y="192240"/>
                  <a:ext cx="1393200" cy="258372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Freeform 27"/>
              <p:cNvSpPr/>
              <p:nvPr/>
            </p:nvSpPr>
            <p:spPr>
              <a:xfrm>
                <a:off x="6784560" y="831960"/>
                <a:ext cx="1376280" cy="6519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8"/>
              <p:cNvSpPr/>
              <p:nvPr/>
            </p:nvSpPr>
            <p:spPr>
              <a:xfrm rot="16200000">
                <a:off x="5793480" y="1776240"/>
                <a:ext cx="1287000" cy="6973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Freeform 29"/>
            <p:cNvSpPr/>
            <p:nvPr/>
          </p:nvSpPr>
          <p:spPr>
            <a:xfrm>
              <a:off x="6090120" y="834480"/>
              <a:ext cx="1379160" cy="128988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Номер слайда 1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AAC-1F63-4E2E-AD1E-F58826908F23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66"/>
                </a:solidFill>
                <a:latin typeface="Franklin Gothic Book"/>
              </a:rPr>
              <a:t>              </a:t>
            </a:r>
            <a:r>
              <a:rPr b="0" lang="ru-RU" sz="4600" spc="-1" strike="noStrike">
                <a:solidFill>
                  <a:srgbClr val="ff3399"/>
                </a:solidFill>
                <a:latin typeface="Arial"/>
              </a:rPr>
              <a:t>Немного истории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128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с половиной тысячи лет тому назад у немолодого императора Китая родился сын. Шли годы. Мальчик рос здоровым и сообразительным, однако будущий властелин не хотел учиться. Император призвал к себе трёх мудрецов: математика, художника и философа, и повелел им придумать игру, забавляясь которой, его сын постиг бы начало математики, научился смотреть на мир глазами художника, стал бы терпеливым как истинный философ, и понял бы, что зачастую сложные вещи состоят из простых вещей. Три мудреца придумали игру « Ши – Чао – Тю» - квадрат разрезанный на 7 частей. Позднее игру – головоломку завезли в Америку китайские моряки, а из Америки она уже попала в Европу, где получила название                             « Танграм»  ( тан –китаец, грам – букв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28D1-92FF-4FBC-8337-4C331CE4F10F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Picture 7" descr="tangram_04"/>
          <p:cNvPicPr/>
          <p:nvPr/>
        </p:nvPicPr>
        <p:blipFill>
          <a:blip r:embed="rId1"/>
          <a:srcRect l="2212" t="21061" r="64320" b="36094"/>
          <a:stretch/>
        </p:blipFill>
        <p:spPr>
          <a:xfrm>
            <a:off x="3564000" y="189000"/>
            <a:ext cx="1979640" cy="3673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tangram_08"/>
          <p:cNvPicPr/>
          <p:nvPr/>
        </p:nvPicPr>
        <p:blipFill>
          <a:blip r:embed="rId2"/>
          <a:srcRect l="8052" t="39018" r="51701" b="32399"/>
          <a:stretch/>
        </p:blipFill>
        <p:spPr>
          <a:xfrm>
            <a:off x="250920" y="692280"/>
            <a:ext cx="2871720" cy="295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tangram_06"/>
          <p:cNvPicPr/>
          <p:nvPr/>
        </p:nvPicPr>
        <p:blipFill>
          <a:blip r:embed="rId3"/>
          <a:srcRect l="55817" t="6652" r="2013" b="61454"/>
          <a:stretch/>
        </p:blipFill>
        <p:spPr>
          <a:xfrm>
            <a:off x="6012000" y="692280"/>
            <a:ext cx="2695320" cy="3024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112000" cy="2671560"/>
          </a:xfrm>
          <a:prstGeom prst="rect">
            <a:avLst/>
          </a:prstGeom>
          <a:ln w="0">
            <a:noFill/>
          </a:ln>
        </p:spPr>
      </p:pic>
      <p:sp>
        <p:nvSpPr>
          <p:cNvPr id="29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4394-AEA4-477E-9E73-8892C0D7497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    </a:t>
            </a:r>
            <a:r>
              <a:rPr b="0" lang="ru-RU" sz="4600" spc="-1" strike="noStrike">
                <a:solidFill>
                  <a:srgbClr val="ff3399"/>
                </a:solidFill>
                <a:latin typeface="Arial"/>
              </a:rPr>
              <a:t>«Танграм» своими руками.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762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анграм лёгок в изготовлении , смастерим его мы с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8" descr=""/>
          <p:cNvPicPr/>
          <p:nvPr/>
        </p:nvPicPr>
        <p:blipFill>
          <a:blip r:embed="rId1"/>
          <a:stretch/>
        </p:blipFill>
        <p:spPr>
          <a:xfrm>
            <a:off x="5092560" y="1916280"/>
            <a:ext cx="3872160" cy="3170160"/>
          </a:xfrm>
          <a:prstGeom prst="rect">
            <a:avLst/>
          </a:prstGeom>
          <a:ln w="0">
            <a:noFill/>
          </a:ln>
        </p:spPr>
      </p:pic>
      <p:sp>
        <p:nvSpPr>
          <p:cNvPr id="301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C4C1-4E27-40C9-8CAE-953B7B4C425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anklin Gothic Book"/>
              </a:rPr>
              <a:t>При решении головоломки требуется соблюдать два условия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3" name="Picture 5" descr="220px-Tangram-man"/>
          <p:cNvPicPr/>
          <p:nvPr/>
        </p:nvPicPr>
        <p:blipFill>
          <a:blip r:embed="rId1"/>
          <a:stretch/>
        </p:blipFill>
        <p:spPr>
          <a:xfrm>
            <a:off x="900000" y="1844640"/>
            <a:ext cx="2624400" cy="39369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еобходимо использовать все семь фигур тангра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фигуры не должны перекрываться между соб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0DD7-1E15-4FDE-9ED2-2ACF869EE574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ff0066"/>
                </a:solidFill>
                <a:latin typeface="Franklin Gothic Book"/>
              </a:rPr>
              <a:t>      </a:t>
            </a:r>
            <a:r>
              <a:rPr b="0" lang="ru-RU" sz="3600" spc="-1" strike="noStrike">
                <a:solidFill>
                  <a:srgbClr val="ff0066"/>
                </a:solidFill>
                <a:latin typeface="Franklin Gothic Book"/>
              </a:rPr>
              <a:t>Ну, а теперь</a:t>
            </a:r>
            <a:r>
              <a:rPr b="0" lang="en-US" sz="3600" spc="-1" strike="noStrike">
                <a:solidFill>
                  <a:srgbClr val="ff0066"/>
                </a:solidFill>
                <a:latin typeface="Franklin Gothic Book"/>
              </a:rPr>
              <a:t> -</a:t>
            </a:r>
            <a:r>
              <a:rPr b="0" lang="ru-RU" sz="3600" spc="-1" strike="noStrike">
                <a:solidFill>
                  <a:srgbClr val="ff0066"/>
                </a:solidFill>
                <a:latin typeface="Franklin Gothic Book"/>
              </a:rPr>
              <a:t> смелее за работу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55640" y="144144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308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369-64E0-406C-AFD4-D3C6D00D6E9C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0" lang="ru-RU" sz="4600" spc="-1" strike="noStrike">
                <a:solidFill>
                  <a:srgbClr val="3333cc"/>
                </a:solidFill>
                <a:latin typeface="Franklin Gothic Book"/>
              </a:rPr>
              <a:t>Сборка квадрата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2195640" y="1628640"/>
            <a:ext cx="4537080" cy="44643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CAC-CA7B-40FA-A6F6-029EBCC3977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9:45:12Z</dcterms:created>
  <dc:creator>User</dc:creator>
  <dc:description/>
  <dc:language>en-US</dc:language>
  <cp:lastModifiedBy>Комп10</cp:lastModifiedBy>
  <dcterms:modified xsi:type="dcterms:W3CDTF">2017-05-17T07:44:14Z</dcterms:modified>
  <cp:revision>80</cp:revision>
  <dc:subject/>
  <dc:title>Слайд 1</dc:title>
</cp:coreProperties>
</file>