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589-53E5-46F0-8166-B95C82F4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C189-360F-42AC-A836-43F2640B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FDC5-EE32-4293-A4FF-560EEEA3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62DF-8C3B-4745-AD0F-39950D701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A4D73-8DF1-4F95-AE5C-223B766FF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41AF-3CCB-463A-B53B-702C535A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AA2B-EC75-4B78-8FBC-5DEFA122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B80A1-F46D-4509-8483-BC0D6ED28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ADAA-047B-426F-B0C4-4694E691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35EC-39E2-458C-8117-2DAFF5AB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9462-7052-4EA0-83CE-344239C0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1A81-3794-4033-BD4C-E56BC483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746FB-7E36-44D2-8AEB-30E5946D6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F9B8-2281-4880-BAA2-3A3BFED8E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7169-DE94-4E4D-AE6D-0736F131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ED163-4836-4672-BE28-DE41A3E80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C2FC-145A-4465-9F5A-FBA93BC1F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AF53-B33F-4A43-B000-66A71011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D89F-788B-4284-98EA-6E8DEA7C7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0CE7-4612-475E-8A92-076E1EC2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4127-3DA5-4826-8051-99EF0AFC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0E82-B4F8-41F0-9641-CA8655276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DFC-5695-4919-BC0F-6A05E2FC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52E5-C7EE-4E1B-B899-8404B247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70B0-150B-41F6-9543-0721565C36B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E4F4-31C3-4B07-ABDD-723BC03CF12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3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47280" y="115560"/>
            <a:ext cx="727236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«Внеурочная деятельность как неотъемлемая часть образовательного процесса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в условиях реализации ФГОС 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5076720" y="3962520"/>
            <a:ext cx="2955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Arial"/>
              </a:rPr>
              <a:t>Педсов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6"/>
          <p:cNvSpPr/>
          <p:nvPr/>
        </p:nvSpPr>
        <p:spPr>
          <a:xfrm>
            <a:off x="900000" y="1052640"/>
            <a:ext cx="74883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едагоги не могут успешно кого-то учить, если в это же время усердно не учатся сам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Апшеро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11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«Только та школа становится очагом духовной жизни, где помимо интересных уроков имеются и успешно применяются самые разнообразные формы развития учащихся вне уроков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.А. Сухомлинск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62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РОВНИ ВОСПИТАТЕЛЬН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4286520" cy="29811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4"/>
          <p:cNvSpPr/>
          <p:nvPr/>
        </p:nvSpPr>
        <p:spPr>
          <a:xfrm>
            <a:off x="468360" y="23223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стигается во взаимодействии с педаго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5"/>
          <p:cNvSpPr/>
          <p:nvPr/>
        </p:nvSpPr>
        <p:spPr>
          <a:xfrm>
            <a:off x="1979640" y="385920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Первый уров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РОВНИ ВОСПИТАТЕЛЬН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4067280" y="285264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1619280" y="342900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Второ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5"/>
          <p:cNvSpPr/>
          <p:nvPr/>
        </p:nvSpPr>
        <p:spPr>
          <a:xfrm>
            <a:off x="0" y="184464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стигается в дружественной детской среде (коллектив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487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РОВНИ ВОСПИТАТЕЛЬНЫХ РЕЗУЛЬТА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4140360" y="2924280"/>
            <a:ext cx="4800600" cy="363384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4"/>
          <p:cNvSpPr/>
          <p:nvPr/>
        </p:nvSpPr>
        <p:spPr>
          <a:xfrm>
            <a:off x="1476360" y="3446640"/>
            <a:ext cx="25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Трети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5"/>
          <p:cNvSpPr/>
          <p:nvPr/>
        </p:nvSpPr>
        <p:spPr>
          <a:xfrm>
            <a:off x="539640" y="1844640"/>
            <a:ext cx="82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стигается во взаимодействии с социальными субъект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ждому уровню воспитательного результата соответствует своя образовательная фор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269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рсирование результатов недопустим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2484360" y="3284640"/>
            <a:ext cx="6153120" cy="284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stand_"/>
          <p:cNvPicPr/>
          <p:nvPr/>
        </p:nvPicPr>
        <p:blipFill>
          <a:blip r:embed="rId2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cxnSp>
        <p:nvCxnSpPr>
          <p:cNvPr id="106" name="Прямая со стрелкой 2"/>
          <p:cNvCxnSpPr/>
          <p:nvPr/>
        </p:nvCxnSpPr>
        <p:spPr>
          <a:xfrm flipV="1">
            <a:off x="4211280" y="5012640"/>
            <a:ext cx="73800" cy="5770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Прямая со стрелкой 14"/>
          <p:cNvCxnSpPr/>
          <p:nvPr/>
        </p:nvCxnSpPr>
        <p:spPr>
          <a:xfrm flipV="1">
            <a:off x="5148000" y="4524120"/>
            <a:ext cx="122400" cy="489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Прямая со стрелкой 15"/>
          <p:cNvCxnSpPr/>
          <p:nvPr/>
        </p:nvCxnSpPr>
        <p:spPr>
          <a:xfrm flipV="1">
            <a:off x="5949720" y="4185720"/>
            <a:ext cx="1080" cy="489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9" descr="F:\DCIM\101PHOTO\SAM_0282.JPG"/>
          <p:cNvPicPr/>
          <p:nvPr/>
        </p:nvPicPr>
        <p:blipFill>
          <a:blip r:embed="rId1"/>
          <a:stretch/>
        </p:blipFill>
        <p:spPr>
          <a:xfrm>
            <a:off x="3400560" y="109440"/>
            <a:ext cx="5529240" cy="414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F:\DCIM\101PHOTO\SAM_0281.JPG"/>
          <p:cNvPicPr/>
          <p:nvPr/>
        </p:nvPicPr>
        <p:blipFill>
          <a:blip r:embed="rId2"/>
          <a:stretch/>
        </p:blipFill>
        <p:spPr>
          <a:xfrm>
            <a:off x="3851280" y="2924280"/>
            <a:ext cx="5097600" cy="3824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F:\DCIM\101PHOTO\SAM_0274.JPG"/>
          <p:cNvPicPr/>
          <p:nvPr/>
        </p:nvPicPr>
        <p:blipFill>
          <a:blip r:embed="rId3"/>
          <a:stretch/>
        </p:blipFill>
        <p:spPr>
          <a:xfrm>
            <a:off x="241200" y="260280"/>
            <a:ext cx="5124600" cy="3845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F:\DCIM\101PHOTO\SAM_0263.JPG"/>
          <p:cNvPicPr/>
          <p:nvPr/>
        </p:nvPicPr>
        <p:blipFill>
          <a:blip r:embed="rId4"/>
          <a:stretch/>
        </p:blipFill>
        <p:spPr>
          <a:xfrm>
            <a:off x="468360" y="3860640"/>
            <a:ext cx="3527280" cy="2646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F:\DCIM\101PHOTO\SAM_0262.JPG"/>
          <p:cNvPicPr/>
          <p:nvPr/>
        </p:nvPicPr>
        <p:blipFill>
          <a:blip r:embed="rId5"/>
          <a:stretch/>
        </p:blipFill>
        <p:spPr>
          <a:xfrm>
            <a:off x="5267160" y="1320840"/>
            <a:ext cx="3681720" cy="27604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stand_"/>
          <p:cNvPicPr/>
          <p:nvPr/>
        </p:nvPicPr>
        <p:blipFill>
          <a:blip r:embed="rId6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F:\DCIM\101PHOTO\SAM_0283.JPG"/>
          <p:cNvPicPr/>
          <p:nvPr/>
        </p:nvPicPr>
        <p:blipFill>
          <a:blip r:embed="rId7"/>
          <a:stretch/>
        </p:blipFill>
        <p:spPr>
          <a:xfrm>
            <a:off x="299880" y="236520"/>
            <a:ext cx="82821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252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imes New Roman"/>
              </a:rPr>
              <a:t>Опрос учащих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26920" y="10526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С каким настроением ты идёшь в школу?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 большим желанием  -68 чел;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с большим нежеланием-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по обязанности-20;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без интереса-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С каким настроением ты приходишь из школы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уставший, но удовлетворённый -45;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весёлый и жизнерадостный -48;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раздражённый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О каких интересных делах в школе ты рассказываешь дома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щение с товарищами- 9;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о том, что было на уроке -72;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о внеурочных занятиях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;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не рассказываю -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565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2. «Час работы научит больше, чем день объяснения»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                                                                    Ж.-Ж. Русс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971640" y="1273680"/>
            <a:ext cx="792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 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нтерес не только растит интеллект, он раскрывает личность. Интерес не только раскрывает глаза и уши, он возвышает умы и душ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Calibri"/>
              </a:rPr>
              <a:t>А. Грин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4"/>
          <p:cNvSpPr/>
          <p:nvPr/>
        </p:nvSpPr>
        <p:spPr>
          <a:xfrm>
            <a:off x="1547640" y="3860640"/>
            <a:ext cx="698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3. «Учить не мыслям, а мысл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                                                  </a:t>
            </a:r>
            <a:r>
              <a:rPr b="0" lang="ru-RU" sz="2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И. Кант</a:t>
            </a:r>
            <a:r>
              <a:rPr b="0" lang="ru-RU" sz="28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160" y="36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6"/>
          <p:cNvSpPr/>
          <p:nvPr/>
        </p:nvSpPr>
        <p:spPr>
          <a:xfrm>
            <a:off x="976320" y="4869000"/>
            <a:ext cx="791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215968"/>
                </a:solidFill>
                <a:latin typeface="Times New Roman"/>
                <a:ea typeface="Times New Roman"/>
              </a:rPr>
              <a:t>«Воспитатель сам должен быть тем, чем он хочет сделать воспитанника»                                                                                                                    В. Дал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stand_"/>
          <p:cNvPicPr/>
          <p:nvPr/>
        </p:nvPicPr>
        <p:blipFill>
          <a:blip r:embed="rId1"/>
          <a:stretch/>
        </p:blipFill>
        <p:spPr>
          <a:xfrm>
            <a:off x="6087960" y="0"/>
            <a:ext cx="3056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03:39:40Z</dcterms:created>
  <dc:creator>Переносной</dc:creator>
  <dc:description/>
  <dc:language>en-US</dc:language>
  <cp:lastModifiedBy>Admin</cp:lastModifiedBy>
  <dcterms:modified xsi:type="dcterms:W3CDTF">2018-06-17T08:32:42Z</dcterms:modified>
  <cp:revision>58</cp:revision>
  <dc:subject/>
  <dc:title>Презентация PowerPoint</dc:title>
</cp:coreProperties>
</file>