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10B7-78A4-484C-B29E-D862A933D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3B28-B662-40B4-8195-FF1A9E04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B20-A8D4-4784-95EE-61EF86629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4061-DFB2-48C0-9D3A-7E43F2A6D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62AD-2A6F-46FD-8F89-D1A316406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ECC0-A1D2-427D-9407-4CDCDBE1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1077-CDD8-4CF5-86A7-84279556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25A7-40F0-435B-92B0-37D3C09F0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B4D2-08EC-450F-A3EA-0AC84403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1F49A-3293-4415-ACCD-B016EC1A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F1944-B10A-49C0-BCD2-F077FD88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FA8-811D-4E46-9395-509B9AB8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76BB6-38E6-47E8-B4EF-672237C8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28FF-0E3E-4159-8174-800D1D75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701E4-AE94-41A3-B280-79DDCDBD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4BCAF-6D2A-49D9-884B-9B0D6E3C6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947F-926A-43F2-B82F-961474E1D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804-32FB-4885-9F32-ECE26E6E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276-FF38-474A-BBC2-1565DEBE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C0EF-DED0-4B91-9DD0-7238FAFE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66E-34BE-498B-A1C6-4A700262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FBA-72FC-49CB-AEDF-E14CD723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DC5-E890-4080-9437-CB37BFB3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09C2-B70F-4629-96B3-96ABEBF9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1A99-D7B4-4556-97BE-51D25824F5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4EE1C-C4FC-4CAD-B0E2-615D6DF6F1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3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723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Внеурочная деятельность как неотъемлемая часть образовательного процесс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в условиях реализации ФГОС 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5076720" y="3962520"/>
            <a:ext cx="29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Arial"/>
              </a:rPr>
              <a:t>Пед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900000" y="105264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 не могут успешно кого-то учить, если в это же время усердно не учатся сам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Апшер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11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«Только та школа становится очагом духовной жизни, где помимо интересных уроков имеются и успешно применяются самые разнообразные формы развития учащихся вне уроков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РОВНИ ВОСПИТАТЕЛЬ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4286520" cy="29811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468360" y="2322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стигается во взаимодействии с педаго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979640" y="38592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ерв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РОВНИ ВОСПИТАТЕЛЬ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4067280" y="28526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1619280" y="342900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Второ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0" y="184464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стигается в дружественной детской среде (коллектив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РОВНИ ВОСПИТАТЕЛЬ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4800600" cy="36338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1476360" y="34466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Трети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539640" y="1844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стигается во взаимодействии с социальными субъе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ждому уровню воспитательного результата соответствует своя образовательная фор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69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сирование результатов недопустим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6153120" cy="28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cxnSp>
        <p:nvCxnSpPr>
          <p:cNvPr id="106" name="Прямая со стрелкой 2"/>
          <p:cNvCxnSpPr/>
          <p:nvPr/>
        </p:nvCxnSpPr>
        <p:spPr>
          <a:xfrm flipV="1">
            <a:off x="4211280" y="5012640"/>
            <a:ext cx="73800" cy="577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Прямая со стрелкой 14"/>
          <p:cNvCxnSpPr/>
          <p:nvPr/>
        </p:nvCxnSpPr>
        <p:spPr>
          <a:xfrm flipV="1">
            <a:off x="5148000" y="4524120"/>
            <a:ext cx="122400" cy="489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Прямая со стрелкой 15"/>
          <p:cNvCxnSpPr/>
          <p:nvPr/>
        </p:nvCxnSpPr>
        <p:spPr>
          <a:xfrm flipV="1">
            <a:off x="5949720" y="4185720"/>
            <a:ext cx="1080" cy="489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F:\DCIM\101PHOTO\SAM_0282.JPG"/>
          <p:cNvPicPr/>
          <p:nvPr/>
        </p:nvPicPr>
        <p:blipFill>
          <a:blip r:embed="rId1"/>
          <a:stretch/>
        </p:blipFill>
        <p:spPr>
          <a:xfrm>
            <a:off x="3400560" y="109440"/>
            <a:ext cx="5529240" cy="414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F:\DCIM\101PHOTO\SAM_0281.JPG"/>
          <p:cNvPicPr/>
          <p:nvPr/>
        </p:nvPicPr>
        <p:blipFill>
          <a:blip r:embed="rId2"/>
          <a:stretch/>
        </p:blipFill>
        <p:spPr>
          <a:xfrm>
            <a:off x="3851280" y="2924280"/>
            <a:ext cx="5097600" cy="382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F:\DCIM\101PHOTO\SAM_0274.JPG"/>
          <p:cNvPicPr/>
          <p:nvPr/>
        </p:nvPicPr>
        <p:blipFill>
          <a:blip r:embed="rId3"/>
          <a:stretch/>
        </p:blipFill>
        <p:spPr>
          <a:xfrm>
            <a:off x="241200" y="260280"/>
            <a:ext cx="5124600" cy="384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F:\DCIM\101PHOTO\SAM_0263.JPG"/>
          <p:cNvPicPr/>
          <p:nvPr/>
        </p:nvPicPr>
        <p:blipFill>
          <a:blip r:embed="rId4"/>
          <a:stretch/>
        </p:blipFill>
        <p:spPr>
          <a:xfrm>
            <a:off x="468360" y="38606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F:\DCIM\101PHOTO\SAM_0262.JPG"/>
          <p:cNvPicPr/>
          <p:nvPr/>
        </p:nvPicPr>
        <p:blipFill>
          <a:blip r:embed="rId5"/>
          <a:stretch/>
        </p:blipFill>
        <p:spPr>
          <a:xfrm>
            <a:off x="5267160" y="1320840"/>
            <a:ext cx="3681720" cy="276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stand_"/>
          <p:cNvPicPr/>
          <p:nvPr/>
        </p:nvPicPr>
        <p:blipFill>
          <a:blip r:embed="rId6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F:\DCIM\101PHOTO\SAM_0283.JPG"/>
          <p:cNvPicPr/>
          <p:nvPr/>
        </p:nvPicPr>
        <p:blipFill>
          <a:blip r:embed="rId7"/>
          <a:stretch/>
        </p:blipFill>
        <p:spPr>
          <a:xfrm>
            <a:off x="299880" y="236520"/>
            <a:ext cx="82821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252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Опрос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26920" y="10526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 каким настроением ты идёшь в школу?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 большим желанием  -68 чел;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 большим нежеланием-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о обязанности-20;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без интереса-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 каким настроением ты приходишь из школ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уставший, но удовлетворённый -45;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есёлый и жизнерадостный -48;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дражённый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О каких интересных делах в школе ты рассказываешь дом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ние с товарищами- 9;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 том, что было на уроке -72;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 внеурочных занятиях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 рассказываю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2. «Час работы научит больше, чем день объяснения»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   Ж.-Ж. Русс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971640" y="127368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нтерес не только растит интеллект, он раскрывает личность. Интерес не только раскрывает глаза и уши, он возвышает умы и душ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А. Грин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1547640" y="3860640"/>
            <a:ext cx="69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3. «Учить не мыслям, а мысл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. Кант</a:t>
            </a:r>
            <a:r>
              <a:rPr b="0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160" y="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976320" y="486900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«Воспитатель сам должен быть тем, чем он хочет сделать воспитанника»                                                                                                                    В. Да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03:39:40Z</dcterms:created>
  <dc:creator>Переносной</dc:creator>
  <dc:description/>
  <dc:language>en-US</dc:language>
  <cp:lastModifiedBy>Admin</cp:lastModifiedBy>
  <dcterms:modified xsi:type="dcterms:W3CDTF">2018-06-17T08:32:42Z</dcterms:modified>
  <cp:revision>58</cp:revision>
  <dc:subject/>
  <dc:title>Презентация PowerPoint</dc:title>
</cp:coreProperties>
</file>