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F23E-EC02-4A15-BF17-DC699D8A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5825-93FA-4309-B4DC-85088441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35D6-B577-49B5-87F5-B4A70108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151F-0C2B-41B5-AE9E-9C759F86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8879-6FA1-4CE1-B6A9-057E6891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AA1B-6922-41E2-917F-5E9DE7AD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263B-8447-4A85-A243-DF52AA01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F7D4-7C6A-4F09-BC08-ABEC678F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FA1D-836C-40CE-888F-44A962E1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572E-3C7D-4A39-B678-DEDC9BFA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552A-0B06-4178-B499-72010BC5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0E7C-2558-468C-8AE9-1899C149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DC06-88EF-4280-B6B0-698E9803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2285-B681-4A63-B0D1-37FF8ECC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BACE-5A7F-4763-A2EE-B2F5EC82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C41E-59F5-4943-9910-8BE131112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158F-6A5C-4297-99A4-E3D63BB8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57C4B-FA4A-41A4-B7E6-C8BBC76A0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D5936-04F4-43D5-A303-5408031D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EF463-49EA-4F52-BCEB-DFA39DE0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B29BB-3CD7-4F77-9058-1EE60BB0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9CD5C-0375-4AAF-BCAC-94A49847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67F4-6D55-4672-90B1-70385A5B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4DAB1-3090-4273-84A5-8F5D19A7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C85D2-4D0E-4F11-8A42-B35D5095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14253-4B64-428F-B273-90FFC312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0026D-B086-446C-BA45-E8E6642F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134E0-068E-48B8-AD28-F2E00E41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AFFEC-CD7A-4BC7-97FE-DD2C5275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C317F-E847-4085-9B50-7DA9C677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8EC2E-66AB-41CC-A07E-77F2581D7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41291-474E-4623-9DBD-C291E15A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A24D5-1607-47CD-9D71-A45F4CE3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6C96-78C2-47F2-A637-DE622B33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99B75-057D-4CC0-9842-435DF03D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0D5B2-D580-442C-ACE7-5AA36283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D9CE7-B221-4AA4-94A1-C7C0035B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F1B7A-5BA7-4A05-BAC8-0780B683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A7A28-963B-4024-A7EB-6DE3E82F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D5A36-B421-47A0-9D86-443D3A42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B04EF-351D-46C9-A16B-267B7524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BC6E9-6F1F-415E-BEEF-73AD8FCF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830C0-B907-405B-99F7-D573185E3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B259A-31CA-4D26-A82A-FEC94978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219E-272D-41AB-9FD8-8B58E7C3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35620-259A-421A-BC94-BCB3CB3B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60854-5062-4570-96BA-8D01B023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3950D-6BE6-4A08-A2C4-C3FB9F79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A0598-52CA-46F4-8219-36162DA8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F0362-05FC-438B-99A5-A1CBD390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E0211-14F8-4F89-8085-654E6DE3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8ACF4-E6F2-4CFC-98F3-DC4BCCB0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C53CF-09F5-4A1C-A254-FC6B3769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E1E4B-5AA5-44A5-B546-0A243B58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72108-3B63-402C-8583-36461F6A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FE2B-40F7-4A26-AE91-03432952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3CDC8-CCE8-4D73-B598-FEB6319FD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A2D2B-8104-4096-AF21-51353FD1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970FB-7BFD-4EDB-AAE7-84AD5D63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0C480-6C08-4223-AE60-3991745C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2920E-4AC7-4742-82C0-BCB569EB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E5F85-A737-45CD-9CB5-D1651B1D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B97B0-DF31-4DAD-A740-44076172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460BF-BB14-47FD-BA55-C84419F4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380CC-E961-4E5D-B76C-84FFF3F2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C79D8-B30E-4C52-89CC-032E9ACC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2CBE-FB4E-4FD0-8695-C785FC8C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8CCFD-5829-4C72-88D4-91DF8120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C6CF7-20CA-4CDF-B0FB-16C518E97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DA70C-EA93-4E61-B15A-6F223099E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882AB-0D94-4A4F-8D89-8E26CA838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03411-AD23-4516-9ED1-2BB1C3D6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1DB43-B2AD-487C-8837-B86C80E4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F6DBC-E0E1-491E-9680-FFDBFEF0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19CA4-B3FE-483B-9063-B35520E7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67178-E8E9-4D8B-8E5C-086DE0DF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091CD-8B8F-490D-A7D7-70E5BC92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4946-5B54-4B2E-9CBD-0C886036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81A26-951F-4960-A50C-25A32B75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C0516-F98F-4034-9AC7-FB432427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18551-4C8E-45A6-9918-90685A01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51FB0-2B27-4FC1-AFB4-78B31D90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3AEA0-1B65-40F0-93A8-91161BCB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E05C-4750-4214-82C7-9BD144AC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D60A-D235-4B04-AC2B-6DC2AE660E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8BD8-E2E4-4ECE-A8BB-FEA342301FEC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42B5-DA03-4831-B75A-145CDC1916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FAFD-9024-4AA6-9907-CAC7060205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2B1D-7558-4593-81AB-D0531A6CCB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B9B0-3B42-4057-AC23-288153E9311E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49C7-58F0-4A2E-81C7-B68C3928D626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4"/>
          <p:cNvSpPr/>
          <p:nvPr/>
        </p:nvSpPr>
        <p:spPr>
          <a:xfrm>
            <a:off x="500040" y="2133720"/>
            <a:ext cx="820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Презентация для детей старшего дошкольного возра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Знакомимся с летним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видами спорта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волейбол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6"/>
          <p:cNvSpPr/>
          <p:nvPr/>
        </p:nvSpPr>
        <p:spPr>
          <a:xfrm>
            <a:off x="826920" y="404640"/>
            <a:ext cx="7882200" cy="1511640"/>
          </a:xfrm>
          <a:prstGeom prst="ellipse">
            <a:avLst/>
          </a:prstGeom>
          <a:solidFill>
            <a:srgbClr val="ffff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 Black"/>
              </a:rPr>
              <a:t>Государственное бюджетное дошколь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 Black"/>
              </a:rPr>
              <a:t>образовательное учре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 Black"/>
              </a:rPr>
              <a:t>детский сад №3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 Black"/>
              </a:rPr>
              <a:t>Василеостровского района Санкт-Петербур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5148360" y="501336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Подготовила инструктор по физической культуре Никитина Светлана Григор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1"/>
          <p:cNvSpPr/>
          <p:nvPr/>
        </p:nvSpPr>
        <p:spPr>
          <a:xfrm>
            <a:off x="642960" y="357120"/>
            <a:ext cx="7858080" cy="600084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Прямоугольник 2"/>
          <p:cNvSpPr/>
          <p:nvPr/>
        </p:nvSpPr>
        <p:spPr>
          <a:xfrm>
            <a:off x="714240" y="571680"/>
            <a:ext cx="7715520" cy="57150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Прямоугольник 1"/>
          <p:cNvSpPr/>
          <p:nvPr/>
        </p:nvSpPr>
        <p:spPr>
          <a:xfrm>
            <a:off x="785880" y="428760"/>
            <a:ext cx="7715160" cy="59292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оугольник 1"/>
          <p:cNvSpPr/>
          <p:nvPr/>
        </p:nvSpPr>
        <p:spPr>
          <a:xfrm>
            <a:off x="1116000" y="1081080"/>
            <a:ext cx="7024680" cy="530532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рямоугольник 2"/>
          <p:cNvSpPr/>
          <p:nvPr/>
        </p:nvSpPr>
        <p:spPr>
          <a:xfrm>
            <a:off x="1116000" y="115920"/>
            <a:ext cx="70246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1a4f"/>
                </a:solidFill>
                <a:latin typeface="Century Gothic"/>
              </a:rPr>
              <a:t>Пляжный волейбо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Прямоугольник 2"/>
          <p:cNvSpPr/>
          <p:nvPr/>
        </p:nvSpPr>
        <p:spPr>
          <a:xfrm>
            <a:off x="1071720" y="214200"/>
            <a:ext cx="7215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776"/>
                </a:solidFill>
                <a:latin typeface="Century Gothic"/>
              </a:rPr>
              <a:t>Правила волейбол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357120" y="1293480"/>
            <a:ext cx="842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Arial"/>
              </a:rPr>
              <a:t>Игра ведётся на прямоугольной площадке размером 18х9 метров. Волейбольная площадка разделена посередине сеткой. Высота сетки для мужчин — 2,43 м, для женщин — 2,24 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оугольник 3"/>
          <p:cNvSpPr/>
          <p:nvPr/>
        </p:nvSpPr>
        <p:spPr>
          <a:xfrm>
            <a:off x="1857240" y="3000240"/>
            <a:ext cx="5572440" cy="357192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Прямоугольник 3"/>
          <p:cNvSpPr/>
          <p:nvPr/>
        </p:nvSpPr>
        <p:spPr>
          <a:xfrm>
            <a:off x="4714920" y="1000080"/>
            <a:ext cx="4071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Arial"/>
              </a:rPr>
              <a:t>Каждая из двух команд может иметь в составе до 14 игроков, на поле в каждый момент времени могут находиться 6 игроков. Цель игры — атакующим ударом добить мяч </a:t>
            </a:r>
            <a:r>
              <a:rPr b="0" i="1" lang="ru-RU" sz="2400" spc="-1" strike="noStrike">
                <a:solidFill>
                  <a:srgbClr val="002776"/>
                </a:solidFill>
                <a:latin typeface="Arial"/>
              </a:rPr>
              <a:t>до пола</a:t>
            </a:r>
            <a:r>
              <a:rPr b="0" lang="ru-RU" sz="2400" spc="-1" strike="noStrike">
                <a:solidFill>
                  <a:srgbClr val="002776"/>
                </a:solidFill>
                <a:latin typeface="Arial"/>
              </a:rPr>
              <a:t>, то есть до игровой поверхности площадки половины противника, или заставить его ошибить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Прямоугольник 4"/>
          <p:cNvSpPr/>
          <p:nvPr/>
        </p:nvSpPr>
        <p:spPr>
          <a:xfrm>
            <a:off x="785880" y="857160"/>
            <a:ext cx="3643200" cy="492912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1"/>
          <p:cNvSpPr/>
          <p:nvPr/>
        </p:nvSpPr>
        <p:spPr>
          <a:xfrm>
            <a:off x="500040" y="57168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776"/>
                </a:solidFill>
                <a:latin typeface="Arial"/>
              </a:rPr>
              <a:t>Подача мяч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Прямоугольник 2"/>
          <p:cNvSpPr/>
          <p:nvPr/>
        </p:nvSpPr>
        <p:spPr>
          <a:xfrm>
            <a:off x="2671920" y="1413000"/>
            <a:ext cx="3771720" cy="485748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1"/>
          <p:cNvSpPr/>
          <p:nvPr/>
        </p:nvSpPr>
        <p:spPr>
          <a:xfrm>
            <a:off x="500040" y="57168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776"/>
                </a:solidFill>
                <a:latin typeface="Arial"/>
              </a:rPr>
              <a:t>Приём подач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оугольник 2"/>
          <p:cNvSpPr/>
          <p:nvPr/>
        </p:nvSpPr>
        <p:spPr>
          <a:xfrm>
            <a:off x="2500200" y="1500120"/>
            <a:ext cx="4500720" cy="485784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Прямоугольник 1"/>
          <p:cNvSpPr/>
          <p:nvPr/>
        </p:nvSpPr>
        <p:spPr>
          <a:xfrm>
            <a:off x="500040" y="57168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776"/>
                </a:solidFill>
                <a:latin typeface="Arial"/>
              </a:rPr>
              <a:t>Ата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Прямоугольник 2"/>
          <p:cNvSpPr/>
          <p:nvPr/>
        </p:nvSpPr>
        <p:spPr>
          <a:xfrm>
            <a:off x="2000160" y="1357200"/>
            <a:ext cx="521496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Прямоугольник 1"/>
          <p:cNvSpPr/>
          <p:nvPr/>
        </p:nvSpPr>
        <p:spPr>
          <a:xfrm>
            <a:off x="500040" y="57168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776"/>
                </a:solidFill>
                <a:latin typeface="Arial"/>
              </a:rPr>
              <a:t>Защи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2"/>
          <p:cNvSpPr/>
          <p:nvPr/>
        </p:nvSpPr>
        <p:spPr>
          <a:xfrm>
            <a:off x="1143000" y="1428840"/>
            <a:ext cx="6715080" cy="50004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Прямоугольник 1"/>
          <p:cNvSpPr/>
          <p:nvPr/>
        </p:nvSpPr>
        <p:spPr>
          <a:xfrm>
            <a:off x="500040" y="57168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776"/>
                </a:solidFill>
                <a:latin typeface="Arial"/>
              </a:rPr>
              <a:t>Блок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Прямоугольник 2"/>
          <p:cNvSpPr/>
          <p:nvPr/>
        </p:nvSpPr>
        <p:spPr>
          <a:xfrm>
            <a:off x="1071720" y="1428840"/>
            <a:ext cx="6929280" cy="47862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Прямоугольник 2"/>
          <p:cNvSpPr/>
          <p:nvPr/>
        </p:nvSpPr>
        <p:spPr>
          <a:xfrm>
            <a:off x="714240" y="428760"/>
            <a:ext cx="7715520" cy="59292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06:04:03Z</dcterms:created>
  <dc:creator>Admin</dc:creator>
  <dc:description/>
  <dc:language>en-US</dc:language>
  <cp:lastModifiedBy>Admin</cp:lastModifiedBy>
  <dcterms:modified xsi:type="dcterms:W3CDTF">2018-06-17T19:30:52Z</dcterms:modified>
  <cp:revision>12</cp:revision>
  <dc:subject/>
  <dc:title>Слайд 1</dc:title>
</cp:coreProperties>
</file>