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E34E-928A-4D78-A683-68F720133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F1A3-2DBF-4C5D-B111-6A736EEC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E50A-0C0F-4A6F-A8E1-D4DED325E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5CF3-4A57-4144-AD98-87C0C491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715D-2A09-4D0C-92A3-DFCCCA40D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7E80-C2B2-4AEF-A3A5-3B1C26E9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5CCE-4261-4D6A-8553-E15A15E6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4851-CEA2-4C8C-ADFF-A679BE14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6F22-E346-4147-9523-41B837B2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51F9-EC91-4A59-94C1-BB743513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FA932-9008-4B03-978F-92D2929D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FB49-9C3D-4536-AC69-8975D9B9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2F05-1909-448B-BECC-BBEE5264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A596-8934-4CA1-B48D-32052996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C633-67A5-4F7A-9497-3D93BDC6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22E7-AECC-4784-852C-F2FBB8386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409B-8870-41E9-8291-AC225D0C0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33060-0240-4AF5-A886-51184D99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50132-BEBC-49BF-BB6C-204DF0FD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C62D1-890E-4CCC-B3DF-344E7DCD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C2BC1-C3F8-4131-8E73-62E0DC6A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BC8E1-8AE0-41E3-B2EC-E0DA9AA2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5212-B894-414E-9A14-BE7C1839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95904-437E-4434-9FD3-0C0E0B11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31328-409F-4195-881F-CCCC7D36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70853-4B98-4848-B205-6B745448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DD626-45F0-4EED-B57F-92CC7B9A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BF708-CF2D-4980-AC32-EC9B985E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EC465-F8EF-44EE-BAE3-FDC8E4EC4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46D83-DA28-4F07-8E17-79765AB9C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8EED2-2E53-45F1-A25E-4BE442EA0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CD6AB-D822-4D36-89A1-181AA45B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4404B-F61A-4197-BDC2-15E5986E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32E7-DF2B-4C90-8E40-FBE85DD3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7852E-B057-4656-8DD4-149B5B78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D9603-3B75-43E9-AEAD-FB778ACB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27083-DE8D-411A-BD18-52B635B6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330C7-0209-4427-AEA1-9EBA9553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56127-1B61-4B25-8396-1D0A71CB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5F7F1-79CA-4574-836C-1A8EEB04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85F12-776E-4E96-9F43-CF789FB5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96F59-0A2F-4A12-A293-216CBA20B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F10D4-D911-402E-86DA-4C21911A5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71255-A1B2-497A-BB1F-6A543D56E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3AE5-03DA-457B-8369-98FCFBEC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E894F-2DF3-4981-9A27-CFDC0EDE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F77D7-7BF8-4F3B-A70E-C7B92B44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47C64-DDB4-4E11-A504-BA0A2CD9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17B9B-D45C-4ED9-BEBE-DA4E563B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F7A4D-558C-429D-A5A0-A4B9D7A9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98887-0C92-45B2-AC9B-A371DB9C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02CC7-A55C-45C4-BB0D-F1656BCA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8A827-F690-4D56-9C1D-566E82AE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94A11-D6B5-4F76-99FE-AE5305DB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7AD0C-3079-4169-964D-87F571DE7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1CC5-99C3-4192-BEFB-75F6C3CD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21EEC-EAC0-489B-B742-EE79CA29A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BAF55-302B-4A67-8005-211A25781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D4C26-B7AA-4BF9-BD78-D49E59F8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67398-1646-418D-9072-F0F296D5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BBB7D-BF07-4A25-9A22-05AF1DA5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A08AF-3428-4D6B-9F92-11A266FC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66ED0-8C54-4B7D-BDF7-6E587F4C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4D9C1-3F16-4979-8C79-26E95A7C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B79C5-D63A-4129-A76D-113AEF8A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76237-BAEC-4A21-A381-120E4469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6014-6E47-4BB4-A691-4E764557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932AC-574F-463C-A182-64E4B745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53D32-E4F3-4E07-8309-27496D3A0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01268-2B52-4951-B963-2E07008A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0CF29-474A-419B-83F9-5505F7011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1E2EE-432F-434E-8D81-40E56EAF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6E7EB-99AE-49D6-9CE1-2FD59130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FCFD4-84F2-431C-A767-83A5BC41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0A078-C3EC-411D-BF74-0E68182E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DFFEC-E6F8-47BD-85CD-7DD00169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FD0CF-645F-4773-9A46-F7E9B0F2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46A6-B423-4B4B-B5D1-56043E8F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BF378-BFA7-4A06-860D-7F7ECAD2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DC2E8-7B16-4E54-8F08-65731BE7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2C1A7-729B-44AC-8B26-120D9AD9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FAFD8-E959-488E-AED1-74E0C6B8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0CC3E-9FFA-4705-BA7D-633B0C6D8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2C56-606B-4ED9-9DFF-BF4C8CEE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DEC4-3B10-4581-B840-389E26D583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EA8C-0A41-47B3-8338-5A7D7F4B0BA3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2592-80EB-490D-AC35-C10477A9A2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B22E-7F43-4D17-90A2-640B22EA2A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C142-D597-461D-9EE1-092C07BBBD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F996-A7D9-4825-B491-DCC17084E159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E971-A4B5-4671-BB86-A886BDBE7E9A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4"/>
          <p:cNvSpPr/>
          <p:nvPr/>
        </p:nvSpPr>
        <p:spPr>
          <a:xfrm>
            <a:off x="500040" y="2133720"/>
            <a:ext cx="820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Презентация для детей старшего дошкольного возра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Знакомимся с летним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видами спорта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волейбол</a:t>
            </a: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6"/>
          <p:cNvSpPr/>
          <p:nvPr/>
        </p:nvSpPr>
        <p:spPr>
          <a:xfrm>
            <a:off x="826920" y="404640"/>
            <a:ext cx="7882200" cy="1511640"/>
          </a:xfrm>
          <a:prstGeom prst="ellipse">
            <a:avLst/>
          </a:prstGeom>
          <a:solidFill>
            <a:srgbClr val="ffff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 Black"/>
              </a:rPr>
              <a:t>Государственное бюджетное дошколь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 Black"/>
              </a:rPr>
              <a:t>образовательное учре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 Black"/>
              </a:rPr>
              <a:t>детский сад №3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 Black"/>
              </a:rPr>
              <a:t>Василеостровского района Санкт-Петербур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5148360" y="501336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Подготовила инструктор по физической культуре Никитина Светлана Григор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1"/>
          <p:cNvSpPr/>
          <p:nvPr/>
        </p:nvSpPr>
        <p:spPr>
          <a:xfrm>
            <a:off x="642960" y="357120"/>
            <a:ext cx="7858080" cy="600084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Прямоугольник 2"/>
          <p:cNvSpPr/>
          <p:nvPr/>
        </p:nvSpPr>
        <p:spPr>
          <a:xfrm>
            <a:off x="714240" y="571680"/>
            <a:ext cx="7715520" cy="57150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Прямоугольник 1"/>
          <p:cNvSpPr/>
          <p:nvPr/>
        </p:nvSpPr>
        <p:spPr>
          <a:xfrm>
            <a:off x="785880" y="428760"/>
            <a:ext cx="7715160" cy="59292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Прямоугольник 1"/>
          <p:cNvSpPr/>
          <p:nvPr/>
        </p:nvSpPr>
        <p:spPr>
          <a:xfrm>
            <a:off x="1116000" y="1081080"/>
            <a:ext cx="7024680" cy="530532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Прямоугольник 2"/>
          <p:cNvSpPr/>
          <p:nvPr/>
        </p:nvSpPr>
        <p:spPr>
          <a:xfrm>
            <a:off x="1116000" y="115920"/>
            <a:ext cx="70246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1a4f"/>
                </a:solidFill>
                <a:latin typeface="Century Gothic"/>
              </a:rPr>
              <a:t>Пляжный волейбо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Прямоугольник 2"/>
          <p:cNvSpPr/>
          <p:nvPr/>
        </p:nvSpPr>
        <p:spPr>
          <a:xfrm>
            <a:off x="1071720" y="214200"/>
            <a:ext cx="72151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776"/>
                </a:solidFill>
                <a:latin typeface="Century Gothic"/>
              </a:rPr>
              <a:t>Правила волейбол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357120" y="1293480"/>
            <a:ext cx="842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6"/>
                </a:solidFill>
                <a:latin typeface="Arial"/>
              </a:rPr>
              <a:t>Игра ведётся на прямоугольной площадке размером 18х9 метров. Волейбольная площадка разделена посередине сеткой. Высота сетки для мужчин — 2,43 м, для женщин — 2,24 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6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Прямоугольник 3"/>
          <p:cNvSpPr/>
          <p:nvPr/>
        </p:nvSpPr>
        <p:spPr>
          <a:xfrm>
            <a:off x="1857240" y="3000240"/>
            <a:ext cx="5572440" cy="357192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Прямоугольник 3"/>
          <p:cNvSpPr/>
          <p:nvPr/>
        </p:nvSpPr>
        <p:spPr>
          <a:xfrm>
            <a:off x="4714920" y="1000080"/>
            <a:ext cx="4071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6"/>
                </a:solidFill>
                <a:latin typeface="Arial"/>
              </a:rPr>
              <a:t>Каждая из двух команд может иметь в составе до 14 игроков, на поле в каждый момент времени могут находиться 6 игроков. Цель игры — атакующим ударом добить мяч </a:t>
            </a:r>
            <a:r>
              <a:rPr b="0" i="1" lang="ru-RU" sz="2400" spc="-1" strike="noStrike">
                <a:solidFill>
                  <a:srgbClr val="002776"/>
                </a:solidFill>
                <a:latin typeface="Arial"/>
              </a:rPr>
              <a:t>до пола</a:t>
            </a:r>
            <a:r>
              <a:rPr b="0" lang="ru-RU" sz="2400" spc="-1" strike="noStrike">
                <a:solidFill>
                  <a:srgbClr val="002776"/>
                </a:solidFill>
                <a:latin typeface="Arial"/>
              </a:rPr>
              <a:t>, то есть до игровой поверхности площадки половины противника, или заставить его ошибить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Прямоугольник 4"/>
          <p:cNvSpPr/>
          <p:nvPr/>
        </p:nvSpPr>
        <p:spPr>
          <a:xfrm>
            <a:off x="785880" y="857160"/>
            <a:ext cx="3643200" cy="492912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1"/>
          <p:cNvSpPr/>
          <p:nvPr/>
        </p:nvSpPr>
        <p:spPr>
          <a:xfrm>
            <a:off x="500040" y="57168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776"/>
                </a:solidFill>
                <a:latin typeface="Arial"/>
              </a:rPr>
              <a:t>Подача мяч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Прямоугольник 2"/>
          <p:cNvSpPr/>
          <p:nvPr/>
        </p:nvSpPr>
        <p:spPr>
          <a:xfrm>
            <a:off x="2671920" y="1413000"/>
            <a:ext cx="3771720" cy="485748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оугольник 1"/>
          <p:cNvSpPr/>
          <p:nvPr/>
        </p:nvSpPr>
        <p:spPr>
          <a:xfrm>
            <a:off x="500040" y="57168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776"/>
                </a:solidFill>
                <a:latin typeface="Arial"/>
              </a:rPr>
              <a:t>Приём подач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рямоугольник 2"/>
          <p:cNvSpPr/>
          <p:nvPr/>
        </p:nvSpPr>
        <p:spPr>
          <a:xfrm>
            <a:off x="2500200" y="1500120"/>
            <a:ext cx="4500720" cy="485784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Прямоугольник 1"/>
          <p:cNvSpPr/>
          <p:nvPr/>
        </p:nvSpPr>
        <p:spPr>
          <a:xfrm>
            <a:off x="500040" y="57168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776"/>
                </a:solidFill>
                <a:latin typeface="Arial"/>
              </a:rPr>
              <a:t>Ата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Прямоугольник 2"/>
          <p:cNvSpPr/>
          <p:nvPr/>
        </p:nvSpPr>
        <p:spPr>
          <a:xfrm>
            <a:off x="2000160" y="1357200"/>
            <a:ext cx="5214960" cy="500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Прямоугольник 1"/>
          <p:cNvSpPr/>
          <p:nvPr/>
        </p:nvSpPr>
        <p:spPr>
          <a:xfrm>
            <a:off x="500040" y="57168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776"/>
                </a:solidFill>
                <a:latin typeface="Arial"/>
              </a:rPr>
              <a:t>Защи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2"/>
          <p:cNvSpPr/>
          <p:nvPr/>
        </p:nvSpPr>
        <p:spPr>
          <a:xfrm>
            <a:off x="1143000" y="1428840"/>
            <a:ext cx="6715080" cy="50004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Прямоугольник 1"/>
          <p:cNvSpPr/>
          <p:nvPr/>
        </p:nvSpPr>
        <p:spPr>
          <a:xfrm>
            <a:off x="500040" y="57168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776"/>
                </a:solidFill>
                <a:latin typeface="Arial"/>
              </a:rPr>
              <a:t>Блокир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Прямоугольник 2"/>
          <p:cNvSpPr/>
          <p:nvPr/>
        </p:nvSpPr>
        <p:spPr>
          <a:xfrm>
            <a:off x="1071720" y="1428840"/>
            <a:ext cx="6929280" cy="47862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Прямоугольник 2"/>
          <p:cNvSpPr/>
          <p:nvPr/>
        </p:nvSpPr>
        <p:spPr>
          <a:xfrm>
            <a:off x="714240" y="428760"/>
            <a:ext cx="7715520" cy="59292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4T06:04:03Z</dcterms:created>
  <dc:creator>Admin</dc:creator>
  <dc:description/>
  <dc:language>en-US</dc:language>
  <cp:lastModifiedBy>Admin</cp:lastModifiedBy>
  <dcterms:modified xsi:type="dcterms:W3CDTF">2018-06-17T19:30:52Z</dcterms:modified>
  <cp:revision>12</cp:revision>
  <dc:subject/>
  <dc:title>Слайд 1</dc:title>
</cp:coreProperties>
</file>