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C42C-E699-4694-A4C9-763E53AAF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08E7-4583-45C8-BE36-DD176C69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F496-88AF-461E-A656-96A04897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7B61-741B-4A29-89B0-950C7671C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ADD0E-2074-404A-896C-A440EE4FE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8CF4-3FCD-4CF1-B5F5-16A446A5E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C7707-7958-437F-BE39-20BA68F85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D8B0-7111-456A-831B-967990DA9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0C5C-C00A-4BAF-BACA-1ECC48CD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ADFC-55B4-44AF-BE2F-331C6346B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FCE7-E54B-467E-9CE2-1A412B48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9AF-50C1-4D18-9F16-34DD28C3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1408-8A05-4221-88D1-F8FE0364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4895-7E8C-461E-B0C7-69AA7913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48499-A2A4-495C-A66D-4C1B9F21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7072-461F-4A42-9E67-89B8822B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3FB2-1A9B-4AAF-8008-1A4902D2E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BDA-D2D6-4A05-9679-FEABA974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081E-C2C6-4503-9372-49CC3CE8F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C589-D2F8-4B90-B2C3-B244702A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E72-FA3B-431E-B592-1D4383F5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09E8-A7E9-460E-A8FC-7F3600362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92C8-E95B-4541-88EB-6423EC59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8CB-F590-4CDF-ABD2-408010EB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AC32-31B6-4F93-BF55-AF2365B1D41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BEA46-870B-490F-A303-D1F9C6991F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9.wmf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76000" y="378936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33"/>
                </a:solidFill>
                <a:latin typeface="Georgia"/>
              </a:rPr>
              <a:t>Четные  и  нечетные  функции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79640" y="9075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ГБОУ СОШ № 5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читель мате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Тулкина М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Домашнее  задание: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Стр.88</a:t>
            </a: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 ”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Проверь себя</a:t>
            </a:r>
            <a:r>
              <a:rPr b="1" i="1" lang="en-US" sz="3200" spc="-1" strike="noStrike">
                <a:solidFill>
                  <a:srgbClr val="ff0000"/>
                </a:solidFill>
                <a:latin typeface="Georgia"/>
              </a:rPr>
              <a:t>”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890960" y="2349360"/>
            <a:ext cx="4059360" cy="42847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 txBox="1"/>
          <p:nvPr/>
        </p:nvSpPr>
        <p:spPr>
          <a:xfrm rot="20821800">
            <a:off x="820800" y="2701800"/>
            <a:ext cx="4843440" cy="239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Georgia"/>
              </a:rPr>
              <a:t>Удачи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Georgia"/>
              <a:ea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Georgia"/>
              </a:rPr>
              <a:t>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Какая  функция  называется  чет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Какая  функция  называется  нечетн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32360" y="2924280"/>
                <a:ext cx="367200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4932360" y="4724280"/>
                <a:ext cx="394164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1547640" y="4076640"/>
            <a:ext cx="5616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360" y="5950080"/>
            <a:ext cx="561672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3120" y="6237360"/>
            <a:ext cx="369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№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173 ;№176(1;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Georgia"/>
              </a:rPr>
              <a:t>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Georgia"/>
              </a:rPr>
              <a:t>Может  ли  быть  четной  или  нечетной  функция,  областью  определения  которой  являе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87920" y="3182760"/>
            <a:ext cx="47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а)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межуток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[ -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7;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5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124640" y="4076640"/>
            <a:ext cx="469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33"/>
                </a:solidFill>
                <a:latin typeface="Georgia"/>
              </a:rPr>
              <a:t>б)  </a:t>
            </a: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промежуток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( -5; 5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07440" y="4076640"/>
            <a:ext cx="468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в)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промежуток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( -3; 3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101600" y="4005360"/>
            <a:ext cx="629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990033"/>
                </a:solidFill>
                <a:latin typeface="Georgia"/>
              </a:rPr>
              <a:t>г)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объединение  промежутков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[ -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9; -2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]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и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[ 2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; 9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880"/>
                            </p:stCondLst>
                            <p:childTnLst>
                              <p:par>
                                <p:cTn id="6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1.84971E-006 L -4.44444E-006 -0.15746 E">
                                      <p:cBhvr>
                                        <p:cTn id="85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250" autoRev="1" fill="hold"/>
                                        <p:tgtEl>
                                          <p:spTgt spid="1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500"/>
                            </p:stCondLst>
                            <p:childTnLst>
                              <p:par>
                                <p:cTn id="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Georgia"/>
              </a:rPr>
              <a:t>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23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ctr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Функция  </a:t>
            </a:r>
            <a:r>
              <a:rPr b="1" i="1" lang="en-US" sz="2800" spc="-1" strike="noStrike">
                <a:solidFill>
                  <a:srgbClr val="800000"/>
                </a:solidFill>
                <a:latin typeface="Georgia"/>
              </a:rPr>
              <a:t>f (x) – </a:t>
            </a: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четная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f ( 3 ) = 2</a:t>
            </a: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9</a:t>
            </a: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 ,  </a:t>
            </a: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тогда  </a:t>
            </a: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f ( -3 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f ( -8 ) = 71,  </a:t>
            </a:r>
            <a:r>
              <a:rPr b="1" i="1" lang="ru-RU" sz="2800" spc="-1" strike="noStrike">
                <a:solidFill>
                  <a:srgbClr val="660033"/>
                </a:solidFill>
                <a:latin typeface="Georgia"/>
              </a:rPr>
              <a:t>тогда</a:t>
            </a:r>
            <a:r>
              <a:rPr b="1" i="1" lang="en-US" sz="2800" spc="-1" strike="noStrike">
                <a:solidFill>
                  <a:srgbClr val="660033"/>
                </a:solidFill>
                <a:latin typeface="Georgia"/>
              </a:rPr>
              <a:t>  f ( 8 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1916280"/>
            <a:ext cx="936720" cy="863280"/>
          </a:xfrm>
          <a:prstGeom prst="diamond">
            <a:avLst/>
          </a:prstGeom>
          <a:solidFill>
            <a:srgbClr val="fbe1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93080" y="2997360"/>
            <a:ext cx="936360" cy="863280"/>
          </a:xfrm>
          <a:prstGeom prst="diamond">
            <a:avLst/>
          </a:prstGeom>
          <a:solidFill>
            <a:srgbClr val="def6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7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9640" y="4149720"/>
            <a:ext cx="640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99"/>
              </a:buClr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Функция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  g ( x )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– нечетна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g ( 7 ) = 43, 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тогда  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g ( -7 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g ( - 2 ) = 64,  </a:t>
            </a:r>
            <a:r>
              <a:rPr b="1" i="1" lang="ru-RU" sz="2800" spc="-1" strike="noStrike">
                <a:solidFill>
                  <a:srgbClr val="000099"/>
                </a:solidFill>
                <a:latin typeface="Georgia"/>
              </a:rPr>
              <a:t>тогда </a:t>
            </a:r>
            <a:r>
              <a:rPr b="1" i="1" lang="en-US" sz="2800" spc="-1" strike="noStrike">
                <a:solidFill>
                  <a:srgbClr val="000099"/>
                </a:solidFill>
                <a:latin typeface="Georgia"/>
              </a:rPr>
              <a:t>g ( 2 ) =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36000" y="5013360"/>
            <a:ext cx="1009440" cy="431640"/>
          </a:xfrm>
          <a:prstGeom prst="rect">
            <a:avLst/>
          </a:prstGeom>
          <a:solidFill>
            <a:srgbClr val="baf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-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451640" y="5877000"/>
            <a:ext cx="1009800" cy="431640"/>
          </a:xfrm>
          <a:prstGeom prst="rect">
            <a:avLst/>
          </a:prstGeom>
          <a:solidFill>
            <a:srgbClr val="bafcd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Georgia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8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64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330033"/>
                </a:solidFill>
                <a:latin typeface="Georgia"/>
              </a:rPr>
              <a:t>Повторение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845964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Ломаная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ВС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,  где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А ( 5; 1 ),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В ( 3; 5 ),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С ( 0; 0 )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– часть  графика  некоторой  функции 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f ( x )</a:t>
            </a: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.  Область  определения  этой  функции – промежуток 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[ 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-5</a:t>
            </a:r>
            <a:r>
              <a:rPr b="1" i="1" lang="ru-RU" sz="2400" spc="-1" strike="noStrike">
                <a:solidFill>
                  <a:srgbClr val="000000"/>
                </a:solidFill>
                <a:latin typeface="Georgia"/>
              </a:rPr>
              <a:t>;</a:t>
            </a: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 5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]</a:t>
            </a: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Georgia"/>
              </a:rPr>
              <a:t>    </a:t>
            </a: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Постройте  ее  график,  зная,  чт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      </a:t>
            </a: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I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– </a:t>
            </a: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f ( x ) –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четная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    </a:t>
            </a: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II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 – </a:t>
            </a: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f ( x ) –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нечет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1819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932360" y="3673440"/>
          <a:ext cx="4211640" cy="31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3673440"/>
                    <a:ext cx="4211640" cy="31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837560" y="4049640"/>
            <a:ext cx="552240" cy="1073160"/>
          </a:xfrm>
          <a:custGeom>
            <a:avLst/>
            <a:gdLst/>
            <a:ahLst/>
            <a:rect l="l" t="t" r="r" b="b"/>
            <a:pathLst>
              <a:path w="348" h="676">
                <a:moveTo>
                  <a:pt x="0" y="0"/>
                </a:moveTo>
                <a:lnTo>
                  <a:pt x="348" y="676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39080" y="4049640"/>
            <a:ext cx="812520" cy="1335240"/>
          </a:xfrm>
          <a:custGeom>
            <a:avLst/>
            <a:gdLst/>
            <a:ahLst/>
            <a:rect l="l" t="t" r="r" b="b"/>
            <a:pathLst>
              <a:path w="512" h="841">
                <a:moveTo>
                  <a:pt x="0" y="841"/>
                </a:moveTo>
                <a:lnTo>
                  <a:pt x="512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89440" y="4078440"/>
            <a:ext cx="551160" cy="1044360"/>
          </a:xfrm>
          <a:custGeom>
            <a:avLst/>
            <a:gdLst/>
            <a:ahLst/>
            <a:rect l="l" t="t" r="r" b="b"/>
            <a:pathLst>
              <a:path w="347" h="658">
                <a:moveTo>
                  <a:pt x="0" y="658"/>
                </a:moveTo>
                <a:lnTo>
                  <a:pt x="34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7640" y="4076640"/>
            <a:ext cx="797040" cy="1293840"/>
          </a:xfrm>
          <a:custGeom>
            <a:avLst/>
            <a:gdLst/>
            <a:ahLst/>
            <a:rect l="l" t="t" r="r" b="b"/>
            <a:pathLst>
              <a:path w="502" h="815">
                <a:moveTo>
                  <a:pt x="502" y="815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56440" y="5384880"/>
            <a:ext cx="768240" cy="1320840"/>
          </a:xfrm>
          <a:custGeom>
            <a:avLst/>
            <a:gdLst/>
            <a:ahLst/>
            <a:rect l="l" t="t" r="r" b="b"/>
            <a:pathLst>
              <a:path w="484" h="832">
                <a:moveTo>
                  <a:pt x="0" y="832"/>
                </a:moveTo>
                <a:lnTo>
                  <a:pt x="484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03840" y="5646600"/>
            <a:ext cx="536760" cy="1044720"/>
          </a:xfrm>
          <a:custGeom>
            <a:avLst/>
            <a:gdLst/>
            <a:ahLst/>
            <a:rect l="l" t="t" r="r" b="b"/>
            <a:pathLst>
              <a:path w="338" h="658">
                <a:moveTo>
                  <a:pt x="338" y="658"/>
                </a:move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229360"/>
            <a:ext cx="44654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3160"/>
                            </p:stCondLst>
                            <p:childTnLst>
                              <p:par>
                                <p:cTn id="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" dur="8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6680"/>
                            </p:stCondLst>
                            <p:childTnLst>
                              <p:par>
                                <p:cTn id="1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800"/>
                            </p:stCondLst>
                            <p:childTnLst>
                              <p:par>
                                <p:cTn id="2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4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912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0033"/>
                </a:solidFill>
                <a:latin typeface="Georgia"/>
              </a:rPr>
              <a:t>Четные  и  нечетные  функции.</a:t>
            </a:r>
            <a:br>
              <a:rPr sz="4400"/>
            </a:b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Математический  диктант.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187280" y="6308280"/>
            <a:ext cx="685800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800" spc="-1" strike="noStrike">
              <a:solidFill>
                <a:srgbClr val="ff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771640" y="3789360"/>
                <a:ext cx="417672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771640" y="4797360"/>
                <a:ext cx="432144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g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330033"/>
                </a:solidFill>
                <a:latin typeface="Georgia"/>
              </a:rPr>
              <a:t>1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Georgia"/>
              </a:rPr>
              <a:t>Является  ли  функция  четной  или  нечетн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5148360" y="4292640"/>
                <a:ext cx="3205080" cy="62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826920" y="2852640"/>
            <a:ext cx="352764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I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вари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2852640"/>
            <a:ext cx="3600720" cy="3313080"/>
          </a:xfrm>
          <a:prstGeom prst="rect">
            <a:avLst/>
          </a:prstGeom>
          <a:solidFill>
            <a:srgbClr val="ffff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Georgia"/>
              </a:rPr>
              <a:t>II </a:t>
            </a:r>
            <a:r>
              <a:rPr b="1" i="1" lang="ru-RU" sz="2400" spc="-1" strike="noStrike">
                <a:solidFill>
                  <a:srgbClr val="000099"/>
                </a:solidFill>
                <a:latin typeface="Georgia"/>
              </a:rPr>
              <a:t>вариан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900000" y="3429000"/>
                <a:ext cx="32846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4859280" y="3429000"/>
                <a:ext cx="3240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246384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900000" y="4005360"/>
                <a:ext cx="194328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496200" y="4097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4859280" y="4076640"/>
                <a:ext cx="18003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б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7</m:t>
                        </m:r>
                        <m:r>
                          <m:t xml:space="preserve">х</m:t>
                        </m:r>
                      </m:num>
                      <m:den>
                        <m:sSup>
                          <m:e>
                            <m:r>
                              <m:t xml:space="preserve">х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6" name=""/>
          <p:cNvSpPr/>
          <p:nvPr/>
        </p:nvSpPr>
        <p:spPr>
          <a:xfrm>
            <a:off x="2247840" y="524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392200" y="5105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0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5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440"/>
                            </p:stCondLst>
                            <p:childTnLst>
                              <p:par>
                                <p:cTn id="3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344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94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0033"/>
                </a:solidFill>
                <a:latin typeface="Georgia"/>
              </a:rPr>
              <a:t>№ </a:t>
            </a:r>
            <a:r>
              <a:rPr b="1" i="1" lang="en-US" sz="2800" spc="-1" strike="noStrike">
                <a:solidFill>
                  <a:srgbClr val="330033"/>
                </a:solidFill>
                <a:latin typeface="Georgia"/>
              </a:rPr>
              <a:t>2.</a:t>
            </a:r>
            <a:r>
              <a:rPr b="1" i="1" lang="en-US" sz="2500" spc="-1" strike="noStrike">
                <a:solidFill>
                  <a:srgbClr val="330033"/>
                </a:solidFill>
                <a:latin typeface="Georgia"/>
              </a:rPr>
              <a:t>  </a:t>
            </a:r>
            <a:endParaRPr b="0" lang="en-US" sz="2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I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вари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во  свойство  графика  нечетной 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i="1" lang="en-US" sz="2800" spc="-1" strike="noStrike">
                <a:solidFill>
                  <a:srgbClr val="ff0000"/>
                </a:solidFill>
                <a:latin typeface="Georgia"/>
              </a:rPr>
              <a:t>II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вари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аково  свойство  графика  четной 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2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4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8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9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440"/>
                            </p:stCondLst>
                            <p:childTnLst>
                              <p:par>
                                <p:cTn id="3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100" spc="-1" strike="noStrike">
                <a:solidFill>
                  <a:srgbClr val="330033"/>
                </a:solidFill>
                <a:latin typeface="Georgia"/>
              </a:rPr>
              <a:t>№ </a:t>
            </a:r>
            <a:r>
              <a:rPr b="1" i="1" lang="ru-RU" sz="2100" spc="-1" strike="noStrike">
                <a:solidFill>
                  <a:srgbClr val="330033"/>
                </a:solidFill>
                <a:latin typeface="Georgia"/>
              </a:rPr>
              <a:t>3.  Укажите  графики  функций</a:t>
            </a:r>
            <a:br>
              <a:rPr sz="2100"/>
            </a:br>
            <a:r>
              <a:rPr b="1" i="1" lang="en-US" sz="2100" spc="-1" strike="noStrike">
                <a:solidFill>
                  <a:srgbClr val="330033"/>
                </a:solidFill>
                <a:latin typeface="Georgia"/>
              </a:rPr>
              <a:t>I</a:t>
            </a:r>
            <a:r>
              <a:rPr b="1" i="1" lang="ru-RU" sz="2100" spc="-1" strike="noStrike">
                <a:solidFill>
                  <a:srgbClr val="330033"/>
                </a:solidFill>
                <a:latin typeface="Georgia"/>
              </a:rPr>
              <a:t> – четных.                                 </a:t>
            </a:r>
            <a:r>
              <a:rPr b="1" i="1" lang="en-US" sz="2100" spc="-1" strike="noStrike">
                <a:solidFill>
                  <a:srgbClr val="330033"/>
                </a:solidFill>
                <a:latin typeface="Georgia"/>
              </a:rPr>
              <a:t>II</a:t>
            </a:r>
            <a:r>
              <a:rPr b="1" i="1" lang="ru-RU" sz="2100" spc="-1" strike="noStrike">
                <a:solidFill>
                  <a:srgbClr val="330033"/>
                </a:solidFill>
                <a:latin typeface="Georgia"/>
              </a:rPr>
              <a:t> – нечетных.</a:t>
            </a:r>
            <a:endParaRPr b="0" lang="en-US" sz="21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6300720" y="5102280"/>
          <a:ext cx="2664000" cy="16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5102280"/>
                    <a:ext cx="2664000" cy="16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179280" y="981000"/>
          <a:ext cx="2987640" cy="19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981000"/>
                    <a:ext cx="298764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300720" y="952560"/>
          <a:ext cx="2664000" cy="2031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952560"/>
                    <a:ext cx="2664000" cy="203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79280" y="2997360"/>
          <a:ext cx="2952720" cy="183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80" y="2997360"/>
                    <a:ext cx="2952720" cy="18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227640" y="3068640"/>
          <a:ext cx="2772000" cy="1905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7640" y="3068640"/>
                    <a:ext cx="277200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79280" y="4997520"/>
          <a:ext cx="2880000" cy="1751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79280" y="4997520"/>
                    <a:ext cx="2880000" cy="17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0" y="188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76720" y="981000"/>
          <a:ext cx="2879640" cy="3168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76720" y="981000"/>
                    <a:ext cx="2879640" cy="31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3419640" y="4265640"/>
          <a:ext cx="2592360" cy="2592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419640" y="4265640"/>
                    <a:ext cx="2592360" cy="25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07:16:40Z</dcterms:created>
  <dc:creator>Марина</dc:creator>
  <dc:description/>
  <dc:language>en-US</dc:language>
  <cp:lastModifiedBy>user</cp:lastModifiedBy>
  <dcterms:modified xsi:type="dcterms:W3CDTF">2013-06-07T05:25:24Z</dcterms:modified>
  <cp:revision>16</cp:revision>
  <dc:subject/>
  <dc:title>Слайд 1</dc:title>
</cp:coreProperties>
</file>