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55DF-02CC-4F4D-B5E2-DE1DF8E1B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557-4AF3-4BBB-AF67-C4DB36C8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B65-98B7-4805-B8ED-4829B4EC7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D553-F978-4BF0-B492-19A9E4E3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BC553-A9EA-423E-81EB-82377B10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CA52C-6EB7-4B10-A4E3-268546B8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86D0-87C7-47B5-BA75-52A53199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33CCB-83D4-4A94-BC71-D7E161B5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8B0D0-4CEF-4182-9B4C-39A225D7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1CF09-8BE0-4EEA-8EE5-E3C06AEB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ECEB-74DB-4B97-B26F-E6DFB246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386-029F-4132-9C1E-7A7B9996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403F-AEDA-47E6-A450-7C94B31E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AA792-1D96-4B28-8163-9E6B59B78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0A6F-63CB-494E-82F1-D1C1FCEF0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DCAAE-FB24-485D-B3FD-8FB8F165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3803-49C7-4626-8B4C-CBB01B14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686F-8BB8-413A-8C52-413A58BF3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419-6536-474D-8660-0C30B0E5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7C96-C72E-4E6E-8B3C-DD2A0F572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38A-FE42-478A-9463-F77AFC13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9118-CD85-4613-8E75-5148C2AC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84A8-12EB-4A2A-A070-0652B574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9300-C0CF-4F85-89CF-9391BD45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F759-30E6-46B9-B67B-2B11946CDE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DE37-113E-47FA-97B0-AEE0CC1A6F9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378936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0033"/>
                </a:solidFill>
                <a:latin typeface="Georgia"/>
              </a:rPr>
              <a:t>Четные  и  нечетные  функции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79640" y="9075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ГБОУ СОШ № 5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Тулкина М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Домашнее  задание: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тр.88</a:t>
            </a: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 ”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Проверь себя</a:t>
            </a: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”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890960" y="2349360"/>
            <a:ext cx="4059360" cy="4284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 rot="20821800">
            <a:off x="820800" y="2701800"/>
            <a:ext cx="4843440" cy="239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Удач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Georgia"/>
              </a:rPr>
              <a:t>Повторе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Какая  функция  называется  чет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Georgia"/>
              </a:rPr>
              <a:t>Какая  функция  называется  нечет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32360" y="2924280"/>
                <a:ext cx="36720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932360" y="4724280"/>
                <a:ext cx="39416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547640" y="4076640"/>
            <a:ext cx="5616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5950080"/>
            <a:ext cx="5616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3120" y="6237360"/>
            <a:ext cx="369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173 ;№176(1;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Georgia"/>
              </a:rPr>
              <a:t>Повторе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Georgia"/>
              </a:rPr>
              <a:t>Может  ли  быть  четной  или  нечетной  функция,  областью  определения  которой  явл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87920" y="3182760"/>
            <a:ext cx="47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Georgia"/>
              </a:rPr>
              <a:t>а)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омежуток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[ -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7;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5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24640" y="4076640"/>
            <a:ext cx="46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Georgia"/>
              </a:rPr>
              <a:t>б) 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промежуток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( -5; 5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7440" y="4076640"/>
            <a:ext cx="46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Georgia"/>
              </a:rPr>
              <a:t>в)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омежуток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( -3; 3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01600" y="4005360"/>
            <a:ext cx="629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Georgia"/>
              </a:rPr>
              <a:t>г)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бъединение  промежутко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[ -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9; -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]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[ 2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; 9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88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4971E-006 L -4.44444E-006 -0.15746 E">
                                      <p:cBhvr>
                                        <p:cTn id="8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Georgia"/>
              </a:rPr>
              <a:t>Повторе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Функция  </a:t>
            </a:r>
            <a:r>
              <a:rPr b="1" i="1" lang="en-US" sz="2800" spc="-1" strike="noStrike">
                <a:solidFill>
                  <a:srgbClr val="800000"/>
                </a:solidFill>
                <a:latin typeface="Georgia"/>
              </a:rPr>
              <a:t>f (x) – </a:t>
            </a: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четная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Georgia"/>
              </a:rPr>
              <a:t>f ( 3 ) = 2</a:t>
            </a:r>
            <a:r>
              <a:rPr b="1" i="1" lang="ru-RU" sz="2800" spc="-1" strike="noStrike">
                <a:solidFill>
                  <a:srgbClr val="660033"/>
                </a:solidFill>
                <a:latin typeface="Georgia"/>
              </a:rPr>
              <a:t>9</a:t>
            </a:r>
            <a:r>
              <a:rPr b="1" i="1" lang="en-US" sz="2800" spc="-1" strike="noStrike">
                <a:solidFill>
                  <a:srgbClr val="660033"/>
                </a:solidFill>
                <a:latin typeface="Georgia"/>
              </a:rPr>
              <a:t> ,  </a:t>
            </a:r>
            <a:r>
              <a:rPr b="1" i="1" lang="ru-RU" sz="2800" spc="-1" strike="noStrike">
                <a:solidFill>
                  <a:srgbClr val="660033"/>
                </a:solidFill>
                <a:latin typeface="Georgia"/>
              </a:rPr>
              <a:t>тогда  </a:t>
            </a:r>
            <a:r>
              <a:rPr b="1" i="1" lang="en-US" sz="2800" spc="-1" strike="noStrike">
                <a:solidFill>
                  <a:srgbClr val="660033"/>
                </a:solidFill>
                <a:latin typeface="Georgia"/>
              </a:rPr>
              <a:t>f ( -3 )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Georgia"/>
              </a:rPr>
              <a:t>f ( -8 ) = 71,  </a:t>
            </a:r>
            <a:r>
              <a:rPr b="1" i="1" lang="ru-RU" sz="2800" spc="-1" strike="noStrike">
                <a:solidFill>
                  <a:srgbClr val="660033"/>
                </a:solidFill>
                <a:latin typeface="Georgia"/>
              </a:rPr>
              <a:t>тогда</a:t>
            </a:r>
            <a:r>
              <a:rPr b="1" i="1" lang="en-US" sz="2800" spc="-1" strike="noStrike">
                <a:solidFill>
                  <a:srgbClr val="660033"/>
                </a:solidFill>
                <a:latin typeface="Georgia"/>
              </a:rPr>
              <a:t>  f ( 8 )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1916280"/>
            <a:ext cx="936720" cy="863280"/>
          </a:xfrm>
          <a:prstGeom prst="diamond">
            <a:avLst/>
          </a:prstGeom>
          <a:solidFill>
            <a:srgbClr val="fbe1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2997360"/>
            <a:ext cx="936360" cy="863280"/>
          </a:xfrm>
          <a:prstGeom prst="diamond">
            <a:avLst/>
          </a:prstGeom>
          <a:solidFill>
            <a:srgbClr val="d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9640" y="4149720"/>
            <a:ext cx="64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Функция</a:t>
            </a: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  g ( x ) 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– нечет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g ( 7 ) = 43,  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тогда  </a:t>
            </a: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g ( -7 )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g ( - 2 ) = 64,  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тогда </a:t>
            </a: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g ( 2 )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5013360"/>
            <a:ext cx="1009440" cy="431640"/>
          </a:xfrm>
          <a:prstGeom prst="rect">
            <a:avLst/>
          </a:prstGeom>
          <a:solidFill>
            <a:srgbClr val="bafc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-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51640" y="5877000"/>
            <a:ext cx="1009800" cy="431640"/>
          </a:xfrm>
          <a:prstGeom prst="rect">
            <a:avLst/>
          </a:prstGeom>
          <a:solidFill>
            <a:srgbClr val="bafc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8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64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Georgia"/>
              </a:rPr>
              <a:t>Повторе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45964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Ломаная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ВС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,  где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 ( 5; 1 ),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( 3; 5 ),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 ( 0; 0 )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 – часть  графика  некоторой  функции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f ( x )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.  Область  определения  этой  функции – промежуток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[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-5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5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]</a:t>
            </a: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Постройте  ее  график,  зная, 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      </a:t>
            </a:r>
            <a:r>
              <a:rPr b="1" i="1" lang="en-US" sz="2400" spc="-1" strike="noStrike">
                <a:solidFill>
                  <a:srgbClr val="000099"/>
                </a:solidFill>
                <a:latin typeface="Georgia"/>
              </a:rPr>
              <a:t>I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– </a:t>
            </a:r>
            <a:r>
              <a:rPr b="1" i="1" lang="en-US" sz="2400" spc="-1" strike="noStrike">
                <a:solidFill>
                  <a:srgbClr val="000099"/>
                </a:solidFill>
                <a:latin typeface="Georgia"/>
              </a:rPr>
              <a:t>f ( x ) –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четна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    </a:t>
            </a:r>
            <a:r>
              <a:rPr b="1" i="1" lang="en-US" sz="2400" spc="-1" strike="noStrike">
                <a:solidFill>
                  <a:srgbClr val="000099"/>
                </a:solidFill>
                <a:latin typeface="Georgia"/>
              </a:rPr>
              <a:t>II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– </a:t>
            </a:r>
            <a:r>
              <a:rPr b="1" i="1" lang="en-US" sz="2400" spc="-1" strike="noStrike">
                <a:solidFill>
                  <a:srgbClr val="000099"/>
                </a:solidFill>
                <a:latin typeface="Georgia"/>
              </a:rPr>
              <a:t>f ( x ) –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нечет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32360" y="3673440"/>
          <a:ext cx="4211640" cy="31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3673440"/>
                    <a:ext cx="421164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837560" y="4049640"/>
            <a:ext cx="552240" cy="1073160"/>
          </a:xfrm>
          <a:custGeom>
            <a:avLst/>
            <a:gdLst/>
            <a:ahLst/>
            <a:rect l="l" t="t" r="r" b="b"/>
            <a:pathLst>
              <a:path w="348" h="676">
                <a:moveTo>
                  <a:pt x="0" y="0"/>
                </a:moveTo>
                <a:lnTo>
                  <a:pt x="348" y="676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39080" y="4049640"/>
            <a:ext cx="812520" cy="1335240"/>
          </a:xfrm>
          <a:custGeom>
            <a:avLst/>
            <a:gdLst/>
            <a:ahLst/>
            <a:rect l="l" t="t" r="r" b="b"/>
            <a:pathLst>
              <a:path w="512" h="841">
                <a:moveTo>
                  <a:pt x="0" y="841"/>
                </a:moveTo>
                <a:lnTo>
                  <a:pt x="512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89440" y="4078440"/>
            <a:ext cx="551160" cy="1044360"/>
          </a:xfrm>
          <a:custGeom>
            <a:avLst/>
            <a:gdLst/>
            <a:ahLst/>
            <a:rect l="l" t="t" r="r" b="b"/>
            <a:pathLst>
              <a:path w="347" h="658">
                <a:moveTo>
                  <a:pt x="0" y="658"/>
                </a:moveTo>
                <a:lnTo>
                  <a:pt x="34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4076640"/>
            <a:ext cx="797040" cy="1293840"/>
          </a:xfrm>
          <a:custGeom>
            <a:avLst/>
            <a:gdLst/>
            <a:ahLst/>
            <a:rect l="l" t="t" r="r" b="b"/>
            <a:pathLst>
              <a:path w="502" h="815">
                <a:moveTo>
                  <a:pt x="502" y="81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56440" y="5384880"/>
            <a:ext cx="768240" cy="1320840"/>
          </a:xfrm>
          <a:custGeom>
            <a:avLst/>
            <a:gdLst/>
            <a:ahLst/>
            <a:rect l="l" t="t" r="r" b="b"/>
            <a:pathLst>
              <a:path w="484" h="832">
                <a:moveTo>
                  <a:pt x="0" y="832"/>
                </a:moveTo>
                <a:lnTo>
                  <a:pt x="48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03840" y="5646600"/>
            <a:ext cx="536760" cy="1044720"/>
          </a:xfrm>
          <a:custGeom>
            <a:avLst/>
            <a:gdLst/>
            <a:ahLst/>
            <a:rect l="l" t="t" r="r" b="b"/>
            <a:pathLst>
              <a:path w="338" h="658">
                <a:moveTo>
                  <a:pt x="338" y="65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5229360"/>
            <a:ext cx="4465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16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68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80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4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12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0033"/>
                </a:solidFill>
                <a:latin typeface="Georgia"/>
              </a:rPr>
              <a:t>Четные  и  нечетные  функции.</a:t>
            </a:r>
            <a:br>
              <a:rPr sz="4400"/>
            </a:b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Математический  диктант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87280" y="6308280"/>
            <a:ext cx="685800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ff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771640" y="3789360"/>
                <a:ext cx="4176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71640" y="4797360"/>
                <a:ext cx="4321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Georgia"/>
              </a:rPr>
              <a:t>№ </a:t>
            </a:r>
            <a:r>
              <a:rPr b="1" i="1" lang="en-US" sz="2800" spc="-1" strike="noStrike">
                <a:solidFill>
                  <a:srgbClr val="330033"/>
                </a:solidFill>
                <a:latin typeface="Georgia"/>
              </a:rPr>
              <a:t>1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Является  ли  функция  четной  или  нечетн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148360" y="4292640"/>
                <a:ext cx="3205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826920" y="2852640"/>
            <a:ext cx="3527640" cy="3313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Georgia"/>
              </a:rPr>
              <a:t>I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вариа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2852640"/>
            <a:ext cx="3600720" cy="3313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Georgia"/>
              </a:rPr>
              <a:t>II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вариа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900000" y="3429000"/>
                <a:ext cx="3284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859280" y="3429000"/>
                <a:ext cx="3240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463840" y="431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00000" y="4005360"/>
                <a:ext cx="194328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496200" y="40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859280" y="4076640"/>
                <a:ext cx="1800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х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2247840" y="524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9220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44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44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94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Georgia"/>
              </a:rPr>
              <a:t>№ </a:t>
            </a:r>
            <a:r>
              <a:rPr b="1" i="1" lang="en-US" sz="2800" spc="-1" strike="noStrike">
                <a:solidFill>
                  <a:srgbClr val="330033"/>
                </a:solidFill>
                <a:latin typeface="Georgia"/>
              </a:rPr>
              <a:t>2.</a:t>
            </a:r>
            <a:r>
              <a:rPr b="1" i="1" lang="en-US" sz="2500" spc="-1" strike="noStrike">
                <a:solidFill>
                  <a:srgbClr val="330033"/>
                </a:solidFill>
                <a:latin typeface="Georgia"/>
              </a:rPr>
              <a:t>  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    </a:t>
            </a: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I 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вари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ково  свойство  графика  нечетной  функ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 вари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ково  свойство  графика  четной  функ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440"/>
                            </p:stCondLst>
                            <p:childTnLst>
                              <p:par>
                                <p:cTn id="3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330033"/>
                </a:solidFill>
                <a:latin typeface="Georgia"/>
              </a:rPr>
              <a:t>№ </a:t>
            </a:r>
            <a:r>
              <a:rPr b="1" i="1" lang="ru-RU" sz="2100" spc="-1" strike="noStrike">
                <a:solidFill>
                  <a:srgbClr val="330033"/>
                </a:solidFill>
                <a:latin typeface="Georgia"/>
              </a:rPr>
              <a:t>3.  Укажите  графики  функций</a:t>
            </a:r>
            <a:br>
              <a:rPr sz="2100"/>
            </a:br>
            <a:r>
              <a:rPr b="1" i="1" lang="en-US" sz="2100" spc="-1" strike="noStrike">
                <a:solidFill>
                  <a:srgbClr val="330033"/>
                </a:solidFill>
                <a:latin typeface="Georgia"/>
              </a:rPr>
              <a:t>I</a:t>
            </a:r>
            <a:r>
              <a:rPr b="1" i="1" lang="ru-RU" sz="2100" spc="-1" strike="noStrike">
                <a:solidFill>
                  <a:srgbClr val="330033"/>
                </a:solidFill>
                <a:latin typeface="Georgia"/>
              </a:rPr>
              <a:t> – четных.                                 </a:t>
            </a:r>
            <a:r>
              <a:rPr b="1" i="1" lang="en-US" sz="2100" spc="-1" strike="noStrike">
                <a:solidFill>
                  <a:srgbClr val="330033"/>
                </a:solidFill>
                <a:latin typeface="Georgia"/>
              </a:rPr>
              <a:t>II</a:t>
            </a:r>
            <a:r>
              <a:rPr b="1" i="1" lang="ru-RU" sz="2100" spc="-1" strike="noStrike">
                <a:solidFill>
                  <a:srgbClr val="330033"/>
                </a:solidFill>
                <a:latin typeface="Georgia"/>
              </a:rPr>
              <a:t> – нечетных.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300720" y="5102280"/>
          <a:ext cx="2664000" cy="16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5102280"/>
                    <a:ext cx="2664000" cy="16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981000"/>
          <a:ext cx="2987640" cy="19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981000"/>
                    <a:ext cx="29876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300720" y="952560"/>
          <a:ext cx="2664000" cy="203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952560"/>
                    <a:ext cx="26640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2997360"/>
          <a:ext cx="2952720" cy="183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2997360"/>
                    <a:ext cx="2952720" cy="18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227640" y="3068640"/>
          <a:ext cx="2772000" cy="190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27640" y="3068640"/>
                    <a:ext cx="27720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4997520"/>
          <a:ext cx="2880000" cy="17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9280" y="4997520"/>
                    <a:ext cx="288000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76720" y="981000"/>
          <a:ext cx="2879640" cy="3168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981000"/>
                    <a:ext cx="28796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419640" y="4265640"/>
          <a:ext cx="2592360" cy="259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19640" y="4265640"/>
                    <a:ext cx="2592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07:16:40Z</dcterms:created>
  <dc:creator>Марина</dc:creator>
  <dc:description/>
  <dc:language>en-US</dc:language>
  <cp:lastModifiedBy>user</cp:lastModifiedBy>
  <dcterms:modified xsi:type="dcterms:W3CDTF">2013-06-07T05:25:24Z</dcterms:modified>
  <cp:revision>16</cp:revision>
  <dc:subject/>
  <dc:title>Слайд 1</dc:title>
</cp:coreProperties>
</file>