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BF7A-04C7-42ED-9F85-94255B89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BD45-A8CC-4522-BB86-C9BB206F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0347-6727-4F89-9480-125C9F097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0B9E-43E7-4DFB-AF4C-18ADA68E1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2D8D-AFA7-45CE-B38F-7FE119388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86C3-1118-4688-806E-D2A4DB0E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24BA-E335-4048-920E-2019EE97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388B-D2CB-4076-AB33-6B831A71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446A5-CB35-40B7-8DEC-7203733B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B92A-11E8-47F1-9392-9FE9FE69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9522-9CDA-4A7D-A76E-4E2183F1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C726-6160-43E4-A73B-635D9979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CB7D-260F-4C19-AF07-30EB6ECE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0794-0063-48E6-BD52-A2608AF1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C588-043B-40E4-858A-B2F1E429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BCFC-7959-4375-8AEC-39623BFF7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4C76-DF4B-4F4F-BAC8-2D5011209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D0DB1-C354-41B4-8C03-CE40A238D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5E313-8A50-4A06-A36C-7FABF7B6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53141-8E6C-43F9-AEFE-1C44564B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2A068-BB64-4DE0-8E18-27DDACB9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76AF4-AD2D-4A4D-8BD9-B41DCEAD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A417-F241-470A-92F7-5D947A56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B9CB5-3DFE-4276-B7A0-A33BBFB7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A17FA-F4D9-43B7-81C1-CAAC3152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F5AF6-82BC-4363-9EC0-01CA2642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75522-21CB-4A5B-AEE1-3E79D4DA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42B35-330F-467B-837B-164EE774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3DE10-026F-40D9-9AA2-322E9DED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611A7-B348-41A0-9DDB-45A2D9C8C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1B2B0-46B7-48F7-80E9-F3E5DD612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13A86-210B-4416-B208-A264EB92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291CB-05B6-4242-B4E0-FCEB3538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58FD-39CB-42CD-80F9-BDEC2B0A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ABC6F-D941-4417-8CA1-57AC6169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7F31A-2A5A-46C8-9282-BE508904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CD089-E7C7-40F4-8B3E-F8643BE4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B5734-CC54-4D80-B8C9-97DCF865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A7736-1553-428C-93D7-16DF4EC0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15870-CE22-4EBC-9413-F4B4F23F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DD1E1-0055-40A3-A1DB-9A178107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05D1B-53D7-4733-8416-F662263E4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F3144-9422-4D94-A878-8B2FB30B2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B700-75B1-48AA-A09F-FC5A46E6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DF9C-665C-42BA-8CB9-FCE54483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9C27-800A-45DB-830E-5605E95A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7EAA-5B10-46BB-A980-D8B53CD8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A203-8DFD-42C5-9242-390AB216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F2A4-91F1-49E0-825B-4621482CC8D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F8A5-CE14-4FC6-8CB8-89DB1783A15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B3D0-20C2-4DD0-8370-62FFF7D397A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DDF2-777C-4CC0-B157-15442BC4FB5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o-spide.ru/test/where/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96880" y="2567160"/>
            <a:ext cx="7504200" cy="1888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714240" y="5000400"/>
            <a:ext cx="7855200" cy="1266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Мусатова Татьяна Васильевна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тьютор структурного подразделения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«Центр психолого-педагогического сопровождения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и профилактики негативных явлений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в профессиональных образовательных учреждениях»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TextBox 10"/>
          <p:cNvSpPr/>
          <p:nvPr/>
        </p:nvSpPr>
        <p:spPr>
          <a:xfrm>
            <a:off x="1500120" y="714240"/>
            <a:ext cx="7072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 по образова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профессиональное 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й колледж № 1 им. Н.А. Некрасова Санкт-Петербу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БПОУ Некрасовский педколледж №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Рисунок 11" descr="C:\Users\college_nekrasov\Desktop\da0d9a0b16618e832c1c61d9ef658bb3-bpfull.png"/>
          <p:cNvPicPr/>
          <p:nvPr/>
        </p:nvPicPr>
        <p:blipFill>
          <a:blip r:embed="rId2"/>
          <a:srcRect l="0" t="0" r="0" b="1483"/>
          <a:stretch/>
        </p:blipFill>
        <p:spPr>
          <a:xfrm>
            <a:off x="0" y="0"/>
            <a:ext cx="157176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Рисунок 11" descr="C:\Users\college_nekrasov\Desktop\da0d9a0b16618e832c1c61d9ef658bb3-bpfull.png"/>
          <p:cNvPicPr/>
          <p:nvPr/>
        </p:nvPicPr>
        <p:blipFill>
          <a:blip r:embed="rId1"/>
          <a:srcRect l="0" t="0" r="0" b="1483"/>
          <a:stretch/>
        </p:blipFill>
        <p:spPr>
          <a:xfrm>
            <a:off x="0" y="0"/>
            <a:ext cx="552600" cy="928800"/>
          </a:xfrm>
          <a:prstGeom prst="rect">
            <a:avLst/>
          </a:prstGeom>
          <a:ln w="0">
            <a:noFill/>
          </a:ln>
        </p:spPr>
      </p:pic>
      <p:sp>
        <p:nvSpPr>
          <p:cNvPr id="222" name="TextBox 5"/>
          <p:cNvSpPr/>
          <p:nvPr/>
        </p:nvSpPr>
        <p:spPr>
          <a:xfrm>
            <a:off x="214200" y="571680"/>
            <a:ext cx="8786880" cy="63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дные привычки и 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жалению, вредные привычки так тесно вошли в нашу жизнь, что далеко не все могут представить свою жизнь без ни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современные исследования все чаще показывают, что большинство этих привычек, так или иначе, воздействуют на человеческий организм, разрушая его. Ученые и врачи в один голос говорят, что необходимо избавляться от вредных привычек, если хочешь продлить свою жизнь. А на организм ВИЧ-положительных людей такие «привычки» воздействуют не просто губительно, они действительно его убиваю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, наверное, одна из самых распространенных вредных привычек. И, как показывают исследования, оно снижает жизнь ВИЧ-отрицательных людей в 1,5 раза, а у ВИЧ-позитивных – почти в 3 раза! У людей, живущих с ВИЧ, значительно снижен иммунитет из-за вируса, поэтому они подвержены различным заболеваниям. А при курении, итак плохой иммунитет ухудшается еще сильнее. Все это лишь способствует развитию ВИЧ в организме. Кроме снижения иммунитета, курение значительно уменьшает эффективность препаратов антиретровирусной терапии, которая назначается при ВИЧ и СПИД. Все это вкупе очень негативно сказывается на здоровье, усиливая вероятность развития сопутствующих заболеваний. С каждой выкуренной сигаретой, ВИЧ-положительный человек приближает свою смер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при курении усиливаются видимые признаки ВИЧ – во рту появляются язвочки, воспаляются десны. Внутренние органы тоже значительно страдают – почки, печень, из-за влияния ВИЧ и воздействия препаратов и так с трудом справляются со своими функциями, а при курении изнашивание этих органов происходит значительно быстре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ими из симптомов ВИЧ являются депрессия и непрекращающийся стресс, и может сложиться ложное мнение, что сигареты помогают от этого состояния избавиться. Но это не так. Доказано, что снять стресс сигаретой невозможно. Вред же, который сигареты наносят, реален. А вот употребление полезной еды, не только сможет поднять настроение, но и повысить иммунитет, а значит помочь в противостоянии организма ВИ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7" descr="http://o-spide.ru/uploads/content/7093965ef36c791d60cd2ce1a16f56ef.jpg"/>
          <p:cNvPicPr/>
          <p:nvPr/>
        </p:nvPicPr>
        <p:blipFill>
          <a:blip r:embed="rId2"/>
          <a:srcRect l="7692" t="27042" r="64104" b="24280"/>
          <a:stretch/>
        </p:blipFill>
        <p:spPr>
          <a:xfrm>
            <a:off x="5500800" y="2357280"/>
            <a:ext cx="7142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11" descr="C:\Users\college_nekrasov\Desktop\da0d9a0b16618e832c1c61d9ef658bb3-bpfull.png"/>
          <p:cNvPicPr/>
          <p:nvPr/>
        </p:nvPicPr>
        <p:blipFill>
          <a:blip r:embed="rId1"/>
          <a:srcRect l="0" t="0" r="0" b="1483"/>
          <a:stretch/>
        </p:blipFill>
        <p:spPr>
          <a:xfrm>
            <a:off x="0" y="0"/>
            <a:ext cx="552600" cy="9288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5"/>
          <p:cNvSpPr/>
          <p:nvPr/>
        </p:nvSpPr>
        <p:spPr>
          <a:xfrm>
            <a:off x="214200" y="571680"/>
            <a:ext cx="8786880" cy="67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дные привычки и 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ь также вреден для организма, особенно для организма ВИЧ-положительных люд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первых, потому что он негативно воздействует на иммунную систему. Так, у ВИЧ-позитивных людей, не принимающих антиретровирусную терапию, но употребляющих алкоголь, количество Т-лимфоцитов значительно меньше, чем у тех, кто алкоголь не употреблял. Во-вторых, алкоголь влияет на печень, которая и так очень изнашивается при ВИЧ. В третьих, алкоголь особенно негативно влияет на организм при сопутствующих заболеваниях, которые очень часто встречаются при ВИЧ. Алкоголь снижает иммунитет и этим повышает шансы на развитие цирроза печени и других опасных заболеваний. Однако при незначительном употреблении, алкоголь не наносит очень большого вреда людям, живущим с ВИ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котические вещ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котики, наверное, с трудом можно назвать просто привычкой. Однако сегодня такое явление встречается, к сожалению, не так редко, и многие относятся к нему именно как к привычке. Наркотические вещества очень сильно влияют на организм человека. Страдает пищеварительная система – пропадает голод, поступающая пища не полностью переваривается. Организм не получает достаточно энергии и витаминов. Кроме того, запоры становятся достаточно частыми, а значит, происходит отравление организма токсинами. Что особенно страшно для ВИЧ-положительных, так как из-за болезни организму очень сложно справляться с подобным стресс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наркотиков, ВИЧ в организме наркомана может мутировать, вследствие чего он становится не восприимчив к терапии. ВИЧ-позитивные, употребляющие наркотики, живут значительно меньш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аиболее распространенные вредные привычки, которые оказывают очень сильное влияние на организм человека. Для ВИЧ-позитивных людей эти «привычки» особенно опасны. Они значительно сокращают жизнь и ухудшают ее качество. Сегодня, когда ВИЧ-позитивные могут прожить долгую и счастливую жизнь, благодаря существующей терапии, как минимум странно сознательно сокращать её, употребляя алкоголь, сигареты или наркот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Рисунок 4" descr="http://o-spide.ru/uploads/content/7093965ef36c791d60cd2ce1a16f56ef.jpg"/>
          <p:cNvPicPr/>
          <p:nvPr/>
        </p:nvPicPr>
        <p:blipFill>
          <a:blip r:embed="rId2"/>
          <a:srcRect l="33077" t="27042" r="35897" b="24280"/>
          <a:stretch/>
        </p:blipFill>
        <p:spPr>
          <a:xfrm>
            <a:off x="7500960" y="785880"/>
            <a:ext cx="785880" cy="64296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7" descr="http://o-spide.ru/uploads/content/7093965ef36c791d60cd2ce1a16f56ef.jpg"/>
          <p:cNvPicPr/>
          <p:nvPr/>
        </p:nvPicPr>
        <p:blipFill>
          <a:blip r:embed="rId3"/>
          <a:srcRect l="64104" t="27042" r="7692" b="24280"/>
          <a:stretch/>
        </p:blipFill>
        <p:spPr>
          <a:xfrm>
            <a:off x="6072120" y="3000240"/>
            <a:ext cx="71460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11" descr="C:\Users\college_nekrasov\Desktop\da0d9a0b16618e832c1c61d9ef658bb3-bpfull.png"/>
          <p:cNvPicPr/>
          <p:nvPr/>
        </p:nvPicPr>
        <p:blipFill>
          <a:blip r:embed="rId1"/>
          <a:srcRect l="0" t="0" r="0" b="1483"/>
          <a:stretch/>
        </p:blipFill>
        <p:spPr>
          <a:xfrm>
            <a:off x="0" y="0"/>
            <a:ext cx="552600" cy="928800"/>
          </a:xfrm>
          <a:prstGeom prst="rect">
            <a:avLst/>
          </a:prstGeom>
          <a:ln w="0">
            <a:noFill/>
          </a:ln>
        </p:spPr>
      </p:pic>
      <p:sp>
        <p:nvSpPr>
          <p:cNvPr id="229" name="TextBox 3"/>
          <p:cNvSpPr/>
          <p:nvPr/>
        </p:nvSpPr>
        <p:spPr>
          <a:xfrm>
            <a:off x="357120" y="714240"/>
            <a:ext cx="8501040" cy="63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путные заболевания при 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жалению, из-за угнетенного иммунитета воздействовать на организм ВИЧ-положительного могут даже те возбудители, которые человек со здоровым иммунитетом даже не заметит. Поэтому риск заболеть увеличивается во множество раз. В медицине, болезни, которые вызваны условно-патогенными возбудителями, называют оппортунистически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й из самых распространенных и опасных оппортунистических болезней является 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вмоцистная пневмон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и здоровой иммунной системе грибок, который вызывает это заболевание, нормально уживается в человеческом организме – более 80% людей носят его в своих легких. Но ВИЧ-инфицированных эта болезнь может привести к летальному исходу. Проявлением пневмоцистной пневмонии является непродуктивный кашель, одышка и лихорадка. При должном лечении болезнь можно «свести на нет», а при дальнейшей профилактике избежать ее рециди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ольшинстве случаев больные ВИЧ также являются носителями 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патита B или С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вязано это с тем, что данные виды гепатита передаются теми же способами, что и сам ВИЧ. Антиретровирустная терапия, применяемая для лечения ВИЧ, очень тяжело переносится печенью, а при гепатите нагрузка на неё получается еще больше. В результате повышается риск развития цирроза печени. Несмотря на то, что при комплексной терапии люди с ВИЧ и гепатитом живут дольше, именно заболевания печени являются наиболее частой причиной смерти ВИЧ-положитель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енее часто у ВИЧ-инфицированных встречается 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беркулез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аразиться туберкулезом можно воздушно-капельным путем. Из-за ослабленного иммунитета болезнь развивается гораздо быстрее. Связано это с тем, что микробактерии свободно распространяются по органам и тканям организма. Поэтому, при попадании возбудителя в организм, в большинстве случаев развивается туберкулез, который, в свою очередь, может способствовать прогрессированию самой ВИЧ-инфек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11" descr="C:\Users\college_nekrasov\Desktop\da0d9a0b16618e832c1c61d9ef658bb3-bpfull.png"/>
          <p:cNvPicPr/>
          <p:nvPr/>
        </p:nvPicPr>
        <p:blipFill>
          <a:blip r:embed="rId1"/>
          <a:srcRect l="0" t="0" r="0" b="1483"/>
          <a:stretch/>
        </p:blipFill>
        <p:spPr>
          <a:xfrm>
            <a:off x="0" y="0"/>
            <a:ext cx="552600" cy="9288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3"/>
          <p:cNvSpPr/>
          <p:nvPr/>
        </p:nvSpPr>
        <p:spPr>
          <a:xfrm>
            <a:off x="571680" y="714240"/>
            <a:ext cx="8072280" cy="61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путные заболевания при 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женный иммунитет повышает вероятность развития некоторых 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кологических заболевани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иболее распространенные из них -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ркома Капоши и лимфом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ркома Капоши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злокачественная опухоль на коже, как правило, множественная. Она проявляется в 40-60% случаях у ВИЧ-положительных. По некоторым данным ее появлению способствует герпесвирус человека типа 8. Лечение осложняется тем, что некоторые препараты химиотерапии очень сильно воздействуют на костный мозг. А применение АРВ-терапии усугубляет картин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мфом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нкологическое заболевание лимфатической ткани человека. Лимфома развивается в 10-30% случаев у инфицированных ВИЧ. Больше всего от лимфомы страдают центральная нервная система, костный мозг, печень и органы желудочно-кишечного тракта. Зачастую лифмома приводит к смерти больного в течение года. Потливость, похудание, поражение ЦНС, эпилептические припадки, лихорадка – это наиболее распространенные симптомы лимфо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уже говорилось выше, при ВИЧ и СПИДе большинство инфекций, которые попадают в организм, приводят к новым болезням. Поэтому у ВИЧ-положительных очень часто бывают болезни желудочно-кишечного тракта, нервной системы, почек и других органов чело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я ВИЧ, очень важно трепетно относиться к своему здоровью и обследоваться у врача. При раннем обнаружении оппортунистического заболевания, вероятность того, что его вылечат, увеличивается. Поэтому важно при малейших симптомах сразу обращаться к врачу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ус иммунодефицита человека «открывает ворота» различным заболеваниям, в том числе, и сердечнососудистым. Так, риск возникновения заболеваний сердца и сосудов у людей, живущих с ВИЧ, больше чем среди людей не инфицированных. Поэтому особое внимание нужно уделять профилактике подобной патологии, и это должен знать каждый человек с положительным статусом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Рисунок 4" descr="http://o-spide.ru/uploads/content/d279071ede90f7b67a4e9126292cb57b.jpg"/>
          <p:cNvPicPr/>
          <p:nvPr/>
        </p:nvPicPr>
        <p:blipFill>
          <a:blip r:embed="rId2"/>
          <a:stretch/>
        </p:blipFill>
        <p:spPr>
          <a:xfrm>
            <a:off x="1928880" y="6000840"/>
            <a:ext cx="1643040" cy="73188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5" descr="http://o-spide.ru/uploads/content/a6792f98778458d50c03eb40919c6663.jpg"/>
          <p:cNvPicPr/>
          <p:nvPr/>
        </p:nvPicPr>
        <p:blipFill>
          <a:blip r:embed="rId3"/>
          <a:stretch/>
        </p:blipFill>
        <p:spPr>
          <a:xfrm>
            <a:off x="4929120" y="6000840"/>
            <a:ext cx="13860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1"/>
          <p:cNvSpPr/>
          <p:nvPr/>
        </p:nvSpPr>
        <p:spPr>
          <a:xfrm>
            <a:off x="357120" y="1143000"/>
            <a:ext cx="857268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человек узнает о диагнозе, который ему ставит врач, у него сразу же в голове возникают разные вопрос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ему сообщают, что у него грипп или пиелонефрит, он спрашивает, как ему лечиться и как скоро он сможет выздороветь. Но если человеку сообщают страшный диагноз, например ВИЧ-инфекция, то вопросы появляются совсем другие, например, сколько мне осталось жит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зададите этот вопрос доктору он, конечно же, не сможет ответить на него абсолютно точно. Он сможет привести лишь примерные данные. В среднем, человек с ВИЧ, если он не принимает АРВ препараты, сможет прожить не более 10 лет. Хотя продолжительность жизни с ВИЧ – очень индивидуально. Некоторые не проживут и 3 лет. Все зависит от множества факторов, среди которых: образ жизни, насколько сильный у человека иммунитет, как правильно он питается и так далее. И, как показывает практика, чаще всего люди умирают не от ВИЧ или СПИДа, а от оппортунистических, т.е. сопутствующих заболев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сегодня существует ряд препаратов, которые могут бороться с вирусом иммунодефицита человека, их даже объединили в отдельный класс терапии. Это препараты, которые борются с ретровирусами, к которым относится и ВИЧ. Антиретровирусная терапия развивается с каждым годом и является очень эффективной в лечении ВИЧ. АРВ-терапия действует таким образом, что, в первую очередь, она понижает вирусную нагрузку, т.е. снижает количество вирусных агентов в организме. А во-вторых, антиретровирусные препараты тонизируют иммунную систему, тем самым повышая количество лимфоцитов в крови. Именно наличие в крови достаточного количества лимфоцитов обеспечивает борьбу с оппортунистическими заболеван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Рисунок 2" descr="http://o-spide.ru/uploads/content/2cd439df6b2d7d2a031cddd93d0b9740.jpg"/>
          <p:cNvPicPr/>
          <p:nvPr/>
        </p:nvPicPr>
        <p:blipFill>
          <a:blip r:embed="rId1"/>
          <a:stretch/>
        </p:blipFill>
        <p:spPr>
          <a:xfrm>
            <a:off x="7429680" y="428760"/>
            <a:ext cx="1314360" cy="803160"/>
          </a:xfrm>
          <a:prstGeom prst="rect">
            <a:avLst/>
          </a:prstGeom>
          <a:ln w="0">
            <a:noFill/>
          </a:ln>
        </p:spPr>
      </p:pic>
      <p:sp>
        <p:nvSpPr>
          <p:cNvPr id="236" name="TextBox 3"/>
          <p:cNvSpPr/>
          <p:nvPr/>
        </p:nvSpPr>
        <p:spPr>
          <a:xfrm>
            <a:off x="714240" y="571680"/>
            <a:ext cx="514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олько можно прожить с ВИЧ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Рисунок 11" descr="C:\Users\college_nekrasov\Desktop\da0d9a0b16618e832c1c61d9ef658bb3-bpfull.png"/>
          <p:cNvPicPr/>
          <p:nvPr/>
        </p:nvPicPr>
        <p:blipFill>
          <a:blip r:embed="rId2"/>
          <a:srcRect l="0" t="0" r="0" b="1483"/>
          <a:stretch/>
        </p:blipFill>
        <p:spPr>
          <a:xfrm>
            <a:off x="0" y="0"/>
            <a:ext cx="6793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571680" y="785880"/>
            <a:ext cx="8286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же антиретровирусную терапию не принимать, это может привести к различным негативным последствия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первых, вирусная нагрузка будет расти, что в итоге приведет к СПИДу. СПИД – это последняя стадия ВИЧ-инфекции, которая, как правило, ведет к смерти. К тому же, из-за большого содержания вируса в крови, риск передачи его кому-либо становится значительно выше, чем у тех, кто держит содержание ВИЧ в пределах допустим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о-вторых, будет происходить постепенное снижение количества лимфоцитов. Если иммунный статус выше 350 CD4, то иммунная система работает вполне нормально, но она подвержена некоторым возбудителям болезней, которые могут вызвать диарею и потерю веса. Если иммунный статус опускается ниже 200, то значительно повышается риск развития пневмонии, при статусе ниже 100 – развиваются серьезные заболевания, которые могут привести к летальному исх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но одно, что лишь при правильном лечении и уходе за собой, человек может прожить то количество лет, которое ему было отведено. ВИЧ – это ужасное хроническое заболевание, но его можно сдерживать, с ним можно жить. Это стало возможным лишь при употреблении антиретровирусных препаратов, а также при соблюдении определенных требований, среди которых: правильное питание, отсутствие вредных привычек, занятия спортом и так дале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вывод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ить за своим здоровьем и следовать всем рекомендациям, которые дает докт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Рисунок 11" descr="C:\Users\college_nekrasov\Desktop\da0d9a0b16618e832c1c61d9ef658bb3-bpfull.png"/>
          <p:cNvPicPr/>
          <p:nvPr/>
        </p:nvPicPr>
        <p:blipFill>
          <a:blip r:embed="rId1"/>
          <a:srcRect l="0" t="0" r="0" b="1483"/>
          <a:stretch/>
        </p:blipFill>
        <p:spPr>
          <a:xfrm>
            <a:off x="0" y="0"/>
            <a:ext cx="5526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42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 МАЯ – МЕЖДУНАРОДНЫЙ ДЕНЬ ПАМЯТИ ЖЕРТВ СПИДА</a:t>
            </a:r>
            <a:br>
              <a:rPr sz="45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2214720"/>
            <a:ext cx="822960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еление России составляет более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6 миллионов человек.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 живут с ВИЧ более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0 000 человек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 час в России</a:t>
            </a:r>
            <a:br>
              <a:rPr sz="3300"/>
            </a:b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ажается 10 человек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НОВИМ СПИД ВМЕСТЕ!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ЙДИ ТЕСТ НА ВИЧ!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Рисунок 11" descr="C:\Users\college_nekrasov\Desktop\da0d9a0b16618e832c1c61d9ef658bb3-bpfull.png"/>
          <p:cNvPicPr/>
          <p:nvPr/>
        </p:nvPicPr>
        <p:blipFill>
          <a:blip r:embed="rId1"/>
          <a:srcRect l="0" t="0" r="0" b="1483"/>
          <a:stretch/>
        </p:blipFill>
        <p:spPr>
          <a:xfrm>
            <a:off x="0" y="0"/>
            <a:ext cx="8413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2600" y="785880"/>
            <a:ext cx="808668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такое ВИЧ-инфекция? Чем ВИЧ-инфекция отличается от СПИДа?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85840" y="1499760"/>
            <a:ext cx="85723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ВИЧ и СПИД — не одно и то же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onstantia"/>
              </a:rPr>
              <a:t>ВИЧ-инфекция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– это болезнь.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Ее вызывает ВИЧ – </a:t>
            </a:r>
            <a:r>
              <a:rPr b="0" i="1" lang="ru-RU" sz="1400" spc="-1" strike="noStrike">
                <a:solidFill>
                  <a:srgbClr val="000000"/>
                </a:solidFill>
                <a:latin typeface="Constantia"/>
              </a:rPr>
              <a:t>вирус иммунодефицита человека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. </a:t>
            </a:r>
            <a:r>
              <a:rPr b="0" i="1" lang="ru-RU" sz="1400" spc="-1" strike="noStrike">
                <a:solidFill>
                  <a:srgbClr val="000000"/>
                </a:solidFill>
                <a:latin typeface="Constantia"/>
              </a:rPr>
              <a:t>Иммунодефицит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– состояние, при котором организм не может сопротивляться различным инфекциям. ВИЧ живет и размножается только в организме человека. 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ВИЧ поражает иммунную систему человека, со временем лишая ее возможности сопротивляться не только размножению ВИЧ, но и другим заболеваниям и инфекциям (например, туберкулезу, грибкам, даже ОРВИ).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ПИД – это продвинутая стадия развития ВИЧ инфекции.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ПИД – </a:t>
            </a:r>
            <a:r>
              <a:rPr b="0" i="1" lang="ru-RU" sz="1400" spc="-1" strike="noStrike">
                <a:solidFill>
                  <a:srgbClr val="000000"/>
                </a:solidFill>
                <a:latin typeface="Constantia"/>
              </a:rPr>
              <a:t>синдром приобретенного иммунодефицита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. В стадии СПИДа иммунитет ослаблен настолько, что другие заболевания, развивающиеся на фоне ВИЧ-инфекции, принимают необратимое течение и приводят к летальному исходу. 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Еще не найдено лекарство, которое могло бы вывести ВИЧ из организма, поэтому ВИЧ-инфекция пока является неизлечимой. Единственный способ защиты от ВИЧ-инфекции – это не допускать заражения, соблюдая все возможные меры профилактики.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Но в случае заболевания ВИЧ-инфекцией есть возможность держать болезнь под контролем – регулярно посещать врача Центра профилактики и борьбы со СПИДом, а при необходимости – принимать терапию. В этом случае есть шанс жить долго и полноценно, а также родить здорового ребенка.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Рисунок 11" descr="C:\Users\college_nekrasov\Desktop\da0d9a0b16618e832c1c61d9ef658bb3-bpfull.png"/>
          <p:cNvPicPr/>
          <p:nvPr/>
        </p:nvPicPr>
        <p:blipFill>
          <a:blip r:embed="rId1"/>
          <a:srcRect l="0" t="0" r="0" b="1483"/>
          <a:stretch/>
        </p:blipFill>
        <p:spPr>
          <a:xfrm>
            <a:off x="0" y="0"/>
            <a:ext cx="5526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8"/>
          <p:cNvSpPr/>
          <p:nvPr/>
        </p:nvSpPr>
        <p:spPr>
          <a:xfrm>
            <a:off x="214200" y="285840"/>
            <a:ext cx="8643960" cy="72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вой статус должен знать кажды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преодолеть страх обследования на ВИЧ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итесь узнать свой ВИЧ-статус? Психологи дают простые советы по преодолению психологического барьера для проведения ВИЧ-тестир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едование на ВИЧ - это всегда стресс. Даже если вы почти уверены, что ВИЧ у вас нет, всё равно в подсознании могут возникнуть опасения. Если обследование на ВИЧ предстоит после опасной ситуации, решиться на него бывает многократно сложнее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шлое не измениш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ачала стоит хорошо подумать, что стоит за вашим страхом. Скорее всего, вы боитесь, что результат теста действительно окажется положительным, а это изменит всю вашу жизнь. Ваш страх понятен, ведь ВИЧ – это СТРАШНО. Но ведь если вы УЖЕ заразились, то ничего изменить невозможно! Вспомните и скажите себе, какое сегодня число и время суток, а потом вспомните, когда у вас была опасная ситуация – какого числа и какого месяца? Так вы лучше осознаете, что в прошлое вернуться НЕВОЗМОЖНО, и изменить там что-то тоже НЕВОЗМОЖНО. Оно уже прошло. Так что, если инфекция действительно проникла в вашу кровь, уже не важно, будете вы обследоваться или нет. Процесс запущен и идёт своим путём. И, если это случилось, придётся принять этот факт и менять свою жизнь и свои пла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о вин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тоит сосредоточиваться на чувстве вины – если бы вы знали всё, что знаете сейчас, то не поступали бы так. Но тогда, в ПРОШЛОМ, вы был другими и не знали. Как это ни грустно, но изменить прошлое вы не в силах. Лучше осознать свои ошибки и понять, что вы сделали не та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ь с ВИЧ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умайте о тех людях, которые смогли приспособиться к новой жизни, к тем неприятностям и нагрузкам, которые возникают после получения диагноза «ВИЧ-инфекция». ВИЧ – это одно из хронических заболеваний. Оно не лечится, но сейчас медицина шагнула вперёд, и ВИЧ перестал быть приговором. Люди с ВИЧ могут жить ДОЛГО. Подумайте, что для вас значит «долго» – что вы хотели бы ещё успеть сделать в жизни? Доподлинно неизвестно, кто проживет дольше – тот, кто абсолютно здоров, или человек с позитивным статусом ВИЧ. Нельзя предугадать будущее, неизвестно, что будет завтра и что будет через десять мину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9" descr="http://o-spide.ru/uploads/content/90a55492a9e83216008503b0a7c5a105.jpg"/>
          <p:cNvPicPr/>
          <p:nvPr/>
        </p:nvPicPr>
        <p:blipFill>
          <a:blip r:embed="rId1"/>
          <a:stretch/>
        </p:blipFill>
        <p:spPr>
          <a:xfrm>
            <a:off x="7143840" y="142920"/>
            <a:ext cx="1814400" cy="9460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11" descr="C:\Users\college_nekrasov\Desktop\da0d9a0b16618e832c1c61d9ef658bb3-bpfull.png"/>
          <p:cNvPicPr/>
          <p:nvPr/>
        </p:nvPicPr>
        <p:blipFill>
          <a:blip r:embed="rId2"/>
          <a:srcRect l="0" t="0" r="0" b="1483"/>
          <a:stretch/>
        </p:blipFill>
        <p:spPr>
          <a:xfrm>
            <a:off x="0" y="0"/>
            <a:ext cx="6793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3"/>
          <p:cNvSpPr/>
          <p:nvPr/>
        </p:nvSpPr>
        <p:spPr>
          <a:xfrm>
            <a:off x="571680" y="928800"/>
            <a:ext cx="80722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ние ВИЧ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нее определение ВИЧ-инфекции увеличит шансы на успешное лечение. А это, в свою очередь, поможет сохранить здоровье и хорошее самочувств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 ребё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менным женщинам нужно обязательно обследоваться на ВИЧ. Своевременное выявление инфекции позволит рано начать лечение, что позволит снизить риск инфицирования ребёнка в десятки раз!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та о близк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у вас есть близкие люди, откажитесь от собственного эгоизма и подумайте о них – если вы не проверитесь на ВИЧ, вы можете поставить их под угрозу заражения ВИЧ-инфекцией! А ведь они ни в чём не виноваты, почему они должны рисковать?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теста всё равно не узн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может быть, всё не так уж и плохо, и вы вовсе не больны – заразиться ВИЧ не слишком-то просто, и не всегда это происходит даже в очень опасных ситуациях. В конце концов, без теста всё равно невозможно узнать, есть у вас ВИЧ или нет. Что бы вы ни чувствовали, какие бы симптомы болезни у себя ни находили, о чём бы ни читали – всё это только ваши догадки. Специфических для ВИЧ симптомов не существует!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ц неопределё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едование на ВИЧ – это возможность положить конец своим страхам и неопределённости. СПИДофобия может стать очень серьёзным психологическим расстройством, способным довести вас до суицида. Зачем растягивать психологическую пытку и мучиться, возможно, несуществующими страхами? Может быть, этот опыт поможет вам посмотреть на свою жизнь по-новому и заставит изменить ее к лучшему.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Рисунок 11" descr="C:\Users\college_nekrasov\Desktop\da0d9a0b16618e832c1c61d9ef658bb3-bpfull.png"/>
          <p:cNvPicPr/>
          <p:nvPr/>
        </p:nvPicPr>
        <p:blipFill>
          <a:blip r:embed="rId1"/>
          <a:srcRect l="0" t="0" r="0" b="1483"/>
          <a:stretch/>
        </p:blipFill>
        <p:spPr>
          <a:xfrm>
            <a:off x="0" y="0"/>
            <a:ext cx="6793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42600" y="714240"/>
            <a:ext cx="808668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узнать, где пройти тестирование на ВИЧ и гепатит</a:t>
            </a:r>
            <a:br>
              <a:rPr sz="18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85840" y="1499760"/>
            <a:ext cx="85723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сдать анализ на ВИЧ- или гепатит-статус крайне просто, а узнать о том, где эту процедуру можно пройти – еще проще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йти тестирование на ВИЧ можно в Центрах по профилактике и борьбе со СПИД и инфекционными заболеваниями. В таких центрах, как правило, находится самое современное оборудование, работают наиболее квалифицированные в данной области специалисты. Но, если по определенным причинам у человека нет возможности пройти обследование на ВИЧ или гепатит в специализированном центре, то такие анализы можно сдать и в обычной государственной поликлинике. И в СПИД-центре, и в больнице тестирование на ВИЧ можно пройти бесплатно. Но если эти варианты вам не подходят, то сдать такие анализы можно и в любой частной клинике. Только необходимо уточнить: есть ли у них лицензия на проведение подобных исследований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абсолютно любую информацию можно найти в сети Интернет. Также информацию о СПИД-центрах можно найти по ссылке </a:t>
            </a:r>
            <a:r>
              <a:rPr b="0" lang="ru-RU" sz="14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1"/>
              </a:rPr>
              <a:t>http://o-spide.ru/test/where/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не только в интернете можно получить информацию о том, где можно пройти тестирование на ВИЧ или гепатит. Как правило, практически во всех медицинских учреждениях и в некоторых образовательных организациях есть информационные плакаты, на которых размещена информация о самом вирусе иммунодефицита человека, а еще размещена информация о том, где можно проверить свой статус. Если же такой информации нет, то всегда можно спросить об этом у медицинских работников, которые точно знают, где находится СПИД-центр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ю о том, где можно пройти тестирование на ВИЧ или гепатит, найти очень просто. Поэтому обязательно делайте тест каждые 6 месяцев. В таком случае вы будете контролировать свой ВИЧ- или гепатит-статус. А значит, сможете вовремя обратиться к врачу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Рисунок 3" descr="http://o-spide.ru/uploads/content/facfb6a65e27ba032c63297ceda9666b.jpg"/>
          <p:cNvPicPr/>
          <p:nvPr/>
        </p:nvPicPr>
        <p:blipFill>
          <a:blip r:embed="rId2"/>
          <a:stretch/>
        </p:blipFill>
        <p:spPr>
          <a:xfrm>
            <a:off x="6786720" y="714240"/>
            <a:ext cx="1957320" cy="80352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11" descr="C:\Users\college_nekrasov\Desktop\da0d9a0b16618e832c1c61d9ef658bb3-bpfull.png"/>
          <p:cNvPicPr/>
          <p:nvPr/>
        </p:nvPicPr>
        <p:blipFill>
          <a:blip r:embed="rId3"/>
          <a:srcRect l="0" t="0" r="0" b="1483"/>
          <a:stretch/>
        </p:blipFill>
        <p:spPr>
          <a:xfrm>
            <a:off x="0" y="0"/>
            <a:ext cx="5526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1"/>
          <p:cNvSpPr/>
          <p:nvPr/>
        </p:nvSpPr>
        <p:spPr>
          <a:xfrm>
            <a:off x="357120" y="642960"/>
            <a:ext cx="8429760" cy="64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нятие диагноза 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постановки диагноза «ВИЧ-инфекция» жизнь человека меняется. После получения положительного результата теста на ВИЧ в жизни любого человека происходит изменений отношений в семье, обществе. Первое время кажется, что все ужасно и хорошо быть не может, никогда не будет любимого человека и отношений. А если отношения на момент постановки диагноза уже есть, то в голове сразу возникают вопросы «как рассказать о болезни? Примет ли любимый человек этот диагноз?» Если же человек одинок, то у него может упасть самооценка, появятся сложности в общении, в выборе партнера. От того, как человек поведет себя с окружающими, зависит его здоровье эмоциональное и физическ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т помнить, что хоть вы и ВИЧ-положительны, вы не беспомощны (сейчас есть множество препаратов, которые не дают вирусу развиваться), у вас по-прежнему есть близкие люди, которым вы не безразличны и которые вас всегда поддержат. Очень часто первой реакцией на диагноз являются мысли: «Почему именно я? Скорее всего это ошибка. Анализы не мои. Я же прекрасно себя чувствую». Для многих людей диагноз является настолько неожиданным, что первое время человек шокирован и не осознает до конца, что же произошло. Отрицание диагноза – это своего рода защитный механизм. Однако бесконечно бегать от диагноза не получится, и чем раньше вы это осознаете и начнете лечение, тем больше шансов у вас на здоровое будущ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Рисунок 11" descr="C:\Users\college_nekrasov\Desktop\da0d9a0b16618e832c1c61d9ef658bb3-bpfull.png"/>
          <p:cNvPicPr/>
          <p:nvPr/>
        </p:nvPicPr>
        <p:blipFill>
          <a:blip r:embed="rId1"/>
          <a:srcRect l="0" t="0" r="0" b="1483"/>
          <a:stretch/>
        </p:blipFill>
        <p:spPr>
          <a:xfrm>
            <a:off x="0" y="0"/>
            <a:ext cx="6793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2"/>
          <p:cNvSpPr/>
          <p:nvPr/>
        </p:nvSpPr>
        <p:spPr>
          <a:xfrm>
            <a:off x="500040" y="1357200"/>
            <a:ext cx="8358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стадии отрицания обычно наступает злость. Злость на того, кто заразил, злость на себя, на врачей, которые ничего не могут с этим сделать, на весь мир. Чем больше и дольше вы будете злиться, тем выше у вас в организме будет уровень стресса, а это чревато пагубными последствиями для организма. Это плохо отражается на эмоциональном и физическом состоя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, узнав о болезни, пытаются заключить некую «сделку» с собой, богом, еще кем-то. Суть в том, что человек обещает вести себя хорошо, не совершать каких-то ошибок или поступков взамен на прежнее состояние. Но, когда, наконец, человек понимает что диагноз не уйдет, а реальность – суровая, он впадает в депрессию. Перестает есть, интересоваться хоть чем-то, появляются мысли о самоубийстве. В такие периоды важно иметь рядом людей, которые поддержат, помогут, не дадут совершить какой-либо поступ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ый диагноз ВИЧ – стресс не только для самого человека, но и для его родных. Очень важно принять свою болезнь и научиться с ней жить. Причем не просто жить, а жить яркой, насыщенной жизнью. В этом могут помочь друзья, знакомые из Центра профилактики ВИЧ, кроме того, всегда есть горячие линии, на которых вас выслушают и помогут советом. К тому же, вы всегда можете быть уверены, что этот разговор останется в тайне и не вызовет никаких последствий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3" descr="http://o-spide.ru/uploads/content/2e4794b5446f6c99287414e8adc5b071.jpg"/>
          <p:cNvPicPr/>
          <p:nvPr/>
        </p:nvPicPr>
        <p:blipFill>
          <a:blip r:embed="rId1"/>
          <a:stretch/>
        </p:blipFill>
        <p:spPr>
          <a:xfrm>
            <a:off x="1857240" y="571680"/>
            <a:ext cx="1957680" cy="80316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11" descr="C:\Users\college_nekrasov\Desktop\da0d9a0b16618e832c1c61d9ef658bb3-bpfull.png"/>
          <p:cNvPicPr/>
          <p:nvPr/>
        </p:nvPicPr>
        <p:blipFill>
          <a:blip r:embed="rId2"/>
          <a:srcRect l="0" t="0" r="0" b="1483"/>
          <a:stretch/>
        </p:blipFill>
        <p:spPr>
          <a:xfrm>
            <a:off x="0" y="0"/>
            <a:ext cx="6793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Рисунок 11" descr="C:\Users\college_nekrasov\Desktop\da0d9a0b16618e832c1c61d9ef658bb3-bpfull.png"/>
          <p:cNvPicPr/>
          <p:nvPr/>
        </p:nvPicPr>
        <p:blipFill>
          <a:blip r:embed="rId1"/>
          <a:srcRect l="0" t="0" r="0" b="1483"/>
          <a:stretch/>
        </p:blipFill>
        <p:spPr>
          <a:xfrm>
            <a:off x="0" y="0"/>
            <a:ext cx="552600" cy="928800"/>
          </a:xfrm>
          <a:prstGeom prst="rect">
            <a:avLst/>
          </a:prstGeom>
          <a:ln w="0">
            <a:noFill/>
          </a:ln>
        </p:spPr>
      </p:pic>
      <p:sp>
        <p:nvSpPr>
          <p:cNvPr id="220" name="TextBox 3"/>
          <p:cNvSpPr/>
          <p:nvPr/>
        </p:nvSpPr>
        <p:spPr>
          <a:xfrm>
            <a:off x="571680" y="642960"/>
            <a:ext cx="807228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дии развития ВИЧ-инфе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кубационный период ВИЧ-инфекц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от момента заражения до появления клинических проявлений болезни. Продолжается от 2 недель до 6 и более месяцев. На этой стадии вирус может не определить даже тестирование, однако ВИЧ-инфекция уже может передаваться от инфицированного другим людя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«острой инфекци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стадия может проходить бессимптомно, либо сопровождаться лихорадкой, увеличением лимфатических узлов, стоматитом, пятнистой сыпью, фарингитом, диареей, увеличением селезенки, иногда явлениями энцефалита. Обычно это длится от нескольких дней до 2 месяце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тентная стад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ь может ничем себя не проявлять, но ВИЧ продолжает размножаться (увеличивается концентрация ВИЧ в крови), и организм уже не в состоянии производить необходимое количество Т-лимфоцитов – их число медленно снижается. Латентная стадия может длиться от 2–3 до 20 и более лет, в среднем – 6–7 л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дия вторичных заболев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чет продолжающегося активного увеличения концентрации вируса в крови и снижения Т-лимфоцитов, у пациента начинают возникать разнообразные оппортунистические заболевания, которым уже не в состоянии противостоять иммунная система в силу быстро снижающегося числа Т-лимфоци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винутая стадия ВИЧ-инфекции. Число клеток-защитников (Т-лимфоцитов) достигает критически малого количества. Иммунная система больше не может сопротивляться инфекциям, и они быстро истощают организм. Вирусы и бактерии поражают жизненно важные органы, включая опорно-двигательный аппарат, систему дыхания, пищеварения, головной мозг. Человек может умереть от оппортунистических заболеваний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5T12:36:44Z</dcterms:created>
  <dc:creator>РИК</dc:creator>
  <dc:description/>
  <dc:language>en-US</dc:language>
  <cp:lastModifiedBy>РИК</cp:lastModifiedBy>
  <dcterms:modified xsi:type="dcterms:W3CDTF">2018-06-09T12:51:22Z</dcterms:modified>
  <cp:revision>26</cp:revision>
  <dc:subject/>
  <dc:title>Слайд 1</dc:title>
</cp:coreProperties>
</file>