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CD9-B1AD-43DE-B936-47A39942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4DD-854D-4D89-8125-624AEADA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CD9-70F2-4B78-87CD-75EA4CAE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74D-DE52-4360-9E5F-44316C3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6E57-62A7-4D22-A8BF-358C5077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8AF5-638B-4594-B81E-58E851C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15CC-C463-4162-A120-769A9EB0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F14C-7CBF-4B61-BEBD-00F2963B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F4B-A10A-41A9-AC51-4F5006C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1540-11B5-43BD-8C99-3EFD203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AC5-B638-4729-B0EF-6AF61A9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920-EFF7-4D24-83AB-3A8D34C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095A-DFAF-4D58-AB11-A32391B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A9B7-6AAD-43D5-B738-232BEEC0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5968-7E58-40C2-8C59-5286E53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76C-F301-46A3-8DB1-6205AC82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D34-51CA-4BE3-A6D7-DDF322C2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9E32-1E3E-4A57-B63E-ECFE5020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96F2-3C7B-4675-B2D0-9B4F930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DA40-EE34-4DFE-86CC-B5881C02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825B-4381-44E3-BB33-80AE824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3796-2F4B-4ED9-86F6-0C7C20D8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F75-B69A-4568-B9FE-D4B45D69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69FB-4DBB-45EC-BA21-19905A2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019E-36BA-40C2-A6F2-9492B49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CF75-AF8F-4913-BAAC-426A25A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6BA2-78D5-40B9-8634-705552B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02D9-0FD1-4B9E-BF6D-6078333C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CA3F-E9ED-4954-BD5F-D05B55FE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07B7-CC22-4440-B676-3AE02F20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5DA4-A5A6-4A79-A8FD-0755D61F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B5F2-8C13-43D3-8E6C-E16336FD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EAB6-4807-447F-9BC7-640BCEA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FD0-3E5B-499E-AFCE-CA85FA4A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FE67-E625-4C60-8E99-107B04ED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F6DDD-1CDC-4C25-839F-157C77A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1240-9C61-4820-806F-4ED7387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4EB7-6BF7-4FAA-BCB3-80D70CF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E2C0-DB71-4351-B860-2A6C3C25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BF2C-9BAE-46C5-8E22-D3B56BD1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E362-33FC-4271-8F39-28AD07F5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08FB-116C-4197-AE6F-21C77BED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34A26-3AF5-4A3D-92B7-951EA88B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D75-6F06-44E9-BD12-3C83C8D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657-00E3-4DF6-BE97-C62A7E85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C53-29EE-4554-98F5-AAA6E13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4C4-41ED-4815-A83D-1BA6AB0C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45D-7093-4F81-8AC5-C707A6A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9A6-5E33-46DD-9BBD-100BC074E23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234-BC3F-4870-9E61-F0F2051014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E20-1D37-4462-B974-49A81CFE646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0B8-E159-4D7F-BB9B-2EDA6D6A64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-spide.ru/test/where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96880" y="2567160"/>
            <a:ext cx="7504200" cy="1888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14240" y="5000400"/>
            <a:ext cx="78552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сатова Татьяна Васильевна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ьютор структурного подраздел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Центр психолого-педагогического сопровожд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и профилактики негативных явлений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профессиональных образовательных учреждениях»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1500120" y="714240"/>
            <a:ext cx="7072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по 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колледж № 1 им. Н.А. Некрасов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БПОУ Некрасовский педколледж №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15717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214200" y="571680"/>
            <a:ext cx="878688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привычки 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вредные привычки так тесно вошли в нашу жизнь, что далеко не все могут представить свою жизнь без 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современные исследования все чаще показывают, что большинство этих привычек, так или иначе, воздействуют на человеческий организм, разрушая его. Ученые и врачи в один голос говорят, что необходимо избавляться от вредных привычек, если хочешь продлить свою жизнь. А на организм ВИЧ-положительных людей такие «привычки» воздействуют не просто губительно, они действительно его убив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, наверное, одна из самых распространенных вредных привычек. И, как показывают исследования, оно снижает жизнь ВИЧ-отрицательных людей в 1,5 раза, а у ВИЧ-позитивных – почти в 3 раза! У людей, живущих с ВИЧ, значительно снижен иммунитет из-за вируса, поэтому они подвержены различным заболеваниям. А при курении, итак плохой иммунитет ухудшается еще сильнее. Все это лишь способствует развитию ВИЧ в организме. Кроме снижения иммунитета, курение значительно уменьшает эффективность препаратов антиретровирусной терапии, которая назначается при ВИЧ и СПИД. Все это вкупе очень негативно сказывается на здоровье, усиливая вероятность развития сопутствующих заболеваний. С каждой выкуренной сигаретой, ВИЧ-положительный человек приближает свою смер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при курении усиливаются видимые признаки ВИЧ – во рту появляются язвочки, воспаляются десны. Внутренние органы тоже значительно страдают – почки, печень, из-за влияния ВИЧ и воздействия препаратов и так с трудом справляются со своими функциями, а при курении изнашивание этих органов происходит значительно быстр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и из симптомов ВИЧ являются депрессия и непрекращающийся стресс, и может сложиться ложное мнение, что сигареты помогают от этого состояния избавиться. Но это не так. Доказано, что снять стресс сигаретой невозможно. Вред же, который сигареты наносят, реален. А вот употребление полезной еды, не только сможет поднять настроение, но и повысить иммунитет, а значит помочь в противостоянии организма 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7" descr="http://o-spide.ru/uploads/content/7093965ef36c791d60cd2ce1a16f56ef.jpg"/>
          <p:cNvPicPr/>
          <p:nvPr/>
        </p:nvPicPr>
        <p:blipFill>
          <a:blip r:embed="rId2"/>
          <a:srcRect l="7692" t="27042" r="64104" b="24280"/>
          <a:stretch/>
        </p:blipFill>
        <p:spPr>
          <a:xfrm>
            <a:off x="5500800" y="2357280"/>
            <a:ext cx="714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214200" y="571680"/>
            <a:ext cx="878688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привычки 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также вреден для организма, особенно для организма ВИЧ-положительных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потому что он негативно воздействует на иммунную систему. Так, у ВИЧ-позитивных людей, не принимающих антиретровирусную терапию, но употребляющих алкоголь, количество Т-лимфоцитов значительно меньше, чем у тех, кто алкоголь не употреблял. Во-вторых, алкоголь влияет на печень, которая и так очень изнашивается при ВИЧ. В третьих, алкоголь особенно негативно влияет на организм при сопутствующих заболеваниях, которые очень часто встречаются при ВИЧ. Алкоголь снижает иммунитет и этим повышает шансы на развитие цирроза печени и других опасных заболеваний. Однако при незначительном употреблении, алкоголь не наносит очень большого вреда людям, живущим с ВИ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ки, наверное, с трудом можно назвать просто привычкой. Однако сегодня такое явление встречается, к сожалению, не так редко, и многие относятся к нему именно как к привычке. Наркотические вещества очень сильно влияют на организм человека. Страдает пищеварительная система – пропадает голод, поступающая пища не полностью переваривается. Организм не получает достаточно энергии и витаминов. Кроме того, запоры становятся достаточно частыми, а значит, происходит отравление организма токсинами. Что особенно страшно для ВИЧ-положительных, так как из-за болезни организму очень сложно справляться с подобным стрес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аркотиков, ВИЧ в организме наркомана может мутировать, вследствие чего он становится не восприимчив к терапии. ВИЧ-позитивные, употребляющие наркотики, живут значительно мен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ее распространенные вредные привычки, которые оказывают очень сильное влияние на организм человека. Для ВИЧ-позитивных людей эти «привычки» особенно опасны. Они значительно сокращают жизнь и ухудшают ее качество. Сегодня, когда ВИЧ-позитивные могут прожить долгую и счастливую жизнь, благодаря существующей терапии, как минимум странно сознательно сокращать её, употребляя алкоголь, сигареты или нарко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4" descr="http://o-spide.ru/uploads/content/7093965ef36c791d60cd2ce1a16f56ef.jpg"/>
          <p:cNvPicPr/>
          <p:nvPr/>
        </p:nvPicPr>
        <p:blipFill>
          <a:blip r:embed="rId2"/>
          <a:srcRect l="33077" t="27042" r="35897" b="24280"/>
          <a:stretch/>
        </p:blipFill>
        <p:spPr>
          <a:xfrm>
            <a:off x="7500960" y="78588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http://o-spide.ru/uploads/content/7093965ef36c791d60cd2ce1a16f56ef.jpg"/>
          <p:cNvPicPr/>
          <p:nvPr/>
        </p:nvPicPr>
        <p:blipFill>
          <a:blip r:embed="rId3"/>
          <a:srcRect l="64104" t="27042" r="7692" b="24280"/>
          <a:stretch/>
        </p:blipFill>
        <p:spPr>
          <a:xfrm>
            <a:off x="6072120" y="3000240"/>
            <a:ext cx="7146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7120" y="714240"/>
            <a:ext cx="850104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утные заболевания пр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жалению, из-за угнетенного иммунитета воздействовать на организм ВИЧ-положительного могут даже те возбудители, которые человек со здоровым иммунитетом даже не заметит. Поэтому риск заболеть увеличивается во множество раз. В медицине, болезни, которые вызваны условно-патогенными возбудителями, называют оппортунистическ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самых распространенных и опасных оппортунистических болезней явля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цистная пневмо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здоровой иммунной системе грибок, который вызывает это заболевание, нормально уживается в человеческом организме – более 80% людей носят его в своих легких. Но ВИЧ-инфицированных эта болезнь может привести к летальному исходу. Проявлением пневмоцистной пневмонии является непродуктивный кашель, одышка и лихорадка. При должном лечении болезнь можно «свести на нет», а при дальнейшей профилактике избежать ее рецид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инстве случаев больные ВИЧ также являются носителями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тита B или 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вязано это с тем, что данные виды гепатита передаются теми же способами, что и сам ВИЧ. Антиретровирустная терапия, применяемая для лечения ВИЧ, очень тяжело переносится печенью, а при гепатите нагрузка на неё получается еще больше. В результате повышается риск развития цирроза печени. Несмотря на то, что при комплексной терапии люди с ВИЧ и гепатитом живут дольше, именно заболевания печени являются наиболее частой причиной смерти ВИЧ-положи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енее часто у ВИЧ-инфицированных встречается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разиться туберкулезом можно воздушно-капельным путем. Из-за ослабленного иммунитета болезнь развивается гораздо быстрее. Связано это с тем, что микробактерии свободно распространяются по органам и тканям организма. Поэтому, при попадании возбудителя в организм, в большинстве случаев развивается туберкулез, который, в свою очередь, может способствовать прогрессированию самой ВИЧ-инф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571680" y="714240"/>
            <a:ext cx="807228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путные заболевания при 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енный иммунитет повышает вероятность развития некоторых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кологических заболева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иболее распространенные из них 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апоши и лимфо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кома Капош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локачественная опухоль на коже, как правило, множественная. Она проявляется в 40-60% случаях у ВИЧ-положительных. По некоторым данным ее появлению способствует герпесвирус человека типа 8. Лечение осложняется тем, что некоторые препараты химиотерапии очень сильно воздействуют на костный мозг. А применение АРВ-терапии усугубляет карт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фо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нкологическое заболевание лимфатической ткани человека. Лимфома развивается в 10-30% случаев у инфицированных ВИЧ. Больше всего от лимфомы страдают центральная нервная система, костный мозг, печень и органы желудочно-кишечного тракта. Зачастую лифмома приводит к смерти больного в течение года. Потливость, похудание, поражение ЦНС, эпилептические припадки, лихорадка – это наиболее распространенные симптомы лимф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же говорилось выше, при ВИЧ и СПИДе большинство инфекций, которые попадают в организм, приводят к новым болезням. Поэтому у ВИЧ-положительных очень часто бывают болезни желудочно-кишечного тракта, нервной системы, почек и других органов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я ВИЧ, очень важно трепетно относиться к своему здоровью и обследоваться у врача. При раннем обнаружении оппортунистического заболевания, вероятность того, что его вылечат, увеличивается. Поэтому важно при малейших симптомах сразу обращаться к врачу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с иммунодефицита человека «открывает ворота» различным заболеваниям, в том числе, и сердечнососудистым. Так, риск возникновения заболеваний сердца и сосудов у людей, живущих с ВИЧ, больше чем среди людей не инфицированных. Поэтому особое внимание нужно уделять профилактике подобной патологии, и это должен знать каждый человек с положительным статусом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http://o-spide.ru/uploads/content/d279071ede90f7b67a4e9126292cb57b.jpg"/>
          <p:cNvPicPr/>
          <p:nvPr/>
        </p:nvPicPr>
        <p:blipFill>
          <a:blip r:embed="rId2"/>
          <a:stretch/>
        </p:blipFill>
        <p:spPr>
          <a:xfrm>
            <a:off x="1928880" y="6000840"/>
            <a:ext cx="1643040" cy="731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http://o-spide.ru/uploads/content/a6792f98778458d50c03eb40919c6663.jpg"/>
          <p:cNvPicPr/>
          <p:nvPr/>
        </p:nvPicPr>
        <p:blipFill>
          <a:blip r:embed="rId3"/>
          <a:stretch/>
        </p:blipFill>
        <p:spPr>
          <a:xfrm>
            <a:off x="4929120" y="6000840"/>
            <a:ext cx="1386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57120" y="1143000"/>
            <a:ext cx="857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узнает о диагнозе, который ему ставит врач, у него сразу же в голове возникают раз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му сообщают, что у него грипп или пиелонефрит, он спрашивает, как ему лечиться и как скоро он сможет выздороветь. Но если человеку сообщают страшный диагноз, например ВИЧ-инфекция, то вопросы появляются совсем другие, например, сколько мне осталось ж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дадите этот вопрос доктору он, конечно же, не сможет ответить на него абсолютно точно. Он сможет привести лишь примерные данные. В среднем, человек с ВИЧ, если он не принимает АРВ препараты, сможет прожить не более 10 лет. Хотя продолжительность жизни с ВИЧ – очень индивидуально. Некоторые не проживут и 3 лет. Все зависит от множества факторов, среди которых: образ жизни, насколько сильный у человека иммунитет, как правильно он питается и так далее. И, как показывает практика, чаще всего люди умирают не от ВИЧ или СПИДа, а от оппортунистических, т.е. сопутствующих заболе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егодня существует ряд препаратов, которые могут бороться с вирусом иммунодефицита человека, их даже объединили в отдельный класс терапии. Это препараты, которые борются с ретровирусами, к которым относится и ВИЧ. Антиретровирусная терапия развивается с каждым годом и является очень эффективной в лечении ВИЧ. АРВ-терапия действует таким образом, что, в первую очередь, она понижает вирусную нагрузку, т.е. снижает количество вирусных агентов в организме. А во-вторых, антиретровирусные препараты тонизируют иммунную систему, тем самым повышая количество лимфоцитов в крови. Именно наличие в крови достаточного количества лимфоцитов обеспечивает борьбу с оппортунистическими заболева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2" descr="http://o-spide.ru/uploads/content/2cd439df6b2d7d2a031cddd93d0b9740.jpg"/>
          <p:cNvPicPr/>
          <p:nvPr/>
        </p:nvPicPr>
        <p:blipFill>
          <a:blip r:embed="rId1"/>
          <a:stretch/>
        </p:blipFill>
        <p:spPr>
          <a:xfrm>
            <a:off x="7429680" y="428760"/>
            <a:ext cx="1314360" cy="803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3"/>
          <p:cNvSpPr/>
          <p:nvPr/>
        </p:nvSpPr>
        <p:spPr>
          <a:xfrm>
            <a:off x="714240" y="5716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лько можно прожить с ВИ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571680" y="785880"/>
            <a:ext cx="8286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антиретровирусную терапию не принимать, это может привести к различным негативным последст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вирусная нагрузка будет расти, что в итоге приведет к СПИДу. СПИД – это последняя стадия ВИЧ-инфекции, которая, как правило, ведет к смерти. К тому же, из-за большого содержания вируса в крови, риск передачи его кому-либо становится значительно выше, чем у тех, кто держит содержание ВИЧ в пределах допусти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-вторых, будет происходить постепенное снижение количества лимфоцитов. Если иммунный статус выше 350 CD4, то иммунная система работает вполне нормально, но она подвержена некоторым возбудителям болезней, которые могут вызвать диарею и потерю веса. Если иммунный статус опускается ниже 200, то значительно повышается риск развития пневмонии, при статусе ниже 100 – развиваются серьезные заболевания, которые могут привести к летальному исх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 одно, что лишь при правильном лечении и уходе за собой, человек может прожить то количество лет, которое ему было отведено. ВИЧ – это ужасное хроническое заболевание, но его можно сдерживать, с ним можно жить. Это стало возможным лишь при употреблении антиретровирусных препаратов, а также при соблюдении определенных требований, среди которых: правильное питание, отсутствие вредных привычек, занятия спортом и так дал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ывод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ь за своим здоровьем и следовать всем рекомендациям, которые дает до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МАЯ – МЕЖДУНАРОДНЫЙ ДЕНЬ ПАМЯТИ ЖЕРТВ СПИДА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 России составляет более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 миллионов человек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живут с ВИЧ более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 000 человек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 час в России</a:t>
            </a:r>
            <a:br>
              <a:rPr sz="3300"/>
            </a:b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жается 10 человек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М СПИД ВМЕСТЕ!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И ТЕСТ НА ВИЧ!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8413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2600" y="785880"/>
            <a:ext cx="808668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ВИЧ-инфекция? Чем ВИЧ-инфекция отличается от СПИДа?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840" y="1499760"/>
            <a:ext cx="8572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Ч и СПИД — не одно и то же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ВИЧ-инфекция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– это болезнь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е вызывает ВИЧ –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вирус иммунодефицита человек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Иммунодефицит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– состояние, при котором организм не может сопротивляться различным инфекциям. ВИЧ живет и размножается только в организме человека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ИЧ поражает иммунную систему человека, со временем лишая ее возможности сопротивляться не только размножению ВИЧ, но и другим заболеваниям и инфекциям (например, туберкулезу, грибкам, даже ОРВИ)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ПИД – это продвинутая стадия развития ВИЧ инфекци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ПИД – 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синдром приобретенного иммунодефицита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В стадии СПИДа иммунитет ослаблен настолько, что другие заболевания, развивающиеся на фоне ВИЧ-инфекции, принимают необратимое течение и приводят к летальному исходу.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ще не найдено лекарство, которое могло бы вывести ВИЧ из организма, поэтому ВИЧ-инфекция пока является неизлечимой. Единственный способ защиты от ВИЧ-инфекции – это не допускать заражения, соблюдая все возможные меры профилактики.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о в случае заболевания ВИЧ-инфекцией есть возможность держать болезнь под контролем – регулярно посещать врача Центра профилактики и борьбы со СПИДом, а при необходимости – принимать терапию. В этом случае есть шанс жить долго и полноценно, а также родить здорового ребенка.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8"/>
          <p:cNvSpPr/>
          <p:nvPr/>
        </p:nvSpPr>
        <p:spPr>
          <a:xfrm>
            <a:off x="214200" y="285840"/>
            <a:ext cx="8643960" cy="72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 статус должен знать кажд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преодолеть страх обследования на ВИ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итесь узнать свой ВИЧ-статус? Психологи дают простые советы по преодолению психологического барьера для проведения ВИЧ-тес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на ВИЧ - это всегда стресс. Даже если вы почти уверены, что ВИЧ у вас нет, всё равно в подсознании могут возникнуть опасения. Если обследование на ВИЧ предстоит после опасной ситуации, решиться на него бывает многократно сложнее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лое не измениш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стоит хорошо подумать, что стоит за вашим страхом. Скорее всего, вы боитесь, что результат теста действительно окажется положительным, а это изменит всю вашу жизнь. Ваш страх понятен, ведь ВИЧ – это СТРАШНО. Но ведь если вы УЖЕ заразились, то ничего изменить невозможно! Вспомните и скажите себе, какое сегодня число и время суток, а потом вспомните, когда у вас была опасная ситуация – какого числа и какого месяца? Так вы лучше осознаете, что в прошлое вернуться НЕВОЗМОЖНО, и изменить там что-то тоже НЕВОЗМОЖНО. Оно уже прошло. Так что, если инфекция действительно проникла в вашу кровь, уже не важно, будете вы обследоваться или нет. Процесс запущен и идёт своим путём. И, если это случилось, придётся принять этот факт и менять свою жизнь и свои пл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и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ит сосредоточиваться на чувстве вины – если бы вы знали всё, что знаете сейчас, то не поступали бы так. Но тогда, в ПРОШЛОМ, вы был другими и не знали. Как это ни грустно, но изменить прошлое вы не в силах. Лучше осознать свои ошибки и понять, что вы сделали не т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с ВИЧ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о тех людях, которые смогли приспособиться к новой жизни, к тем неприятностям и нагрузкам, которые возникают после получения диагноза «ВИЧ-инфекция». ВИЧ – это одно из хронических заболеваний. Оно не лечится, но сейчас медицина шагнула вперёд, и ВИЧ перестал быть приговором. Люди с ВИЧ могут жить ДОЛГО. Подумайте, что для вас значит «долго» – что вы хотели бы ещё успеть сделать в жизни? Доподлинно неизвестно, кто проживет дольше – тот, кто абсолютно здоров, или человек с позитивным статусом ВИЧ. Нельзя предугадать будущее, неизвестно, что будет завтра и что будет через десять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9" descr="http://o-spide.ru/uploads/content/90a55492a9e83216008503b0a7c5a105.jpg"/>
          <p:cNvPicPr/>
          <p:nvPr/>
        </p:nvPicPr>
        <p:blipFill>
          <a:blip r:embed="rId1"/>
          <a:stretch/>
        </p:blipFill>
        <p:spPr>
          <a:xfrm>
            <a:off x="7143840" y="142920"/>
            <a:ext cx="1814400" cy="946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"/>
          <p:cNvSpPr/>
          <p:nvPr/>
        </p:nvSpPr>
        <p:spPr>
          <a:xfrm>
            <a:off x="571680" y="928800"/>
            <a:ext cx="8072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ние ВИЧ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ее определение ВИЧ-инфекции увеличит шансы на успешное лечение. А это, в свою очередь, поможет сохранить здоровье и хорошее самочувств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ым женщинам нужно обязательно обследоваться на ВИЧ. Своевременное выявление инфекции позволит рано начать лечение, что позволит снизить риск инфицирования ребёнка в десятки раз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близ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вас есть близкие люди, откажитесь от собственного эгоизма и подумайте о них – если вы не проверитесь на ВИЧ, вы можете поставить их под угрозу заражения ВИЧ-инфекцией! А ведь они ни в чём не виноваты, почему они должны рисковать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еста всё равно не узн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ет быть, всё не так уж и плохо, и вы вовсе не больны – заразиться ВИЧ не слишком-то просто, и не всегда это происходит даже в очень опасных ситуациях. В конце концов, без теста всё равно невозможно узнать, есть у вас ВИЧ или нет. Что бы вы ни чувствовали, какие бы симптомы болезни у себя ни находили, о чём бы ни читали – всё это только ваши догадки. Специфических для ВИЧ симптомов не существует!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неопределё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на ВИЧ – это возможность положить конец своим страхам и неопределённости. СПИДофобия может стать очень серьёзным психологическим расстройством, способным довести вас до суицида. Зачем растягивать психологическую пытку и мучиться, возможно, несуществующими страхами? Может быть, этот опыт поможет вам посмотреть на свою жизнь по-новому и заставит изменить ее к лучшему.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600" y="714240"/>
            <a:ext cx="80866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узнать, где пройти тестирование на ВИЧ и гепатит</a:t>
            </a: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85840" y="1499760"/>
            <a:ext cx="8572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дать анализ на ВИЧ- или гепатит-статус крайне просто, а узнать о том, где эту процедуру можно пройти – еще проще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ти тестирование на ВИЧ можно в Центрах по профилактике и борьбе со СПИД и инфекционными заболеваниями. В таких центрах, как правило, находится самое современное оборудование, работают наиболее квалифицированные в данной области специалисты. Но, если по определенным причинам у человека нет возможности пройти обследование на ВИЧ или гепатит в специализированном центре, то такие анализы можно сдать и в обычной государственной поликлинике. И в СПИД-центре, и в больнице тестирование на ВИЧ можно пройти бесплатно. Но если эти варианты вам не подходят, то сдать такие анализы можно и в любой частной клинике. Только необходимо уточнить: есть ли у них лицензия на проведение подобных исследований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абсолютно любую информацию можно найти в сети Интернет. Также информацию о СПИД-центрах можно найти по ссылке </a:t>
            </a:r>
            <a:r>
              <a:rPr b="0" lang="ru-RU" sz="1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o-spide.ru/test/where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только в интернете можно получить информацию о том, где можно пройти тестирование на ВИЧ или гепатит. Как правило, практически во всех медицинских учреждениях и в некоторых образовательных организациях есть информационные плакаты, на которых размещена информация о самом вирусе иммунодефицита человека, а еще размещена информация о том, где можно проверить свой статус. Если же такой информации нет, то всегда можно спросить об этом у медицинских работников, которые точно знают, где находится СПИД-центр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ю о том, где можно пройти тестирование на ВИЧ или гепатит, найти очень просто. Поэтому обязательно делайте тест каждые 6 месяцев. В таком случае вы будете контролировать свой ВИЧ- или гепатит-статус. А значит, сможете вовремя обратиться к врачу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3" descr="http://o-spide.ru/uploads/content/facfb6a65e27ba032c63297ceda9666b.jpg"/>
          <p:cNvPicPr/>
          <p:nvPr/>
        </p:nvPicPr>
        <p:blipFill>
          <a:blip r:embed="rId2"/>
          <a:stretch/>
        </p:blipFill>
        <p:spPr>
          <a:xfrm>
            <a:off x="6786720" y="714240"/>
            <a:ext cx="1957320" cy="8035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college_nekrasov\Desktop\da0d9a0b16618e832c1c61d9ef658bb3-bpfull.png"/>
          <p:cNvPicPr/>
          <p:nvPr/>
        </p:nvPicPr>
        <p:blipFill>
          <a:blip r:embed="rId3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357120" y="642960"/>
            <a:ext cx="842976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ятие диагноза 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становки диагноза «ВИЧ-инфекция» жизнь человека меняется. После получения положительного результата теста на ВИЧ в жизни любого человека происходит изменений отношений в семье, обществе. Первое время кажется, что все ужасно и хорошо быть не может, никогда не будет любимого человека и отношений. А если отношения на момент постановки диагноза уже есть, то в голове сразу возникают вопросы «как рассказать о болезни? Примет ли любимый человек этот диагноз?» Если же человек одинок, то у него может упасть самооценка, появятся сложности в общении, в выборе партнера. От того, как человек поведет себя с окружающими, зависит его здоровье эмоциональное и физ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помнить, что хоть вы и ВИЧ-положительны, вы не беспомощны (сейчас есть множество препаратов, которые не дают вирусу развиваться), у вас по-прежнему есть близкие люди, которым вы не безразличны и которые вас всегда поддержат. Очень часто первой реакцией на диагноз являются мысли: «Почему именно я? Скорее всего это ошибка. Анализы не мои. Я же прекрасно себя чувствую». Для многих людей диагноз является настолько неожиданным, что первое время человек шокирован и не осознает до конца, что же произошло. Отрицание диагноза – это своего рода защитный механизм. Однако бесконечно бегать от диагноза не получится, и чем раньше вы это осознаете и начнете лечение, тем больше шансов у вас на здоров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500040" y="135720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тадии отрицания обычно наступает злость. Злость на того, кто заразил, злость на себя, на врачей, которые ничего не могут с этим сделать, на весь мир. Чем больше и дольше вы будете злиться, тем выше у вас в организме будет уровень стресса, а это чревато пагубными последствиями для организма. Это плохо отражается на эмоциональном и физическом состоя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, узнав о болезни, пытаются заключить некую «сделку» с собой, богом, еще кем-то. Суть в том, что человек обещает вести себя хорошо, не совершать каких-то ошибок или поступков взамен на прежнее состояние. Но, когда, наконец, человек понимает что диагноз не уйдет, а реальность – суровая, он впадает в депрессию. Перестает есть, интересоваться хоть чем-то, появляются мысли о самоубийстве. В такие периоды важно иметь рядом людей, которые поддержат, помогут, не дадут совершить какой-либо посту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ый диагноз ВИЧ – стресс не только для самого человека, но и для его родных. Очень важно принять свою болезнь и научиться с ней жить. Причем не просто жить, а жить яркой, насыщенной жизнью. В этом могут помочь друзья, знакомые из Центра профилактики ВИЧ, кроме того, всегда есть горячие линии, на которых вас выслушают и помогут советом. К тому же, вы всегда можете быть уверены, что этот разговор останется в тайне и не вызовет никаких последств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3" descr="http://o-spide.ru/uploads/content/2e4794b5446f6c99287414e8adc5b071.jpg"/>
          <p:cNvPicPr/>
          <p:nvPr/>
        </p:nvPicPr>
        <p:blipFill>
          <a:blip r:embed="rId1"/>
          <a:stretch/>
        </p:blipFill>
        <p:spPr>
          <a:xfrm>
            <a:off x="1857240" y="571680"/>
            <a:ext cx="1957680" cy="8031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C:\Users\college_nekrasov\Desktop\da0d9a0b16618e832c1c61d9ef658bb3-bpfull.png"/>
          <p:cNvPicPr/>
          <p:nvPr/>
        </p:nvPicPr>
        <p:blipFill>
          <a:blip r:embed="rId2"/>
          <a:srcRect l="0" t="0" r="0" b="1483"/>
          <a:stretch/>
        </p:blipFill>
        <p:spPr>
          <a:xfrm>
            <a:off x="0" y="0"/>
            <a:ext cx="67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1" descr="C:\Users\college_nekrasov\Desktop\da0d9a0b16618e832c1c61d9ef658bb3-bpfull.png"/>
          <p:cNvPicPr/>
          <p:nvPr/>
        </p:nvPicPr>
        <p:blipFill>
          <a:blip r:embed="rId1"/>
          <a:srcRect l="0" t="0" r="0" b="1483"/>
          <a:stretch/>
        </p:blipFill>
        <p:spPr>
          <a:xfrm>
            <a:off x="0" y="0"/>
            <a:ext cx="552600" cy="9288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571680" y="642960"/>
            <a:ext cx="80722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дии развития ВИЧ-инф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убационный период ВИЧ-инфе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от момента заражения до появления клинических проявлений болезни. Продолжается от 2 недель до 6 и более месяцев. На этой стадии вирус может не определить даже тестирование, однако ВИЧ-инфекция уже может передаваться от инфицированного другим люд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«острой инфекци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стадия может проходить бессимптомно, либо сопровождаться лихорадкой, увеличением лимфатических узлов, стоматитом, пятнистой сыпью, фарингитом, диареей, увеличением селезенки, иногда явлениями энцефалита. Обычно это длится от нескольких дней до 2 месяце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ая стад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может ничем себя не проявлять, но ВИЧ продолжает размножаться (увеличивается концентрация ВИЧ в крови), и организм уже не в состоянии производить необходимое количество Т-лимфоцитов – их число медленно снижается. Латентная стадия может длиться от 2–3 до 20 и более лет, в среднем – 6–7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торичных заболе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чет продолжающегося активного увеличения концентрации вируса в крови и снижения Т-лимфоцитов, у пациента начинают возникать разнообразные оппортунистические заболевания, которым уже не в состоянии противостоять иммунная система в силу быстро снижающегося числа Т-лимфоци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винутая стадия ВИЧ-инфекции. Число клеток-защитников (Т-лимфоцитов) достигает критически малого количества. Иммунная система больше не может сопротивляться инфекциям, и они быстро истощают организм. Вирусы и бактерии поражают жизненно важные органы, включая опорно-двигательный аппарат, систему дыхания, пищеварения, головной мозг. Человек может умереть от оппортунистических заболеваний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6:44Z</dcterms:created>
  <dc:creator>РИК</dc:creator>
  <dc:description/>
  <dc:language>en-US</dc:language>
  <cp:lastModifiedBy>РИК</cp:lastModifiedBy>
  <dcterms:modified xsi:type="dcterms:W3CDTF">2018-06-09T12:51:22Z</dcterms:modified>
  <cp:revision>26</cp:revision>
  <dc:subject/>
  <dc:title>Слайд 1</dc:title>
</cp:coreProperties>
</file>