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B6D9-704C-49D7-BFD5-5FC1046E5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7753-2262-4DD0-8CE0-7ECAD3D5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8EA6-1582-4C5A-AD19-B3F70D25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1D43-5245-4D1E-8845-F8850C21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CDCC-93B0-4902-B16F-DF52461A6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5978E-5131-475E-AC41-32894583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3D26E-13C1-4E3D-AF07-9BEB776F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3984-04B5-48E3-BDF7-21FF3A44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11BC-08ED-4DF1-92F2-35FD0FB4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56223-8D3B-4B9F-AB27-D92299FA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8FC8-2412-45DA-869D-F53CE042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F3D7-F945-4D2D-AAA1-EA8FAC3D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936B6-9900-4EFB-86AD-60BCC396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06D00-ABFB-46E8-B4A7-AC27C01D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E48D-C874-4A40-A986-BE77DA9B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11C5-8353-4DAA-A2A1-698D3D82D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3E1CB-BFEC-4694-9200-A96ABF54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140EE-ED09-4334-B27F-EE27FB0F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B1F64-DB09-4494-9314-C7A7DCE9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8D8A2-AF1B-4CAC-A2E3-0DA31B95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4743D-8156-44F1-8AB1-CCF65C54E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18446-BBBD-4010-93B1-5CEF24D69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0635-E6C3-436E-BFDD-AD6E2492E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3DE01-CD92-4504-A3DF-63DF465A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F9A0E-D5C6-4B8D-AD1C-0EED93A1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CE395-DAC8-4333-B3B6-C14BA92E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CF113-5B41-4A11-A66F-DC103E5C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6ED60-3E39-43CA-B4C1-ADF53AA90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53D9B-1993-4FA4-8764-0A6E0353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CF87F-DD1E-49C1-8FB1-18A6FBEC0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4BD4C-1329-4276-8E9B-22BA089FB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4C263-F344-45CA-A8A6-9C8ECEFF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3DAB7-71C8-4F77-9AE9-2FB51F7C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E8C0-54BC-4246-8302-97B18163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7BE85-9295-4810-9AE7-964338EA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CDB1F-3CD4-44D3-926F-F525DBFE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7FC8E-D1B0-47E1-8210-1C131A4F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89A6B-BB4E-415C-A23B-8F000391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B12D5-C52B-46D9-886F-D75EAF40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35079-79A7-4509-B0A6-069A0E64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38F1B-78EC-4281-A63D-E295D3F66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43F31-42FD-4B18-B74F-D8170826D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E7320-F0F8-4199-88AC-D57B3472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EEECF-A595-42D2-890D-6A02D1D5A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9F2D-A42A-4596-81B4-86AC70879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A60FD-DE91-434B-88F6-1AAAB13E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3AB09C-5CD9-41C9-BCAD-3963539B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6FD86-3DBC-47B4-AFB7-FF7DF484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3A338-C503-4B57-A777-D2D22597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B17DC-1ABD-41CA-BDF2-846410853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4411E-05B6-4AEA-BC92-D727E6CD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0A397-929D-4455-A3E0-E38DB68B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BAB4F-FC6F-4341-A42B-0A30ABEF1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01152-8EF6-43C8-9543-5B44467E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C4A00-D29D-4AE0-9179-4098BA208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9E9A-A851-4D62-B8A0-FD984606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8F8D6-B298-4E7F-9279-4D4DDD5C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B0D17-0BA6-4BAF-AD72-D58735D1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4A78C-0FC9-4343-8FD1-7E41CADE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860AC-1D25-4C13-BBE7-AA41924B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D8392-1914-42A3-9206-566882F6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5390B-28C5-42AD-B120-2A617EEB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6AD69-7AFA-4295-9E26-179C8596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CE2ED-9318-4EDD-A73A-649EBE6F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D8B70-4496-494E-90A3-6DF0BB3E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9E732-6737-45AB-8126-59F198D3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431A-CA94-4791-8741-A1897A050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3A82CF-D752-45FC-8677-AB0FBEB3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815C8-D044-4DD6-B890-9D451BAB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FF692-8F72-493F-A7EE-48C14B9B2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F93B2E-2CDA-4067-867B-352D98412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D1DF2-D63F-45F1-86F3-ED939B50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D1F65-657F-4031-81FF-1F00B18B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3360C-A327-441C-A229-18AB1A1E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E5078-7279-4AC4-B847-C73E05FB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8A9C2-AE02-49B6-A670-8AA6FBC6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87242C-3D7C-4796-B6BC-8E1EBB81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A274-C267-4F76-BBB9-1C58CFAD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044CA-5E55-40B3-B5A4-98F4288D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8A150-8F70-4825-BBF5-2AC1D6CC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43339-11DD-4BAF-8296-3DC79C80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3A34C-CAA7-4C93-80E7-07CE8957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A44A4-0305-49C2-8895-6181B9465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E7A0-3AD5-4D48-B09A-93904CD4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10807-50B4-408A-8FF0-F268FC44063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AB43-F082-45E1-B77B-F4EED266BA2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0BFB-DDAE-4150-8553-1837FEBB1B4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0635-276B-43B6-92C3-D74E669F558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5DFE-02FC-46E8-B5C5-E24C5EF3DB3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00DD-4165-4997-ADC7-11FEDF250D9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E9B1-9852-4F5F-B3F9-E378E6AA282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000160" y="2714760"/>
            <a:ext cx="448632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ХОХЛОМА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928600" y="5000400"/>
            <a:ext cx="5900760" cy="1500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ГБОУ Школа №1367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2" descr="http://im6-tub-ru.yandex.net/i?id=352418507-32-72&amp;n=21"/>
          <p:cNvPicPr/>
          <p:nvPr/>
        </p:nvPicPr>
        <p:blipFill>
          <a:blip r:embed="rId1"/>
          <a:stretch/>
        </p:blipFill>
        <p:spPr>
          <a:xfrm>
            <a:off x="1571760" y="4500720"/>
            <a:ext cx="2214360" cy="1695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http://im0-tub-ru.yandex.net/i?id=468058731-40-72&amp;n=21"/>
          <p:cNvPicPr/>
          <p:nvPr/>
        </p:nvPicPr>
        <p:blipFill>
          <a:blip r:embed="rId2"/>
          <a:stretch/>
        </p:blipFill>
        <p:spPr>
          <a:xfrm>
            <a:off x="1857240" y="50004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http://im6-tub-ru.yandex.net/i?id=337472528-10-72&amp;n=21"/>
          <p:cNvPicPr/>
          <p:nvPr/>
        </p:nvPicPr>
        <p:blipFill>
          <a:blip r:embed="rId3"/>
          <a:stretch/>
        </p:blipFill>
        <p:spPr>
          <a:xfrm>
            <a:off x="5072040" y="500040"/>
            <a:ext cx="2000160" cy="18003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http://im2-tub-ru.yandex.net/i?id=43619114-55-72&amp;n=21"/>
          <p:cNvPicPr/>
          <p:nvPr/>
        </p:nvPicPr>
        <p:blipFill>
          <a:blip r:embed="rId4"/>
          <a:stretch/>
        </p:blipFill>
        <p:spPr>
          <a:xfrm>
            <a:off x="7286760" y="2428920"/>
            <a:ext cx="13096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572314"/>
                </a:solidFill>
                <a:latin typeface="Arial Black"/>
              </a:rPr>
              <a:t>Что такое хохлом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57200" y="1356840"/>
            <a:ext cx="7072560" cy="2714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0e04"/>
                </a:solidFill>
                <a:latin typeface="Corbel"/>
              </a:rPr>
              <a:t>Хохлома́</a:t>
            </a: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 — старинный русский народный промысел, родившийся в 18 веке в округе Нижнего Новгород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Хохлома представляет собой декоративную роспись деревянной посуды и мебели, выполненную красным, зеленым и чёрным тонами по золотистому фону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6" descr="http://funforkids.ru/pictures/narpr/narpr023.jpg"/>
          <p:cNvPicPr/>
          <p:nvPr/>
        </p:nvPicPr>
        <p:blipFill>
          <a:blip r:embed="rId1"/>
          <a:stretch/>
        </p:blipFill>
        <p:spPr>
          <a:xfrm>
            <a:off x="1928880" y="4214880"/>
            <a:ext cx="48578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ложная и кропотливая работ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571400" y="1357200"/>
            <a:ext cx="67863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а дерево при выполнении росписи наносится не золотой, а серебристый оловянный порошок. После этого изделие покрывается специальным составом и три-четыре раза обрабатывается в печи, чем достигается медово-золотистый цвет, придающий лёгкой деревянной посуде эффект массивност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4" descr="http://s58.radikal.ru/i161/1008/70/bc6a8a21357c.jpg"/>
          <p:cNvPicPr/>
          <p:nvPr/>
        </p:nvPicPr>
        <p:blipFill>
          <a:blip r:embed="rId1"/>
          <a:stretch/>
        </p:blipFill>
        <p:spPr>
          <a:xfrm>
            <a:off x="2000160" y="3571920"/>
            <a:ext cx="54295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вет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47088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Роспись выглядит ярко, хотя фон чёрный. Используются такие краски как красный, жёлтый, оранжевый, немного зелёного и голубого,  и конечно чёрный фон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чень часто используется золотой цвет. Традиционные элементы Хохломы — красные сочные ягоды рябины и земляники, цветы и ветки. Нередко встречаются птицы, рыбы и звер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4" descr="http://im4-tub-ru.yandex.net/i?id=325033557-66-72&amp;n=21"/>
          <p:cNvPicPr/>
          <p:nvPr/>
        </p:nvPicPr>
        <p:blipFill>
          <a:blip r:embed="rId1"/>
          <a:stretch/>
        </p:blipFill>
        <p:spPr>
          <a:xfrm>
            <a:off x="6929280" y="16430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http://im0-tub-ru.yandex.net/i?id=263991558-08-72&amp;n=21"/>
          <p:cNvPicPr/>
          <p:nvPr/>
        </p:nvPicPr>
        <p:blipFill>
          <a:blip r:embed="rId2"/>
          <a:stretch/>
        </p:blipFill>
        <p:spPr>
          <a:xfrm>
            <a:off x="3786120" y="44290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http://im1-tub-ru.yandex.net/i?id=194166492-35-72&amp;n=21"/>
          <p:cNvPicPr/>
          <p:nvPr/>
        </p:nvPicPr>
        <p:blipFill>
          <a:blip r:embed="rId3"/>
          <a:stretch/>
        </p:blipFill>
        <p:spPr>
          <a:xfrm>
            <a:off x="7072200" y="3357720"/>
            <a:ext cx="1266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10:22:04Z</dcterms:created>
  <dc:creator>XXX</dc:creator>
  <dc:description/>
  <dc:language>en-US</dc:language>
  <cp:lastModifiedBy>user</cp:lastModifiedBy>
  <dcterms:modified xsi:type="dcterms:W3CDTF">2018-06-18T07:17:24Z</dcterms:modified>
  <cp:revision>3</cp:revision>
  <dc:subject/>
  <dc:title>ХОХЛОМА</dc:title>
</cp:coreProperties>
</file>