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DA50-9D21-46EA-A160-0E140DBB2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193D-AA25-460C-AF8B-FC6EF0F2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B19-17BF-4E24-BC49-EC3628DF2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2768-668D-42FB-AFAA-C09067BB6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092F8-641B-4C73-9B60-436D2BB2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B9A0-A0C9-4782-BAA7-800EDF1D2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BFEA4-604D-4178-A2D7-65ADEEF7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1CA9-6F6D-4DF1-96A0-A16E2C7F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89F39-2516-4A49-B6D8-5909CB33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5647-5901-455F-BDCF-7E02E5C8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9C4B-4E76-4B54-ABDB-551DFCA7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1383-E377-4D8E-9F02-C3D7A39C4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3CD2-502D-461B-BA41-0FA95795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6CD64-DF94-418C-BC15-7E749D19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FDD6D-2044-4B65-9991-BC06A84E4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9C71C-2AF1-45EA-A73A-9ADBAAE14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EB601-3C6F-4E98-AFF6-065EE19FD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AF4A-E39D-48F8-B0C4-96D52D7B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BAB546-28FD-4B8E-ADA0-24B0DFF1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8E2E7-F4E9-4FA3-BAB9-F7CF27D2F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C73A-C876-422C-986B-D7F01706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40D00-94B3-4EB6-9BC1-853E5F3A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13EB-E1F3-4423-B64B-6AF02289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01B5F-B6EA-44AE-A359-C58BC37AB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EAACA-471B-440D-80CD-914824D1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E684F-62F9-46BC-891C-21C3B7B41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09EAA-2D7C-4015-8583-448C831C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B5B0F-A190-40CC-A144-16D7AB6B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7C3CAB-0B61-42EC-A6D3-F3FFEAFF3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C28A1-8ED6-424C-B295-BEDF84FDA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C2789-74CA-4A32-8034-5F98D047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291BE-2F41-40BA-AEB3-29A928F8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C1FEA-B6C9-487B-93AE-96D559DB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9768-CD7E-4E22-AFF8-4F897E962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609B0-76BC-4BC5-A440-B655EF26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176B3-7343-40BB-84FC-030CA518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1DEED6-AF9C-4752-B2C0-AE942503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BB1FA-6AEF-4067-B441-5FAB3219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EB4E9-83E6-4D9E-B6C7-79FD84BF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C92F-9643-44E0-B159-065E4B0F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B89A0-CAB5-4BF0-927D-704F85827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EE9D8-BAFF-43A3-9640-D3921C794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A33AE-CF57-4458-A8B9-38EBF434E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8D22DA-D55C-4B01-86B1-D6ACB0617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8807-F615-43AF-BA7B-169ED291C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F421AD-40D9-487C-9074-D822A7CC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0F98-9D33-47C7-B809-C8C116D1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9CBAD-C530-40F1-BAB9-914C8F7AA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AC84E-2876-475A-B2B0-E71A1409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BE4B5-3C82-4C74-B190-CF157FAF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C3636-3FCF-4105-AB05-9272A0D2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F7181-CA45-4E50-BF5C-DB87C9CF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2F557-D506-44AF-B2F7-DE944998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AB39A-9C9C-40CF-BF42-9300B8CE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40B17-A5AA-4736-9E9B-54DEA0CE6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8B9-1560-44AD-AE52-B30B635E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EB76B-A70E-4BCA-B6E0-A39AB7111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CC03A9-31BC-4C53-B9CF-7C0C79134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0D0BE-EC3D-4529-9DA8-C4DEAC8E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DAE8D-8739-423A-9B3F-D16517F8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8A979-A636-44AB-9443-422FA8FE2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E17C5-E674-4BA8-8AFA-3D58A8A0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26225-BC53-4E4B-BEA7-5313CEE10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01F72F-8702-425F-A0CC-52BB2C18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8F678-C1E8-4B07-90EE-8061A0C88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F4E3D-CC4A-4D3D-A7B3-AD65D56E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C50-1621-48BF-9A62-D371A685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FBAFDD-C1A0-47BC-8B16-45C5107CF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29A16-58DA-43C5-9AEF-85C8A8997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6B1B7E-295F-4E8E-A6A1-FE19E27F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109862-B1D1-4E8F-A245-37EF7403B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6C63E-8DDD-48C9-964B-89F80083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73906-E526-49BD-B5A4-7C4D72A1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4E4C5A-A8DB-468C-ADF6-3433199E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11369-BC6E-4AE2-8D43-F58B648A5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7279F7-4354-46E1-B514-267DB983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FCFD7A-5D32-4C7A-B353-1199C3C39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A89-B777-414D-AE75-459BF472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65617-26EA-4467-9DB7-27C4143B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3D635-CA4F-482E-B207-4E70C69F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F819A1-63A4-4551-80C5-E37EEBC6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FCF7B-2D7F-4871-BCB7-205CDAEEE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663C8-EC83-4793-BB22-6BC163D7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10BD-EB93-4D1E-B47E-81CA4C3A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3D1A-0545-4786-B2E4-2FC7CA84567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2281-B468-4137-93ED-1F5B3C4FDA07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5BD2-9D36-421E-AC8D-A2B92B45B64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7BF7-00E4-40BC-BF12-938C48229A1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466F-507C-4700-AF61-3A83B406A86B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ABF5B-F02D-477E-A840-DE8E641C83E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58C-DE2B-4CB5-9575-1A3ED995A19A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000160" y="2714760"/>
            <a:ext cx="4486320" cy="104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572314"/>
                </a:solidFill>
                <a:latin typeface="Corbel"/>
              </a:rPr>
              <a:t>ХОХЛОМА</a:t>
            </a:r>
            <a:endParaRPr b="0" lang="en-US" sz="5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2928600" y="5000400"/>
            <a:ext cx="5900760" cy="1500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ГБОУ Школа №1367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2" descr="http://im6-tub-ru.yandex.net/i?id=352418507-32-72&amp;n=21"/>
          <p:cNvPicPr/>
          <p:nvPr/>
        </p:nvPicPr>
        <p:blipFill>
          <a:blip r:embed="rId1"/>
          <a:stretch/>
        </p:blipFill>
        <p:spPr>
          <a:xfrm>
            <a:off x="1571760" y="4500720"/>
            <a:ext cx="2214360" cy="1695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4" descr="http://im0-tub-ru.yandex.net/i?id=468058731-40-72&amp;n=21"/>
          <p:cNvPicPr/>
          <p:nvPr/>
        </p:nvPicPr>
        <p:blipFill>
          <a:blip r:embed="rId2"/>
          <a:stretch/>
        </p:blipFill>
        <p:spPr>
          <a:xfrm>
            <a:off x="1857240" y="500040"/>
            <a:ext cx="1714680" cy="171468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http://im6-tub-ru.yandex.net/i?id=337472528-10-72&amp;n=21"/>
          <p:cNvPicPr/>
          <p:nvPr/>
        </p:nvPicPr>
        <p:blipFill>
          <a:blip r:embed="rId3"/>
          <a:stretch/>
        </p:blipFill>
        <p:spPr>
          <a:xfrm>
            <a:off x="5072040" y="500040"/>
            <a:ext cx="2000160" cy="180036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http://im2-tub-ru.yandex.net/i?id=43619114-55-72&amp;n=21"/>
          <p:cNvPicPr/>
          <p:nvPr/>
        </p:nvPicPr>
        <p:blipFill>
          <a:blip r:embed="rId4"/>
          <a:stretch/>
        </p:blipFill>
        <p:spPr>
          <a:xfrm>
            <a:off x="7286760" y="2428920"/>
            <a:ext cx="13096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Arial Black"/>
              </a:rPr>
              <a:t> </a:t>
            </a:r>
            <a:r>
              <a:rPr b="0" lang="ru-RU" sz="3600" spc="-1" strike="noStrike">
                <a:solidFill>
                  <a:srgbClr val="572314"/>
                </a:solidFill>
                <a:latin typeface="Arial Black"/>
              </a:rPr>
              <a:t>Что такое хохлом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357200" y="1356840"/>
            <a:ext cx="7072560" cy="27147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20e04"/>
                </a:solidFill>
                <a:latin typeface="Corbel"/>
              </a:rPr>
              <a:t>Хохлома́</a:t>
            </a: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 — старинный русский народный промысел, родившийся в 18 веке в округе Нижнего Новгород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20e04"/>
                </a:solidFill>
                <a:latin typeface="Corbel"/>
              </a:rPr>
              <a:t>Хохлома представляет собой декоративную роспись деревянной посуды и мебели, выполненную красным, зеленым и чёрным тонами по золотистому фону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6" descr="http://funforkids.ru/pictures/narpr/narpr023.jpg"/>
          <p:cNvPicPr/>
          <p:nvPr/>
        </p:nvPicPr>
        <p:blipFill>
          <a:blip r:embed="rId1"/>
          <a:stretch/>
        </p:blipFill>
        <p:spPr>
          <a:xfrm>
            <a:off x="1928880" y="4214880"/>
            <a:ext cx="48578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ложная и кропотливая работ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571400" y="1357200"/>
            <a:ext cx="678636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 дерево при выполнении росписи наносится не золотой, а серебристый оловянный порошок. После этого изделие покрывается специальным составом и три-четыре раза обрабатывается в печи, чем достигается медово-золотистый цвет, придающий лёгкой деревянной посуде эффект массивност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4" descr="http://s58.radikal.ru/i161/1008/70/bc6a8a21357c.jpg"/>
          <p:cNvPicPr/>
          <p:nvPr/>
        </p:nvPicPr>
        <p:blipFill>
          <a:blip r:embed="rId1"/>
          <a:stretch/>
        </p:blipFill>
        <p:spPr>
          <a:xfrm>
            <a:off x="2000160" y="3571920"/>
            <a:ext cx="542952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Цвет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47088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Роспись выглядит ярко, хотя фон чёрный. Используются такие краски как красный, жёлтый, оранжевый, немного зелёного и голубого,  и конечно чёрный фон. 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чень часто используется золотой цвет. Традиционные элементы Хохломы — красные сочные ягоды рябины и земляники, цветы и ветки. Нередко встречаются птицы, рыбы и звери.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2" name="Picture 4" descr="http://im4-tub-ru.yandex.net/i?id=325033557-66-72&amp;n=21"/>
          <p:cNvPicPr/>
          <p:nvPr/>
        </p:nvPicPr>
        <p:blipFill>
          <a:blip r:embed="rId1"/>
          <a:stretch/>
        </p:blipFill>
        <p:spPr>
          <a:xfrm>
            <a:off x="6929280" y="16430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6" descr="http://im0-tub-ru.yandex.net/i?id=263991558-08-72&amp;n=21"/>
          <p:cNvPicPr/>
          <p:nvPr/>
        </p:nvPicPr>
        <p:blipFill>
          <a:blip r:embed="rId2"/>
          <a:stretch/>
        </p:blipFill>
        <p:spPr>
          <a:xfrm>
            <a:off x="3786120" y="442908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http://im1-tub-ru.yandex.net/i?id=194166492-35-72&amp;n=21"/>
          <p:cNvPicPr/>
          <p:nvPr/>
        </p:nvPicPr>
        <p:blipFill>
          <a:blip r:embed="rId3"/>
          <a:stretch/>
        </p:blipFill>
        <p:spPr>
          <a:xfrm>
            <a:off x="7072200" y="3357720"/>
            <a:ext cx="12668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0T10:22:04Z</dcterms:created>
  <dc:creator>XXX</dc:creator>
  <dc:description/>
  <dc:language>en-US</dc:language>
  <cp:lastModifiedBy>user</cp:lastModifiedBy>
  <dcterms:modified xsi:type="dcterms:W3CDTF">2018-06-18T07:17:24Z</dcterms:modified>
  <cp:revision>3</cp:revision>
  <dc:subject/>
  <dc:title>ХОХЛОМА</dc:title>
</cp:coreProperties>
</file>