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D65-D6AC-4C77-9B97-6585EF18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0177-DAE8-4919-97A8-47AEAA24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D04-5580-4B65-A26E-15FD9217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28D-D98F-448E-985D-2162E8C0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BED-E58C-43F0-ACE0-8ECC5587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3E3C-48B2-4F68-8FDE-0E48D408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1DD1-6AD9-45D8-B75D-D4EE727C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0FB6-1D85-4D41-9983-32644CE7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895-683A-45F7-94C1-13F34CBF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81B7-7EAF-454D-B9AA-65579C29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DE79-03DD-49F7-8909-45C28C85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4FB-7AAC-4AE2-AF89-DC583B2F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87ADA-5BBD-406F-916B-3241E268CE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роект «Классное блюдо»</a:t>
            </a:r>
            <a:br>
              <a:rPr sz="5400"/>
            </a:b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Monotype Corsiva"/>
              </a:rPr>
              <a:t>Подготовила : </a:t>
            </a: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ученица 1 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МКОУ СОШ № 11 с. Константин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Петровского района Ставрополь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МИХЕЕВА СОФ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Monotype Corsiva"/>
              </a:rPr>
              <a:t>Руководитель</a:t>
            </a: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: Исаева С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114800" y="5715000"/>
            <a:ext cx="99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20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3" descr="F:\Михеева С\1.gif"/>
          <p:cNvPicPr/>
          <p:nvPr/>
        </p:nvPicPr>
        <p:blipFill>
          <a:blip r:embed="rId1"/>
          <a:stretch/>
        </p:blipFill>
        <p:spPr>
          <a:xfrm>
            <a:off x="7315200" y="4724280"/>
            <a:ext cx="1447920" cy="1886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гкий и нежный десерт из яблок.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he Apple dessert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990099"/>
              </a:solidFill>
              <a:latin typeface="Monotype Corsiva"/>
            </a:endParaRPr>
          </a:p>
        </p:txBody>
      </p:sp>
      <p:pic>
        <p:nvPicPr>
          <p:cNvPr id="47" name="Picture 4" descr="H:\Михеева С\Классное блюдо\36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еченные яблоки  с медом и орех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греди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 крупных я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70 г грецких ор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 ст. л. м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 ст. л. изю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 ч. л. молотой ко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 ч. л. сах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:\Михеева С\Классное блюдо\1.JPG"/>
          <p:cNvPicPr/>
          <p:nvPr/>
        </p:nvPicPr>
        <p:blipFill>
          <a:blip r:embed="rId1"/>
          <a:stretch/>
        </p:blipFill>
        <p:spPr>
          <a:xfrm>
            <a:off x="228600" y="1371600"/>
            <a:ext cx="4648320" cy="51814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F:\Михеева С\1.gif"/>
          <p:cNvPicPr/>
          <p:nvPr/>
        </p:nvPicPr>
        <p:blipFill>
          <a:blip r:embed="rId2"/>
          <a:stretch/>
        </p:blipFill>
        <p:spPr>
          <a:xfrm>
            <a:off x="7467480" y="4724280"/>
            <a:ext cx="1447920" cy="1886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3124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Г 1-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блоки хорошо вымыть, просушить полотенцем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зать «шляпки», удалить сердцевину и немного мякоти, чтобы получились бочонки. Важно не проколоть яблоки насквозь, чтобы начинка не вытекл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428640" y="-360"/>
            <a:ext cx="2438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Г 4-5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рехи измельчить,  смешать с медом и распаренным изю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:\Михеева С\Классное блюдо\7.JPG"/>
          <p:cNvPicPr/>
          <p:nvPr/>
        </p:nvPicPr>
        <p:blipFill>
          <a:blip r:embed="rId1"/>
          <a:stretch/>
        </p:blipFill>
        <p:spPr>
          <a:xfrm>
            <a:off x="152280" y="2666880"/>
            <a:ext cx="2819520" cy="396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:\Михеева С\Классное блюдо\13.JPG"/>
          <p:cNvPicPr/>
          <p:nvPr/>
        </p:nvPicPr>
        <p:blipFill>
          <a:blip r:embed="rId2"/>
          <a:stretch/>
        </p:blipFill>
        <p:spPr>
          <a:xfrm>
            <a:off x="3124080" y="2666880"/>
            <a:ext cx="2819520" cy="3962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6248520" y="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Г 6.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чинить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яблочные бочонки полученной смесью, разместить в жаропрочной посу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:\Михеева С\Классное блюдо\24.JPG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39625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Г 7-8.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инить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блочные бочонки полученной смесью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ое яблоко сверху посыпать 1/4 ч. л. корицы и 1/4 ч. л. сахара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ень поместить в разогретую духовку до 180 градусов. Запекать 20-25 минут, пока кухню не наполнит сногсшибательный аромат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:\Михеева С\Классное блюдо\27.JPG"/>
          <p:cNvPicPr/>
          <p:nvPr/>
        </p:nvPicPr>
        <p:blipFill>
          <a:blip r:embed="rId1"/>
          <a:stretch/>
        </p:blipFill>
        <p:spPr>
          <a:xfrm>
            <a:off x="228600" y="2057400"/>
            <a:ext cx="2895480" cy="449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H:\Михеева С\Классное блюдо\35.JPG"/>
          <p:cNvPicPr/>
          <p:nvPr/>
        </p:nvPicPr>
        <p:blipFill>
          <a:blip r:embed="rId2"/>
          <a:stretch/>
        </p:blipFill>
        <p:spPr>
          <a:xfrm>
            <a:off x="6019920" y="2057400"/>
            <a:ext cx="2895480" cy="449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:\Михеева С\Классное блюдо\31.JPG"/>
          <p:cNvPicPr/>
          <p:nvPr/>
        </p:nvPicPr>
        <p:blipFill>
          <a:blip r:embed="rId3"/>
          <a:stretch/>
        </p:blipFill>
        <p:spPr>
          <a:xfrm>
            <a:off x="3352680" y="1600200"/>
            <a:ext cx="2362320" cy="2433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F:\Михеева С\1.gif"/>
          <p:cNvPicPr/>
          <p:nvPr/>
        </p:nvPicPr>
        <p:blipFill>
          <a:blip r:embed="rId4"/>
          <a:stretch/>
        </p:blipFill>
        <p:spPr>
          <a:xfrm>
            <a:off x="3809880" y="4572000"/>
            <a:ext cx="1524240" cy="18288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ень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быстро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ень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кусно и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ень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лез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3" descr="F:\Михеева С\1.gif"/>
          <p:cNvPicPr/>
          <p:nvPr/>
        </p:nvPicPr>
        <p:blipFill>
          <a:blip r:embed="rId1"/>
          <a:stretch/>
        </p:blipFill>
        <p:spPr>
          <a:xfrm>
            <a:off x="6248520" y="4267080"/>
            <a:ext cx="1447560" cy="1886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638680" y="19051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10.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Запеченные яблоки переложить на десертное блюдо, чуть охладить, посыпать сахарной пудрой, украсить веточкой мелиссы и ягодами, например, ежев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:\Михеева С\Классное блюдо\34.JPG"/>
          <p:cNvPicPr/>
          <p:nvPr/>
        </p:nvPicPr>
        <p:blipFill>
          <a:blip r:embed="rId2"/>
          <a:stretch/>
        </p:blipFill>
        <p:spPr>
          <a:xfrm>
            <a:off x="304920" y="1523880"/>
            <a:ext cx="4419360" cy="51055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ЯТНОГО  АППЕТИ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:\Михеева С\Классное блюдо\39.jpg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3" descr="F:\Михеева С\1.gif"/>
          <p:cNvPicPr/>
          <p:nvPr/>
        </p:nvPicPr>
        <p:blipFill>
          <a:blip r:embed="rId3"/>
          <a:stretch/>
        </p:blipFill>
        <p:spPr>
          <a:xfrm>
            <a:off x="228600" y="4572000"/>
            <a:ext cx="1447920" cy="1886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8-06-18T16:12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