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7.jpeg" ContentType="image/jpeg"/>
  <Override PartName="/ppt/media/image1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5EFE-ADB3-4D65-AA6A-1EF0735A2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39CB-5670-4CB6-855D-2F09A713C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5FD7-7E3A-4E17-AA6A-D86532352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FCD4-B5C2-4CF9-863D-F893DDFB8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3528-096B-4CEB-866A-90AC5F1FB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26EA-0CC3-4BD6-88C5-5BA425D79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20FF-D525-48CF-8648-091A0BB75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9B33-229F-4AF7-AC7C-57749D91A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4E2C-DAD3-4589-AE3D-DF6B5BE27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F264-018A-4033-B769-E66AE7CFE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64C7-C4A6-49AC-8B0A-66E76ACE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A7E6-27DB-4136-9632-48E8E6D4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596C2-067A-48F1-8A98-993D88679A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2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1295280"/>
            <a:ext cx="792468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Monotype Corsiva"/>
              </a:rPr>
              <a:t>Проект «Классное блюдо»</a:t>
            </a:r>
            <a:br>
              <a:rPr sz="5400"/>
            </a:br>
            <a:br>
              <a:rPr sz="60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120" y="2666520"/>
            <a:ext cx="8001000" cy="31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0099"/>
                </a:solidFill>
                <a:uFillTx/>
                <a:latin typeface="Monotype Corsiva"/>
              </a:rPr>
              <a:t>Подготовила : </a:t>
            </a:r>
            <a:r>
              <a:rPr b="1" lang="ru-RU" sz="2800" spc="-1" strike="noStrike">
                <a:solidFill>
                  <a:srgbClr val="990099"/>
                </a:solidFill>
                <a:latin typeface="Monotype Corsiva"/>
              </a:rPr>
              <a:t>ученица 1 а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Monotype Corsiva"/>
              </a:rPr>
              <a:t>МКОУ СОШ № 11 с. Константиновс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Monotype Corsiva"/>
              </a:rPr>
              <a:t> </a:t>
            </a:r>
            <a:r>
              <a:rPr b="1" lang="ru-RU" sz="2800" spc="-1" strike="noStrike">
                <a:solidFill>
                  <a:srgbClr val="990099"/>
                </a:solidFill>
                <a:latin typeface="Monotype Corsiva"/>
              </a:rPr>
              <a:t>Петровского района Ставропольского кр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Monotype Corsiva"/>
              </a:rPr>
              <a:t>МИХЕЕВА СОФ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0099"/>
                </a:solidFill>
                <a:uFillTx/>
                <a:latin typeface="Monotype Corsiva"/>
              </a:rPr>
              <a:t>Руководитель</a:t>
            </a:r>
            <a:r>
              <a:rPr b="1" lang="ru-RU" sz="2800" spc="-1" strike="noStrike">
                <a:solidFill>
                  <a:srgbClr val="990099"/>
                </a:solidFill>
                <a:latin typeface="Monotype Corsiva"/>
              </a:rPr>
              <a:t>: Исаева С.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4114800" y="5715000"/>
            <a:ext cx="990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Monotype Corsiva"/>
              </a:rPr>
              <a:t>2017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Содержимое 3" descr="F:\Михеева С\1.gif"/>
          <p:cNvPicPr/>
          <p:nvPr/>
        </p:nvPicPr>
        <p:blipFill>
          <a:blip r:embed="rId1"/>
          <a:stretch/>
        </p:blipFill>
        <p:spPr>
          <a:xfrm>
            <a:off x="7315200" y="4724280"/>
            <a:ext cx="1447920" cy="188604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егкий и нежный десерт из яблок.</a:t>
            </a:r>
            <a:br>
              <a:rPr sz="2800"/>
            </a:br>
            <a:r>
              <a:rPr b="1" i="1" lang="ru-RU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Тhe Apple dessert</a:t>
            </a:r>
            <a:r>
              <a:rPr b="1" i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86868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990099"/>
              </a:solidFill>
              <a:latin typeface="Monotype Corsiva"/>
            </a:endParaRPr>
          </a:p>
        </p:txBody>
      </p:sp>
      <p:pic>
        <p:nvPicPr>
          <p:cNvPr id="47" name="Picture 4" descr="H:\Михеева С\Классное блюдо\36.jpg"/>
          <p:cNvPicPr/>
          <p:nvPr/>
        </p:nvPicPr>
        <p:blipFill>
          <a:blip r:embed="rId1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печенные яблоки  с медом и орех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</a:t>
            </a: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нгредиен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</a:t>
            </a:r>
            <a:r>
              <a:rPr b="1" lang="ru-RU" sz="2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3 крупных ябло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                                                   </a:t>
            </a:r>
            <a:r>
              <a:rPr b="1" lang="ru-RU" sz="2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70 г грецких орех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                                      </a:t>
            </a:r>
            <a:r>
              <a:rPr b="1" lang="ru-RU" sz="2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3 ст. л. ме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1" lang="ru-RU" sz="2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3 ст. л. изю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                                             </a:t>
            </a:r>
            <a:r>
              <a:rPr b="1" lang="ru-RU" sz="2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1 ч. л. молотой кор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                                        </a:t>
            </a:r>
            <a:r>
              <a:rPr b="1" lang="ru-RU" sz="2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1 ч. л. саха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6267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H:\Михеева С\Классное блюдо\1.JPG"/>
          <p:cNvPicPr/>
          <p:nvPr/>
        </p:nvPicPr>
        <p:blipFill>
          <a:blip r:embed="rId1"/>
          <a:stretch/>
        </p:blipFill>
        <p:spPr>
          <a:xfrm>
            <a:off x="228600" y="1371600"/>
            <a:ext cx="4648320" cy="5181480"/>
          </a:xfrm>
          <a:prstGeom prst="rect">
            <a:avLst/>
          </a:prstGeom>
          <a:ln w="0">
            <a:noFill/>
          </a:ln>
        </p:spPr>
      </p:pic>
      <p:pic>
        <p:nvPicPr>
          <p:cNvPr id="51" name="Содержимое 3" descr="F:\Михеева С\1.gif"/>
          <p:cNvPicPr/>
          <p:nvPr/>
        </p:nvPicPr>
        <p:blipFill>
          <a:blip r:embed="rId2"/>
          <a:stretch/>
        </p:blipFill>
        <p:spPr>
          <a:xfrm>
            <a:off x="7467480" y="4724280"/>
            <a:ext cx="1447920" cy="188604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31240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ШАГ 1-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блоки хорошо вымыть, просушить полотенцем.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резать «шляпки», удалить сердцевину и немного мякоти, чтобы получились бочонки. Важно не проколоть яблоки насквозь, чтобы начинка не вытекла!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428640" y="-360"/>
            <a:ext cx="243828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ШАГ 4-5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  </a:t>
            </a:r>
            <a:r>
              <a:rPr b="0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Орехи измельчить,  смешать с медом и распаренным изюм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H:\Михеева С\Классное блюдо\7.JPG"/>
          <p:cNvPicPr/>
          <p:nvPr/>
        </p:nvPicPr>
        <p:blipFill>
          <a:blip r:embed="rId1"/>
          <a:stretch/>
        </p:blipFill>
        <p:spPr>
          <a:xfrm>
            <a:off x="152280" y="2666880"/>
            <a:ext cx="2819520" cy="3962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H:\Михеева С\Классное блюдо\13.JPG"/>
          <p:cNvPicPr/>
          <p:nvPr/>
        </p:nvPicPr>
        <p:blipFill>
          <a:blip r:embed="rId2"/>
          <a:stretch/>
        </p:blipFill>
        <p:spPr>
          <a:xfrm>
            <a:off x="3124080" y="2666880"/>
            <a:ext cx="2819520" cy="396252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5"/>
          <p:cNvSpPr/>
          <p:nvPr/>
        </p:nvSpPr>
        <p:spPr>
          <a:xfrm>
            <a:off x="6248520" y="0"/>
            <a:ext cx="274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ШАГ 6.</a:t>
            </a:r>
            <a:r>
              <a:rPr b="0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Начинить</a:t>
            </a:r>
            <a:r>
              <a:rPr b="1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яблочные бочонки полученной смесью, разместить в жаропрочной посуд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H:\Михеева С\Классное блюдо\24.JPG"/>
          <p:cNvPicPr/>
          <p:nvPr/>
        </p:nvPicPr>
        <p:blipFill>
          <a:blip r:embed="rId3"/>
          <a:stretch/>
        </p:blipFill>
        <p:spPr>
          <a:xfrm>
            <a:off x="6172200" y="2666880"/>
            <a:ext cx="2666880" cy="396252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10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ШАГ 7-8.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чинить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яблочные бочонки полученной смесью.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ждое яблоко сверху посыпать 1/4 ч. л. корицы и 1/4 ч. л. сахара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тивень поместить в разогретую духовку до 180 градусов. Запекать 20-25 минут, пока кухню не наполнит сногсшибательный аромат!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25146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H:\Михеева С\Классное блюдо\27.JPG"/>
          <p:cNvPicPr/>
          <p:nvPr/>
        </p:nvPicPr>
        <p:blipFill>
          <a:blip r:embed="rId1"/>
          <a:stretch/>
        </p:blipFill>
        <p:spPr>
          <a:xfrm>
            <a:off x="228600" y="2057400"/>
            <a:ext cx="2895480" cy="4495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H:\Михеева С\Классное блюдо\35.JPG"/>
          <p:cNvPicPr/>
          <p:nvPr/>
        </p:nvPicPr>
        <p:blipFill>
          <a:blip r:embed="rId2"/>
          <a:stretch/>
        </p:blipFill>
        <p:spPr>
          <a:xfrm>
            <a:off x="6019920" y="2057400"/>
            <a:ext cx="2895480" cy="4495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H:\Михеева С\Классное блюдо\31.JPG"/>
          <p:cNvPicPr/>
          <p:nvPr/>
        </p:nvPicPr>
        <p:blipFill>
          <a:blip r:embed="rId3"/>
          <a:stretch/>
        </p:blipFill>
        <p:spPr>
          <a:xfrm>
            <a:off x="3352680" y="1600200"/>
            <a:ext cx="2362320" cy="24336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7" descr="F:\Михеева С\1.gif"/>
          <p:cNvPicPr/>
          <p:nvPr/>
        </p:nvPicPr>
        <p:blipFill>
          <a:blip r:embed="rId4"/>
          <a:stretch/>
        </p:blipFill>
        <p:spPr>
          <a:xfrm>
            <a:off x="3809880" y="4572000"/>
            <a:ext cx="1524240" cy="182880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чень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быстро,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чень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вкусно и 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чень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полез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Содержимое 3" descr="F:\Михеева С\1.gif"/>
          <p:cNvPicPr/>
          <p:nvPr/>
        </p:nvPicPr>
        <p:blipFill>
          <a:blip r:embed="rId1"/>
          <a:stretch/>
        </p:blipFill>
        <p:spPr>
          <a:xfrm>
            <a:off x="6248520" y="4267080"/>
            <a:ext cx="1447560" cy="188604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4"/>
          <p:cNvSpPr/>
          <p:nvPr/>
        </p:nvSpPr>
        <p:spPr>
          <a:xfrm>
            <a:off x="5638680" y="1905120"/>
            <a:ext cx="3200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АГ 10.  </a:t>
            </a:r>
            <a:r>
              <a:rPr b="0" lang="ru-RU" sz="18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Запеченные яблоки переложить на десертное блюдо, чуть охладить, посыпать сахарной пудрой, украсить веточкой мелиссы и ягодами, например, ежеви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H:\Михеева С\Классное блюдо\34.JPG"/>
          <p:cNvPicPr/>
          <p:nvPr/>
        </p:nvPicPr>
        <p:blipFill>
          <a:blip r:embed="rId2"/>
          <a:stretch/>
        </p:blipFill>
        <p:spPr>
          <a:xfrm>
            <a:off x="304920" y="1523880"/>
            <a:ext cx="4419360" cy="510552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152280"/>
            <a:ext cx="67820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ЯТНОГО  АППЕТИТ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2743200"/>
            <a:ext cx="42670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трелка вправо 9"/>
          <p:cNvSpPr/>
          <p:nvPr/>
        </p:nvSpPr>
        <p:spPr>
          <a:xfrm>
            <a:off x="7086600" y="6400800"/>
            <a:ext cx="1230480" cy="45720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H:\Михеева С\Классное блюдо\39.jpg"/>
          <p:cNvPicPr/>
          <p:nvPr/>
        </p:nvPicPr>
        <p:blipFill>
          <a:blip r:embed="rId2"/>
          <a:stretch/>
        </p:blipFill>
        <p:spPr>
          <a:xfrm>
            <a:off x="457200" y="990720"/>
            <a:ext cx="8305920" cy="5486400"/>
          </a:xfrm>
          <a:prstGeom prst="rect">
            <a:avLst/>
          </a:prstGeom>
          <a:ln w="0">
            <a:noFill/>
          </a:ln>
        </p:spPr>
      </p:pic>
      <p:pic>
        <p:nvPicPr>
          <p:cNvPr id="72" name="Содержимое 3" descr="F:\Михеева С\1.gif"/>
          <p:cNvPicPr/>
          <p:nvPr/>
        </p:nvPicPr>
        <p:blipFill>
          <a:blip r:embed="rId3"/>
          <a:stretch/>
        </p:blipFill>
        <p:spPr>
          <a:xfrm>
            <a:off x="228600" y="4572000"/>
            <a:ext cx="1447920" cy="188604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ндрей</cp:lastModifiedBy>
  <dcterms:modified xsi:type="dcterms:W3CDTF">2018-06-18T16:12:21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