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082-F8BF-4106-9082-ABE8DA25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2BB1-0D3E-421A-9827-010AE817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010B-E803-4CDE-90C2-6E1013D7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AC76-4D22-44EC-AE31-890DFE31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BA25-9AA1-4347-A00F-354DC409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7C46-3FB6-45BD-BD14-05DE5EA0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9D29-BA87-4AFF-8117-9A32A280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2C05-A4A3-4165-914D-77E99270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D2D9-974F-4E53-8724-4CABE6BC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DD3A-60E9-440F-922C-BA33E408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BBC9-3386-404D-9BB0-3C092736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F3B9-F90E-4E50-A0A9-26B5E162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1737-4224-4629-A655-45F3C31A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B4EE-AD67-4EB6-84B8-13EBFC5D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1865-4576-4395-8E53-1956E316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5F85-D26F-4A77-B0A3-4C22F272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F09E-BD3E-4E6B-A643-62F48688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662C8-37DC-4A7B-9AB1-A6DEBBA7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1E9FB-B65A-4EC3-84A3-A737EDF9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A0A72-4614-45B0-A64C-2E2396C3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2DA99-D2A8-4CE1-8B66-121F0727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1AC7B-C928-4963-B141-6B90B57D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7C16-F7C6-4EC9-AA92-71AE69A8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FADB8-E976-4C9C-9DD2-7B9304DE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8AD1C-9753-48DE-ACB9-3904DDFF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FE1A7-32C8-4DFD-9EC2-93EF938B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6338C-E15B-45C7-A697-F9A8A121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25440-8B42-4A30-B1F3-F4A32318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992DA-8019-4130-A2F3-CA650CAE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995D5-A849-46F3-BD17-001CC0E1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E5B35-6DBF-4E5B-BE58-8F1D9628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711CC-2CFD-4344-824E-1439F0D4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336D3-8CC5-4244-906B-DEB8335A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112-006C-4831-ADA5-D8D82E3B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767CD-2770-45CC-9AA8-EE7B5ABA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77A36-6062-45DE-833F-EC8C671E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71545-86C7-49BF-8BF9-E8FA9179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31A25-D81A-4C4E-9543-2BF7C171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28330-3250-45D6-BB8B-D866034C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E7E09-A9B9-4C01-8C04-A2A0A744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46AE3-7645-41E8-ADCC-5E1C495A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D3C23-24CD-4839-B292-3B28ED64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58350-7B0F-4762-AB47-BF328554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2EF9-D96A-4E9A-A600-CB527613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15CC-A4A6-4B8F-8342-DAD0D05F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F918-C8F5-408E-80E2-5EB13F6C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4FC8-08DF-4AFB-9098-87E91CE3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1DAF-0261-4E25-90D6-47E649BA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Rounded Rectangle 15"/>
          <p:cNvSpPr/>
          <p:nvPr/>
        </p:nvSpPr>
        <p:spPr>
          <a:xfrm>
            <a:off x="228600" y="228600"/>
            <a:ext cx="8695440" cy="6034680"/>
          </a:xfrm>
          <a:prstGeom prst="roundRect">
            <a:avLst>
              <a:gd name="adj" fmla="val 1272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211680" y="5353920"/>
            <a:ext cx="8723160" cy="1331280"/>
            <a:chOff x="211680" y="5353920"/>
            <a:chExt cx="8723160" cy="1331280"/>
          </a:xfrm>
        </p:grpSpPr>
        <p:sp>
          <p:nvSpPr>
            <p:cNvPr id="9" name="Freeform 14"/>
            <p:cNvSpPr/>
            <p:nvPr/>
          </p:nvSpPr>
          <p:spPr>
            <a:xfrm>
              <a:off x="6054840" y="549936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2622240" y="5370840"/>
              <a:ext cx="5551200" cy="851040"/>
            </a:xfrm>
            <a:custGeom>
              <a:avLst/>
              <a:gdLst>
                <a:gd name="textAreaLeft" fmla="*/ 0 w 5551200"/>
                <a:gd name="textAreaRight" fmla="*/ 5551560 w 55512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2832120" y="5383080"/>
              <a:ext cx="5474520" cy="775080"/>
            </a:xfrm>
            <a:custGeom>
              <a:avLst/>
              <a:gdLst>
                <a:gd name="textAreaLeft" fmla="*/ 0 w 5474520"/>
                <a:gd name="textAreaRight" fmla="*/ 5474880 w 5474520"/>
                <a:gd name="textAreaTop" fmla="*/ 0 h 775080"/>
                <a:gd name="textAreaBottom" fmla="*/ 775440 h 77508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5616360" y="5369760"/>
              <a:ext cx="3312000" cy="651960"/>
            </a:xfrm>
            <a:custGeom>
              <a:avLst/>
              <a:gdLst>
                <a:gd name="textAreaLeft" fmla="*/ 0 w 3312000"/>
                <a:gd name="textAreaRight" fmla="*/ 3312360 w 331200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 useBgFill="1">
          <p:nvSpPr>
            <p:cNvPr id="13" name="Freeform 10"/>
            <p:cNvSpPr/>
            <p:nvPr/>
          </p:nvSpPr>
          <p:spPr>
            <a:xfrm>
              <a:off x="211680" y="5353920"/>
              <a:ext cx="8723160" cy="13312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31280"/>
                <a:gd name="textAreaBottom" fmla="*/ 1331640 h 13312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9A83293-AD0F-46FB-AAFE-2FDDDBCF95AF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57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 useBgFill="1">
          <p:nvSpPr>
            <p:cNvPr id="61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ED31DEE-C92F-420E-AD91-5B31252EB750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04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105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 useBgFill="1">
          <p:nvSpPr>
            <p:cNvPr id="109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Rounded Rectangle 11"/>
          <p:cNvSpPr/>
          <p:nvPr/>
        </p:nvSpPr>
        <p:spPr>
          <a:xfrm>
            <a:off x="228600" y="228600"/>
            <a:ext cx="8695440" cy="1425960"/>
          </a:xfrm>
          <a:prstGeom prst="roundRect">
            <a:avLst>
              <a:gd name="adj" fmla="val 7136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11" name="Group 5"/>
          <p:cNvGrpSpPr/>
          <p:nvPr/>
        </p:nvGrpSpPr>
        <p:grpSpPr>
          <a:xfrm>
            <a:off x="211680" y="714240"/>
            <a:ext cx="8723160" cy="1329480"/>
            <a:chOff x="211680" y="714240"/>
            <a:chExt cx="8723160" cy="1329480"/>
          </a:xfrm>
        </p:grpSpPr>
        <p:sp>
          <p:nvSpPr>
            <p:cNvPr id="112" name="Freeform 14"/>
            <p:cNvSpPr/>
            <p:nvPr/>
          </p:nvSpPr>
          <p:spPr>
            <a:xfrm>
              <a:off x="6047280" y="85932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8"/>
            <p:cNvSpPr/>
            <p:nvPr/>
          </p:nvSpPr>
          <p:spPr>
            <a:xfrm>
              <a:off x="2619360" y="73080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2"/>
            <p:cNvSpPr/>
            <p:nvPr/>
          </p:nvSpPr>
          <p:spPr>
            <a:xfrm>
              <a:off x="2828880" y="74304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6"/>
            <p:cNvSpPr/>
            <p:nvPr/>
          </p:nvSpPr>
          <p:spPr>
            <a:xfrm>
              <a:off x="5609520" y="72972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 useBgFill="1">
          <p:nvSpPr>
            <p:cNvPr id="116" name="Freeform 10"/>
            <p:cNvSpPr/>
            <p:nvPr/>
          </p:nvSpPr>
          <p:spPr>
            <a:xfrm>
              <a:off x="211680" y="71424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dt" idx="7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8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9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59192F1-E18C-49E9-A863-678FFB7C3486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59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160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 useBgFill="1">
          <p:nvSpPr>
            <p:cNvPr id="164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0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1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2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3CC3B0B-BD0E-4AA2-A5A7-DE47E15BAFFF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4.bp.blogspot.com/_Vtye6G9zSE0/S4psaleNLFI/AAAAAAAADC4/MZ4QF9pt2To/s1600-h/&#1044;&#1077;&#1088;&#1077;&#1074;&#1100;&#1103;+1.jpe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3.bp.blogspot.com/_Vtye6G9zSE0/S4pwZjmkGcI/AAAAAAAADDY/1J50iwBXNts/s1600-h/&#1050;&#1086;&#1083;&#1100;&#1094;&#1072;+&#1051;&#1091;&#1083;&#1083;&#1080;&#1103;+2.png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3.bp.blogspot.com/_Vtye6G9zSE0/S4pw2TihB0I/AAAAAAAADDg/b5L-mROGDSA/s1600-h/&#1050;&#1086;&#1083;&#1100;&#1094;&#1072;+&#1051;&#1091;&#1083;&#1083;&#1080;&#1103;+3.png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348000" y="4077000"/>
            <a:ext cx="5040720" cy="17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спитатель МДОУ «Детский сад  №77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уконина Еле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899640" y="476640"/>
            <a:ext cx="7308000" cy="3456000"/>
          </a:xfrm>
          <a:prstGeom prst="roundRect">
            <a:avLst>
              <a:gd name="adj" fmla="val 50000"/>
            </a:avLst>
          </a:prstGeom>
          <a:solidFill>
            <a:schemeClr val="accent1"/>
          </a:solidFill>
          <a:ln w="9525">
            <a:noFill/>
          </a:ln>
          <a:scene3d>
            <a:camera prst="perspectiveContrastingLeftFacing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8800" spc="-1" strike="noStrike">
                <a:solidFill>
                  <a:srgbClr val="7030a0"/>
                </a:solidFill>
                <a:latin typeface="Arial"/>
              </a:rPr>
              <a:t>«Круги Луллия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4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835640" y="1268640"/>
            <a:ext cx="6264360" cy="46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31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ndara"/>
              </a:rPr>
              <a:t>ИГРЫ:</a:t>
            </a:r>
            <a:endParaRPr b="0" lang="ru-RU" sz="4000" spc="-1" strike="noStrike">
              <a:solidFill>
                <a:srgbClr val="073e87"/>
              </a:solidFill>
              <a:latin typeface="Candara"/>
            </a:endParaRPr>
          </a:p>
          <a:p>
            <a:pPr marL="26316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73e87"/>
              </a:solidFill>
              <a:latin typeface="Candara"/>
            </a:endParaRPr>
          </a:p>
          <a:p>
            <a:pPr marL="263160" indent="-26316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3600" spc="-1" strike="noStrike">
                <a:solidFill>
                  <a:srgbClr val="06436b"/>
                </a:solidFill>
                <a:latin typeface="Candara"/>
              </a:rPr>
              <a:t> </a:t>
            </a:r>
            <a:r>
              <a:rPr b="0" lang="ru-RU" sz="4000" spc="-1" strike="noStrike">
                <a:solidFill>
                  <a:srgbClr val="06436b"/>
                </a:solidFill>
                <a:latin typeface="Candara"/>
              </a:rPr>
              <a:t>«Найди, где живет»</a:t>
            </a:r>
            <a:endParaRPr b="0" lang="ru-RU" sz="4000" spc="-1" strike="noStrike">
              <a:solidFill>
                <a:srgbClr val="073e87"/>
              </a:solidFill>
              <a:latin typeface="Candara"/>
            </a:endParaRPr>
          </a:p>
          <a:p>
            <a:pPr marL="263160" indent="-26316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4000" spc="-1" strike="noStrike">
                <a:solidFill>
                  <a:srgbClr val="06436b"/>
                </a:solidFill>
                <a:latin typeface="Candara"/>
              </a:rPr>
              <a:t>«Назови детеныша»</a:t>
            </a:r>
            <a:endParaRPr b="0" lang="ru-RU" sz="4000" spc="-1" strike="noStrike">
              <a:solidFill>
                <a:srgbClr val="073e87"/>
              </a:solidFill>
              <a:latin typeface="Candara"/>
            </a:endParaRPr>
          </a:p>
          <a:p>
            <a:pPr marL="263160" indent="-26316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4000" spc="-1" strike="noStrike">
                <a:solidFill>
                  <a:srgbClr val="06436b"/>
                </a:solidFill>
                <a:latin typeface="Candara"/>
              </a:rPr>
              <a:t>«С чьей ветки детки? »</a:t>
            </a:r>
            <a:endParaRPr b="0" lang="ru-RU" sz="4000" spc="-1" strike="noStrike">
              <a:solidFill>
                <a:srgbClr val="073e87"/>
              </a:solidFill>
              <a:latin typeface="Candara"/>
            </a:endParaRPr>
          </a:p>
          <a:p>
            <a:pPr marL="263160" indent="-26316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4000" spc="-1" strike="noStrike">
                <a:solidFill>
                  <a:srgbClr val="06436b"/>
                </a:solidFill>
                <a:latin typeface="Candara"/>
              </a:rPr>
              <a:t>«Крылья, ноги и клювы" </a:t>
            </a:r>
            <a:endParaRPr b="0" lang="ru-RU" sz="4000" spc="-1" strike="noStrike">
              <a:solidFill>
                <a:srgbClr val="073e87"/>
              </a:solidFill>
              <a:latin typeface="Candara"/>
            </a:endParaRPr>
          </a:p>
          <a:p>
            <a:pPr marL="263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518400" y="1412640"/>
            <a:ext cx="867600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Для этих игр подбираются кольца как для первого типа игр, но при этом раскручиваются оба кольца. Далее обсуждается несовместимая на первый взгляд комбинация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3" name="Rectangle 1"/>
          <p:cNvSpPr/>
          <p:nvPr/>
        </p:nvSpPr>
        <p:spPr>
          <a:xfrm>
            <a:off x="19080" y="235080"/>
            <a:ext cx="9143640" cy="94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ИГРЫ НА РАЗВИТИЕ ТВОРЧЕСКОГО ВООБ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D:\Группа 5\DSC_0523.JPG"/>
          <p:cNvPicPr/>
          <p:nvPr/>
        </p:nvPicPr>
        <p:blipFill>
          <a:blip r:embed="rId1"/>
          <a:srcRect l="14631" t="0" r="17400" b="3516"/>
          <a:stretch/>
        </p:blipFill>
        <p:spPr>
          <a:xfrm>
            <a:off x="2249640" y="2565000"/>
            <a:ext cx="435384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4000">
        <p14:vortex/>
      </p:transition>
    </mc:Choice>
    <mc:Fallback>
      <p:transition spd="slow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043640" y="1268640"/>
            <a:ext cx="7488360" cy="43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льзя не отметить и универсальность игрового материала. Используя лишь несколько колец, можно получить либо разные варианты игры, либо дополнения к используемой игре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276" name="Picture 2" descr="D:\20170208_185754.jpg"/>
          <p:cNvPicPr/>
          <p:nvPr/>
        </p:nvPicPr>
        <p:blipFill>
          <a:blip r:embed="rId1"/>
          <a:srcRect l="18516" t="11321" r="9539" b="0"/>
          <a:stretch/>
        </p:blipFill>
        <p:spPr>
          <a:xfrm>
            <a:off x="3076920" y="3357000"/>
            <a:ext cx="3367080" cy="28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2340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hlink"/>
                </a:solidFill>
                <a:latin typeface="Candar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marL="2340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marL="234000" indent="0" algn="ctr">
              <a:lnSpc>
                <a:spcPct val="100000"/>
              </a:lnSpc>
              <a:spcBef>
                <a:spcPts val="1159"/>
              </a:spcBef>
              <a:buNone/>
              <a:tabLst>
                <a:tab algn="l" pos="0"/>
              </a:tabLst>
            </a:pPr>
            <a:r>
              <a:rPr b="0" lang="ru-RU" sz="5800" spc="-1" strike="noStrike">
                <a:solidFill>
                  <a:srgbClr val="7030a0"/>
                </a:solidFill>
                <a:latin typeface="Candara"/>
              </a:rPr>
              <a:t>Варианты колец</a:t>
            </a:r>
            <a:br>
              <a:rPr sz="5800"/>
            </a:br>
            <a:r>
              <a:rPr b="0" lang="ru-RU" sz="5800" spc="-1" strike="noStrike">
                <a:solidFill>
                  <a:srgbClr val="7030a0"/>
                </a:solidFill>
                <a:latin typeface="Candara"/>
              </a:rPr>
              <a:t>для игр с экологическим содержанием:</a:t>
            </a:r>
            <a:br>
              <a:rPr sz="5800"/>
            </a:br>
            <a:br>
              <a:rPr sz="3900"/>
            </a:br>
            <a:endParaRPr b="0" lang="ru-RU" sz="5800" spc="-1" strike="noStrike">
              <a:solidFill>
                <a:srgbClr val="073e87"/>
              </a:solidFill>
              <a:latin typeface="Candara"/>
            </a:endParaRPr>
          </a:p>
          <a:p>
            <a:pPr marL="2340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1 Сосна, береза, орешник, липа, ель, дуб, рябина, клен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№2 Семена и шишки вышеперечисленных деревьев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№3 Листья вышеперечисленных деревьев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№4 Лиса, пчелы, медведь, белка, собака, птиц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№5 Нора, гнездо, дупло, улей, будка, берлога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№6 Орел, цапля, соловей, ворона, чайка, гусь, ласточка, аист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№7 Разные формы птичьих клювов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№8 Разные виды птичьих ног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№9 Разные виды птичьих крыльев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№10 Город, деревня, лес, море, горы, болото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№ 11 Любые животны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№ 12 Детеныши животных кольца №11</a:t>
            </a:r>
            <a:br>
              <a:rPr sz="4400"/>
            </a:br>
            <a:br>
              <a:rPr sz="4400"/>
            </a:br>
            <a:endParaRPr b="0" lang="ru-RU" sz="4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4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0" y="332640"/>
            <a:ext cx="8820000" cy="57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0" algn="ctr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da2691"/>
                </a:solidFill>
                <a:latin typeface="Candara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Candara"/>
              </a:rPr>
              <a:t>Для игр по формированию звуковой культуры речи, грамматического строя речи и обучению грамоте:</a:t>
            </a:r>
            <a:br>
              <a:rPr sz="3600"/>
            </a:br>
            <a:br>
              <a:rPr sz="2800"/>
            </a:b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№ 13. 1 Картинки с изображением предметов со звуком Р в начале, середине и конце слова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№ 13.2…n … со звуком Л, Ш, Ч и т. д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№ 14 Схемы для поиска заданного звука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№ 15 Символы, обозначающие большой и маленький размер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№ 16 Цифры от 1 до 8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№ 17 Символы: нос, глаз, зубы, уши, хвост, лапы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№ 18 Любые предметы и другие.</a:t>
            </a:r>
            <a:br>
              <a:rPr sz="2600"/>
            </a:b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«Звуковые круги»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D:\20170208_153047.jpg"/>
          <p:cNvPicPr/>
          <p:nvPr/>
        </p:nvPicPr>
        <p:blipFill>
          <a:blip r:embed="rId1"/>
          <a:stretch/>
        </p:blipFill>
        <p:spPr>
          <a:xfrm>
            <a:off x="611640" y="2349000"/>
            <a:ext cx="3219480" cy="3932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D:\20170208_153101.jpg"/>
          <p:cNvPicPr/>
          <p:nvPr/>
        </p:nvPicPr>
        <p:blipFill>
          <a:blip r:embed="rId2"/>
          <a:srcRect l="16694" t="0" r="4274" b="0"/>
          <a:stretch/>
        </p:blipFill>
        <p:spPr>
          <a:xfrm>
            <a:off x="4572000" y="2369880"/>
            <a:ext cx="429588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67640" y="476640"/>
            <a:ext cx="8676000" cy="355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Вы самостоятельно можете изобретать свои варианты колец и способы игр и заданий к ним. К этому процессу могут подключиться и ваши воспитанники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Желаем удачи!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marL="274320"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283" name="Рисунок 3" descr="%D0%94%D0%B5%D1%80%D0%B5%D0%B2%D1%8C%D1%8F+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640" y="2925000"/>
            <a:ext cx="5256360" cy="3600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D:\Группа 5\DSC_0545.JPG"/>
          <p:cNvPicPr/>
          <p:nvPr/>
        </p:nvPicPr>
        <p:blipFill>
          <a:blip r:embed="rId3"/>
          <a:stretch/>
        </p:blipFill>
        <p:spPr>
          <a:xfrm>
            <a:off x="2411640" y="2925000"/>
            <a:ext cx="547236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4"/>
          <p:cNvSpPr/>
          <p:nvPr/>
        </p:nvSpPr>
        <p:spPr>
          <a:xfrm>
            <a:off x="323640" y="713880"/>
            <a:ext cx="8748000" cy="100800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6000" spc="-1" strike="noStrike">
                <a:solidFill>
                  <a:srgbClr val="c63a51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D:\Группа 5\DSC_0528.JPG"/>
          <p:cNvPicPr/>
          <p:nvPr/>
        </p:nvPicPr>
        <p:blipFill>
          <a:blip r:embed="rId1"/>
          <a:stretch/>
        </p:blipFill>
        <p:spPr>
          <a:xfrm>
            <a:off x="1133280" y="1731600"/>
            <a:ext cx="7128360" cy="47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331640" y="2205000"/>
            <a:ext cx="6984360" cy="35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В XIII веке французский монах Раймонд Луллий создал логическую машину в   виде бумажных кругов. 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683640" y="332640"/>
            <a:ext cx="8136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Раймунд  Луллий (1235-1315 гг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- поэт, филосо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D:\20170208_185430.jpg"/>
          <p:cNvPicPr/>
          <p:nvPr/>
        </p:nvPicPr>
        <p:blipFill>
          <a:blip r:embed="rId1"/>
          <a:srcRect l="6023" t="3877" r="12021" b="0"/>
          <a:stretch/>
        </p:blipFill>
        <p:spPr>
          <a:xfrm>
            <a:off x="3132000" y="3323880"/>
            <a:ext cx="3599280" cy="31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755640" y="476640"/>
            <a:ext cx="756036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6436b"/>
                </a:solidFill>
                <a:latin typeface="Candar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«Круги Луллия» — это что-то вроде компьютера, только для слов. Простота конструкции позволяет применять ее даже в детском саду. А эффект огромен — познание языка и мира в их взаимосвязи. 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icture 3"/>
          <p:cNvSpPr/>
          <p:nvPr/>
        </p:nvSpPr>
        <p:spPr>
          <a:xfrm>
            <a:off x="2844720" y="3541320"/>
            <a:ext cx="3163680" cy="285912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611640" y="620640"/>
            <a:ext cx="813672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3000"/>
          </a:bodyPr>
          <a:p>
            <a:pPr marL="245880" indent="-245880" algn="just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880" indent="-245880" algn="just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ndara"/>
              </a:rPr>
              <a:t>Принцип изготовления игры заключается в следующем: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45880" indent="-245880" algn="just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ru-RU" sz="3500" spc="-1" strike="noStrike">
                <a:solidFill>
                  <a:srgbClr val="000000"/>
                </a:solidFill>
                <a:latin typeface="Candara"/>
              </a:rPr>
              <a:t>вырезанные из картона круги разбиваются на 4, 6, 8 секторов. В каждый сектор помещается картинка. Принцип подбора картинок может быть разный. Например на одном кольце - разнообразные деревья, на другом – их листья , или семена. На одном – животные: домашние, дикие, рыбы, птицы, на другом – их «дома»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1115640" y="680040"/>
            <a:ext cx="7344720" cy="2650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Times New Roman"/>
              </a:rPr>
              <a:t>Материал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езанные из пластика круги, разбиты на 4, 6, 8 секторов. В каждом секторе карти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2" descr="%D0%9A%D0%BE%D0%BB%D1%8C%D1%86%D0%B0+%D0%9B%D1%83%D0%BB%D0%BB%D0%B8%D1%8F+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7640" y="2925000"/>
            <a:ext cx="4176000" cy="155808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3" descr="%D0%9A%D0%BE%D0%BB%D1%8C%D1%86%D0%B0+%D0%9B%D1%83%D0%BB%D0%BB%D0%B8%D1%8F+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67640" y="4293000"/>
            <a:ext cx="4343760" cy="19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475640" y="1772640"/>
            <a:ext cx="6120360" cy="45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02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«ВОЛШЕБНЫЕ КРУГИ ЛУЛЛИЯ»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marL="2602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Такой известный методический прием, как Круги Луллия, является эффекитивным механизмом развития речи, воображения и совершенствования грамматической стороны речи. 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marL="2602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Прямоугольник 4"/>
          <p:cNvSpPr/>
          <p:nvPr/>
        </p:nvSpPr>
        <p:spPr>
          <a:xfrm>
            <a:off x="827640" y="332640"/>
            <a:ext cx="7056360" cy="12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Методология ТРИЗ 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Круги Лул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0920" y="0"/>
            <a:ext cx="9072720" cy="60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60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marL="260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c63a51"/>
                </a:solidFill>
                <a:latin typeface="Candara"/>
              </a:rPr>
              <a:t>Цель: 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marL="260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ndara"/>
              </a:rPr>
              <a:t>Развитие познавательных интересов ребенка. 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marL="260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c63a51"/>
                </a:solidFill>
                <a:latin typeface="Candara"/>
              </a:rPr>
              <a:t>Задачи: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marL="260640" indent="-260640">
              <a:lnSpc>
                <a:spcPct val="100000"/>
              </a:lnSpc>
              <a:spcBef>
                <a:spcPts val="641"/>
              </a:spcBef>
              <a:buClr>
                <a:srgbClr val="31b6fd"/>
              </a:buClr>
              <a:buFont typeface="Symbol"/>
              <a:buChar char="-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Развивать творческое мышление дошкольника. 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marL="260640" indent="-260640">
              <a:lnSpc>
                <a:spcPct val="100000"/>
              </a:lnSpc>
              <a:spcBef>
                <a:spcPts val="641"/>
              </a:spcBef>
              <a:buClr>
                <a:srgbClr val="31b6fd"/>
              </a:buClr>
              <a:buFont typeface="Symbol"/>
              <a:buChar char="-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Формировать ассоциативность, диалектичность и системность мышления. 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marL="260640" indent="-260640">
              <a:lnSpc>
                <a:spcPct val="100000"/>
              </a:lnSpc>
              <a:spcBef>
                <a:spcPts val="641"/>
              </a:spcBef>
              <a:buClr>
                <a:srgbClr val="31b6fd"/>
              </a:buClr>
              <a:buFont typeface="Symbol"/>
              <a:buChar char="-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Постепенное расширение и углубление познавательных интересов; обогащение опыта ребенка; насыщение знаний о различных областях действительности. 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marL="26064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315000"/>
            <a:ext cx="8531280" cy="16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ИГРЫ С «КРУГАМИ ЛУЛИЯ» МОЖНО УСЛОВНО</a:t>
            </a:r>
            <a:br>
              <a:rPr sz="2800"/>
            </a:b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РАЗДЕЛИТЬ НА ТРИ ТИПА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1093680" y="2133000"/>
            <a:ext cx="2169720" cy="4035240"/>
            <a:chOff x="1093680" y="2133000"/>
            <a:chExt cx="2169720" cy="4035240"/>
          </a:xfrm>
        </p:grpSpPr>
        <p:sp>
          <p:nvSpPr>
            <p:cNvPr id="222" name="AutoShape 5"/>
            <p:cNvSpPr/>
            <p:nvPr/>
          </p:nvSpPr>
          <p:spPr>
            <a:xfrm>
              <a:off x="1093680" y="244080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6"/>
            <p:cNvSpPr/>
            <p:nvPr/>
          </p:nvSpPr>
          <p:spPr>
            <a:xfrm>
              <a:off x="1127160" y="244872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7"/>
            <p:cNvSpPr/>
            <p:nvPr/>
          </p:nvSpPr>
          <p:spPr>
            <a:xfrm>
              <a:off x="1144440" y="451260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ef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8"/>
            <p:cNvSpPr/>
            <p:nvPr/>
          </p:nvSpPr>
          <p:spPr>
            <a:xfrm>
              <a:off x="1144440" y="2471040"/>
              <a:ext cx="20696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dff6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9"/>
            <p:cNvSpPr/>
            <p:nvPr/>
          </p:nvSpPr>
          <p:spPr>
            <a:xfrm>
              <a:off x="1100160" y="5298480"/>
              <a:ext cx="21632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10"/>
            <p:cNvSpPr/>
            <p:nvPr/>
          </p:nvSpPr>
          <p:spPr>
            <a:xfrm>
              <a:off x="1144440" y="5322240"/>
              <a:ext cx="206964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11"/>
            <p:cNvGrpSpPr/>
            <p:nvPr/>
          </p:nvGrpSpPr>
          <p:grpSpPr>
            <a:xfrm>
              <a:off x="1838160" y="2133000"/>
              <a:ext cx="642600" cy="642600"/>
              <a:chOff x="1838160" y="2133000"/>
              <a:chExt cx="642600" cy="642600"/>
            </a:xfrm>
          </p:grpSpPr>
          <p:sp>
            <p:nvSpPr>
              <p:cNvPr id="229" name="Oval 12"/>
              <p:cNvSpPr/>
              <p:nvPr/>
            </p:nvSpPr>
            <p:spPr>
              <a:xfrm>
                <a:off x="1838160" y="2133000"/>
                <a:ext cx="642600" cy="642600"/>
              </a:xfrm>
              <a:prstGeom prst="ellipse">
                <a:avLst/>
              </a:prstGeom>
              <a:solidFill>
                <a:srgbClr val="333333"/>
              </a:solidFill>
              <a:ln w="381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13"/>
              <p:cNvSpPr/>
              <p:nvPr/>
            </p:nvSpPr>
            <p:spPr>
              <a:xfrm>
                <a:off x="1845000" y="2137680"/>
                <a:ext cx="62136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14"/>
              <p:cNvSpPr/>
              <p:nvPr/>
            </p:nvSpPr>
            <p:spPr>
              <a:xfrm>
                <a:off x="1852920" y="2141640"/>
                <a:ext cx="60696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15"/>
              <p:cNvSpPr/>
              <p:nvPr/>
            </p:nvSpPr>
            <p:spPr>
              <a:xfrm>
                <a:off x="1859400" y="2147400"/>
                <a:ext cx="577080" cy="5666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16"/>
              <p:cNvSpPr/>
              <p:nvPr/>
            </p:nvSpPr>
            <p:spPr>
              <a:xfrm>
                <a:off x="1893240" y="2162520"/>
                <a:ext cx="51264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Text Box 17"/>
            <p:cNvSpPr/>
            <p:nvPr/>
          </p:nvSpPr>
          <p:spPr>
            <a:xfrm>
              <a:off x="1977840" y="2224800"/>
              <a:ext cx="350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8"/>
            <p:cNvSpPr/>
            <p:nvPr/>
          </p:nvSpPr>
          <p:spPr>
            <a:xfrm>
              <a:off x="1170000" y="2894760"/>
              <a:ext cx="2057040" cy="369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9"/>
          <p:cNvGrpSpPr/>
          <p:nvPr/>
        </p:nvGrpSpPr>
        <p:grpSpPr>
          <a:xfrm>
            <a:off x="3503880" y="2205000"/>
            <a:ext cx="2166480" cy="4035240"/>
            <a:chOff x="3503880" y="2205000"/>
            <a:chExt cx="2166480" cy="4035240"/>
          </a:xfrm>
        </p:grpSpPr>
        <p:sp>
          <p:nvSpPr>
            <p:cNvPr id="237" name="AutoShape 20"/>
            <p:cNvSpPr/>
            <p:nvPr/>
          </p:nvSpPr>
          <p:spPr>
            <a:xfrm>
              <a:off x="3503880" y="251280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21"/>
            <p:cNvSpPr/>
            <p:nvPr/>
          </p:nvSpPr>
          <p:spPr>
            <a:xfrm>
              <a:off x="3537000" y="252072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22"/>
            <p:cNvSpPr/>
            <p:nvPr/>
          </p:nvSpPr>
          <p:spPr>
            <a:xfrm>
              <a:off x="3554640" y="458460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2f1b8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23"/>
            <p:cNvSpPr/>
            <p:nvPr/>
          </p:nvSpPr>
          <p:spPr>
            <a:xfrm>
              <a:off x="3554640" y="2543040"/>
              <a:ext cx="20696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6d3"/>
                </a:gs>
                <a:gs pos="100000">
                  <a:srgbClr val="73e77e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4"/>
            <p:cNvSpPr/>
            <p:nvPr/>
          </p:nvSpPr>
          <p:spPr>
            <a:xfrm>
              <a:off x="4248360" y="2205000"/>
              <a:ext cx="642600" cy="642600"/>
            </a:xfrm>
            <a:prstGeom prst="ellipse">
              <a:avLst/>
            </a:prstGeom>
            <a:solidFill>
              <a:srgbClr val="333333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5"/>
            <p:cNvSpPr/>
            <p:nvPr/>
          </p:nvSpPr>
          <p:spPr>
            <a:xfrm>
              <a:off x="4254840" y="220968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8"/>
                </a:gs>
                <a:gs pos="100000">
                  <a:srgbClr val="d6e1e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>
              <a:off x="4262760" y="221292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0f4f4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7"/>
            <p:cNvSpPr/>
            <p:nvPr/>
          </p:nvSpPr>
          <p:spPr>
            <a:xfrm>
              <a:off x="4268880" y="2219040"/>
              <a:ext cx="577440" cy="566280"/>
            </a:xfrm>
            <a:prstGeom prst="ellipse">
              <a:avLst/>
            </a:prstGeom>
            <a:gradFill rotWithShape="0">
              <a:gsLst>
                <a:gs pos="0">
                  <a:srgbClr val="a9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8"/>
            <p:cNvSpPr/>
            <p:nvPr/>
          </p:nvSpPr>
          <p:spPr>
            <a:xfrm>
              <a:off x="4303800" y="2234880"/>
              <a:ext cx="51228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29"/>
            <p:cNvSpPr/>
            <p:nvPr/>
          </p:nvSpPr>
          <p:spPr>
            <a:xfrm>
              <a:off x="4388040" y="2296800"/>
              <a:ext cx="350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30"/>
            <p:cNvSpPr/>
            <p:nvPr/>
          </p:nvSpPr>
          <p:spPr>
            <a:xfrm>
              <a:off x="3579840" y="2966760"/>
              <a:ext cx="2057040" cy="369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31"/>
            <p:cNvSpPr/>
            <p:nvPr/>
          </p:nvSpPr>
          <p:spPr>
            <a:xfrm>
              <a:off x="3507120" y="5370480"/>
              <a:ext cx="21632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32"/>
            <p:cNvSpPr/>
            <p:nvPr/>
          </p:nvSpPr>
          <p:spPr>
            <a:xfrm>
              <a:off x="3551400" y="5394240"/>
              <a:ext cx="206964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33"/>
          <p:cNvGrpSpPr/>
          <p:nvPr/>
        </p:nvGrpSpPr>
        <p:grpSpPr>
          <a:xfrm>
            <a:off x="5878800" y="2191680"/>
            <a:ext cx="2169360" cy="4035240"/>
            <a:chOff x="5878800" y="2191680"/>
            <a:chExt cx="2169360" cy="4035240"/>
          </a:xfrm>
        </p:grpSpPr>
        <p:sp>
          <p:nvSpPr>
            <p:cNvPr id="251" name="AutoShape 34"/>
            <p:cNvSpPr/>
            <p:nvPr/>
          </p:nvSpPr>
          <p:spPr>
            <a:xfrm>
              <a:off x="5884920" y="249948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35"/>
            <p:cNvSpPr/>
            <p:nvPr/>
          </p:nvSpPr>
          <p:spPr>
            <a:xfrm>
              <a:off x="5918400" y="250776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36"/>
            <p:cNvSpPr/>
            <p:nvPr/>
          </p:nvSpPr>
          <p:spPr>
            <a:xfrm>
              <a:off x="5935680" y="457128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37"/>
            <p:cNvSpPr/>
            <p:nvPr/>
          </p:nvSpPr>
          <p:spPr>
            <a:xfrm>
              <a:off x="5935680" y="2529720"/>
              <a:ext cx="20696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7f4cb"/>
                </a:gs>
                <a:gs pos="100000">
                  <a:srgbClr val="e9e065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Group 38"/>
            <p:cNvGrpSpPr/>
            <p:nvPr/>
          </p:nvGrpSpPr>
          <p:grpSpPr>
            <a:xfrm>
              <a:off x="6629400" y="2191680"/>
              <a:ext cx="642600" cy="642600"/>
              <a:chOff x="6629400" y="2191680"/>
              <a:chExt cx="642600" cy="642600"/>
            </a:xfrm>
          </p:grpSpPr>
          <p:sp>
            <p:nvSpPr>
              <p:cNvPr id="256" name="Oval 39"/>
              <p:cNvSpPr/>
              <p:nvPr/>
            </p:nvSpPr>
            <p:spPr>
              <a:xfrm>
                <a:off x="6629400" y="2191680"/>
                <a:ext cx="642600" cy="642600"/>
              </a:xfrm>
              <a:prstGeom prst="ellipse">
                <a:avLst/>
              </a:prstGeom>
              <a:solidFill>
                <a:srgbClr val="333333"/>
              </a:solidFill>
              <a:ln w="381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40"/>
              <p:cNvSpPr/>
              <p:nvPr/>
            </p:nvSpPr>
            <p:spPr>
              <a:xfrm>
                <a:off x="6636240" y="2196360"/>
                <a:ext cx="62136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41"/>
              <p:cNvSpPr/>
              <p:nvPr/>
            </p:nvSpPr>
            <p:spPr>
              <a:xfrm>
                <a:off x="6644160" y="2200320"/>
                <a:ext cx="60696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42"/>
              <p:cNvSpPr/>
              <p:nvPr/>
            </p:nvSpPr>
            <p:spPr>
              <a:xfrm>
                <a:off x="6650640" y="2206080"/>
                <a:ext cx="577080" cy="5666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43"/>
              <p:cNvSpPr/>
              <p:nvPr/>
            </p:nvSpPr>
            <p:spPr>
              <a:xfrm>
                <a:off x="6684480" y="2221560"/>
                <a:ext cx="51264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Text Box 44"/>
            <p:cNvSpPr/>
            <p:nvPr/>
          </p:nvSpPr>
          <p:spPr>
            <a:xfrm>
              <a:off x="6769080" y="2283840"/>
              <a:ext cx="350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45"/>
            <p:cNvSpPr/>
            <p:nvPr/>
          </p:nvSpPr>
          <p:spPr>
            <a:xfrm>
              <a:off x="5961240" y="2953800"/>
              <a:ext cx="2057040" cy="369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6"/>
            <p:cNvSpPr/>
            <p:nvPr/>
          </p:nvSpPr>
          <p:spPr>
            <a:xfrm>
              <a:off x="5878800" y="5357160"/>
              <a:ext cx="21632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47"/>
            <p:cNvSpPr/>
            <p:nvPr/>
          </p:nvSpPr>
          <p:spPr>
            <a:xfrm>
              <a:off x="5923080" y="5380920"/>
              <a:ext cx="206964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Прямоугольник 47"/>
          <p:cNvSpPr/>
          <p:nvPr/>
        </p:nvSpPr>
        <p:spPr>
          <a:xfrm>
            <a:off x="1331640" y="2205000"/>
            <a:ext cx="15836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БОР П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49"/>
          <p:cNvSpPr/>
          <p:nvPr/>
        </p:nvSpPr>
        <p:spPr>
          <a:xfrm>
            <a:off x="3420000" y="2205000"/>
            <a:ext cx="20880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 ЭЛЕМЕНТАМИ СЛУЧАЙНОСТИ В УСТАНОВКЕ КОЛ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65"/>
          <p:cNvSpPr/>
          <p:nvPr/>
        </p:nvSpPr>
        <p:spPr>
          <a:xfrm>
            <a:off x="5868000" y="2133000"/>
            <a:ext cx="2016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ГРЫ НА РАЗВИТИЕ ТВОРЧЕСКОГО ВООБ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1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23640" y="923400"/>
            <a:ext cx="8424720" cy="32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02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6436b"/>
                </a:solidFill>
                <a:latin typeface="Candara"/>
              </a:rPr>
              <a:t>В одном из окошек устанавливается картинка, пара к которой подбирается путем прокручивания второго кольца. В этих играх одной картинке 1-го кольца обязательно должна соответствовать одна картинка 2 – го кольца. 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marL="2602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marL="2602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9" name="Rectangle 1"/>
          <p:cNvSpPr/>
          <p:nvPr/>
        </p:nvSpPr>
        <p:spPr>
          <a:xfrm>
            <a:off x="0" y="402480"/>
            <a:ext cx="9143640" cy="51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ИГРЫ НА ПОДБОР П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icture 2"/>
          <p:cNvSpPr/>
          <p:nvPr/>
        </p:nvSpPr>
        <p:spPr>
          <a:xfrm>
            <a:off x="3178800" y="3948840"/>
            <a:ext cx="2583360" cy="25822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theme/theme1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angeEtud</Template>
  <TotalTime>580</TotalTime>
  <Application>LibreOffice/7.4.7.2$Linux_X86_64 LibreOffice_project/40$Build-2</Application>
  <AppVersion>15.0000</AppVersion>
  <Words>410</Words>
  <Paragraphs>60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17:46:11Z</dcterms:created>
  <dc:creator>эксперт</dc:creator>
  <dc:description/>
  <dc:language>en-US</dc:language>
  <cp:lastModifiedBy>Home</cp:lastModifiedBy>
  <dcterms:modified xsi:type="dcterms:W3CDTF">2018-06-18T17:40:48Z</dcterms:modified>
  <cp:revision>4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2000000000001023620</vt:lpwstr>
  </property>
  <property fmtid="{D5CDD505-2E9C-101B-9397-08002B2CF9AE}" pid="3" name="PresentationFormat">
    <vt:lpwstr>Экран (4:3)</vt:lpwstr>
  </property>
  <property fmtid="{D5CDD505-2E9C-101B-9397-08002B2CF9AE}" pid="4" name="Slides">
    <vt:r8>17</vt:r8>
  </property>
</Properties>
</file>