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D95-2346-482F-BCD5-CF00FAD1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EA9-E0B1-4C03-981F-724C8A0F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CED-62FA-44DF-A37A-4ADC7D61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213-1F01-4257-B6CD-C81018A4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8CBA-3A94-4EDE-81DB-7F873391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E9CE-ADFA-4984-BEC4-71E691DF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39F7-7C14-4243-B050-DBB4EE7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1A33-9805-471A-98CD-5E0F76A2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31C7-7C1D-4963-B151-BC02722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7736-C17A-43B9-86DC-A8284DFB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E888-2EC6-4977-8972-3A7E4E9F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4C4-DFF4-498A-9016-754A9D11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FCB2-7281-49D2-B161-D58ABB04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B7FD-56D4-4A17-8F65-91F6744C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4472-B995-497B-BEC4-C5365C23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E393-0BD4-4868-BAE3-AD1AE035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935A-0E74-4A7E-A5D3-59C75FE3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035F-9CBD-4BA8-9F80-032BC80A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C917-7BCE-4D7C-BF79-3A891746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055A-7300-446F-A8DA-D57F07B8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E9AD-461B-4823-B466-B906C0D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4569-3543-4E5B-BEFB-78D22185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690-0BAF-4E1A-AC78-D8AAFB19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1E99-94A3-4455-BF27-3D85804D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3DC4-ED59-40A8-A38B-6CA8FCC9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8284D-DBF6-441A-A312-184F5E69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C42B-0C60-4D22-871D-ACCAE361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4CB63-6FCE-4434-A271-98186779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3974-1015-4496-ADED-046FE3B2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5E6E-61AB-466C-A98D-5CC04FAF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0B0E-5FE6-4A5E-AEA3-4268066D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189E-CA6F-455F-BD78-FADA21E7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C1D7-07C6-477E-ADA6-890A50BB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A3F-A067-4B90-8CC5-EE0AABE3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ECD9-FF78-4000-97EE-6CE27483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15BF-F1CC-4EB8-8A2B-CE896C7E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F414-61A4-4C88-AAA2-93ECE7A8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AC57-A297-4B8C-B463-048F940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0E4F2-DFB9-4A5C-808F-053EF6E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55F8A-2B5A-4418-B548-2333FEA2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BE15-BEA2-4B86-BAC1-853BF84A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E0DF-C125-4A20-8488-1CA8F770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81DD-02BC-4B61-8671-7B10D86E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194-B7CE-436B-ABD1-2B1BF4C1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918-8631-4A54-A7CE-0B5D7EE1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429-4AD8-44C3-BEAD-A6AB709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429-3719-4B65-86CF-424C79F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9F2-1784-4638-AE93-9AF322E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E47217-E72F-48A1-B31B-D549EBEA83F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2BEA0DA-B6E1-414F-B46C-4407E0E370E6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ounded Rectangle 11"/>
          <p:cNvSpPr/>
          <p:nvPr/>
        </p:nvSpPr>
        <p:spPr>
          <a:xfrm>
            <a:off x="228600" y="228600"/>
            <a:ext cx="8695440" cy="142596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211680" y="714240"/>
            <a:ext cx="8723160" cy="1329480"/>
            <a:chOff x="211680" y="714240"/>
            <a:chExt cx="8723160" cy="1329480"/>
          </a:xfrm>
        </p:grpSpPr>
        <p:sp>
          <p:nvSpPr>
            <p:cNvPr id="112" name="Freeform 14"/>
            <p:cNvSpPr/>
            <p:nvPr/>
          </p:nvSpPr>
          <p:spPr>
            <a:xfrm>
              <a:off x="6047280" y="85932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2619360" y="73080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2828880" y="74304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5609520" y="72972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16" name="Freeform 10"/>
            <p:cNvSpPr/>
            <p:nvPr/>
          </p:nvSpPr>
          <p:spPr>
            <a:xfrm>
              <a:off x="211680" y="71424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6166EDA-DFA3-43B1-86F0-E44A8AFBE81E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59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60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 useBgFill="1">
          <p:nvSpPr>
            <p:cNvPr id="164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0D44DA6-CC4B-4C41-B989-594B52A79203}" type="slidenum">
              <a:rPr b="0" lang="en-US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4.bp.blogspot.com/_Vtye6G9zSE0/S4psaleNLFI/AAAAAAAADC4/MZ4QF9pt2To/s1600-h/&#1044;&#1077;&#1088;&#1077;&#1074;&#1100;&#1103;+1.jpe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3.bp.blogspot.com/_Vtye6G9zSE0/S4pwZjmkGcI/AAAAAAAADDY/1J50iwBXNts/s1600-h/&#1050;&#1086;&#1083;&#1100;&#1094;&#1072;+&#1051;&#1091;&#1083;&#1083;&#1080;&#1103;+2.pn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3.bp.blogspot.com/_Vtye6G9zSE0/S4pw2TihB0I/AAAAAAAADDg/b5L-mROGDSA/s1600-h/&#1050;&#1086;&#1083;&#1100;&#1094;&#1072;+&#1051;&#1091;&#1083;&#1083;&#1080;&#1103;+3.p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3348000" y="4077000"/>
            <a:ext cx="5040720" cy="17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питатель МДОУ «Детский сад  №77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укон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899640" y="476640"/>
            <a:ext cx="7308000" cy="3456000"/>
          </a:xfrm>
          <a:prstGeom prst="roundRect">
            <a:avLst>
              <a:gd name="adj" fmla="val 50000"/>
            </a:avLst>
          </a:prstGeom>
          <a:solidFill>
            <a:schemeClr val="accent1"/>
          </a:solidFill>
          <a:ln w="9525">
            <a:noFill/>
          </a:ln>
          <a:scene3d>
            <a:camera prst="perspectiveContrastingLeftFacing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7030a0"/>
                </a:solidFill>
                <a:latin typeface="Arial"/>
              </a:rPr>
              <a:t>«Круги Луллия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835640" y="1268640"/>
            <a:ext cx="62643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ndara"/>
              </a:rPr>
              <a:t>ИГРЫ: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marL="263160" indent="-26316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3600" spc="-1" strike="noStrike">
                <a:solidFill>
                  <a:srgbClr val="06436b"/>
                </a:solidFill>
                <a:latin typeface="Candara"/>
              </a:rPr>
              <a:t> </a:t>
            </a:r>
            <a:r>
              <a:rPr b="0" lang="ru-RU" sz="4000" spc="-1" strike="noStrike">
                <a:solidFill>
                  <a:srgbClr val="06436b"/>
                </a:solidFill>
                <a:latin typeface="Candara"/>
              </a:rPr>
              <a:t>«Найди, где живет»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-26316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4000" spc="-1" strike="noStrike">
                <a:solidFill>
                  <a:srgbClr val="06436b"/>
                </a:solidFill>
                <a:latin typeface="Candara"/>
              </a:rPr>
              <a:t>«Назови детеныша»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-26316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4000" spc="-1" strike="noStrike">
                <a:solidFill>
                  <a:srgbClr val="06436b"/>
                </a:solidFill>
                <a:latin typeface="Candara"/>
              </a:rPr>
              <a:t>«С чьей ветки детки? »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-26316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4000" spc="-1" strike="noStrike">
                <a:solidFill>
                  <a:srgbClr val="06436b"/>
                </a:solidFill>
                <a:latin typeface="Candara"/>
              </a:rPr>
              <a:t>«Крылья, ноги и клювы" </a:t>
            </a: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  <a:p>
            <a:pPr marL="26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18400" y="1412640"/>
            <a:ext cx="86760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Для этих игр подбираются кольца как для первого типа игр, но при этом раскручиваются оба кольца. Далее обсуждается несовместимая на первый взгляд комбинация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3" name="Rectangle 1"/>
          <p:cNvSpPr/>
          <p:nvPr/>
        </p:nvSpPr>
        <p:spPr>
          <a:xfrm>
            <a:off x="19080" y="235080"/>
            <a:ext cx="914364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ИГРЫ НА РАЗВИТИЕ ТВОРЧЕСКОГО ВО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D:\Группа 5\DSC_0523.JPG"/>
          <p:cNvPicPr/>
          <p:nvPr/>
        </p:nvPicPr>
        <p:blipFill>
          <a:blip r:embed="rId1"/>
          <a:srcRect l="14631" t="0" r="17400" b="3516"/>
          <a:stretch/>
        </p:blipFill>
        <p:spPr>
          <a:xfrm>
            <a:off x="2249640" y="2565000"/>
            <a:ext cx="43538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43640" y="1268640"/>
            <a:ext cx="7488360" cy="43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льзя не отметить и универсальность игрового материала. Используя лишь несколько колец, можно получить либо разные варианты игры, либо дополнения к используемой игре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76" name="Picture 2" descr="D:\20170208_185754.jpg"/>
          <p:cNvPicPr/>
          <p:nvPr/>
        </p:nvPicPr>
        <p:blipFill>
          <a:blip r:embed="rId1"/>
          <a:srcRect l="18516" t="11321" r="9539" b="0"/>
          <a:stretch/>
        </p:blipFill>
        <p:spPr>
          <a:xfrm>
            <a:off x="3076920" y="3357000"/>
            <a:ext cx="3367080" cy="2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2340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hlink"/>
                </a:solidFill>
                <a:latin typeface="Candar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3400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34000" indent="0" algn="ctr">
              <a:lnSpc>
                <a:spcPct val="100000"/>
              </a:lnSpc>
              <a:spcBef>
                <a:spcPts val="1159"/>
              </a:spcBef>
              <a:buNone/>
              <a:tabLst>
                <a:tab algn="l" pos="0"/>
              </a:tabLst>
            </a:pPr>
            <a:r>
              <a:rPr b="0" lang="ru-RU" sz="5800" spc="-1" strike="noStrike">
                <a:solidFill>
                  <a:srgbClr val="7030a0"/>
                </a:solidFill>
                <a:latin typeface="Candara"/>
              </a:rPr>
              <a:t>Варианты колец</a:t>
            </a:r>
            <a:br>
              <a:rPr sz="5800"/>
            </a:br>
            <a:r>
              <a:rPr b="0" lang="ru-RU" sz="5800" spc="-1" strike="noStrike">
                <a:solidFill>
                  <a:srgbClr val="7030a0"/>
                </a:solidFill>
                <a:latin typeface="Candara"/>
              </a:rPr>
              <a:t>для игр с экологическим содержанием:</a:t>
            </a:r>
            <a:br>
              <a:rPr sz="5800"/>
            </a:br>
            <a:br>
              <a:rPr sz="3900"/>
            </a:br>
            <a:endParaRPr b="0" lang="ru-RU" sz="5800" spc="-1" strike="noStrike">
              <a:solidFill>
                <a:srgbClr val="073e87"/>
              </a:solidFill>
              <a:latin typeface="Candara"/>
            </a:endParaRPr>
          </a:p>
          <a:p>
            <a:pPr marL="2340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1 Сосна, береза, орешник, липа, ель, дуб, рябина, кле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2 Семена и шишки вышеперечисленных деревье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3 Листья вышеперечисленных деревье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4 Лиса, пчелы, медведь, белка, собака, птиц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5 Нора, гнездо, дупло, улей, будка, берлог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6 Орел, цапля, соловей, ворона, чайка, гусь, ласточка, аис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7 Разные формы птичьих клюво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8 Разные виды птичьих ног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9 Разные виды птичьих крылье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10 Город, деревня, лес, море, горы, болото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 11 Любые животны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№ 12 Детеныши животных кольца №11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332640"/>
            <a:ext cx="8820000" cy="57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da2691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andara"/>
              </a:rPr>
              <a:t>Для игр по формированию звуковой культуры речи, грамматического строя речи и обучению грамоте:</a:t>
            </a:r>
            <a:br>
              <a:rPr sz="36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3. 1 Картинки с изображением предметов со звуком Р в начале, середине и конце слов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3.2…n … со звуком Л, Ш, Ч и т. д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4 Схемы для поиска заданного звук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5 Символы, обозначающие большой и маленький размер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6 Цифры от 1 до 8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7 Символы: нос, глаз, зубы, уши, хвост, лапы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№ 18 Любые предметы и другие.</a:t>
            </a:r>
            <a:br>
              <a:rPr sz="2600"/>
            </a:b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Звуковые круги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D:\20170208_153047.jpg"/>
          <p:cNvPicPr/>
          <p:nvPr/>
        </p:nvPicPr>
        <p:blipFill>
          <a:blip r:embed="rId1"/>
          <a:stretch/>
        </p:blipFill>
        <p:spPr>
          <a:xfrm>
            <a:off x="611640" y="2349000"/>
            <a:ext cx="3219480" cy="3932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D:\20170208_153101.jpg"/>
          <p:cNvPicPr/>
          <p:nvPr/>
        </p:nvPicPr>
        <p:blipFill>
          <a:blip r:embed="rId2"/>
          <a:srcRect l="16694" t="0" r="4274" b="0"/>
          <a:stretch/>
        </p:blipFill>
        <p:spPr>
          <a:xfrm>
            <a:off x="4572000" y="2369880"/>
            <a:ext cx="4295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7640" y="476640"/>
            <a:ext cx="8676000" cy="35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ы самостоятельно можете изобретать свои варианты колец и способы игр и заданий к ним. К этому процессу могут подключиться и ваши воспитанник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Желаем удачи!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74320" indent="0" algn="ctr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83" name="Рисунок 3" descr="%D0%94%D0%B5%D1%80%D0%B5%D0%B2%D1%8C%D1%8F+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640" y="2925000"/>
            <a:ext cx="5256360" cy="3600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D:\Группа 5\DSC_0545.JPG"/>
          <p:cNvPicPr/>
          <p:nvPr/>
        </p:nvPicPr>
        <p:blipFill>
          <a:blip r:embed="rId3"/>
          <a:stretch/>
        </p:blipFill>
        <p:spPr>
          <a:xfrm>
            <a:off x="2411640" y="2925000"/>
            <a:ext cx="547236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323640" y="713880"/>
            <a:ext cx="8748000" cy="100800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c63a51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D:\Группа 5\DSC_0528.JPG"/>
          <p:cNvPicPr/>
          <p:nvPr/>
        </p:nvPicPr>
        <p:blipFill>
          <a:blip r:embed="rId1"/>
          <a:stretch/>
        </p:blipFill>
        <p:spPr>
          <a:xfrm>
            <a:off x="1133280" y="1731600"/>
            <a:ext cx="712836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331640" y="2205000"/>
            <a:ext cx="6984360" cy="35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В XIII веке французский монах Раймонд Луллий создал логическую машину в   виде бумажных кругов. 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683640" y="332640"/>
            <a:ext cx="8136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Раймунд  Луллий (1235-1315 гг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</a:rPr>
              <a:t>- поэт, филосо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D:\20170208_185430.jpg"/>
          <p:cNvPicPr/>
          <p:nvPr/>
        </p:nvPicPr>
        <p:blipFill>
          <a:blip r:embed="rId1"/>
          <a:srcRect l="6023" t="3877" r="12021" b="0"/>
          <a:stretch/>
        </p:blipFill>
        <p:spPr>
          <a:xfrm>
            <a:off x="3132000" y="3323880"/>
            <a:ext cx="3599280" cy="31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755640" y="476640"/>
            <a:ext cx="756036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6436b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«Круги Луллия» — это что-то вроде компьютера, только для слов. Простота конструкции позволяет применять ее даже в детском саду. А эффект огромен — познание языка и мира в их взаимосвязи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icture 3"/>
          <p:cNvSpPr/>
          <p:nvPr/>
        </p:nvSpPr>
        <p:spPr>
          <a:xfrm>
            <a:off x="2844720" y="3541320"/>
            <a:ext cx="3163680" cy="285912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611640" y="620640"/>
            <a:ext cx="813672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 marL="245880" indent="-245880" algn="just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880" indent="-245880" algn="just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ndara"/>
              </a:rPr>
              <a:t>Принцип изготовления игры заключается в следующем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45880" indent="-245880" algn="just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Candara"/>
              </a:rPr>
              <a:t>вырезанные из картона круги разбиваются на 4, 6, 8 секторов. В каждый сектор помещается картинка. Принцип подбора картинок может быть разный. Например на одном кольце - разнообразные деревья, на другом – их листья , или семена. На одном – животные: домашние, дикие, рыбы, птицы, на другом – их «дома»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1115640" y="680040"/>
            <a:ext cx="7344720" cy="2650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Материа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езанные из пластика круги, разбиты на 4, 6, 8 секторов. В каждом секторе карти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2" descr="%D0%9A%D0%BE%D0%BB%D1%8C%D1%86%D0%B0+%D0%9B%D1%83%D0%BB%D0%BB%D0%B8%D1%8F+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7640" y="2925000"/>
            <a:ext cx="4176000" cy="15580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%D0%9A%D0%BE%D0%BB%D1%8C%D1%86%D0%B0+%D0%9B%D1%83%D0%BB%D0%BB%D0%B8%D1%8F+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7640" y="4293000"/>
            <a:ext cx="434376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475640" y="1772640"/>
            <a:ext cx="6120360" cy="45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«ВОЛШЕБНЫЕ КРУГИ ЛУЛЛИЯ»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2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акой известный методический прием, как Круги Луллия, является эффекитивным механизмом развития речи, воображения и совершенствования грамматической стороны речи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2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827640" y="332640"/>
            <a:ext cx="705636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Методология ТРИЗ 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Круги Лул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0920" y="0"/>
            <a:ext cx="907272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60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60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c63a51"/>
                </a:solidFill>
                <a:latin typeface="Candara"/>
              </a:rPr>
              <a:t>Цель: 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ndara"/>
              </a:rPr>
              <a:t>Развитие познавательных интересов ребенка. 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marL="260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c63a51"/>
                </a:solidFill>
                <a:latin typeface="Candara"/>
              </a:rPr>
              <a:t>Задачи: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marL="260640" indent="-26064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Развивать творческое мышление дошкольника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640" indent="-26064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Формировать ассоциативность, диалектичность и системность мышления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640" indent="-26064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-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остепенное расширение и углубление познавательных интересов; обогащение опыта ребенка; насыщение знаний о различных областях действительности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6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15000"/>
            <a:ext cx="853128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ИГРЫ С «КРУГАМИ ЛУЛИЯ» МОЖНО УСЛОВНО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РАЗДЕЛИТЬ НА ТРИ ТИПА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1093680" y="2133000"/>
            <a:ext cx="2169720" cy="4035240"/>
            <a:chOff x="1093680" y="2133000"/>
            <a:chExt cx="2169720" cy="4035240"/>
          </a:xfrm>
        </p:grpSpPr>
        <p:sp>
          <p:nvSpPr>
            <p:cNvPr id="222" name="AutoShape 5"/>
            <p:cNvSpPr/>
            <p:nvPr/>
          </p:nvSpPr>
          <p:spPr>
            <a:xfrm>
              <a:off x="1093680" y="244080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>
              <a:off x="1127160" y="244872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1144440" y="451260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1144440" y="247104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1100160" y="529848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0"/>
            <p:cNvSpPr/>
            <p:nvPr/>
          </p:nvSpPr>
          <p:spPr>
            <a:xfrm>
              <a:off x="1144440" y="532224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1"/>
            <p:cNvGrpSpPr/>
            <p:nvPr/>
          </p:nvGrpSpPr>
          <p:grpSpPr>
            <a:xfrm>
              <a:off x="1838160" y="2133000"/>
              <a:ext cx="642600" cy="642600"/>
              <a:chOff x="1838160" y="2133000"/>
              <a:chExt cx="642600" cy="642600"/>
            </a:xfrm>
          </p:grpSpPr>
          <p:sp>
            <p:nvSpPr>
              <p:cNvPr id="229" name="Oval 12"/>
              <p:cNvSpPr/>
              <p:nvPr/>
            </p:nvSpPr>
            <p:spPr>
              <a:xfrm>
                <a:off x="1838160" y="213300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13"/>
              <p:cNvSpPr/>
              <p:nvPr/>
            </p:nvSpPr>
            <p:spPr>
              <a:xfrm>
                <a:off x="1845000" y="213768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4"/>
              <p:cNvSpPr/>
              <p:nvPr/>
            </p:nvSpPr>
            <p:spPr>
              <a:xfrm>
                <a:off x="1852920" y="214164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15"/>
              <p:cNvSpPr/>
              <p:nvPr/>
            </p:nvSpPr>
            <p:spPr>
              <a:xfrm>
                <a:off x="1859400" y="214740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16"/>
              <p:cNvSpPr/>
              <p:nvPr/>
            </p:nvSpPr>
            <p:spPr>
              <a:xfrm>
                <a:off x="1893240" y="21625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7"/>
            <p:cNvSpPr/>
            <p:nvPr/>
          </p:nvSpPr>
          <p:spPr>
            <a:xfrm>
              <a:off x="1977840" y="22248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1170000" y="2894760"/>
              <a:ext cx="2057040" cy="36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9"/>
          <p:cNvGrpSpPr/>
          <p:nvPr/>
        </p:nvGrpSpPr>
        <p:grpSpPr>
          <a:xfrm>
            <a:off x="3503880" y="2205000"/>
            <a:ext cx="2166480" cy="4035240"/>
            <a:chOff x="3503880" y="2205000"/>
            <a:chExt cx="2166480" cy="4035240"/>
          </a:xfrm>
        </p:grpSpPr>
        <p:sp>
          <p:nvSpPr>
            <p:cNvPr id="237" name="AutoShape 20"/>
            <p:cNvSpPr/>
            <p:nvPr/>
          </p:nvSpPr>
          <p:spPr>
            <a:xfrm>
              <a:off x="3503880" y="251280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21"/>
            <p:cNvSpPr/>
            <p:nvPr/>
          </p:nvSpPr>
          <p:spPr>
            <a:xfrm>
              <a:off x="3537000" y="252072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2"/>
            <p:cNvSpPr/>
            <p:nvPr/>
          </p:nvSpPr>
          <p:spPr>
            <a:xfrm>
              <a:off x="3554640" y="458460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3"/>
            <p:cNvSpPr/>
            <p:nvPr/>
          </p:nvSpPr>
          <p:spPr>
            <a:xfrm>
              <a:off x="3554640" y="254304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4248360" y="2205000"/>
              <a:ext cx="642600" cy="642600"/>
            </a:xfrm>
            <a:prstGeom prst="ellipse">
              <a:avLst/>
            </a:prstGeom>
            <a:solidFill>
              <a:srgbClr val="333333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>
              <a:off x="4254840" y="220968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4262760" y="221292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4268880" y="2219040"/>
              <a:ext cx="577440" cy="56628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8"/>
            <p:cNvSpPr/>
            <p:nvPr/>
          </p:nvSpPr>
          <p:spPr>
            <a:xfrm>
              <a:off x="4303800" y="223488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9"/>
            <p:cNvSpPr/>
            <p:nvPr/>
          </p:nvSpPr>
          <p:spPr>
            <a:xfrm>
              <a:off x="4388040" y="229680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0"/>
            <p:cNvSpPr/>
            <p:nvPr/>
          </p:nvSpPr>
          <p:spPr>
            <a:xfrm>
              <a:off x="3579840" y="2966760"/>
              <a:ext cx="2057040" cy="36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1"/>
            <p:cNvSpPr/>
            <p:nvPr/>
          </p:nvSpPr>
          <p:spPr>
            <a:xfrm>
              <a:off x="3507120" y="537048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32"/>
            <p:cNvSpPr/>
            <p:nvPr/>
          </p:nvSpPr>
          <p:spPr>
            <a:xfrm>
              <a:off x="3551400" y="539424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5878800" y="2191680"/>
            <a:ext cx="2169360" cy="4035240"/>
            <a:chOff x="5878800" y="2191680"/>
            <a:chExt cx="2169360" cy="4035240"/>
          </a:xfrm>
        </p:grpSpPr>
        <p:sp>
          <p:nvSpPr>
            <p:cNvPr id="251" name="AutoShape 34"/>
            <p:cNvSpPr/>
            <p:nvPr/>
          </p:nvSpPr>
          <p:spPr>
            <a:xfrm>
              <a:off x="5884920" y="249948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35"/>
            <p:cNvSpPr/>
            <p:nvPr/>
          </p:nvSpPr>
          <p:spPr>
            <a:xfrm>
              <a:off x="5918400" y="250776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36"/>
            <p:cNvSpPr/>
            <p:nvPr/>
          </p:nvSpPr>
          <p:spPr>
            <a:xfrm>
              <a:off x="5935680" y="457128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37"/>
            <p:cNvSpPr/>
            <p:nvPr/>
          </p:nvSpPr>
          <p:spPr>
            <a:xfrm>
              <a:off x="5935680" y="252972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38"/>
            <p:cNvGrpSpPr/>
            <p:nvPr/>
          </p:nvGrpSpPr>
          <p:grpSpPr>
            <a:xfrm>
              <a:off x="6629400" y="2191680"/>
              <a:ext cx="642600" cy="642600"/>
              <a:chOff x="6629400" y="2191680"/>
              <a:chExt cx="642600" cy="642600"/>
            </a:xfrm>
          </p:grpSpPr>
          <p:sp>
            <p:nvSpPr>
              <p:cNvPr id="256" name="Oval 39"/>
              <p:cNvSpPr/>
              <p:nvPr/>
            </p:nvSpPr>
            <p:spPr>
              <a:xfrm>
                <a:off x="6629400" y="219168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0"/>
              <p:cNvSpPr/>
              <p:nvPr/>
            </p:nvSpPr>
            <p:spPr>
              <a:xfrm>
                <a:off x="6636240" y="219636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1"/>
              <p:cNvSpPr/>
              <p:nvPr/>
            </p:nvSpPr>
            <p:spPr>
              <a:xfrm>
                <a:off x="6644160" y="220032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42"/>
              <p:cNvSpPr/>
              <p:nvPr/>
            </p:nvSpPr>
            <p:spPr>
              <a:xfrm>
                <a:off x="6650640" y="220608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43"/>
              <p:cNvSpPr/>
              <p:nvPr/>
            </p:nvSpPr>
            <p:spPr>
              <a:xfrm>
                <a:off x="6684480" y="222156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44"/>
            <p:cNvSpPr/>
            <p:nvPr/>
          </p:nvSpPr>
          <p:spPr>
            <a:xfrm>
              <a:off x="6769080" y="2283840"/>
              <a:ext cx="3502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5"/>
            <p:cNvSpPr/>
            <p:nvPr/>
          </p:nvSpPr>
          <p:spPr>
            <a:xfrm>
              <a:off x="5961240" y="2953800"/>
              <a:ext cx="2057040" cy="36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6"/>
            <p:cNvSpPr/>
            <p:nvPr/>
          </p:nvSpPr>
          <p:spPr>
            <a:xfrm>
              <a:off x="5878800" y="5357160"/>
              <a:ext cx="21632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7"/>
            <p:cNvSpPr/>
            <p:nvPr/>
          </p:nvSpPr>
          <p:spPr>
            <a:xfrm>
              <a:off x="5923080" y="5380920"/>
              <a:ext cx="20696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Прямоугольник 47"/>
          <p:cNvSpPr/>
          <p:nvPr/>
        </p:nvSpPr>
        <p:spPr>
          <a:xfrm>
            <a:off x="1331640" y="2205000"/>
            <a:ext cx="1583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БОР П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9"/>
          <p:cNvSpPr/>
          <p:nvPr/>
        </p:nvSpPr>
        <p:spPr>
          <a:xfrm>
            <a:off x="3420000" y="2205000"/>
            <a:ext cx="208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 ЭЛЕМЕНТАМИ СЛУЧАЙНОСТИ В УСТАНОВКЕ КО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65"/>
          <p:cNvSpPr/>
          <p:nvPr/>
        </p:nvSpPr>
        <p:spPr>
          <a:xfrm>
            <a:off x="5868000" y="2133000"/>
            <a:ext cx="2016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Ы НА РАЗВИТИЕ ТВОРЧЕСКОГО ВО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3640" y="923400"/>
            <a:ext cx="84247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02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6436b"/>
                </a:solidFill>
                <a:latin typeface="Candara"/>
              </a:rPr>
              <a:t>В одном из окошек устанавливается картинка, пара к которой подбирается путем прокручивания второго кольца. В этих играх одной картинке 1-го кольца обязательно должна соответствовать одна картинка 2 – го кольца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marL="2602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marL="26028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0" y="402480"/>
            <a:ext cx="914364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ИГРЫ НА ПОДБОР П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icture 2"/>
          <p:cNvSpPr/>
          <p:nvPr/>
        </p:nvSpPr>
        <p:spPr>
          <a:xfrm>
            <a:off x="3178800" y="3948840"/>
            <a:ext cx="2583360" cy="25822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angeEtud</Template>
  <TotalTime>580</TotalTime>
  <Application>LibreOffice/7.4.7.2$Linux_X86_64 LibreOffice_project/40$Build-2</Application>
  <AppVersion>15.0000</AppVersion>
  <Words>410</Words>
  <Paragraphs>6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17:46:11Z</dcterms:created>
  <dc:creator>эксперт</dc:creator>
  <dc:description/>
  <dc:language>en-US</dc:language>
  <cp:lastModifiedBy>Home</cp:lastModifiedBy>
  <dcterms:modified xsi:type="dcterms:W3CDTF">2018-06-18T17:40:48Z</dcterms:modified>
  <cp:revision>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2000000000001023620</vt:lpwstr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