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6AB7-DC36-4D7E-9285-B9CB78E00A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BE9D-0DEA-478B-8D69-52B26F65EB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442E-21CC-4B73-A204-B7D3FD5C0F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CB5A-4762-4FB5-80CF-7D57696CC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91A6-0460-464D-A0D4-16122C01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F72E-CB49-4551-860E-DBA71A34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FEF7-A8B8-4DA9-84CD-94E64EE4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6B65-E9D1-400C-A41C-BBCD29F4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50BC-68EB-431A-928F-18CD13B4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1540-0565-4BAA-869F-C90AC703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77EF-0FFF-4EDD-BADC-65E2775F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134C-6FDF-4330-BEA4-B7E54166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A714-FB3A-404C-8868-F39813B5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284F-290E-4E1B-9FEE-E84AB25D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6D4F-9BD4-479D-B289-D8EBB8DF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204C-D56A-4987-ACCB-DBF1DA57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9503-AF1E-476B-BBEB-1DCE4147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6EB5-442E-46EB-B82E-56D6B151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41CC-C6A5-4DF4-95A1-D874D5A6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CB80-E525-4984-B459-1FE85EA6E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AE62DB-4E55-4BB9-A753-393B63007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77043E-D8EA-46E5-B0F7-4BA2BDE4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3B9C66-0EDE-4004-83E0-6A3E9097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3F5E9D-F92A-4A42-82C0-1D288800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1974BB-8379-4404-9C64-CA36850B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5FF2-8913-4960-AA2E-E8362774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CC3237-631E-4AF6-B0F0-2586C390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B2E745-6C87-4B49-9264-312C1BBC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16782E-DC0D-4F0D-B265-4A22F31D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79E4AF-9202-489A-9BE3-A9777718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B68EE7-7CB7-4454-B768-2E2F9729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4565A6-E758-44D0-8800-B4CC2E3C1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E830A3-112A-4060-AD24-4F1D20850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0D0DF-0464-4E51-A0E8-CE940398B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D7D6B-2893-48BB-8376-B82E0C5C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1981D-01D3-422B-B961-75323E41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5A04-8713-444A-8078-1FC9935B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48123-7817-41AC-A3AF-B20AC16F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4E33A-3F94-4397-AC11-2F4A5050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5A08B-1568-47F6-8CB6-61562677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08AC2-B105-4E96-B7C6-82A587C6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10591-EA49-4A8E-B942-B72FA4D2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8A43A-37CD-4528-BEAF-1F9415E3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39905-880D-4DDA-9B17-C9A0DD77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7B8D9-6938-4729-927C-A3D706BE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A94CE-B3EE-4D97-8CB8-77EBFBE4B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25B055-0C60-4137-9DE0-A7078B9AE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3C76-49A7-44EE-BD19-343609BD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B4B0AF-A3AD-46A8-ABED-88239718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E03FE2-AAC8-4C2A-832F-9A262A05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6178AB-C633-4E62-9388-647500B5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736CE3-79FC-49F0-9C25-87D26739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F59C8D-AA00-49C0-B1E4-198BC00D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4958DB-F565-4FE9-BF4F-41A19AAA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E5AFA2-D372-4259-B888-06B4D88A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152EC8-49CD-4D74-B00B-52BCE5F6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67E5AD-C488-4439-A4E6-D68D30F2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972705-A3C3-49E7-9A22-19F9F23EA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78B0-95C5-4CA7-B771-E9C4A625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F6CD7B-9F3F-41F6-94B6-E4FA54C1E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FD4BDC-65C1-455F-8C24-62F56758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65A7CF-A1E6-465D-BB3E-6CE43833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D3021F-B2B5-4045-B8E7-8FACAFAE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974ABA-2353-434D-A208-4D6E2687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4F4C9D-5273-4CBA-B1B5-9398F657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C2E737-E05F-4918-8FDF-BBAA80C9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6BCC11-6290-443C-B263-C114D2FA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8D07EE-8B26-49E9-B2F2-3ADD1F37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22622A-1816-411A-A100-825F113F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F1AA-D882-4DEE-B641-498B768C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CA5ED7-4AFA-47B4-9F7A-584968B1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72FFDF-29FA-4FB1-86F5-799FE3983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13B3E2-7177-4499-8918-7E2C7ADFA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0FE724-3E85-4716-9917-FA1572E6E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D1804A-C48D-4AB4-8226-6D4B7FCA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30E275-5E00-435D-8B4B-9E1F95BB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22F349-4AAB-4984-9446-B967BC33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CF8D49-D3C3-4A88-AFD8-5B8B2663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DD2BCA-539F-4A60-914E-B346240E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21617B-FBCD-426F-822C-0B9DF5BD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6A6E-2ABD-49C3-9118-A43BCCAF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228B41-F345-481F-BB62-04B88E30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96F042-1329-4012-AE4D-7BFB3E18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AD31AE-599B-436E-A697-5FEF227B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8047DA-9EAD-49D6-9DD5-21DBD138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357766-9B6A-4674-9568-0220709AE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CFAE-74DB-48E5-A2B3-7CEB42F4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D7A6-864B-4BF3-90F1-61209A37AF9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2036-F65E-4345-9219-2A62FF5486E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5D2C-C02D-4C02-AB1A-BFB67A2776F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5F41-A0B4-4004-9EF3-7C0CD1364F7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62A6-CCAE-4389-B4C3-B21309F44F6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4B61-CBBA-4856-9B3F-7E681C857C1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E034-A50B-45FA-8928-C97528E1A46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1"/>
          <p:cNvSpPr/>
          <p:nvPr/>
        </p:nvSpPr>
        <p:spPr>
          <a:xfrm>
            <a:off x="395280" y="177336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Достопримечательности стран ми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5" descr="http://globus-world.ru/image/data/katalog/glovana/globus-003.jpg"/>
          <p:cNvPicPr/>
          <p:nvPr/>
        </p:nvPicPr>
        <p:blipFill>
          <a:blip r:embed="rId1"/>
          <a:stretch/>
        </p:blipFill>
        <p:spPr>
          <a:xfrm>
            <a:off x="539640" y="3500280"/>
            <a:ext cx="3024360" cy="29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3" descr="C:\Documents and Settings\User\My Documents\дЛЯ ПРЕЗЕНТАЦИЙ\БИГ БЕН.JPG"/>
          <p:cNvPicPr/>
          <p:nvPr/>
        </p:nvPicPr>
        <p:blipFill>
          <a:blip r:embed="rId1"/>
          <a:stretch/>
        </p:blipFill>
        <p:spPr>
          <a:xfrm>
            <a:off x="1763640" y="1413000"/>
            <a:ext cx="7956720" cy="5832360"/>
          </a:xfrm>
          <a:prstGeom prst="rect">
            <a:avLst/>
          </a:prstGeom>
          <a:ln w="0">
            <a:noFill/>
          </a:ln>
        </p:spPr>
      </p:pic>
      <p:sp>
        <p:nvSpPr>
          <p:cNvPr id="377" name="TextBox 2"/>
          <p:cNvSpPr/>
          <p:nvPr/>
        </p:nvSpPr>
        <p:spPr>
          <a:xfrm>
            <a:off x="1116000" y="47628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иг Бен, Лонд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3" descr="C:\Documents and Settings\User\My Documents\дЛЯ ПРЕЗЕНТАЦИЙ\ВЕСТМ.АББ.JPG"/>
          <p:cNvPicPr/>
          <p:nvPr/>
        </p:nvPicPr>
        <p:blipFill>
          <a:blip r:embed="rId1"/>
          <a:stretch/>
        </p:blipFill>
        <p:spPr>
          <a:xfrm>
            <a:off x="1908000" y="1319040"/>
            <a:ext cx="7581960" cy="5562720"/>
          </a:xfrm>
          <a:prstGeom prst="rect">
            <a:avLst/>
          </a:prstGeom>
          <a:ln w="0">
            <a:noFill/>
          </a:ln>
        </p:spPr>
      </p:pic>
      <p:sp>
        <p:nvSpPr>
          <p:cNvPr id="379" name="TextBox 2"/>
          <p:cNvSpPr/>
          <p:nvPr/>
        </p:nvSpPr>
        <p:spPr>
          <a:xfrm>
            <a:off x="1763640" y="69228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естминстер, Лонд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3" descr="C:\Documents and Settings\User\My Documents\дЛЯ ПРЕЗЕНТАЦИЙ\СТОУНХ.JPG"/>
          <p:cNvPicPr/>
          <p:nvPr/>
        </p:nvPicPr>
        <p:blipFill>
          <a:blip r:embed="rId1"/>
          <a:stretch/>
        </p:blipFill>
        <p:spPr>
          <a:xfrm>
            <a:off x="257040" y="1371600"/>
            <a:ext cx="8553600" cy="5181480"/>
          </a:xfrm>
          <a:prstGeom prst="rect">
            <a:avLst/>
          </a:prstGeom>
          <a:ln w="0">
            <a:noFill/>
          </a:ln>
        </p:spPr>
      </p:pic>
      <p:sp>
        <p:nvSpPr>
          <p:cNvPr id="381" name="TextBox 2"/>
          <p:cNvSpPr/>
          <p:nvPr/>
        </p:nvSpPr>
        <p:spPr>
          <a:xfrm>
            <a:off x="1187280" y="620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тоунхэндж, Великобр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3" descr="C:\Documents and Settings\User\My Documents\дЛЯ ПРЕЗЕНТАЦИЙ\ЭЙФ.БАШ.JPG"/>
          <p:cNvPicPr/>
          <p:nvPr/>
        </p:nvPicPr>
        <p:blipFill>
          <a:blip r:embed="rId1"/>
          <a:stretch/>
        </p:blipFill>
        <p:spPr>
          <a:xfrm>
            <a:off x="2741760" y="1371600"/>
            <a:ext cx="3735360" cy="5486400"/>
          </a:xfrm>
          <a:prstGeom prst="rect">
            <a:avLst/>
          </a:prstGeom>
          <a:ln w="0">
            <a:noFill/>
          </a:ln>
        </p:spPr>
      </p:pic>
      <p:sp>
        <p:nvSpPr>
          <p:cNvPr id="383" name="TextBox 2"/>
          <p:cNvSpPr/>
          <p:nvPr/>
        </p:nvSpPr>
        <p:spPr>
          <a:xfrm>
            <a:off x="1042920" y="404640"/>
            <a:ext cx="49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Эйфелева башня, Пари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File:Cathedral Notre-Dame de Reims, France-PerCorr.jpg"/>
          <p:cNvPicPr/>
          <p:nvPr/>
        </p:nvPicPr>
        <p:blipFill>
          <a:blip r:embed="rId1"/>
          <a:stretch/>
        </p:blipFill>
        <p:spPr>
          <a:xfrm>
            <a:off x="1908000" y="1152360"/>
            <a:ext cx="3857760" cy="5705640"/>
          </a:xfrm>
          <a:prstGeom prst="rect">
            <a:avLst/>
          </a:prstGeom>
          <a:ln w="0">
            <a:noFill/>
          </a:ln>
        </p:spPr>
      </p:pic>
      <p:sp>
        <p:nvSpPr>
          <p:cNvPr id="385" name="TextBox 3"/>
          <p:cNvSpPr/>
          <p:nvPr/>
        </p:nvSpPr>
        <p:spPr>
          <a:xfrm>
            <a:off x="1042920" y="40464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еймсский собор, Рейм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D:\РИСУНКИ для МАШИ\Временная для презентаций\кёльнский собор.JPG"/>
          <p:cNvPicPr/>
          <p:nvPr/>
        </p:nvPicPr>
        <p:blipFill>
          <a:blip r:embed="rId1"/>
          <a:stretch/>
        </p:blipFill>
        <p:spPr>
          <a:xfrm>
            <a:off x="2195640" y="1197000"/>
            <a:ext cx="4032000" cy="5813280"/>
          </a:xfrm>
          <a:prstGeom prst="rect">
            <a:avLst/>
          </a:prstGeom>
          <a:ln w="0">
            <a:noFill/>
          </a:ln>
        </p:spPr>
      </p:pic>
      <p:sp>
        <p:nvSpPr>
          <p:cNvPr id="387" name="TextBox 2"/>
          <p:cNvSpPr/>
          <p:nvPr/>
        </p:nvSpPr>
        <p:spPr>
          <a:xfrm>
            <a:off x="1403280" y="115920"/>
            <a:ext cx="35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ельнский собор, Кель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http://vernikova.com/images/stories/Soyuz/Pamyatnik-bremenskim-muzykantam.jpg"/>
          <p:cNvPicPr/>
          <p:nvPr/>
        </p:nvPicPr>
        <p:blipFill>
          <a:blip r:embed="rId1"/>
          <a:stretch/>
        </p:blipFill>
        <p:spPr>
          <a:xfrm>
            <a:off x="826920" y="1413000"/>
            <a:ext cx="3384720" cy="5095800"/>
          </a:xfrm>
          <a:prstGeom prst="rect">
            <a:avLst/>
          </a:prstGeom>
          <a:ln w="0">
            <a:noFill/>
          </a:ln>
        </p:spPr>
      </p:pic>
      <p:sp>
        <p:nvSpPr>
          <p:cNvPr id="389" name="TextBox 1"/>
          <p:cNvSpPr/>
          <p:nvPr/>
        </p:nvSpPr>
        <p:spPr>
          <a:xfrm>
            <a:off x="971640" y="40464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амятник бременским музыкантам, Брем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http://to-web.ru/wp-content/uploads/2013/02/brussels_belgium.jpg"/>
          <p:cNvPicPr/>
          <p:nvPr/>
        </p:nvPicPr>
        <p:blipFill>
          <a:blip r:embed="rId1"/>
          <a:stretch/>
        </p:blipFill>
        <p:spPr>
          <a:xfrm>
            <a:off x="468360" y="1808280"/>
            <a:ext cx="6732720" cy="4392360"/>
          </a:xfrm>
          <a:prstGeom prst="rect">
            <a:avLst/>
          </a:prstGeom>
          <a:ln w="0">
            <a:noFill/>
          </a:ln>
        </p:spPr>
      </p:pic>
      <p:sp>
        <p:nvSpPr>
          <p:cNvPr id="391" name="TextBox 2"/>
          <p:cNvSpPr/>
          <p:nvPr/>
        </p:nvSpPr>
        <p:spPr>
          <a:xfrm>
            <a:off x="1332000" y="40464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вроатом, Брюсс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3" descr="C:\Documents and Settings\User\My Documents\дЛЯ ПРЕЗЕНТАЦИЙ\ПИЗАНС.JPG"/>
          <p:cNvPicPr/>
          <p:nvPr/>
        </p:nvPicPr>
        <p:blipFill>
          <a:blip r:embed="rId1"/>
          <a:stretch/>
        </p:blipFill>
        <p:spPr>
          <a:xfrm>
            <a:off x="2230560" y="1295280"/>
            <a:ext cx="4486320" cy="5562720"/>
          </a:xfrm>
          <a:prstGeom prst="rect">
            <a:avLst/>
          </a:prstGeom>
          <a:ln w="0">
            <a:noFill/>
          </a:ln>
        </p:spPr>
      </p:pic>
      <p:sp>
        <p:nvSpPr>
          <p:cNvPr id="393" name="TextBox 2"/>
          <p:cNvSpPr/>
          <p:nvPr/>
        </p:nvSpPr>
        <p:spPr>
          <a:xfrm>
            <a:off x="1835280" y="333360"/>
            <a:ext cx="488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изанская башня, П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3" descr="D:\РИСУНКИ для МАШИ\Временная для презентаций\папская резид.JPG"/>
          <p:cNvPicPr/>
          <p:nvPr/>
        </p:nvPicPr>
        <p:blipFill>
          <a:blip r:embed="rId1"/>
          <a:stretch/>
        </p:blipFill>
        <p:spPr>
          <a:xfrm>
            <a:off x="1763640" y="1371600"/>
            <a:ext cx="7848720" cy="5883120"/>
          </a:xfrm>
          <a:prstGeom prst="rect">
            <a:avLst/>
          </a:prstGeom>
          <a:ln w="0">
            <a:noFill/>
          </a:ln>
        </p:spPr>
      </p:pic>
      <p:sp>
        <p:nvSpPr>
          <p:cNvPr id="395" name="TextBox 2"/>
          <p:cNvSpPr/>
          <p:nvPr/>
        </p:nvSpPr>
        <p:spPr>
          <a:xfrm>
            <a:off x="1619280" y="476280"/>
            <a:ext cx="33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Папская резиденция, Ватик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36360" y="7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В каждой стране мира есть свои достопримечательности. Это - необычные объекты, которые стоит увидеть. Достопримечательностями могут быть интересные здания и памятники, заповедники и парки, редкие животные и раст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12" descr="Singapore%20Tourist%20009"/>
          <p:cNvPicPr/>
          <p:nvPr/>
        </p:nvPicPr>
        <p:blipFill>
          <a:blip r:embed="rId1"/>
          <a:stretch/>
        </p:blipFill>
        <p:spPr>
          <a:xfrm>
            <a:off x="1042920" y="1341360"/>
            <a:ext cx="6624720" cy="488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3" descr="C:\Documents and Settings\User\My Documents\дЛЯ ПРЕЗЕНТАЦИЙ\ВЕНЕЦ.JPG"/>
          <p:cNvPicPr/>
          <p:nvPr/>
        </p:nvPicPr>
        <p:blipFill>
          <a:blip r:embed="rId1"/>
          <a:stretch/>
        </p:blipFill>
        <p:spPr>
          <a:xfrm>
            <a:off x="2666880" y="1295280"/>
            <a:ext cx="3799080" cy="5562720"/>
          </a:xfrm>
          <a:prstGeom prst="rect">
            <a:avLst/>
          </a:prstGeom>
          <a:ln w="0">
            <a:noFill/>
          </a:ln>
        </p:spPr>
      </p:pic>
      <p:sp>
        <p:nvSpPr>
          <p:cNvPr id="397" name="TextBox 2"/>
          <p:cNvSpPr/>
          <p:nvPr/>
        </p:nvSpPr>
        <p:spPr>
          <a:xfrm>
            <a:off x="1332000" y="33336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лощадь святого Марка, Вене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3" descr="D:\РИСУНКИ для МАШИ\Временная для презентаций\саграда фамилиа.JPG"/>
          <p:cNvPicPr/>
          <p:nvPr/>
        </p:nvPicPr>
        <p:blipFill>
          <a:blip r:embed="rId1"/>
          <a:stretch/>
        </p:blipFill>
        <p:spPr>
          <a:xfrm>
            <a:off x="2195640" y="1484280"/>
            <a:ext cx="7543800" cy="5656320"/>
          </a:xfrm>
          <a:prstGeom prst="rect">
            <a:avLst/>
          </a:prstGeom>
          <a:ln w="0">
            <a:noFill/>
          </a:ln>
        </p:spPr>
      </p:pic>
      <p:sp>
        <p:nvSpPr>
          <p:cNvPr id="399" name="TextBox 2"/>
          <p:cNvSpPr/>
          <p:nvPr/>
        </p:nvSpPr>
        <p:spPr>
          <a:xfrm>
            <a:off x="900000" y="476280"/>
            <a:ext cx="5067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обор Святого Семейства, Барсел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3" descr="C:\Documents and Settings\User\My Documents\дЛЯ ПРЕЗЕНТАЦИЙ\КИТ.СТЕНА.JPG"/>
          <p:cNvPicPr/>
          <p:nvPr/>
        </p:nvPicPr>
        <p:blipFill>
          <a:blip r:embed="rId1"/>
          <a:stretch/>
        </p:blipFill>
        <p:spPr>
          <a:xfrm>
            <a:off x="4284720" y="1125360"/>
            <a:ext cx="3803760" cy="5639040"/>
          </a:xfrm>
          <a:prstGeom prst="rect">
            <a:avLst/>
          </a:prstGeom>
          <a:ln w="0">
            <a:noFill/>
          </a:ln>
        </p:spPr>
      </p:pic>
      <p:sp>
        <p:nvSpPr>
          <p:cNvPr id="401" name="TextBox 2"/>
          <p:cNvSpPr/>
          <p:nvPr/>
        </p:nvSpPr>
        <p:spPr>
          <a:xfrm>
            <a:off x="1476360" y="549360"/>
            <a:ext cx="37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еликая Китайская стена, К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3" descr="C:\Documents and Settings\User\My Documents\дЛЯ ПРЕЗЕНТАЦИЙ\ДАЛАЙ ЛАМА.JPG"/>
          <p:cNvPicPr/>
          <p:nvPr/>
        </p:nvPicPr>
        <p:blipFill>
          <a:blip r:embed="rId1"/>
          <a:stretch/>
        </p:blipFill>
        <p:spPr>
          <a:xfrm>
            <a:off x="944640" y="1295280"/>
            <a:ext cx="7253280" cy="5562720"/>
          </a:xfrm>
          <a:prstGeom prst="rect">
            <a:avLst/>
          </a:prstGeom>
          <a:ln w="0">
            <a:noFill/>
          </a:ln>
        </p:spPr>
      </p:pic>
      <p:sp>
        <p:nvSpPr>
          <p:cNvPr id="403" name="TextBox 2"/>
          <p:cNvSpPr/>
          <p:nvPr/>
        </p:nvSpPr>
        <p:spPr>
          <a:xfrm>
            <a:off x="1476360" y="69228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ворец Далай-Ламы, К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3" descr="D:\РИСУНКИ для МАШИ\Временная для презентаций\глин.армия.JPG"/>
          <p:cNvPicPr/>
          <p:nvPr/>
        </p:nvPicPr>
        <p:blipFill>
          <a:blip r:embed="rId1"/>
          <a:stretch/>
        </p:blipFill>
        <p:spPr>
          <a:xfrm>
            <a:off x="457200" y="1628640"/>
            <a:ext cx="8305920" cy="6226200"/>
          </a:xfrm>
          <a:prstGeom prst="rect">
            <a:avLst/>
          </a:prstGeom>
          <a:ln w="0">
            <a:noFill/>
          </a:ln>
        </p:spPr>
      </p:pic>
      <p:sp>
        <p:nvSpPr>
          <p:cNvPr id="405" name="TextBox 2"/>
          <p:cNvSpPr/>
          <p:nvPr/>
        </p:nvSpPr>
        <p:spPr>
          <a:xfrm>
            <a:off x="1403280" y="76500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Глиняная армия, Кит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4" descr="D:\РИСУНКИ для МАШИ\Временная для презентаций\пирамида.JPG"/>
          <p:cNvPicPr/>
          <p:nvPr/>
        </p:nvPicPr>
        <p:blipFill>
          <a:blip r:embed="rId1"/>
          <a:stretch/>
        </p:blipFill>
        <p:spPr>
          <a:xfrm>
            <a:off x="395280" y="1700280"/>
            <a:ext cx="8229600" cy="5775120"/>
          </a:xfrm>
          <a:prstGeom prst="rect">
            <a:avLst/>
          </a:prstGeom>
          <a:ln w="0">
            <a:noFill/>
          </a:ln>
        </p:spPr>
      </p:pic>
      <p:sp>
        <p:nvSpPr>
          <p:cNvPr id="407" name="TextBox 2"/>
          <p:cNvSpPr/>
          <p:nvPr/>
        </p:nvSpPr>
        <p:spPr>
          <a:xfrm>
            <a:off x="1187280" y="69228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ирамида Хеопса, Ка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3" descr="C:\Documents and Settings\User\My Documents\дЛЯ ПРЕЗЕНТАЦИЙ\СВОБОДА.JPG"/>
          <p:cNvPicPr/>
          <p:nvPr/>
        </p:nvPicPr>
        <p:blipFill>
          <a:blip r:embed="rId1"/>
          <a:stretch/>
        </p:blipFill>
        <p:spPr>
          <a:xfrm>
            <a:off x="2819520" y="1447920"/>
            <a:ext cx="3684600" cy="5410080"/>
          </a:xfrm>
          <a:prstGeom prst="rect">
            <a:avLst/>
          </a:prstGeom>
          <a:ln w="0">
            <a:noFill/>
          </a:ln>
        </p:spPr>
      </p:pic>
      <p:sp>
        <p:nvSpPr>
          <p:cNvPr id="409" name="TextBox 2"/>
          <p:cNvSpPr/>
          <p:nvPr/>
        </p:nvSpPr>
        <p:spPr>
          <a:xfrm>
            <a:off x="1258920" y="76500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Статуя Свободы, Нью-Йор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3" descr="D:\РИСУНКИ для МАШИ\Временная для презентаций\мост золотые ворота.JPG"/>
          <p:cNvPicPr/>
          <p:nvPr/>
        </p:nvPicPr>
        <p:blipFill>
          <a:blip r:embed="rId1"/>
          <a:stretch/>
        </p:blipFill>
        <p:spPr>
          <a:xfrm>
            <a:off x="304920" y="1371600"/>
            <a:ext cx="8534160" cy="5989680"/>
          </a:xfrm>
          <a:prstGeom prst="rect">
            <a:avLst/>
          </a:prstGeom>
          <a:ln w="0">
            <a:noFill/>
          </a:ln>
        </p:spPr>
      </p:pic>
      <p:sp>
        <p:nvSpPr>
          <p:cNvPr id="411" name="TextBox 2"/>
          <p:cNvSpPr/>
          <p:nvPr/>
        </p:nvSpPr>
        <p:spPr>
          <a:xfrm>
            <a:off x="900000" y="549360"/>
            <a:ext cx="63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ост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олотые вороты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, Сан-Франциск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3" descr="C:\Documents and Settings\User\My Documents\дЛЯ ПРЕЗЕНТАЦИЙ\МАЧУ.JPG"/>
          <p:cNvPicPr/>
          <p:nvPr/>
        </p:nvPicPr>
        <p:blipFill>
          <a:blip r:embed="rId1"/>
          <a:stretch/>
        </p:blipFill>
        <p:spPr>
          <a:xfrm>
            <a:off x="1692360" y="907920"/>
            <a:ext cx="4402080" cy="5791320"/>
          </a:xfrm>
          <a:prstGeom prst="rect">
            <a:avLst/>
          </a:prstGeom>
          <a:ln w="0">
            <a:noFill/>
          </a:ln>
        </p:spPr>
      </p:pic>
      <p:sp>
        <p:nvSpPr>
          <p:cNvPr id="413" name="TextBox 2"/>
          <p:cNvSpPr/>
          <p:nvPr/>
        </p:nvSpPr>
        <p:spPr>
          <a:xfrm>
            <a:off x="971640" y="26028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Мачу-Пикчу, Пе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1"/>
          <p:cNvSpPr/>
          <p:nvPr/>
        </p:nvSpPr>
        <p:spPr>
          <a:xfrm>
            <a:off x="2268360" y="18900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стров Пасх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6" descr="fg"/>
          <p:cNvPicPr/>
          <p:nvPr/>
        </p:nvPicPr>
        <p:blipFill>
          <a:blip r:embed="rId1"/>
          <a:stretch/>
        </p:blipFill>
        <p:spPr>
          <a:xfrm>
            <a:off x="468360" y="1197000"/>
            <a:ext cx="770076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13" descr="operasidney"/>
          <p:cNvPicPr/>
          <p:nvPr/>
        </p:nvPicPr>
        <p:blipFill>
          <a:blip r:embed="rId1"/>
          <a:stretch/>
        </p:blipFill>
        <p:spPr>
          <a:xfrm>
            <a:off x="324000" y="620640"/>
            <a:ext cx="8569080" cy="5764320"/>
          </a:xfrm>
          <a:prstGeom prst="rect">
            <a:avLst/>
          </a:prstGeom>
          <a:ln w="0">
            <a:noFill/>
          </a:ln>
        </p:spPr>
      </p:pic>
      <p:sp>
        <p:nvSpPr>
          <p:cNvPr id="365" name="TextBox 2"/>
          <p:cNvSpPr/>
          <p:nvPr/>
        </p:nvSpPr>
        <p:spPr>
          <a:xfrm>
            <a:off x="1979640" y="189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Здание оперы в Сидн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Box 1"/>
          <p:cNvSpPr/>
          <p:nvPr/>
        </p:nvSpPr>
        <p:spPr>
          <a:xfrm>
            <a:off x="1116000" y="83664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Тадж-Махал, Аг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5" descr="Taj%20Mahal,%20Agra,%20India"/>
          <p:cNvPicPr/>
          <p:nvPr/>
        </p:nvPicPr>
        <p:blipFill>
          <a:blip r:embed="rId1"/>
          <a:stretch/>
        </p:blipFill>
        <p:spPr>
          <a:xfrm>
            <a:off x="395280" y="1544760"/>
            <a:ext cx="8280360" cy="46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2"/>
          <p:cNvSpPr/>
          <p:nvPr/>
        </p:nvSpPr>
        <p:spPr>
          <a:xfrm>
            <a:off x="0" y="1052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Колизей, Р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4" descr="колизей рим"/>
          <p:cNvPicPr/>
          <p:nvPr/>
        </p:nvPicPr>
        <p:blipFill>
          <a:blip r:embed="rId1"/>
          <a:stretch/>
        </p:blipFill>
        <p:spPr>
          <a:xfrm>
            <a:off x="287280" y="1660680"/>
            <a:ext cx="856944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3" descr="C:\Documents and Settings\User\My Documents\дЛЯ ПРЕЗЕНТАЦИЙ\МОСКВА.JPG"/>
          <p:cNvPicPr/>
          <p:nvPr/>
        </p:nvPicPr>
        <p:blipFill>
          <a:blip r:embed="rId1"/>
          <a:stretch/>
        </p:blipFill>
        <p:spPr>
          <a:xfrm>
            <a:off x="1403280" y="1916280"/>
            <a:ext cx="6132600" cy="4941720"/>
          </a:xfrm>
          <a:prstGeom prst="rect">
            <a:avLst/>
          </a:prstGeom>
          <a:ln w="0">
            <a:noFill/>
          </a:ln>
        </p:spPr>
      </p:pic>
      <p:sp>
        <p:nvSpPr>
          <p:cNvPr id="371" name="TextBox 2"/>
          <p:cNvSpPr/>
          <p:nvPr/>
        </p:nvSpPr>
        <p:spPr>
          <a:xfrm>
            <a:off x="1258920" y="62064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обор Василия Блаженова, Мос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3" descr="D:\РИСУНКИ для МАШИ\Временная для презентаций\дворц.площадь.JPG"/>
          <p:cNvPicPr/>
          <p:nvPr/>
        </p:nvPicPr>
        <p:blipFill>
          <a:blip r:embed="rId1"/>
          <a:stretch/>
        </p:blipFill>
        <p:spPr>
          <a:xfrm>
            <a:off x="684360" y="1628640"/>
            <a:ext cx="6926040" cy="4956480"/>
          </a:xfrm>
          <a:prstGeom prst="rect">
            <a:avLst/>
          </a:prstGeom>
          <a:ln w="0">
            <a:noFill/>
          </a:ln>
        </p:spPr>
      </p:pic>
      <p:sp>
        <p:nvSpPr>
          <p:cNvPr id="373" name="TextBox 2"/>
          <p:cNvSpPr/>
          <p:nvPr/>
        </p:nvSpPr>
        <p:spPr>
          <a:xfrm>
            <a:off x="1914480" y="674640"/>
            <a:ext cx="446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ворцовая площадь, 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3" descr="C:\Documents and Settings\User\My Documents\дЛЯ ПРЕЗЕНТАЦИЙ\ПЕТЕРГ.JPG"/>
          <p:cNvPicPr/>
          <p:nvPr/>
        </p:nvPicPr>
        <p:blipFill>
          <a:blip r:embed="rId1"/>
          <a:stretch/>
        </p:blipFill>
        <p:spPr>
          <a:xfrm>
            <a:off x="468360" y="1433520"/>
            <a:ext cx="7575480" cy="4948200"/>
          </a:xfrm>
          <a:prstGeom prst="rect">
            <a:avLst/>
          </a:prstGeom>
          <a:ln w="0">
            <a:noFill/>
          </a:ln>
        </p:spPr>
      </p:pic>
      <p:sp>
        <p:nvSpPr>
          <p:cNvPr id="375" name="TextBox 2"/>
          <p:cNvSpPr/>
          <p:nvPr/>
        </p:nvSpPr>
        <p:spPr>
          <a:xfrm>
            <a:off x="971640" y="76500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етергоф, 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19:51:02Z</dcterms:created>
  <dc:creator>Interbaby</dc:creator>
  <dc:description/>
  <dc:language>en-US</dc:language>
  <cp:lastModifiedBy>Светлана Ивановна</cp:lastModifiedBy>
  <dcterms:modified xsi:type="dcterms:W3CDTF">2018-06-18T07:49:53Z</dcterms:modified>
  <cp:revision>13</cp:revision>
  <dc:subject/>
  <dc:title>Достопримечательностимира</dc:title>
</cp:coreProperties>
</file>