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105-E2C9-4B1F-B5FE-8FD1F729D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4D3-5C67-4CFE-B0A7-87396D922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A6A-D9E5-4EDC-8313-A923DB2AD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F3F-AD92-4323-B289-8E1841AA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FF1-CDD6-4CA9-939C-878484BC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46D-AADF-4CC4-8B70-6963EAD1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D9C-9243-43E5-8E4A-4993BE59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4A9-E442-4AC6-A091-574B9F32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86B3-0EA9-4121-A7DF-7C642578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9A1-78E0-45AB-90FF-D12CFE1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A8F4-9EFE-4B39-9C58-0D008AE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7CE3-ED24-4342-A212-0AD00EA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52A7-363C-4EF1-B093-2D5619C4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D76C-82CB-422C-A4E2-6FA02CBB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FF6-5734-4D2F-ABCD-777D5531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6F2B-B2E6-4153-B080-7F56484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BC75-8B05-4800-906A-8293329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0E3F-E625-49DE-A6D2-F986620B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B5E3-89BA-4E9E-8C2C-814D1F8F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4A5A-6705-4589-A6E8-8D43B956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23C28-2FE3-4B6B-8DED-81140157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BF2B0-A1D4-493F-B7AE-A758E7F6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FF559-BB18-4F2F-8561-5B5C7AA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5F4D8-CE9E-4395-9814-9FB1AFD9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083FE-D950-48F6-926D-68CA322F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47E-B9DC-4945-BC73-700A4AC3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9B61D-330E-41A1-B808-B716E585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9AE32-9BC7-4A7B-ACAE-B37841D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40A51-A870-464E-AF28-02566F2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3440D-2573-41F8-91F0-406D66B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B2134-BB67-44CF-8380-ED62520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99805-B4DF-41E2-8AA5-DCB5CD3B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9A85B-DA39-4961-A487-9FC06E87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C9C6-D285-41EB-9ED5-0E95F7D0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03FE-6E9D-43A6-8B52-A2E9F57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E2A06-41D0-4EBD-9FEC-40F6E171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50C-DC95-4C8C-8866-83C9E650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D0CC-980E-44F3-952F-6D6E922A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FA1C-0588-44ED-918B-33ABD4D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2E5A-F2F1-4B30-9114-803E09C9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24ED-B7EC-4EA7-AE55-E9C66E9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3A39-EB9D-407C-9BB8-E5F4175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06E5-647E-4F15-9252-102C5F0A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3D70-4022-45AA-AF08-8263AAA0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7A2F-4649-4CF7-8878-382EDCD9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1847-59E6-4F9C-A506-C1F905EB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1C3A4-9AA2-4C34-83EA-4185625F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195-C840-4057-A2FB-BF5956F7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88805-3D9C-48E6-BCC5-A312057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D5AC1-8361-4579-8C73-889DB12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C54EF-7BC4-4741-95D2-1E02664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691C3-D3E6-4826-9EF8-271BF9C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202C3-CD7F-4139-B7F1-4B3B04C4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85433-4124-4334-B3F7-C91B67F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557D9-CA45-4110-B3A2-2F688906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5C36F-A6C7-4D66-9C9D-18B58E4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997F3-64D1-4627-9BA9-55631D5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26FF3-F12F-45EE-B136-986E4AC8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D39-61E2-4FB4-A145-4712EA5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B8137-2A0C-47BE-B08A-C49D565A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187CB-9F78-47F5-8609-5A2D9769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19BD8-C6AF-4890-89C3-FA52830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BD099-D606-4129-8F6D-E8C89FE1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87923-9001-4AC1-BC04-357C3242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A4295-5310-4282-8DB3-25EF9434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A2BED-D964-4EEA-ADBE-C3E11AB2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34CC6-DFDC-42FB-BC37-314B1F36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F492E-028D-4905-BE1E-9559A749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ABEF3-17D4-4078-8DF3-F52036F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516-20FF-44DB-98F6-BCE9098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D0ACC-62F5-482D-BF22-AFBCECB7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6A958-1F9B-4345-ACFC-9454C018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6665C-60FE-4DF8-A6C0-18D4C32D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39628-4DC9-4F14-9A3B-5F6CDA4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E6FA1-1951-4A19-8F08-6791A11F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3B2F1-129D-4BE0-B8AD-0AE1E4D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FC84A-F956-4D80-A748-132D548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554ED-D883-4EE9-9EC2-E5EA05A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3961C-89BA-4C6D-B2D7-EDC869F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28F42-C897-4DAB-8A40-CF02B12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097-5F07-46EC-8CB2-ECCC6201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A9441-3C8F-4251-A51B-CA98ED1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B95C4-D2BD-454D-8C9D-D7C9322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E58B0-561C-40D9-BB51-EA585C7B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D4DA6-070A-4CD7-B8A4-7A1B67E8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CE595-9FC9-4AC6-8932-63A08FAC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D00-2A25-44F4-8806-8D3BBC17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6000-68E8-41A1-97AD-4A0C502BF24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859-8D94-4233-9E22-8A2C3BD4FB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73A-8769-4979-99F8-894C73E4FB3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FBBC-A392-4D1C-9406-3E775C33BA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2BA-064A-4D92-8F1A-BB33907E777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890E-9FCC-4E40-9B86-A6C24C12750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DE0-326D-49A6-B262-33C1FBE773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395280" y="17733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Достопримечательности стран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http://globus-world.ru/image/data/katalog/glovana/globus-003.jpg"/>
          <p:cNvPicPr/>
          <p:nvPr/>
        </p:nvPicPr>
        <p:blipFill>
          <a:blip r:embed="rId1"/>
          <a:stretch/>
        </p:blipFill>
        <p:spPr>
          <a:xfrm>
            <a:off x="539640" y="3500280"/>
            <a:ext cx="302436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C:\Documents and Settings\User\My Documents\дЛЯ ПРЕЗЕНТАЦИЙ\БИГ БЕН.JPG"/>
          <p:cNvPicPr/>
          <p:nvPr/>
        </p:nvPicPr>
        <p:blipFill>
          <a:blip r:embed="rId1"/>
          <a:stretch/>
        </p:blipFill>
        <p:spPr>
          <a:xfrm>
            <a:off x="1763640" y="1413000"/>
            <a:ext cx="7956720" cy="58323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1116000" y="476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иг Бен, Лонд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Documents and Settings\User\My Documents\дЛЯ ПРЕЗЕНТАЦИЙ\ВЕСТМ.АББ.JPG"/>
          <p:cNvPicPr/>
          <p:nvPr/>
        </p:nvPicPr>
        <p:blipFill>
          <a:blip r:embed="rId1"/>
          <a:stretch/>
        </p:blipFill>
        <p:spPr>
          <a:xfrm>
            <a:off x="1908000" y="1319040"/>
            <a:ext cx="7581960" cy="55627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1763640" y="692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стминстер, 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User\My Documents\дЛЯ ПРЕЗЕНТАЦИЙ\СТОУНХ.JPG"/>
          <p:cNvPicPr/>
          <p:nvPr/>
        </p:nvPicPr>
        <p:blipFill>
          <a:blip r:embed="rId1"/>
          <a:stretch/>
        </p:blipFill>
        <p:spPr>
          <a:xfrm>
            <a:off x="257040" y="1371600"/>
            <a:ext cx="8553600" cy="51814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1187280" y="62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оунхэндж, Велико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C:\Documents and Settings\User\My Documents\дЛЯ ПРЕЗЕНТАЦИЙ\ЭЙФ.БАШ.JPG"/>
          <p:cNvPicPr/>
          <p:nvPr/>
        </p:nvPicPr>
        <p:blipFill>
          <a:blip r:embed="rId1"/>
          <a:stretch/>
        </p:blipFill>
        <p:spPr>
          <a:xfrm>
            <a:off x="2741760" y="1371600"/>
            <a:ext cx="3735360" cy="54864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042920" y="4046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йфелева башня, Па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ile:Cathedral Notre-Dame de Reims, France-PerCorr.jpg"/>
          <p:cNvPicPr/>
          <p:nvPr/>
        </p:nvPicPr>
        <p:blipFill>
          <a:blip r:embed="rId1"/>
          <a:stretch/>
        </p:blipFill>
        <p:spPr>
          <a:xfrm>
            <a:off x="1908000" y="1152360"/>
            <a:ext cx="3857760" cy="57056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1042920" y="404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ймсский собор, Рей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D:\РИСУНКИ для МАШИ\Временная для презентаций\кёльнский собор.JPG"/>
          <p:cNvPicPr/>
          <p:nvPr/>
        </p:nvPicPr>
        <p:blipFill>
          <a:blip r:embed="rId1"/>
          <a:stretch/>
        </p:blipFill>
        <p:spPr>
          <a:xfrm>
            <a:off x="2195640" y="1197000"/>
            <a:ext cx="4032000" cy="58132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1403280" y="1159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ельнский собор, Кель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vernikova.com/images/stories/Soyuz/Pamyatnik-bremenskim-muzykantam.jpg"/>
          <p:cNvPicPr/>
          <p:nvPr/>
        </p:nvPicPr>
        <p:blipFill>
          <a:blip r:embed="rId1"/>
          <a:stretch/>
        </p:blipFill>
        <p:spPr>
          <a:xfrm>
            <a:off x="826920" y="1413000"/>
            <a:ext cx="3384720" cy="50958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971640" y="404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мятник бременским музыкантам, Б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ttp://to-web.ru/wp-content/uploads/2013/02/brussels_belgium.jpg"/>
          <p:cNvPicPr/>
          <p:nvPr/>
        </p:nvPicPr>
        <p:blipFill>
          <a:blip r:embed="rId1"/>
          <a:stretch/>
        </p:blipFill>
        <p:spPr>
          <a:xfrm>
            <a:off x="468360" y="1808280"/>
            <a:ext cx="6732720" cy="43923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"/>
          <p:cNvSpPr/>
          <p:nvPr/>
        </p:nvSpPr>
        <p:spPr>
          <a:xfrm>
            <a:off x="1332000" y="404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вроатом, Брю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C:\Documents and Settings\User\My Documents\дЛЯ ПРЕЗЕНТАЦИЙ\ПИЗАНС.JPG"/>
          <p:cNvPicPr/>
          <p:nvPr/>
        </p:nvPicPr>
        <p:blipFill>
          <a:blip r:embed="rId1"/>
          <a:stretch/>
        </p:blipFill>
        <p:spPr>
          <a:xfrm>
            <a:off x="2230560" y="1295280"/>
            <a:ext cx="4486320" cy="55627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1835280" y="333360"/>
            <a:ext cx="48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изанская башня, П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D:\РИСУНКИ для МАШИ\Временная для презентаций\папская резид.JPG"/>
          <p:cNvPicPr/>
          <p:nvPr/>
        </p:nvPicPr>
        <p:blipFill>
          <a:blip r:embed="rId1"/>
          <a:stretch/>
        </p:blipFill>
        <p:spPr>
          <a:xfrm>
            <a:off x="1763640" y="1371600"/>
            <a:ext cx="7848720" cy="5883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1619280" y="4762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апская резиденция, Вати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6360" y="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каждой стране мира есть свои достопримечательности. Это - необычные объекты, которые стоит увидеть. Достопримечательностями могут быть интересные здания и памятники, заповедники и парки, редкие животные и рас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2" descr="Singapore%20Tourist%20009"/>
          <p:cNvPicPr/>
          <p:nvPr/>
        </p:nvPicPr>
        <p:blipFill>
          <a:blip r:embed="rId1"/>
          <a:stretch/>
        </p:blipFill>
        <p:spPr>
          <a:xfrm>
            <a:off x="1042920" y="1341360"/>
            <a:ext cx="6624720" cy="48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C:\Documents and Settings\User\My Documents\дЛЯ ПРЕЗЕНТАЦИЙ\ВЕНЕЦ.JPG"/>
          <p:cNvPicPr/>
          <p:nvPr/>
        </p:nvPicPr>
        <p:blipFill>
          <a:blip r:embed="rId1"/>
          <a:stretch/>
        </p:blipFill>
        <p:spPr>
          <a:xfrm>
            <a:off x="2666880" y="1295280"/>
            <a:ext cx="3799080" cy="55627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1332000" y="33336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лощадь святого Марка, Вен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3" descr="D:\РИСУНКИ для МАШИ\Временная для презентаций\саграда фамилиа.JPG"/>
          <p:cNvPicPr/>
          <p:nvPr/>
        </p:nvPicPr>
        <p:blipFill>
          <a:blip r:embed="rId1"/>
          <a:stretch/>
        </p:blipFill>
        <p:spPr>
          <a:xfrm>
            <a:off x="2195640" y="1484280"/>
            <a:ext cx="7543800" cy="56563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900000" y="476280"/>
            <a:ext cx="506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бор Святого Семейства, Барсе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C:\Documents and Settings\User\My Documents\дЛЯ ПРЕЗЕНТАЦИЙ\КИТ.СТЕНА.JPG"/>
          <p:cNvPicPr/>
          <p:nvPr/>
        </p:nvPicPr>
        <p:blipFill>
          <a:blip r:embed="rId1"/>
          <a:stretch/>
        </p:blipFill>
        <p:spPr>
          <a:xfrm>
            <a:off x="4284720" y="1125360"/>
            <a:ext cx="3803760" cy="56390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"/>
          <p:cNvSpPr/>
          <p:nvPr/>
        </p:nvSpPr>
        <p:spPr>
          <a:xfrm>
            <a:off x="1476360" y="549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еликая Китайская стена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C:\Documents and Settings\User\My Documents\дЛЯ ПРЕЗЕНТАЦИЙ\ДАЛАЙ ЛАМА.JPG"/>
          <p:cNvPicPr/>
          <p:nvPr/>
        </p:nvPicPr>
        <p:blipFill>
          <a:blip r:embed="rId1"/>
          <a:stretch/>
        </p:blipFill>
        <p:spPr>
          <a:xfrm>
            <a:off x="944640" y="1295280"/>
            <a:ext cx="7253280" cy="55627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1476360" y="692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ворец Далай-Ламы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D:\РИСУНКИ для МАШИ\Временная для презентаций\глин.армия.JPG"/>
          <p:cNvPicPr/>
          <p:nvPr/>
        </p:nvPicPr>
        <p:blipFill>
          <a:blip r:embed="rId1"/>
          <a:stretch/>
        </p:blipFill>
        <p:spPr>
          <a:xfrm>
            <a:off x="457200" y="1628640"/>
            <a:ext cx="8305920" cy="62262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1403280" y="765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линяная армия,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D:\РИСУНКИ для МАШИ\Временная для презентаций\пирамида.JPG"/>
          <p:cNvPicPr/>
          <p:nvPr/>
        </p:nvPicPr>
        <p:blipFill>
          <a:blip r:embed="rId1"/>
          <a:stretch/>
        </p:blipFill>
        <p:spPr>
          <a:xfrm>
            <a:off x="395280" y="1700280"/>
            <a:ext cx="8229600" cy="57751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1187280" y="6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ирамида Хеопса, Ка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C:\Documents and Settings\User\My Documents\дЛЯ ПРЕЗЕНТАЦИЙ\СВОБОДА.JPG"/>
          <p:cNvPicPr/>
          <p:nvPr/>
        </p:nvPicPr>
        <p:blipFill>
          <a:blip r:embed="rId1"/>
          <a:stretch/>
        </p:blipFill>
        <p:spPr>
          <a:xfrm>
            <a:off x="2819520" y="1447920"/>
            <a:ext cx="3684600" cy="54100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1258920" y="765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татуя Свободы, Нью-Йо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D:\РИСУНКИ для МАШИ\Временная для презентаций\мост золотые ворота.JPG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9896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900000" y="549360"/>
            <a:ext cx="63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с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олотые ворот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Сан-Францис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C:\Documents and Settings\User\My Documents\дЛЯ ПРЕЗЕНТАЦИЙ\МАЧУ.JPG"/>
          <p:cNvPicPr/>
          <p:nvPr/>
        </p:nvPicPr>
        <p:blipFill>
          <a:blip r:embed="rId1"/>
          <a:stretch/>
        </p:blipFill>
        <p:spPr>
          <a:xfrm>
            <a:off x="1692360" y="907920"/>
            <a:ext cx="4402080" cy="57913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971640" y="26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ачу-Пикчу, П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"/>
          <p:cNvSpPr/>
          <p:nvPr/>
        </p:nvSpPr>
        <p:spPr>
          <a:xfrm>
            <a:off x="2268360" y="1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тров Пас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fg"/>
          <p:cNvPicPr/>
          <p:nvPr/>
        </p:nvPicPr>
        <p:blipFill>
          <a:blip r:embed="rId1"/>
          <a:stretch/>
        </p:blipFill>
        <p:spPr>
          <a:xfrm>
            <a:off x="468360" y="1197000"/>
            <a:ext cx="77007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3" descr="operasidney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7643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979640" y="189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дание оперы в Сид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1116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адж-Махал, А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5" descr="Taj%20Mahal,%20Agra,%20India"/>
          <p:cNvPicPr/>
          <p:nvPr/>
        </p:nvPicPr>
        <p:blipFill>
          <a:blip r:embed="rId1"/>
          <a:stretch/>
        </p:blipFill>
        <p:spPr>
          <a:xfrm>
            <a:off x="395280" y="1544760"/>
            <a:ext cx="828036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Колизей,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колизей рим"/>
          <p:cNvPicPr/>
          <p:nvPr/>
        </p:nvPicPr>
        <p:blipFill>
          <a:blip r:embed="rId1"/>
          <a:stretch/>
        </p:blipFill>
        <p:spPr>
          <a:xfrm>
            <a:off x="287280" y="1660680"/>
            <a:ext cx="85694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Documents and Settings\User\My Documents\дЛЯ ПРЕЗЕНТАЦИЙ\МОСКВА.JPG"/>
          <p:cNvPicPr/>
          <p:nvPr/>
        </p:nvPicPr>
        <p:blipFill>
          <a:blip r:embed="rId1"/>
          <a:stretch/>
        </p:blipFill>
        <p:spPr>
          <a:xfrm>
            <a:off x="1403280" y="1916280"/>
            <a:ext cx="6132600" cy="49417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258920" y="62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ор Василия Блаженова,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D:\РИСУНКИ для МАШИ\Временная для презентаций\дворц.площадь.JPG"/>
          <p:cNvPicPr/>
          <p:nvPr/>
        </p:nvPicPr>
        <p:blipFill>
          <a:blip r:embed="rId1"/>
          <a:stretch/>
        </p:blipFill>
        <p:spPr>
          <a:xfrm>
            <a:off x="684360" y="1628640"/>
            <a:ext cx="6926040" cy="49564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"/>
          <p:cNvSpPr/>
          <p:nvPr/>
        </p:nvSpPr>
        <p:spPr>
          <a:xfrm>
            <a:off x="1914480" y="67464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ворцовая площадь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C:\Documents and Settings\User\My Documents\дЛЯ ПРЕЗЕНТАЦИЙ\ПЕТЕРГ.JPG"/>
          <p:cNvPicPr/>
          <p:nvPr/>
        </p:nvPicPr>
        <p:blipFill>
          <a:blip r:embed="rId1"/>
          <a:stretch/>
        </p:blipFill>
        <p:spPr>
          <a:xfrm>
            <a:off x="468360" y="1433520"/>
            <a:ext cx="7575480" cy="49482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971640" y="76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тергоф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9:51:02Z</dcterms:created>
  <dc:creator>Interbaby</dc:creator>
  <dc:description/>
  <dc:language>en-US</dc:language>
  <cp:lastModifiedBy>Светлана Ивановна</cp:lastModifiedBy>
  <dcterms:modified xsi:type="dcterms:W3CDTF">2018-06-18T07:49:53Z</dcterms:modified>
  <cp:revision>13</cp:revision>
  <dc:subject/>
  <dc:title>Достопримечательностимира</dc:title>
</cp:coreProperties>
</file>