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C6D9-55C9-45B7-9814-95C140381FB9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F7C-BFD8-455D-9394-8F3A9253D0C7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0C8F-59E2-4311-A2F1-A9D8E14E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459-7D54-4DA9-812C-573AA584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0FE-F090-4D31-90E9-641256C5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0F6-450D-4A16-B6EE-97257590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8DD6-3221-49DA-954B-40A8EE7C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0C39-E8CE-464C-872B-1708676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D5D9-99CD-4A48-BBAE-E173114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2345-6D28-49A9-8D56-C8E92922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A560-5A8B-4179-A37A-C7296140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68FE-3A16-4E38-A60B-C0CB646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AAF9-7543-425D-B0DD-468A8A7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4F2-B229-4C55-97C7-F873CC02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78D2-E609-4C2C-ABD0-C3405A3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98B-2C4D-4786-B792-1627779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2588-99F6-4A06-A340-382E5E41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7D5C-0C23-449A-BC36-7B397DA5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C63F-6BA1-48B8-A0F5-0F624E58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B9B-99DB-442C-8751-0ADC325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268-E52C-448D-80EE-C630EC5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231-129F-4890-A1D3-B8282EC3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5CE-DA30-462E-A6FE-6ED6EACA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AC2-442B-4DCA-869F-68C1244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172-09F8-463F-A085-5085E1C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263-4EC4-4530-BBFA-A8AC671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8E9E-368B-43F0-8852-0A42048EC6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FBB0-6A39-4EAC-8EC7-999D49BCBB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833760" y="457200"/>
            <a:ext cx="82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Природные зоны Северной Америки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447920" y="18288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440160" y="593244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Гализина  Екатерина Владимировна, учитель географии  МКОУ «Совхозная СОШ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Admin\Desktop\Безымянный.jpg"/>
          <p:cNvPicPr/>
          <p:nvPr/>
        </p:nvPicPr>
        <p:blipFill>
          <a:blip r:embed="rId1"/>
          <a:stretch/>
        </p:blipFill>
        <p:spPr>
          <a:xfrm>
            <a:off x="798480" y="1469880"/>
            <a:ext cx="3695760" cy="385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Users\Admin\Desktop\Безымянный.jpg"/>
          <p:cNvPicPr/>
          <p:nvPr/>
        </p:nvPicPr>
        <p:blipFill>
          <a:blip r:embed="rId2"/>
          <a:stretch/>
        </p:blipFill>
        <p:spPr>
          <a:xfrm>
            <a:off x="4572000" y="1401840"/>
            <a:ext cx="3095640" cy="203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Admin\Desktop\Безымянный.jpg"/>
          <p:cNvPicPr/>
          <p:nvPr/>
        </p:nvPicPr>
        <p:blipFill>
          <a:blip r:embed="rId3"/>
          <a:stretch/>
        </p:blipFill>
        <p:spPr>
          <a:xfrm>
            <a:off x="4572000" y="3222720"/>
            <a:ext cx="309564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34960" y="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айг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86880" y="53352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Животные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altaigeo3_36m"/>
          <p:cNvPicPr/>
          <p:nvPr/>
        </p:nvPicPr>
        <p:blipFill>
          <a:blip r:embed="rId1"/>
          <a:stretch/>
        </p:blipFill>
        <p:spPr>
          <a:xfrm>
            <a:off x="617400" y="3406680"/>
            <a:ext cx="2667240" cy="200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index"/>
          <p:cNvPicPr/>
          <p:nvPr/>
        </p:nvPicPr>
        <p:blipFill>
          <a:blip r:embed="rId2"/>
          <a:stretch/>
        </p:blipFill>
        <p:spPr>
          <a:xfrm>
            <a:off x="1585800" y="1341360"/>
            <a:ext cx="2890800" cy="2065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2133720" y="533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рысь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0" y="5943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лос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048120" y="5943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бурый медвед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obol_b"/>
          <p:cNvPicPr/>
          <p:nvPr/>
        </p:nvPicPr>
        <p:blipFill>
          <a:blip r:embed="rId3"/>
          <a:srcRect l="-4875" t="6316" r="0" b="0"/>
          <a:stretch/>
        </p:blipFill>
        <p:spPr>
          <a:xfrm>
            <a:off x="4724280" y="1341360"/>
            <a:ext cx="2743200" cy="2095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8"/>
          <p:cNvSpPr/>
          <p:nvPr/>
        </p:nvSpPr>
        <p:spPr>
          <a:xfrm>
            <a:off x="2971800" y="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униц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picture"/>
          <p:cNvPicPr/>
          <p:nvPr/>
        </p:nvPicPr>
        <p:blipFill>
          <a:blip r:embed="rId4"/>
          <a:stretch/>
        </p:blipFill>
        <p:spPr>
          <a:xfrm>
            <a:off x="6605640" y="35053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640x480"/>
          <p:cNvPicPr/>
          <p:nvPr/>
        </p:nvPicPr>
        <p:blipFill>
          <a:blip r:embed="rId5"/>
          <a:stretch/>
        </p:blipFill>
        <p:spPr>
          <a:xfrm>
            <a:off x="3633840" y="3429000"/>
            <a:ext cx="2462040" cy="19810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1"/>
          <p:cNvSpPr/>
          <p:nvPr/>
        </p:nvSpPr>
        <p:spPr>
          <a:xfrm>
            <a:off x="64771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Черный медвед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685800" y="533520"/>
            <a:ext cx="3276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 умерен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– 10 С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июля  + 19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серые и бурые лесные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krupnomer_cb2_s"/>
          <p:cNvPicPr/>
          <p:nvPr/>
        </p:nvPicPr>
        <p:blipFill>
          <a:blip r:embed="rId1"/>
          <a:stretch/>
        </p:blipFill>
        <p:spPr>
          <a:xfrm>
            <a:off x="609480" y="4114800"/>
            <a:ext cx="1905120" cy="219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2380111_afc044c9"/>
          <p:cNvPicPr/>
          <p:nvPr/>
        </p:nvPicPr>
        <p:blipFill>
          <a:blip r:embed="rId2"/>
          <a:stretch/>
        </p:blipFill>
        <p:spPr>
          <a:xfrm>
            <a:off x="6699240" y="2743200"/>
            <a:ext cx="2444760" cy="3276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6"/>
          <p:cNvSpPr/>
          <p:nvPr/>
        </p:nvSpPr>
        <p:spPr>
          <a:xfrm>
            <a:off x="609480" y="30481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Растения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3520" y="35812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осна веймутов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791320" y="2133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аштан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1" descr="dubrava"/>
          <p:cNvPicPr/>
          <p:nvPr/>
        </p:nvPicPr>
        <p:blipFill>
          <a:blip r:embed="rId3"/>
          <a:stretch/>
        </p:blipFill>
        <p:spPr>
          <a:xfrm>
            <a:off x="4038480" y="533520"/>
            <a:ext cx="1866960" cy="23810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3"/>
          <p:cNvSpPr/>
          <p:nvPr/>
        </p:nvSpPr>
        <p:spPr>
          <a:xfrm>
            <a:off x="3276720" y="312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клен сахар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562720" y="838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дуб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6094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мешанные и широколиственные ле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9" descr="fall158"/>
          <p:cNvPicPr/>
          <p:nvPr/>
        </p:nvPicPr>
        <p:blipFill>
          <a:blip r:embed="rId4"/>
          <a:stretch/>
        </p:blipFill>
        <p:spPr>
          <a:xfrm>
            <a:off x="3790800" y="3719520"/>
            <a:ext cx="2362320" cy="233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457200" y="83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Животные</a:t>
            </a: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Skunk2"/>
          <p:cNvPicPr/>
          <p:nvPr/>
        </p:nvPicPr>
        <p:blipFill>
          <a:blip r:embed="rId1"/>
          <a:stretch/>
        </p:blipFill>
        <p:spPr>
          <a:xfrm>
            <a:off x="6858000" y="2895480"/>
            <a:ext cx="2076480" cy="2710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0" y="60199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олень вапи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olen_vapiti_t2"/>
          <p:cNvPicPr/>
          <p:nvPr/>
        </p:nvPicPr>
        <p:blipFill>
          <a:blip r:embed="rId2"/>
          <a:stretch/>
        </p:blipFill>
        <p:spPr>
          <a:xfrm>
            <a:off x="2133720" y="380988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1249917489_bober"/>
          <p:cNvPicPr/>
          <p:nvPr/>
        </p:nvPicPr>
        <p:blipFill>
          <a:blip r:embed="rId3"/>
          <a:stretch/>
        </p:blipFill>
        <p:spPr>
          <a:xfrm>
            <a:off x="2438280" y="838080"/>
            <a:ext cx="3213360" cy="2514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838080" y="1905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боб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5530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унс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09480" y="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Смешанные и широколиственные лес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858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устыни и полупустыни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6e24c9d96da5"/>
          <p:cNvPicPr/>
          <p:nvPr/>
        </p:nvPicPr>
        <p:blipFill>
          <a:blip r:embed="rId1"/>
          <a:stretch/>
        </p:blipFill>
        <p:spPr>
          <a:xfrm>
            <a:off x="2133720" y="2743200"/>
            <a:ext cx="411948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1905120" y="198108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Мексиканское нагорье - пустыни субтропического пояс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380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38088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7621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Определите какие природные зоны есть на материке Северная Америка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Admin\Desktop\Безымянный.jpg"/>
          <p:cNvPicPr/>
          <p:nvPr/>
        </p:nvPicPr>
        <p:blipFill>
          <a:blip r:embed="rId1"/>
          <a:stretch/>
        </p:blipFill>
        <p:spPr>
          <a:xfrm>
            <a:off x="1455840" y="1447920"/>
            <a:ext cx="6248160" cy="4162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90720" y="304920"/>
            <a:ext cx="754380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лан описания природной зоны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1.Географическое положение 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2.Климат (температура ,годовое количество осадков, климатический пояс.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3.Почвы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4.Растительность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9900"/>
                </a:solidFill>
                <a:latin typeface="Arial"/>
              </a:rPr>
              <a:t>5.Животный мир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094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рктические пустын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_d763_c2f545ad_L"/>
          <p:cNvPicPr/>
          <p:nvPr/>
        </p:nvPicPr>
        <p:blipFill>
          <a:blip r:embed="rId1"/>
          <a:stretch/>
        </p:blipFill>
        <p:spPr>
          <a:xfrm>
            <a:off x="1600200" y="2057400"/>
            <a:ext cx="480528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010280" y="1828800"/>
            <a:ext cx="21337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арктический, суровы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-30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июля  0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 каменист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Растения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: мхи и лишайники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533880" y="0"/>
            <a:ext cx="49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рктические пустыни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0_d286_a487558c_L"/>
          <p:cNvPicPr/>
          <p:nvPr/>
        </p:nvPicPr>
        <p:blipFill>
          <a:blip r:embed="rId1"/>
          <a:stretch/>
        </p:blipFill>
        <p:spPr>
          <a:xfrm>
            <a:off x="0" y="1523880"/>
            <a:ext cx="4648320" cy="309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762120" y="91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Животные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914400" y="1600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ar27canada"/>
          <p:cNvPicPr/>
          <p:nvPr/>
        </p:nvPicPr>
        <p:blipFill>
          <a:blip r:embed="rId2"/>
          <a:stretch/>
        </p:blipFill>
        <p:spPr>
          <a:xfrm>
            <a:off x="5410080" y="4267080"/>
            <a:ext cx="3287880" cy="2194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1"/>
          <p:cNvSpPr/>
          <p:nvPr/>
        </p:nvSpPr>
        <p:spPr>
          <a:xfrm>
            <a:off x="380880" y="5638680"/>
            <a:ext cx="25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белые медвед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400800" y="3581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юл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morzi_double"/>
          <p:cNvPicPr/>
          <p:nvPr/>
        </p:nvPicPr>
        <p:blipFill>
          <a:blip r:embed="rId3"/>
          <a:stretch/>
        </p:blipFill>
        <p:spPr>
          <a:xfrm>
            <a:off x="5057640" y="1143000"/>
            <a:ext cx="3302280" cy="2209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6"/>
          <p:cNvSpPr/>
          <p:nvPr/>
        </p:nvSpPr>
        <p:spPr>
          <a:xfrm>
            <a:off x="3200400" y="914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рж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80880" y="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ундр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85800" y="22860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                  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- Безлесная зона на северном побережье Северной Америки  и островах, с</a:t>
            </a:r>
            <a:r>
              <a:rPr b="0" i="1" lang="ru-RU" sz="1800" spc="-1" strike="noStrike">
                <a:solidFill>
                  <a:srgbClr val="996633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растительным покровом из мхов,  лишайников, кустарников и  карликовых деревье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85800" y="1143000"/>
            <a:ext cx="4343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субарктически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-20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июля     +8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48300"/>
          <p:cNvPicPr/>
          <p:nvPr/>
        </p:nvPicPr>
        <p:blipFill>
          <a:blip r:embed="rId1"/>
          <a:stretch/>
        </p:blipFill>
        <p:spPr>
          <a:xfrm>
            <a:off x="6667560" y="4906800"/>
            <a:ext cx="2362320" cy="147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46000856_1246875357_chernika"/>
          <p:cNvPicPr/>
          <p:nvPr/>
        </p:nvPicPr>
        <p:blipFill>
          <a:blip r:embed="rId2"/>
          <a:stretch/>
        </p:blipFill>
        <p:spPr>
          <a:xfrm>
            <a:off x="6024600" y="2362320"/>
            <a:ext cx="151452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otchet_19"/>
          <p:cNvPicPr/>
          <p:nvPr/>
        </p:nvPicPr>
        <p:blipFill>
          <a:blip r:embed="rId3"/>
          <a:stretch/>
        </p:blipFill>
        <p:spPr>
          <a:xfrm>
            <a:off x="914400" y="3111480"/>
            <a:ext cx="3773520" cy="2832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3"/>
          <p:cNvSpPr/>
          <p:nvPr/>
        </p:nvSpPr>
        <p:spPr>
          <a:xfrm>
            <a:off x="5154480" y="4267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карликовая берез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3152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черни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315200" y="4449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голубик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2778120" y="1692360"/>
            <a:ext cx="40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тундрово-болотные 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многолетняя мерзлот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858000" y="190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Растения</a:t>
            </a:r>
            <a:r>
              <a:rPr b="1" i="1" lang="ru-RU" sz="2400" spc="-1" strike="noStrike">
                <a:solidFill>
                  <a:srgbClr val="996633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609480" y="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ундр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85800" y="533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Животные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23084_5"/>
          <p:cNvPicPr/>
          <p:nvPr/>
        </p:nvPicPr>
        <p:blipFill>
          <a:blip r:embed="rId1"/>
          <a:stretch/>
        </p:blipFill>
        <p:spPr>
          <a:xfrm>
            <a:off x="914400" y="1452600"/>
            <a:ext cx="3505320" cy="2760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pesec"/>
          <p:cNvPicPr/>
          <p:nvPr/>
        </p:nvPicPr>
        <p:blipFill>
          <a:blip r:embed="rId2"/>
          <a:stretch/>
        </p:blipFill>
        <p:spPr>
          <a:xfrm>
            <a:off x="1295280" y="4419720"/>
            <a:ext cx="3229200" cy="223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caribou_cc_05"/>
          <p:cNvPicPr/>
          <p:nvPr/>
        </p:nvPicPr>
        <p:blipFill>
          <a:blip r:embed="rId3"/>
          <a:stretch/>
        </p:blipFill>
        <p:spPr>
          <a:xfrm>
            <a:off x="4995720" y="0"/>
            <a:ext cx="414828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75f1e8ad2bc8"/>
          <p:cNvPicPr/>
          <p:nvPr/>
        </p:nvPicPr>
        <p:blipFill>
          <a:blip r:embed="rId4"/>
          <a:stretch/>
        </p:blipFill>
        <p:spPr>
          <a:xfrm>
            <a:off x="5029200" y="3639960"/>
            <a:ext cx="3873600" cy="265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4"/>
          <p:cNvSpPr/>
          <p:nvPr/>
        </p:nvSpPr>
        <p:spPr>
          <a:xfrm>
            <a:off x="3733920" y="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e1"/>
                </a:solidFill>
                <a:latin typeface="Arial"/>
              </a:rPr>
              <a:t>карибу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4038480" y="33526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e1"/>
                </a:solidFill>
                <a:latin typeface="Arial"/>
              </a:rPr>
              <a:t>Полярный волк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762120" y="10666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овцебык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590920" y="44197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есец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609480" y="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Тайг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62120" y="685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Лесная зона  с преобладанием хвойных деревье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248520" y="1523880"/>
            <a:ext cx="37335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Климат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умеренный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 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января 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-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20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июля  + 16 С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6633"/>
                </a:solidFill>
                <a:uFillTx/>
                <a:latin typeface="Arial"/>
              </a:rPr>
              <a:t>Почвы</a:t>
            </a:r>
            <a:r>
              <a:rPr b="1" i="1" lang="ru-RU" sz="2000" spc="-1" strike="noStrike">
                <a:solidFill>
                  <a:srgbClr val="996633"/>
                </a:solidFill>
                <a:latin typeface="Arial"/>
              </a:rPr>
              <a:t> подзолисты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i-2399"/>
          <p:cNvPicPr/>
          <p:nvPr/>
        </p:nvPicPr>
        <p:blipFill>
          <a:blip r:embed="rId1"/>
          <a:stretch/>
        </p:blipFill>
        <p:spPr>
          <a:xfrm>
            <a:off x="6553080" y="38098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5029200" y="6461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ель бел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pihta_balz-1"/>
          <p:cNvPicPr/>
          <p:nvPr/>
        </p:nvPicPr>
        <p:blipFill>
          <a:blip r:embed="rId2"/>
          <a:stretch/>
        </p:blipFill>
        <p:spPr>
          <a:xfrm>
            <a:off x="3276720" y="1447920"/>
            <a:ext cx="262404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3429000" y="57913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ихта бальзам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sosnabank"/>
          <p:cNvPicPr/>
          <p:nvPr/>
        </p:nvPicPr>
        <p:blipFill>
          <a:blip r:embed="rId3"/>
          <a:stretch/>
        </p:blipFill>
        <p:spPr>
          <a:xfrm>
            <a:off x="-7920" y="1447920"/>
            <a:ext cx="2684520" cy="3962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228600" y="6461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осна Банкса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3:31:07Z</dcterms:created>
  <dc:creator>user</dc:creator>
  <dc:description/>
  <dc:language>en-US</dc:language>
  <cp:lastModifiedBy>Admin</cp:lastModifiedBy>
  <dcterms:modified xsi:type="dcterms:W3CDTF">2018-06-18T08:12:54Z</dcterms:modified>
  <cp:revision>31</cp:revision>
  <dc:subject/>
  <dc:title>Слайд 1</dc:title>
</cp:coreProperties>
</file>