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DBA0-27A9-4DBC-A036-9040DF415932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9A8B-77DC-436A-AD51-DD79CA4E4D7B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E3F-BC5B-46F1-88BA-07700E09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BF6-4F31-4AAE-8187-C8668E28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230-02CB-45A5-A6CA-F3BDB4DB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C3F-2A56-4AC0-943A-47BFB4F6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9F40-FCBB-47A2-B8EA-D1B4759E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E914-023D-4099-9EE1-DD8E086D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7664-49CD-493A-8037-33422C76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58D0-60F0-4022-BAB9-643385F0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E88E-12E8-4885-ABA6-CFD4AB4A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8702-3A41-4E03-BE0A-9337EF5B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FAAA-60B6-4E89-9DBB-6F82D3AC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F5A-E2F6-48E6-8CD0-E69B4F23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6D53-DA05-4990-B7F9-C477086F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6CF5-E9C8-4F0F-ABBD-9D9A0F73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02CD-B3E0-4E4A-AC32-FFA1D6C5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054A-3E26-4743-8CDE-EE701E7C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7809-70FC-46C3-B98D-BFB85591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0B4-B6E8-44F5-9B18-FBDBD738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CD6-8BE2-468F-897E-97B259FE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8D1-947E-4174-98AF-D04DBE6C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E80-108D-4481-AC90-F7F24500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CC7-961D-45F3-9AA0-CB4EB499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5EF-EB15-4349-A72D-C4AD6DA0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796-A6D4-4D65-919C-4FC29B6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54F1-1431-4E23-BA2A-2CF3A0C1E8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C167-8E4A-4D6B-840A-27B229BE7A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833760" y="457200"/>
            <a:ext cx="82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Природные зоны Северной Америки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447920" y="18288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440160" y="59324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Гализина  Екатерина Владимировна, учитель географии  МКОУ «Совхозная СОШ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Admin\Desktop\Безымянный.jpg"/>
          <p:cNvPicPr/>
          <p:nvPr/>
        </p:nvPicPr>
        <p:blipFill>
          <a:blip r:embed="rId1"/>
          <a:stretch/>
        </p:blipFill>
        <p:spPr>
          <a:xfrm>
            <a:off x="798480" y="1469880"/>
            <a:ext cx="3695760" cy="3857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:\Users\Admin\Desktop\Безымянный.jpg"/>
          <p:cNvPicPr/>
          <p:nvPr/>
        </p:nvPicPr>
        <p:blipFill>
          <a:blip r:embed="rId2"/>
          <a:stretch/>
        </p:blipFill>
        <p:spPr>
          <a:xfrm>
            <a:off x="4572000" y="1401840"/>
            <a:ext cx="3095640" cy="2038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Users\Admin\Desktop\Безымянный.jpg"/>
          <p:cNvPicPr/>
          <p:nvPr/>
        </p:nvPicPr>
        <p:blipFill>
          <a:blip r:embed="rId3"/>
          <a:stretch/>
        </p:blipFill>
        <p:spPr>
          <a:xfrm>
            <a:off x="4572000" y="3222720"/>
            <a:ext cx="309564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534960" y="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Тайг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86880" y="53352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Животные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altaigeo3_36m"/>
          <p:cNvPicPr/>
          <p:nvPr/>
        </p:nvPicPr>
        <p:blipFill>
          <a:blip r:embed="rId1"/>
          <a:stretch/>
        </p:blipFill>
        <p:spPr>
          <a:xfrm>
            <a:off x="617400" y="3406680"/>
            <a:ext cx="2667240" cy="200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index"/>
          <p:cNvPicPr/>
          <p:nvPr/>
        </p:nvPicPr>
        <p:blipFill>
          <a:blip r:embed="rId2"/>
          <a:stretch/>
        </p:blipFill>
        <p:spPr>
          <a:xfrm>
            <a:off x="1585800" y="1341360"/>
            <a:ext cx="2890800" cy="2065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2"/>
          <p:cNvSpPr/>
          <p:nvPr/>
        </p:nvSpPr>
        <p:spPr>
          <a:xfrm>
            <a:off x="2133720" y="533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рысь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0" y="5943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лос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3048120" y="59436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бурый медвед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7" descr="sobol_b"/>
          <p:cNvPicPr/>
          <p:nvPr/>
        </p:nvPicPr>
        <p:blipFill>
          <a:blip r:embed="rId3"/>
          <a:srcRect l="-4875" t="6316" r="0" b="0"/>
          <a:stretch/>
        </p:blipFill>
        <p:spPr>
          <a:xfrm>
            <a:off x="4724280" y="1341360"/>
            <a:ext cx="2743200" cy="20955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8"/>
          <p:cNvSpPr/>
          <p:nvPr/>
        </p:nvSpPr>
        <p:spPr>
          <a:xfrm>
            <a:off x="2971800" y="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униц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9" descr="picture"/>
          <p:cNvPicPr/>
          <p:nvPr/>
        </p:nvPicPr>
        <p:blipFill>
          <a:blip r:embed="rId4"/>
          <a:stretch/>
        </p:blipFill>
        <p:spPr>
          <a:xfrm>
            <a:off x="6605640" y="3505320"/>
            <a:ext cx="2538360" cy="190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640x480"/>
          <p:cNvPicPr/>
          <p:nvPr/>
        </p:nvPicPr>
        <p:blipFill>
          <a:blip r:embed="rId5"/>
          <a:stretch/>
        </p:blipFill>
        <p:spPr>
          <a:xfrm>
            <a:off x="3633840" y="3429000"/>
            <a:ext cx="2462040" cy="1981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1"/>
          <p:cNvSpPr/>
          <p:nvPr/>
        </p:nvSpPr>
        <p:spPr>
          <a:xfrm>
            <a:off x="64771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Черный медвед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8"/>
          <p:cNvSpPr/>
          <p:nvPr/>
        </p:nvSpPr>
        <p:spPr>
          <a:xfrm>
            <a:off x="685800" y="533520"/>
            <a:ext cx="3276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Климат умеренны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января – 10 С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июля  + 19 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Почвы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серые и бурые лесные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krupnomer_cb2_s"/>
          <p:cNvPicPr/>
          <p:nvPr/>
        </p:nvPicPr>
        <p:blipFill>
          <a:blip r:embed="rId1"/>
          <a:stretch/>
        </p:blipFill>
        <p:spPr>
          <a:xfrm>
            <a:off x="609480" y="4114800"/>
            <a:ext cx="1905120" cy="2193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2380111_afc044c9"/>
          <p:cNvPicPr/>
          <p:nvPr/>
        </p:nvPicPr>
        <p:blipFill>
          <a:blip r:embed="rId2"/>
          <a:stretch/>
        </p:blipFill>
        <p:spPr>
          <a:xfrm>
            <a:off x="6699240" y="2743200"/>
            <a:ext cx="2444760" cy="3276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6"/>
          <p:cNvSpPr/>
          <p:nvPr/>
        </p:nvSpPr>
        <p:spPr>
          <a:xfrm>
            <a:off x="609480" y="3048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Растения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33520" y="35812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сосна веймутов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5791320" y="2133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штан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1" descr="dubrava"/>
          <p:cNvPicPr/>
          <p:nvPr/>
        </p:nvPicPr>
        <p:blipFill>
          <a:blip r:embed="rId3"/>
          <a:stretch/>
        </p:blipFill>
        <p:spPr>
          <a:xfrm>
            <a:off x="4038480" y="533520"/>
            <a:ext cx="1866960" cy="23810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3"/>
          <p:cNvSpPr/>
          <p:nvPr/>
        </p:nvSpPr>
        <p:spPr>
          <a:xfrm>
            <a:off x="3276720" y="3124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лен сахарны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562720" y="8380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дуб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609480" y="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Смешанные и широколиственные лес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9" descr="fall158"/>
          <p:cNvPicPr/>
          <p:nvPr/>
        </p:nvPicPr>
        <p:blipFill>
          <a:blip r:embed="rId4"/>
          <a:stretch/>
        </p:blipFill>
        <p:spPr>
          <a:xfrm>
            <a:off x="3790800" y="3719520"/>
            <a:ext cx="2362320" cy="233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5"/>
          <p:cNvSpPr/>
          <p:nvPr/>
        </p:nvSpPr>
        <p:spPr>
          <a:xfrm>
            <a:off x="457200" y="838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Животные</a:t>
            </a:r>
            <a:r>
              <a:rPr b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Skunk2"/>
          <p:cNvPicPr/>
          <p:nvPr/>
        </p:nvPicPr>
        <p:blipFill>
          <a:blip r:embed="rId1"/>
          <a:stretch/>
        </p:blipFill>
        <p:spPr>
          <a:xfrm>
            <a:off x="6858000" y="2895480"/>
            <a:ext cx="2076480" cy="2710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0" y="60199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олень вапит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olen_vapiti_t2"/>
          <p:cNvPicPr/>
          <p:nvPr/>
        </p:nvPicPr>
        <p:blipFill>
          <a:blip r:embed="rId2"/>
          <a:stretch/>
        </p:blipFill>
        <p:spPr>
          <a:xfrm>
            <a:off x="2133720" y="3809880"/>
            <a:ext cx="2946240" cy="221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1249917489_bober"/>
          <p:cNvPicPr/>
          <p:nvPr/>
        </p:nvPicPr>
        <p:blipFill>
          <a:blip r:embed="rId3"/>
          <a:stretch/>
        </p:blipFill>
        <p:spPr>
          <a:xfrm>
            <a:off x="2438280" y="838080"/>
            <a:ext cx="3213360" cy="25146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"/>
          <p:cNvSpPr/>
          <p:nvPr/>
        </p:nvSpPr>
        <p:spPr>
          <a:xfrm>
            <a:off x="838080" y="1905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бобр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655308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скунс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09480" y="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Смешанные и широколиственные лес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685800" y="228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устыни и полупустыни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6e24c9d96da5"/>
          <p:cNvPicPr/>
          <p:nvPr/>
        </p:nvPicPr>
        <p:blipFill>
          <a:blip r:embed="rId1"/>
          <a:stretch/>
        </p:blipFill>
        <p:spPr>
          <a:xfrm>
            <a:off x="2133720" y="2743200"/>
            <a:ext cx="411948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1905120" y="198108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Мексиканское нагорье - пустыни субтропического пояса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СПАСИБО ЗА ВНИМАНИЕ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791320" cy="380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"/>
          <p:cNvSpPr/>
          <p:nvPr/>
        </p:nvSpPr>
        <p:spPr>
          <a:xfrm>
            <a:off x="380880" y="380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   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762120" y="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Определите какие природные зоны есть на материке Северная Америка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Users\Admin\Desktop\Безымянный.jpg"/>
          <p:cNvPicPr/>
          <p:nvPr/>
        </p:nvPicPr>
        <p:blipFill>
          <a:blip r:embed="rId1"/>
          <a:stretch/>
        </p:blipFill>
        <p:spPr>
          <a:xfrm>
            <a:off x="1455840" y="1447920"/>
            <a:ext cx="6248160" cy="4162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90720" y="304920"/>
            <a:ext cx="754380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План описания природной зоны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1.Географическое положение 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2.Климат (температура ,годовое количество осадков, климатический пояс.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3.Почвы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4.Растительность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5.Животный мир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609480" y="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рктические пустыни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_d763_c2f545ad_L"/>
          <p:cNvPicPr/>
          <p:nvPr/>
        </p:nvPicPr>
        <p:blipFill>
          <a:blip r:embed="rId1"/>
          <a:stretch/>
        </p:blipFill>
        <p:spPr>
          <a:xfrm>
            <a:off x="1600200" y="2057400"/>
            <a:ext cx="4805280" cy="3200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7010280" y="1828800"/>
            <a:ext cx="213372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Климат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арктический, суровый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января -30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 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июля  0 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Почвы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 каменисты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Растения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: мхи и лишайники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533880" y="0"/>
            <a:ext cx="49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рктические пустыни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0_d286_a487558c_L"/>
          <p:cNvPicPr/>
          <p:nvPr/>
        </p:nvPicPr>
        <p:blipFill>
          <a:blip r:embed="rId1"/>
          <a:stretch/>
        </p:blipFill>
        <p:spPr>
          <a:xfrm>
            <a:off x="0" y="1523880"/>
            <a:ext cx="4648320" cy="3095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762120" y="91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Животные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914400" y="1600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ar27canada"/>
          <p:cNvPicPr/>
          <p:nvPr/>
        </p:nvPicPr>
        <p:blipFill>
          <a:blip r:embed="rId2"/>
          <a:stretch/>
        </p:blipFill>
        <p:spPr>
          <a:xfrm>
            <a:off x="5410080" y="4267080"/>
            <a:ext cx="3287880" cy="2194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380880" y="5638680"/>
            <a:ext cx="25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белые медвед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6400800" y="3581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юле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morzi_double"/>
          <p:cNvPicPr/>
          <p:nvPr/>
        </p:nvPicPr>
        <p:blipFill>
          <a:blip r:embed="rId3"/>
          <a:stretch/>
        </p:blipFill>
        <p:spPr>
          <a:xfrm>
            <a:off x="5057640" y="1143000"/>
            <a:ext cx="3302280" cy="22096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6"/>
          <p:cNvSpPr/>
          <p:nvPr/>
        </p:nvSpPr>
        <p:spPr>
          <a:xfrm>
            <a:off x="3200400" y="914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морж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80880" y="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Тундр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85800" y="22860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                  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- Безлесная зона на северном побережье Северной Америки  и островах, с</a:t>
            </a:r>
            <a:r>
              <a:rPr b="0" i="1" lang="ru-RU" sz="1800" spc="-1" strike="noStrike">
                <a:solidFill>
                  <a:srgbClr val="996633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растительным покровом из мхов,  лишайников, кустарников и  карликовых деревьев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85800" y="1143000"/>
            <a:ext cx="4343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Климат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субарктическ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января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-20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июля     +8 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48300"/>
          <p:cNvPicPr/>
          <p:nvPr/>
        </p:nvPicPr>
        <p:blipFill>
          <a:blip r:embed="rId1"/>
          <a:stretch/>
        </p:blipFill>
        <p:spPr>
          <a:xfrm>
            <a:off x="6667560" y="4906800"/>
            <a:ext cx="2362320" cy="147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46000856_1246875357_chernika"/>
          <p:cNvPicPr/>
          <p:nvPr/>
        </p:nvPicPr>
        <p:blipFill>
          <a:blip r:embed="rId2"/>
          <a:stretch/>
        </p:blipFill>
        <p:spPr>
          <a:xfrm>
            <a:off x="6024600" y="2362320"/>
            <a:ext cx="1514520" cy="1904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otchet_19"/>
          <p:cNvPicPr/>
          <p:nvPr/>
        </p:nvPicPr>
        <p:blipFill>
          <a:blip r:embed="rId3"/>
          <a:stretch/>
        </p:blipFill>
        <p:spPr>
          <a:xfrm>
            <a:off x="914400" y="3111480"/>
            <a:ext cx="3773520" cy="28321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5154480" y="42670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карликовая березк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31520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черник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7315200" y="4449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голубик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2778120" y="1692360"/>
            <a:ext cx="40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Почвы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тундрово-болотные 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многолетняя мерзлота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858000" y="1905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Растения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8"/>
          <p:cNvSpPr/>
          <p:nvPr/>
        </p:nvSpPr>
        <p:spPr>
          <a:xfrm>
            <a:off x="609480" y="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Тундр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685800" y="533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Животные: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23084_5"/>
          <p:cNvPicPr/>
          <p:nvPr/>
        </p:nvPicPr>
        <p:blipFill>
          <a:blip r:embed="rId1"/>
          <a:stretch/>
        </p:blipFill>
        <p:spPr>
          <a:xfrm>
            <a:off x="914400" y="1452600"/>
            <a:ext cx="3505320" cy="2760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pesec"/>
          <p:cNvPicPr/>
          <p:nvPr/>
        </p:nvPicPr>
        <p:blipFill>
          <a:blip r:embed="rId2"/>
          <a:stretch/>
        </p:blipFill>
        <p:spPr>
          <a:xfrm>
            <a:off x="1295280" y="4419720"/>
            <a:ext cx="3229200" cy="2239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caribou_cc_05"/>
          <p:cNvPicPr/>
          <p:nvPr/>
        </p:nvPicPr>
        <p:blipFill>
          <a:blip r:embed="rId3"/>
          <a:stretch/>
        </p:blipFill>
        <p:spPr>
          <a:xfrm>
            <a:off x="4995720" y="0"/>
            <a:ext cx="414828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75f1e8ad2bc8"/>
          <p:cNvPicPr/>
          <p:nvPr/>
        </p:nvPicPr>
        <p:blipFill>
          <a:blip r:embed="rId4"/>
          <a:stretch/>
        </p:blipFill>
        <p:spPr>
          <a:xfrm>
            <a:off x="5029200" y="3639960"/>
            <a:ext cx="3873600" cy="265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4"/>
          <p:cNvSpPr/>
          <p:nvPr/>
        </p:nvSpPr>
        <p:spPr>
          <a:xfrm>
            <a:off x="3733920" y="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e1"/>
                </a:solidFill>
                <a:latin typeface="Arial"/>
              </a:rPr>
              <a:t>карибу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4038480" y="33526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e1"/>
                </a:solidFill>
                <a:latin typeface="Arial"/>
              </a:rPr>
              <a:t>Полярный волк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762120" y="10666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овцебык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590920" y="44197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есец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609480" y="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Тайг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762120" y="685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Лесная зона  с преобладанием хвойных деревьев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6248520" y="1523880"/>
            <a:ext cx="37335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Климат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умеренный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января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20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июля  + 16 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Почвы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подзолистые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i-2399"/>
          <p:cNvPicPr/>
          <p:nvPr/>
        </p:nvPicPr>
        <p:blipFill>
          <a:blip r:embed="rId1"/>
          <a:stretch/>
        </p:blipFill>
        <p:spPr>
          <a:xfrm>
            <a:off x="6553080" y="380988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5029200" y="6461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ель бел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pihta_balz-1"/>
          <p:cNvPicPr/>
          <p:nvPr/>
        </p:nvPicPr>
        <p:blipFill>
          <a:blip r:embed="rId2"/>
          <a:stretch/>
        </p:blipFill>
        <p:spPr>
          <a:xfrm>
            <a:off x="3276720" y="1447920"/>
            <a:ext cx="262404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3429000" y="57913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ихта бальзамическ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3" descr="sosnabank"/>
          <p:cNvPicPr/>
          <p:nvPr/>
        </p:nvPicPr>
        <p:blipFill>
          <a:blip r:embed="rId3"/>
          <a:stretch/>
        </p:blipFill>
        <p:spPr>
          <a:xfrm>
            <a:off x="-7920" y="1447920"/>
            <a:ext cx="2684520" cy="3962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228600" y="64612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сосна Банкса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3:31:07Z</dcterms:created>
  <dc:creator>user</dc:creator>
  <dc:description/>
  <dc:language>en-US</dc:language>
  <cp:lastModifiedBy>Admin</cp:lastModifiedBy>
  <dcterms:modified xsi:type="dcterms:W3CDTF">2018-06-18T08:12:54Z</dcterms:modified>
  <cp:revision>31</cp:revision>
  <dc:subject/>
  <dc:title>Слайд 1</dc:title>
</cp:coreProperties>
</file>