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10.png" ContentType="image/png"/>
  <Override PartName="/ppt/media/image39.wmf" ContentType="image/x-wmf"/>
  <Override PartName="/ppt/media/image35.wmf" ContentType="image/x-wmf"/>
  <Override PartName="/ppt/media/image3.jpeg" ContentType="image/jpeg"/>
  <Override PartName="/ppt/media/image24.jpeg" ContentType="image/jpeg"/>
  <Override PartName="/ppt/media/image30.jpeg" ContentType="image/jpeg"/>
  <Override PartName="/ppt/media/image37.wmf" ContentType="image/x-wmf"/>
  <Override PartName="/ppt/media/image41.wmf" ContentType="image/x-wmf"/>
  <Override PartName="/ppt/media/image8.jpeg" ContentType="image/jpeg"/>
  <Override PartName="/ppt/media/image29.jpeg" ContentType="image/jpeg"/>
  <Override PartName="/ppt/media/image13.jpeg" ContentType="image/jpeg"/>
  <Override PartName="/ppt/media/image33.png" ContentType="image/png"/>
  <Override PartName="/ppt/media/image36.wmf" ContentType="image/x-wmf"/>
  <Override PartName="/ppt/media/image32.jpeg" ContentType="image/jpeg"/>
  <Override PartName="/ppt/media/image5.jpeg" ContentType="image/jpeg"/>
  <Override PartName="/ppt/media/image26.jpeg" ContentType="image/jpeg"/>
  <Override PartName="/ppt/media/image31.jpeg" ContentType="image/jpeg"/>
  <Override PartName="/ppt/media/image25.jpeg" ContentType="image/jpeg"/>
  <Override PartName="/ppt/media/image40.wmf" ContentType="image/x-wmf"/>
  <Override PartName="/ppt/media/image7.jpeg" ContentType="image/jpeg"/>
  <Override PartName="/ppt/media/image28.jpeg" ContentType="image/jpeg"/>
  <Override PartName="/ppt/media/image4.jpeg" ContentType="image/jpeg"/>
  <Override PartName="/ppt/media/image38.wmf" ContentType="image/x-wmf"/>
  <Override PartName="/ppt/media/image34.png" ContentType="image/png"/>
  <Override PartName="/ppt/media/image12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3F93-F044-469F-9A62-C2DEAC31470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BE52-99BD-4069-B1FE-1F8FC2DD202F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BB01-E9EB-4716-9711-38ABD8EEF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F924-0F10-4C24-90EA-29EE1ED7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EADB-C27D-4DC4-84C1-D5C596DF5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589F-425C-4AFF-85F1-61F2A6FE9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2F3B-5117-495B-9332-2A951C365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F497-E018-4DCA-BCB4-64D2D149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7560-52A6-4F5E-8F18-B74A49EA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9570-1EE1-4616-9760-977AF06B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2FDA-EDC6-43C7-9674-44A46A80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C20F-9163-458D-9FDF-25C26980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D108B-6958-4575-9D81-93AC8ACF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6B81-3E06-47BC-BB92-6888E82A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46E4E-44BE-4497-AD12-EFACB00E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EF78-F8B7-4C91-A2CF-93EC1381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F848-A021-4090-A643-AC4B5A4C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BD918-83C2-4CAD-8C75-FE661E536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AFCC1-5334-4352-AFF2-D442E9A46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4E2B-3534-46DF-9509-4B12EE6F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4F72-A103-4408-9F06-2F5C7C11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C181-BF4A-49A6-BE4B-B92C2B38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0F58-2460-4C21-AA05-E29A58BA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8EC1-A820-4B11-ADDB-8EC64341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EFF8-230A-4ABD-B44D-E369D78A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4A93-52C5-4D43-A3BF-DA0F7274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7DE6-97CF-4476-818A-75A36D28B13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AC27-3A2D-4A13-86C5-9C6CB68E304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vokrug.tv/pic/news/f/e/3/8/fe3875219f048a99b8d4456c3c3903de.jpe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g0.liveinternet.ru/images/attach/c/3/76/304/76304438_1__7_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lunatiki.ru/images/cotton_plant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4.jpeg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39.wmf"/><Relationship Id="rId8" Type="http://schemas.openxmlformats.org/officeDocument/2006/relationships/image" Target="../media/image40.wmf"/><Relationship Id="rId9" Type="http://schemas.openxmlformats.org/officeDocument/2006/relationships/image" Target="../media/image41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images.yandex.ru/yandpage?&amp;q=763541971&amp;p=9&amp;ag=ih&amp;rpt=simage&amp;qs=stype=image&amp;text=%C4%D6%D5%CE%C7%CC%C9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Природа и люди Древней Индии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04812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3057480"/>
            <a:ext cx="507672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trostnik"/>
          <p:cNvPicPr/>
          <p:nvPr/>
        </p:nvPicPr>
        <p:blipFill>
          <a:blip r:embed="rId1"/>
          <a:stretch/>
        </p:blipFill>
        <p:spPr>
          <a:xfrm>
            <a:off x="900000" y="1631880"/>
            <a:ext cx="7766280" cy="4692600"/>
          </a:xfrm>
          <a:prstGeom prst="rect">
            <a:avLst/>
          </a:prstGeom>
          <a:ln w="0">
            <a:noFill/>
          </a:ln>
        </p:spPr>
      </p:pic>
      <p:pic>
        <p:nvPicPr>
          <p:cNvPr id="132" name="WordArt 5" descr=""/>
          <p:cNvPicPr/>
          <p:nvPr/>
        </p:nvPicPr>
        <p:blipFill>
          <a:blip r:embed="rId2"/>
          <a:stretch/>
        </p:blipFill>
        <p:spPr>
          <a:xfrm>
            <a:off x="1450800" y="579600"/>
            <a:ext cx="6235920" cy="5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Индийцы научились выращивать хлопчатник. Из него выделывалась пряжа, из которой производились легкие, удобные в жарком климате ткан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Picture 6" descr="cotton_plan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7720" y="549360"/>
            <a:ext cx="452592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42960" y="7855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Сельскохозяйственные культуры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7" name="Picture 6" descr="пшеница"/>
          <p:cNvPicPr/>
          <p:nvPr/>
        </p:nvPicPr>
        <p:blipFill>
          <a:blip r:embed="rId1"/>
          <a:stretch/>
        </p:blipFill>
        <p:spPr>
          <a:xfrm>
            <a:off x="1352520" y="2768760"/>
            <a:ext cx="3079800" cy="3038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ячмень"/>
          <p:cNvPicPr/>
          <p:nvPr/>
        </p:nvPicPr>
        <p:blipFill>
          <a:blip r:embed="rId2"/>
          <a:stretch/>
        </p:blipFill>
        <p:spPr>
          <a:xfrm>
            <a:off x="5164200" y="2768760"/>
            <a:ext cx="3079800" cy="30272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8"/>
          <p:cNvSpPr/>
          <p:nvPr/>
        </p:nvSpPr>
        <p:spPr>
          <a:xfrm>
            <a:off x="2001960" y="614376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шениц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6073200" y="6143760"/>
            <a:ext cx="140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Ячмень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57120" y="928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Сельскохозяйственные культуры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2" name="Picture 4" descr="чай плантация"/>
          <p:cNvPicPr/>
          <p:nvPr/>
        </p:nvPicPr>
        <p:blipFill>
          <a:blip r:embed="rId1"/>
          <a:stretch/>
        </p:blipFill>
        <p:spPr>
          <a:xfrm>
            <a:off x="1006560" y="2867040"/>
            <a:ext cx="5813280" cy="31003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6"/>
          <p:cNvSpPr/>
          <p:nvPr/>
        </p:nvSpPr>
        <p:spPr>
          <a:xfrm>
            <a:off x="6789600" y="3143160"/>
            <a:ext cx="214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Чайна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плантац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8400" y="928440"/>
            <a:ext cx="896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Сельскохозяйственные культуры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Picture 4" descr="сахарный тросник"/>
          <p:cNvPicPr/>
          <p:nvPr/>
        </p:nvPicPr>
        <p:blipFill>
          <a:blip r:embed="rId1"/>
          <a:stretch/>
        </p:blipFill>
        <p:spPr>
          <a:xfrm>
            <a:off x="1282680" y="3162240"/>
            <a:ext cx="5378400" cy="28400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6"/>
          <p:cNvSpPr/>
          <p:nvPr/>
        </p:nvSpPr>
        <p:spPr>
          <a:xfrm>
            <a:off x="6861240" y="3429000"/>
            <a:ext cx="208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Сахарный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тростни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Сельскохозяйственные культуры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8" name="Picture 4" descr="перец"/>
          <p:cNvPicPr/>
          <p:nvPr/>
        </p:nvPicPr>
        <p:blipFill>
          <a:blip r:embed="rId1"/>
          <a:srcRect l="6342" t="0" r="13810" b="0"/>
          <a:stretch/>
        </p:blipFill>
        <p:spPr>
          <a:xfrm>
            <a:off x="1071720" y="2143080"/>
            <a:ext cx="5072040" cy="45086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6361560" y="4214880"/>
            <a:ext cx="18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пряност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657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Животный мир Инд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1" name="Picture 4" descr="тигр"/>
          <p:cNvPicPr/>
          <p:nvPr/>
        </p:nvPicPr>
        <p:blipFill>
          <a:blip r:embed="rId1"/>
          <a:stretch/>
        </p:blipFill>
        <p:spPr>
          <a:xfrm>
            <a:off x="3154320" y="2374920"/>
            <a:ext cx="3176640" cy="1679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Пантера"/>
          <p:cNvPicPr/>
          <p:nvPr/>
        </p:nvPicPr>
        <p:blipFill>
          <a:blip r:embed="rId2"/>
          <a:stretch/>
        </p:blipFill>
        <p:spPr>
          <a:xfrm>
            <a:off x="714240" y="2214720"/>
            <a:ext cx="2298960" cy="2773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обезьяна"/>
          <p:cNvPicPr/>
          <p:nvPr/>
        </p:nvPicPr>
        <p:blipFill>
          <a:blip r:embed="rId3"/>
          <a:stretch/>
        </p:blipFill>
        <p:spPr>
          <a:xfrm>
            <a:off x="6572160" y="2214720"/>
            <a:ext cx="2340000" cy="2714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змея"/>
          <p:cNvPicPr/>
          <p:nvPr/>
        </p:nvPicPr>
        <p:blipFill>
          <a:blip r:embed="rId4"/>
          <a:stretch/>
        </p:blipFill>
        <p:spPr>
          <a:xfrm>
            <a:off x="3362400" y="4295880"/>
            <a:ext cx="284004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elefant_005"/>
          <p:cNvPicPr/>
          <p:nvPr/>
        </p:nvPicPr>
        <p:blipFill>
          <a:blip r:embed="rId1"/>
          <a:stretch/>
        </p:blipFill>
        <p:spPr>
          <a:xfrm>
            <a:off x="520560" y="250920"/>
            <a:ext cx="8258400" cy="55148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7"/>
          <p:cNvSpPr/>
          <p:nvPr/>
        </p:nvSpPr>
        <p:spPr>
          <a:xfrm>
            <a:off x="2400480" y="5983200"/>
            <a:ext cx="38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Индийский сло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лон - священное животно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3920" y="2670120"/>
            <a:ext cx="3916440" cy="31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Ганеш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9" name="Picture 7" descr="ганеша1"/>
          <p:cNvPicPr/>
          <p:nvPr/>
        </p:nvPicPr>
        <p:blipFill>
          <a:blip r:embed="rId1"/>
          <a:stretch/>
        </p:blipFill>
        <p:spPr>
          <a:xfrm>
            <a:off x="2857680" y="1711440"/>
            <a:ext cx="4084560" cy="51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"/>
          <p:cNvSpPr/>
          <p:nvPr/>
        </p:nvSpPr>
        <p:spPr>
          <a:xfrm>
            <a:off x="219240" y="3191760"/>
            <a:ext cx="3509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Корову, которая давала им молоко, они называли кормилицей, матерью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Rectangle 67"/>
          <p:cNvSpPr/>
          <p:nvPr/>
        </p:nvSpPr>
        <p:spPr>
          <a:xfrm>
            <a:off x="4697280" y="326880"/>
            <a:ext cx="3903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 помощью буйволо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индийцы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вспахивал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вои поля.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2" name="Picture 68" descr="1237_small_1141485615"/>
          <p:cNvPicPr/>
          <p:nvPr/>
        </p:nvPicPr>
        <p:blipFill>
          <a:blip r:embed="rId1"/>
          <a:stretch/>
        </p:blipFill>
        <p:spPr>
          <a:xfrm>
            <a:off x="231840" y="187200"/>
            <a:ext cx="3233520" cy="3629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9" descr="s_2594"/>
          <p:cNvPicPr/>
          <p:nvPr/>
        </p:nvPicPr>
        <p:blipFill>
          <a:blip r:embed="rId2"/>
          <a:stretch/>
        </p:blipFill>
        <p:spPr>
          <a:xfrm>
            <a:off x="4148280" y="3375000"/>
            <a:ext cx="471780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9" descr=""/>
          <p:cNvPicPr/>
          <p:nvPr/>
        </p:nvPicPr>
        <p:blipFill>
          <a:blip r:embed="rId1"/>
          <a:stretch/>
        </p:blipFill>
        <p:spPr>
          <a:xfrm>
            <a:off x="3714840" y="3714840"/>
            <a:ext cx="4714920" cy="29509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0"/>
          <p:cNvSpPr/>
          <p:nvPr/>
        </p:nvSpPr>
        <p:spPr>
          <a:xfrm>
            <a:off x="468360" y="3716280"/>
            <a:ext cx="6769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500040" y="214200"/>
            <a:ext cx="8459640" cy="3384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Гималаи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-Преграждают путь холодным ветра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-Являются самой высокой горной системой в мире(Самая высокая вершина – Джомолунгма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-Согласно верованиям древних индийцев на вершине Гималаев жили бог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3809880" cy="249552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8"/>
          <p:cNvSpPr/>
          <p:nvPr/>
        </p:nvSpPr>
        <p:spPr>
          <a:xfrm>
            <a:off x="0" y="4341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6" name="Picture 16" descr=""/>
          <p:cNvPicPr/>
          <p:nvPr/>
        </p:nvPicPr>
        <p:blipFill>
          <a:blip r:embed="rId2"/>
          <a:stretch/>
        </p:blipFill>
        <p:spPr>
          <a:xfrm>
            <a:off x="428760" y="3056040"/>
            <a:ext cx="3143160" cy="370656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8"/>
          <p:cNvSpPr/>
          <p:nvPr/>
        </p:nvSpPr>
        <p:spPr>
          <a:xfrm>
            <a:off x="4143240" y="1571760"/>
            <a:ext cx="4786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Больше 4 тысячелетий тому назад из множества богов на главное место в индуизме выдвинулись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три бога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Они образуют неразрывное единство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AutoShape 16"/>
          <p:cNvSpPr/>
          <p:nvPr/>
        </p:nvSpPr>
        <p:spPr>
          <a:xfrm>
            <a:off x="8072280" y="600084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1249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998" h="21600">
                <a:moveTo>
                  <a:pt x="13605" y="14281"/>
                </a:moveTo>
                <a:lnTo>
                  <a:pt x="13605" y="12323"/>
                </a:lnTo>
                <a:cubicBezTo>
                  <a:pt x="13605" y="11496"/>
                  <a:pt x="13935" y="10800"/>
                  <a:pt x="14536" y="10800"/>
                </a:cubicBezTo>
                <a:cubicBezTo>
                  <a:pt x="15667" y="10800"/>
                  <a:pt x="16564" y="9434"/>
                  <a:pt x="16564" y="7849"/>
                </a:cubicBezTo>
                <a:cubicBezTo>
                  <a:pt x="16564" y="5534"/>
                  <a:pt x="14710" y="3794"/>
                  <a:pt x="12499" y="3794"/>
                </a:cubicBezTo>
                <a:cubicBezTo>
                  <a:pt x="10288" y="3794"/>
                  <a:pt x="8617" y="5534"/>
                  <a:pt x="8617" y="7849"/>
                </a:cubicBezTo>
                <a:lnTo>
                  <a:pt x="10471" y="7849"/>
                </a:lnTo>
                <a:cubicBezTo>
                  <a:pt x="10471" y="6709"/>
                  <a:pt x="11394" y="5821"/>
                  <a:pt x="12499" y="5821"/>
                </a:cubicBezTo>
                <a:cubicBezTo>
                  <a:pt x="13605" y="5821"/>
                  <a:pt x="14536" y="6709"/>
                  <a:pt x="14536" y="7849"/>
                </a:cubicBezTo>
                <a:cubicBezTo>
                  <a:pt x="14536" y="8589"/>
                  <a:pt x="14066" y="9320"/>
                  <a:pt x="13605" y="9320"/>
                </a:cubicBezTo>
                <a:cubicBezTo>
                  <a:pt x="12499" y="9320"/>
                  <a:pt x="11394" y="10800"/>
                  <a:pt x="11394" y="12323"/>
                </a:cubicBezTo>
                <a:lnTo>
                  <a:pt x="11394" y="14281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9" name="Прямоугольник 8" descr=""/>
          <p:cNvPicPr/>
          <p:nvPr/>
        </p:nvPicPr>
        <p:blipFill>
          <a:blip r:embed="rId3"/>
          <a:stretch/>
        </p:blipFill>
        <p:spPr>
          <a:xfrm>
            <a:off x="4187880" y="689040"/>
            <a:ext cx="439560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solidFill>
            <a:srgbClr val="666699"/>
          </a:solidFill>
          <a:ln w="76320">
            <a:solidFill>
              <a:srgbClr val="33cccc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Верования древних индийцев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837720" y="2361960"/>
            <a:ext cx="3770280" cy="37242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-4680" y="4419720"/>
            <a:ext cx="9144000" cy="22096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66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Индийцы верили в то ,что человек живет 7 раз . После смерти его душа перемещается в новое тело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«…быть может тот облезлый кот был раньше попугаем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а этот милый человек был раньше добрым псом.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(В.Высоцкий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5791320" y="3048120"/>
            <a:ext cx="838080" cy="10666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3505320" y="1828800"/>
            <a:ext cx="1066680" cy="1143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7543800" y="2743200"/>
            <a:ext cx="914400" cy="14590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1752480" y="2895480"/>
            <a:ext cx="666720" cy="13716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7"/>
          <a:stretch/>
        </p:blipFill>
        <p:spPr>
          <a:xfrm>
            <a:off x="3505320" y="3276720"/>
            <a:ext cx="1234800" cy="8650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8"/>
          <a:stretch/>
        </p:blipFill>
        <p:spPr>
          <a:xfrm>
            <a:off x="533520" y="1752480"/>
            <a:ext cx="1676160" cy="1243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9"/>
          <a:stretch/>
        </p:blipFill>
        <p:spPr>
          <a:xfrm>
            <a:off x="5943600" y="1752480"/>
            <a:ext cx="2222640" cy="13129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38280" y="205740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cccc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48320" y="205740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cccc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342900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cccc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38280" y="342900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cccc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24280" y="342900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cccc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553080" y="342900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cccc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500"/>
                            </p:stCondLst>
                            <p:childTnLst>
                              <p:par>
                                <p:cTn id="14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4500"/>
                            </p:stCondLst>
                            <p:childTnLst>
                              <p:par>
                                <p:cTn id="1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500"/>
                            </p:stCondLst>
                            <p:childTnLst>
                              <p:par>
                                <p:cTn id="1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6000"/>
                            </p:stCondLst>
                            <p:childTnLst>
                              <p:par>
                                <p:cTn id="18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Главные реки – Инд и Ганг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8080" y="2361960"/>
            <a:ext cx="3772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Река Инд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759200" y="2361960"/>
            <a:ext cx="3772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Река Ган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Picture 9" descr="Инд"/>
          <p:cNvPicPr/>
          <p:nvPr/>
        </p:nvPicPr>
        <p:blipFill>
          <a:blip r:embed="rId1"/>
          <a:stretch/>
        </p:blipFill>
        <p:spPr>
          <a:xfrm>
            <a:off x="684360" y="2349360"/>
            <a:ext cx="3419280" cy="3490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река ГАНГ"/>
          <p:cNvPicPr/>
          <p:nvPr/>
        </p:nvPicPr>
        <p:blipFill>
          <a:blip r:embed="rId2"/>
          <a:stretch/>
        </p:blipFill>
        <p:spPr>
          <a:xfrm>
            <a:off x="5148360" y="2286000"/>
            <a:ext cx="343836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Природа и люди Древней Индии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4035600" cy="5029200"/>
          </a:xfrm>
          <a:prstGeom prst="rect">
            <a:avLst/>
          </a:prstGeom>
          <a:ln w="76320">
            <a:solidFill>
              <a:srgbClr val="666699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4781880" y="2449440"/>
            <a:ext cx="2710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Южная Аз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Индийский океан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Гимала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Инд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Ган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Индостан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6"/>
          <p:cNvSpPr/>
          <p:nvPr/>
        </p:nvSpPr>
        <p:spPr>
          <a:xfrm>
            <a:off x="7885080" y="65530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Picture 9" descr=""/>
          <p:cNvPicPr/>
          <p:nvPr/>
        </p:nvPicPr>
        <p:blipFill>
          <a:blip r:embed="rId1"/>
          <a:stretch/>
        </p:blipFill>
        <p:spPr>
          <a:xfrm>
            <a:off x="571680" y="1571760"/>
            <a:ext cx="4873320" cy="4860720"/>
          </a:xfrm>
          <a:prstGeom prst="rect">
            <a:avLst/>
          </a:prstGeom>
          <a:ln w="0">
            <a:noFill/>
          </a:ln>
        </p:spPr>
      </p:pic>
      <p:sp>
        <p:nvSpPr>
          <p:cNvPr id="118" name="WordArt 10"/>
          <p:cNvSpPr txBox="1"/>
          <p:nvPr/>
        </p:nvSpPr>
        <p:spPr>
          <a:xfrm>
            <a:off x="1116000" y="476280"/>
            <a:ext cx="71485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ическое положение Индии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5435640" y="1341360"/>
            <a:ext cx="3313080" cy="33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полуостров Индостан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Индийский океан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Инд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Ганг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Гимала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-4140360" y="1413000"/>
            <a:ext cx="79218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s0014_1.mp3" descr=""/>
          <p:cNvPicPr/>
          <p:nvPr/>
        </p:nvPicPr>
        <p:blipFill>
          <a:blip r:embed="rId4"/>
          <a:stretch/>
        </p:blipFill>
        <p:spPr>
          <a:xfrm>
            <a:off x="7715160" y="564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1.0)">
                                      <p:cBhvr>
                                        <p:cTn id="13" dur="5963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4631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9631"/>
                            </p:stCondLst>
                            <p:childTnLst>
                              <p:par>
                                <p:cTn id="20" nodeType="afterEffect" fill="hold" presetClass="exit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21" dur="5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74631"/>
                            </p:stCondLst>
                            <p:childTnLst>
                              <p:par>
                                <p:cTn id="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52 -0.00208 0.00261 -0.0044 0.00157 -0.00625 C 0.00035 -0.00856 -0.0026 -0.00741 -0.00468 -0.00833 C -0.00694 -0.00949 -0.00885 -0.01111 -0.01093 -0.0125 C -0.06927 -0.01181 -0.12916 -0.02593 -0.18593 -0.00833 C -0.18784 -0.00787 -0.18889 -0.00509 -0.19062 -0.00417 C -0.20312 0.00208 -0.21701 0.00486 -0.22968 0.01042 C -0.2368 0.01366 -0.24462 0.0125 -0.25156 0.01667 C -0.25937 0.0213 -0.26927 0.03009 -0.27812 0.03125 C -0.31458 0.03588 -0.3 0.03333 -0.32187 0.0375 C -0.33246 0.05162 -0.32014 0.0375 -0.33281 0.04583 C -0.3401 0.05069 -0.34722 0.0588 -0.35312 0.06667 C -0.35607 0.08264 -0.3526 0.06736 -0.35937 0.08542 C -0.36354 0.09653 -0.36528 0.10926 -0.36875 0.12083 C -0.37257 0.15185 -0.37031 0.12917 -0.37031 0.18958 E">
                                      <p:cBhvr>
                                        <p:cTn id="26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75631"/>
                            </p:stCondLst>
                            <p:childTnLst>
                              <p:par>
                                <p:cTn id="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8.14815E-006 C -0.02221 -0.01181 -0.04149 -0.0169 -0.06562 -0.02084 C -0.09426 -0.01945 -0.12291 -0.01922 -0.15155 -0.01667 C -0.15763 -0.01621 -0.17742 0.00671 -0.18437 0.01249 C -0.1927 0.01944 -0.20381 0.02384 -0.21093 0.03333 C -0.22725 0.05509 -0.23385 0.0868 -0.24999 0.10833 C -0.25225 0.11735 -0.25659 0.12476 -0.25937 0.13333 C -0.26683 0.15555 -0.2585 0.13796 -0.26562 0.15208 C -0.26666 0.15763 -0.26631 0.16388 -0.26874 0.16874 C -0.26978 0.17083 -0.27117 0.17268 -0.27187 0.17499 C -0.27326 0.17893 -0.27412 0.18333 -0.27499 0.18749 C -0.27551 0.19027 -0.27569 0.19328 -0.27655 0.19583 C -0.27725 0.19814 -0.27899 0.19976 -0.27968 0.20208 C -0.28715 0.2243 -0.27881 0.20671 -0.28593 0.22083 C -0.29096 0.25439 -0.28749 0.22777 -0.28749 0.30208 E">
                                      <p:cBhvr>
                                        <p:cTn id="29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77631"/>
                            </p:stCondLst>
                            <p:childTnLst>
                              <p:par>
                                <p:cTn id="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44444E-006 C -0.1441 -0.11621 -0.2882 -0.23241 -0.34584 -0.28056 E">
                                      <p:cBhvr>
                                        <p:cTn id="32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79631"/>
                            </p:stCondLst>
                            <p:childTnLst>
                              <p:par>
                                <p:cTn id="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39 -0.00579 -0.00069 -0.0081 -0.00625 -0.00833 C -0.03073 -0.00972 -0.05521 -0.00972 -0.07968 -0.01042 C -0.09427 -0.0169 -0.1085 -0.02199 -0.12343 -0.02708 C -0.13073 -0.0294 -0.13802 -0.03495 -0.14531 -0.0375 C -0.1526 -0.04005 -0.16007 -0.04097 -0.16718 -0.04375 C -0.20399 -0.05833 -0.17309 -0.05185 -0.2 -0.05625 C -0.22725 -0.06829 -0.18837 -0.05208 -0.22187 -0.0625 C -0.23802 -0.06759 -0.25399 -0.07477 -0.27031 -0.07917 C -0.27795 -0.08588 -0.29687 -0.08958 -0.29687 -0.08958 C -0.31458 -0.10532 -0.3375 -0.10116 -0.35781 -0.10417 C -0.3651 -0.10741 -0.36996 -0.11065 -0.37656 -0.11458 C -0.38107 -0.11736 -0.38646 -0.11713 -0.39062 -0.12083 C -0.39218 -0.12222 -0.39357 -0.12407 -0.39531 -0.125 C -0.40243 -0.12847 -0.40208 -0.12523 -0.40781 -0.12917 C -0.41996 -0.13727 -0.40538 -0.13009 -0.41718 -0.13542 C -0.43541 -0.13264 -0.43125 -0.13958 -0.43125 -0.11667 E">
                                      <p:cBhvr>
                                        <p:cTn id="35" dur="2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1631"/>
                            </p:stCondLst>
                            <p:childTnLst>
                              <p:par>
                                <p:cTn id="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4097 -0.00162 -0.03715 0.00162 -0.06093 -0.00625 C -0.06614 -0.01088 -0.07118 -0.01088 -0.07656 -0.01458 C -0.08802 -0.02222 -0.10034 -0.02431 -0.11093 -0.03125 C -0.11302 -0.03264 -0.11493 -0.03472 -0.11718 -0.03542 C -0.12274 -0.03681 -0.12864 -0.03681 -0.13437 -0.0375 C -0.15955 -0.04861 -0.19271 -0.0412 -0.22031 -0.04375 C -0.22743 -0.05787 -0.23194 -0.0713 -0.23593 -0.0875 C -0.23698 -0.09167 -0.23784 -0.09699 -0.24062 -0.1 C -0.24184 -0.10139 -0.24531 -0.10208 -0.24531 -0.10208 E">
                                      <p:cBhvr>
                                        <p:cTn id="38" dur="2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00" descr="DSC01578"/>
          <p:cNvPicPr/>
          <p:nvPr/>
        </p:nvPicPr>
        <p:blipFill>
          <a:blip r:embed="rId1"/>
          <a:stretch/>
        </p:blipFill>
        <p:spPr>
          <a:xfrm>
            <a:off x="420840" y="1527120"/>
            <a:ext cx="8408880" cy="50785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82"/>
          <p:cNvSpPr/>
          <p:nvPr/>
        </p:nvSpPr>
        <p:spPr>
          <a:xfrm>
            <a:off x="304920" y="74520"/>
            <a:ext cx="86947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Джунгли –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густые, труднопроходимые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леса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AutoShape 97">
            <a:hlinkClick r:id="rId2"/>
          </p:cNvPr>
          <p:cNvSpPr/>
          <p:nvPr/>
        </p:nvSpPr>
        <p:spPr>
          <a:xfrm>
            <a:off x="4859280" y="4221000"/>
            <a:ext cx="9432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62,124,-7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62,124,-7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4" descr="Jungle2.jpg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126" name="02-Bird_Market_Melodie.mp3" descr=""/>
          <p:cNvPicPr/>
          <p:nvPr/>
        </p:nvPicPr>
        <p:blipFill>
          <a:blip r:embed="rId2"/>
          <a:stretch/>
        </p:blipFill>
        <p:spPr>
          <a:xfrm>
            <a:off x="8143920" y="5857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344720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11-26T19:03:3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