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5.jpeg" ContentType="image/jpeg"/>
  <Override PartName="/ppt/media/image8.jpeg" ContentType="image/jpeg"/>
  <Override PartName="/ppt/media/image23.jpeg" ContentType="image/jpeg"/>
  <Override PartName="/ppt/media/image22.png" ContentType="image/pn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912E-FBAD-47D0-81FB-57FD70448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DCA4-B4EA-4616-8A28-85FF1FC2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C5DB-47B7-4B73-8729-5EE01BB75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BFCA-6F95-4E13-BD6E-D6975F887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5800-2661-46F1-9670-A3F145701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8A00-A669-4317-9716-94B6E7B4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70AEB-6E17-4482-93F7-DCBAFBB1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C422-7E98-4C7F-BDEB-CEE634EF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5E28F-E0BA-4E7B-98E1-82B398E3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09AA-F451-4C07-BB91-F06384F1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1F03-83B5-45FC-8D4C-01371A5D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62D7-4610-4506-970E-D31E0426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6E9C-33E4-4E3F-AF10-4EF8DD62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E52F-589B-4EC4-ACA0-07121061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39FC-C9DB-406B-9159-64B9F563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789B-3D25-499D-87F3-B85B3303D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1F9B5-DF96-49A8-A366-A4BB94D32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62A43-C429-4073-85AB-28C4B8B1C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4781A-39F8-49AD-BF81-B92CF8AE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1B0CF-3C97-41BF-B60F-EDEC4277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6B857-439D-4E16-B14B-60C1A542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268F0-CEF2-4441-8201-C4590276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2FA1-9F68-46C1-A2B3-683B98A8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FB22E-2C01-4FA9-B293-8BAFFD92C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37DF2-5633-472E-8D66-A96D2052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EEF61-B462-457C-B140-B6E2CD6A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E9BB9-F7AA-48C1-A47B-3B1C1A50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D077E-439D-4422-AB97-EEC98EC4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BE8F4-76A0-41C5-8AF7-CFE24EDA7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EBE1C-11F8-4A07-81DB-E49DF0E15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B4DDD-A68E-4815-8906-B572EB329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8B9BD-363D-4880-B0FD-EF9CED1B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D15CD-B888-417F-8256-3C5BABF2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A9BC-FDCC-45A9-B23A-F75293C7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F0458-670C-4691-A0B8-1AC43816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08A83-C4BC-4DF9-8623-5B5DF7B0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36662-CA66-4601-B009-8DC27509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786BC-E329-4942-B12C-B3BB7F72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1B2D3-6F30-4CD1-84D7-AA86FBD4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1FC5A-1689-468F-85AD-E25FB857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1DB9A-41E4-46E4-9387-493F5269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90721-E86C-4A47-BF22-ACA7C26A8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01BC7-9424-4059-8AFB-5E618AC53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87ACD-F8C9-4FF9-B77A-9C6BECCCC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2539-0BBA-493D-A3E0-65E2485B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0796D-3F1D-43C9-B8B3-433B7E4C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1259E-3BEC-4D6A-880F-36750651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9824A-3DFD-4303-BF36-A5671CE6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D7C32-B95D-4CE1-AB68-FB873652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98ACF-CE9F-4E86-97F0-ED97D9F4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C1F7F-C860-4B70-879C-4875FDDE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8687A-AFFE-4C87-A705-5C42F89A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4671D-E759-497A-A994-AFC4129B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D940D-EE9D-4730-8100-FFEB100AE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19F27-FEAD-4035-92D1-F819F4B0E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2998-FD15-45C6-BF97-23BFE15F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2A8F5-0609-400A-8D6D-293324D4D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67FB5-B419-4EBF-A591-046CBF903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11A72-8023-4A87-B615-9928F52A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CE1E5-73B5-4C27-B3BC-AAEC37BE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F4D54-16FB-4276-8C1A-D9139430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27646-A1A1-4D56-9610-293516C6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40168-3123-40CF-958D-DE023CDF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D8B74-C93C-423B-A5C7-7FDB8D07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59321-9221-463D-BD6C-2629A93C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B5A3A-8C2B-48C4-80B8-947E96B0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8250-7E64-424B-838D-5C93064B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B64A7-A0C0-4CFD-943C-60FE6D19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37C50-DF21-4048-9B53-718881A7E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8AD7C-A927-430D-88A0-2E0B2C400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C485B-EB23-4F75-BFAC-A1589E6B3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58793-05C6-4AB6-A1BC-3602527C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2DED8-9903-4ABD-8CD5-0217204A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C2FBF-98A3-45E6-9B27-141662E9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0048A-E476-49F2-B294-94CFE7ED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BDA34-4700-480A-A4C4-73C40A2E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01329-C59D-4CA4-B11C-F554BFD1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651B-8C4F-4799-9AC5-A8A1FCDB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B0442-C608-4676-ABF8-8AB873FC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023DC-DEE6-4C44-A75F-0D00AD28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B6761-1212-4080-A3E4-7B1B68F2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E6E58-287C-48EF-B215-5358EAE19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11D0C-93CD-4519-AD58-D40FD61DD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84E8F-7616-4CF1-AF99-266D3C0ED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3ADB3-9D3E-4A80-B818-4B256374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E10A9-0973-4B0C-9824-44453E7A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5CFDE-0077-4C22-8600-540E8B00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91171-8D8F-455C-B0D5-7CAC54AB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D064-EDCF-4560-A541-08B93BF9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526F1-A934-4D5C-9163-7B1478A4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F535C-0967-42EB-83E5-0B10F5FF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354E5-468E-4AD7-AB4A-6526FCF8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04425-DF19-45C3-B328-5C03431C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13426-778B-478F-BFCB-6AFCD0C9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B496D-765D-4959-B5FB-17B988CBB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36478-D536-475E-8208-1D742B373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5035-88E5-424A-B191-CB03C0D246F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9088-DF19-4BDB-B62D-B759B6F47C1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0AE8-9ABB-4604-BE3E-CE575AE8489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A381-FE53-4A14-AE76-3E01CA7FFE1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238E-907B-4F4B-922E-45682669750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552E-4436-4E10-9E06-7D22583B7D4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2D99-C142-4655-AA23-C5B8263E4F8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195D-E034-460D-8315-D1E17B30D38E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AutoShape 2" descr=""/>
          <p:cNvPicPr/>
          <p:nvPr/>
        </p:nvPicPr>
        <p:blipFill>
          <a:blip r:embed="rId1"/>
          <a:stretch/>
        </p:blipFill>
        <p:spPr>
          <a:xfrm>
            <a:off x="768240" y="549360"/>
            <a:ext cx="8382240" cy="26701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708000" y="4508280"/>
            <a:ext cx="5111640" cy="20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Lucida Sans Unicode"/>
              </a:rPr>
              <a:t>Презентацию  подготовила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Lucida Sans Unicode"/>
              </a:rPr>
              <a:t>учитель   математики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Lucida Sans Unicode"/>
              </a:rPr>
              <a:t>МБОУ   ЛСОШ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Lucida Sans Unicode"/>
              </a:rPr>
              <a:t>Титова Валентина Юрьевн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2" descr="C:\Users\user\Downloads\i (3).jpg"/>
          <p:cNvPicPr/>
          <p:nvPr/>
        </p:nvPicPr>
        <p:blipFill>
          <a:blip r:embed="rId2"/>
          <a:stretch/>
        </p:blipFill>
        <p:spPr>
          <a:xfrm>
            <a:off x="826920" y="3716280"/>
            <a:ext cx="230220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4365360"/>
            <a:ext cx="8229600" cy="150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c00000"/>
                </a:solidFill>
                <a:latin typeface="Lucida Sans Unicode"/>
              </a:rPr>
              <a:t>В.А.Сухомлинский писал 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c00000"/>
                </a:solidFill>
                <a:latin typeface="Lucida Sans Unicode"/>
              </a:rPr>
              <a:t>«Игра – это искра, зажигающая огонек пытливости и любознательности»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Rectangle 2" descr=""/>
          <p:cNvPicPr/>
          <p:nvPr/>
        </p:nvPicPr>
        <p:blipFill>
          <a:blip r:embed="rId1"/>
          <a:stretch/>
        </p:blipFill>
        <p:spPr>
          <a:xfrm>
            <a:off x="304920" y="615960"/>
            <a:ext cx="8400960" cy="32497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"/>
          <p:cNvPicPr/>
          <p:nvPr/>
        </p:nvPicPr>
        <p:blipFill>
          <a:blip r:embed="rId2"/>
          <a:stretch/>
        </p:blipFill>
        <p:spPr>
          <a:xfrm>
            <a:off x="1452600" y="3213000"/>
            <a:ext cx="70070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Заголовок 1" descr=""/>
          <p:cNvPicPr/>
          <p:nvPr/>
        </p:nvPicPr>
        <p:blipFill>
          <a:blip r:embed="rId1"/>
          <a:stretch/>
        </p:blipFill>
        <p:spPr>
          <a:xfrm>
            <a:off x="133200" y="615960"/>
            <a:ext cx="9017280" cy="8524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-360" y="1557000"/>
            <a:ext cx="8642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Урок-конкурс ( соревнования, КВН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Урок-игра ( эл.пособие 5-6 кл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Урок-путешестви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Урок- исследовани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Урок-решение проблемных ситуаций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Урок- зачет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Практическая  работ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Лабораторная работ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Picture 6" descr=""/>
          <p:cNvPicPr/>
          <p:nvPr/>
        </p:nvPicPr>
        <p:blipFill>
          <a:blip r:embed="rId2"/>
          <a:stretch/>
        </p:blipFill>
        <p:spPr>
          <a:xfrm>
            <a:off x="395280" y="4149720"/>
            <a:ext cx="1851120" cy="138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Задания на составления текстов задач, примеров, уравнений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Разработка наглядного пособия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Составление  кроссворда или ребус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Составление  кластер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Решение  заданий ( с выбором количества  заданий ) по теме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Составление презентаций к конкретным темам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461440" cy="131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Заголовок 3" descr=""/>
          <p:cNvPicPr/>
          <p:nvPr/>
        </p:nvPicPr>
        <p:blipFill>
          <a:blip r:embed="rId1"/>
          <a:stretch/>
        </p:blipFill>
        <p:spPr>
          <a:xfrm>
            <a:off x="-208080" y="152280"/>
            <a:ext cx="8358480" cy="76212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0" y="98100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Работа  над развитием творческих способностей у детей должна быть </a:t>
            </a:r>
            <a:r>
              <a:rPr b="0" lang="ru-RU" sz="2400" spc="-1" strike="noStrike">
                <a:solidFill>
                  <a:srgbClr val="c00000"/>
                </a:solidFill>
                <a:latin typeface="Lucida Sans Unicode"/>
              </a:rPr>
              <a:t>длительной и целенаправленной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Эпизодическое использование  творческих задач не принесет желаемого результата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Результаты надёжны лишь тогда, когда введение в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область математических  знаний  совершается  в легкой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и приятной форме, на предметах и примерах обыденной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и повседневной обстановки, подобранные с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надлежащим остроумием и занимательностью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just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68360" y="11966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“…</a:t>
            </a:r>
            <a:r>
              <a:rPr b="0" lang="ru-RU" sz="2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бёнок черпает то, что ему доступно, и теми средствами, которыми он владеет, поэтому, чем культурно богаче окружение ребёнка, тем больше он создаёт стимулов к овладению более сложными культурными средствами и позволяет ему шире использовать это окружение”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П. Блонский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139680" y="268200"/>
            <a:ext cx="8553600" cy="115884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4"/>
          <p:cNvSpPr/>
          <p:nvPr/>
        </p:nvSpPr>
        <p:spPr>
          <a:xfrm>
            <a:off x="-4227480" y="2697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267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Роль педагога, в данном случае, заключается в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том, чтобы направить процесс познания в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русло открытия нового, культурно обогащая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окружение ребёнка. Исследование нового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должно стать неотъемлемой частью познания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Здесь мы сталкиваемся с движением от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простого к сложному, от интуиции к творчеству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3974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68360" y="1125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00000"/>
                </a:solidFill>
                <a:latin typeface="Lucida Sans Unicode"/>
              </a:rPr>
              <a:t>Задача учителя не только в том, чтобы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00000"/>
                </a:solidFill>
                <a:latin typeface="Lucida Sans Unicode"/>
              </a:rPr>
              <a:t>дать ученикам максимум знаний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00000"/>
                </a:solidFill>
                <a:latin typeface="Lucida Sans Unicode"/>
              </a:rPr>
              <a:t>но и в том, чтобы привить им интерес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00000"/>
                </a:solidFill>
                <a:latin typeface="Lucida Sans Unicode"/>
              </a:rPr>
              <a:t>к самостоятельному поиску знаний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00000"/>
                </a:solidFill>
                <a:latin typeface="Lucida Sans Unicode"/>
              </a:rPr>
              <a:t>научить добывать знания и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00000"/>
                </a:solidFill>
                <a:latin typeface="Lucida Sans Unicode"/>
              </a:rPr>
              <a:t>пользоваться им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Lucida Sans Unicode"/>
              </a:rPr>
              <a:t>Константин Кушнер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42560" y="253080"/>
            <a:ext cx="764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06" name="Picture 4" descr="images"/>
          <p:cNvPicPr/>
          <p:nvPr/>
        </p:nvPicPr>
        <p:blipFill>
          <a:blip r:embed="rId1"/>
          <a:stretch/>
        </p:blipFill>
        <p:spPr>
          <a:xfrm>
            <a:off x="395280" y="3860640"/>
            <a:ext cx="1512720" cy="15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Только через преодоление трудностей, решение проблем, ребенок может войти в мир творчества. А в наше время только творческий человек, нестандартно мыслящий, может достичь успех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Прямоугольник 1"/>
          <p:cNvSpPr/>
          <p:nvPr/>
        </p:nvSpPr>
        <p:spPr>
          <a:xfrm>
            <a:off x="395280" y="907920"/>
            <a:ext cx="86407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Если ученик в школе не научился сам ничего творить, то и в жизни он всегда будет только подражать, копировать, так как мало таких, которые бы, научившись копировать, умели сделать самостоятельное приложение этих сведений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. Н. Толст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Lucida Sans Unicode"/>
              </a:rPr>
              <a:t>« Учение не должно сводиться к беспрерывному накоплению знаний. к тренировке памяти … хочется . Чтобы дети были путешественниками, открывателями и творцами в этом мире»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.А. Сухомлинский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5573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Творчество (креативность) – способность удивляться и познавать, умение находить выход в нестандартных ситуациях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Творчество – это нацеленность на открытие нового и способность к осознанию своего опыта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Творчество — это порождение новых идей, стремление научиться большему, думать о деле иначе и делать его лучше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Творчество – это человеческая потребность. Замечено, что творческие люди обладают большой жизненной энергией до глубокой старости, а люди ко всему равнодушные, ничем не увлеченные чаще болеют и быстрее стареют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268200" y="450720"/>
            <a:ext cx="8425080" cy="89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ндивидуально- психологические особенности личност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Lucida Sans Unicode"/>
              </a:rPr>
              <a:t>Творческая деятельность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отношение субъекта деятельности к своему труду и процесс решения творческих задач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052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-  </a:t>
            </a:r>
            <a:r>
              <a:rPr b="0" i="1" lang="ru-RU" sz="2200" spc="-1" strike="noStrike">
                <a:solidFill>
                  <a:srgbClr val="000000"/>
                </a:solidFill>
                <a:latin typeface="Lucida Sans Unicode"/>
              </a:rPr>
              <a:t>повышать уровень познавательной активности и учебную мотивацию учащихся по математике;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Lucida Sans Unicode"/>
              </a:rPr>
              <a:t>- привить навыки  самостоятельной работы  учащихся при изучении данного предмета;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Lucida Sans Unicode"/>
              </a:rPr>
              <a:t>- стимулировать познавательные интересы школьников;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Lucida Sans Unicode"/>
              </a:rPr>
              <a:t>-  дать учащимся качественное образование;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Lucida Sans Unicode"/>
              </a:rPr>
              <a:t>- раскрыть способности, интеллектуальный, творческий потенциал каждого ученика;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Lucida Sans Unicode"/>
              </a:rPr>
              <a:t>- использовать инновационные педагогические технологии;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Lucida Sans Unicode"/>
              </a:rPr>
              <a:t>- совершенствовать формы  и методы организации учебной и внеурочной  деятельности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281160" y="396720"/>
            <a:ext cx="8424720" cy="8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тр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Чересчур высокая самокритичность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Лень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AutoShape 2" descr=""/>
          <p:cNvPicPr/>
          <p:nvPr/>
        </p:nvPicPr>
        <p:blipFill>
          <a:blip r:embed="rId1"/>
          <a:stretch/>
        </p:blipFill>
        <p:spPr>
          <a:xfrm>
            <a:off x="79200" y="420840"/>
            <a:ext cx="8156880" cy="78552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914400" y="134136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А) Свободная атмосфера в школе и классе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Б) Доверие и уважение к ученикам со стороны учителя, помощь детям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В) Высокий уровень познавательных интересов среди учащихся, игровые методики учителя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Г) Внимание к интересам каждого ученика, его склонностям,   здоровью, к его способностям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Д) Поощрение высказывания оригинальных идей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Е) Использование личного примера творческого подхода к решению проблемы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AutoShape 2" descr=""/>
          <p:cNvPicPr/>
          <p:nvPr/>
        </p:nvPicPr>
        <p:blipFill>
          <a:blip r:embed="rId1"/>
          <a:stretch/>
        </p:blipFill>
        <p:spPr>
          <a:xfrm>
            <a:off x="444600" y="291960"/>
            <a:ext cx="8705880" cy="69552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0" y="2060640"/>
            <a:ext cx="8569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64646"/>
                </a:solidFill>
                <a:latin typeface="Lucida Sans Unicode"/>
              </a:rPr>
              <a:t>Подготовительный</a:t>
            </a:r>
            <a:r>
              <a:rPr b="0" i="1" lang="ru-RU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(элементы творчества в обычной, исполнительской деятельности, например, игры «Четвертый лишний»)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64646"/>
                </a:solidFill>
                <a:latin typeface="Lucida Sans Unicode"/>
              </a:rPr>
              <a:t>Исследовательский  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(творчество в изучении предмета, через решение проблемных ситуаций, например, игры «Продолжи ряд…»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64646"/>
                </a:solidFill>
                <a:latin typeface="Lucida Sans Unicode"/>
              </a:rPr>
              <a:t>Самовыражение 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через различные виды деятельности (например, сочинение «хитрых» задач, математических сказок, составление математических кроссвордов, закономерностей, ребусов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7030a0"/>
                </a:solidFill>
                <a:latin typeface="Bodoni MT Black"/>
              </a:rPr>
              <a:t>      </a:t>
            </a:r>
            <a:r>
              <a:rPr b="1" i="1" lang="ru-RU" sz="2500" spc="-1" strike="noStrike">
                <a:solidFill>
                  <a:srgbClr val="7030a0"/>
                </a:solidFill>
                <a:latin typeface="Bodoni MT Black"/>
              </a:rPr>
              <a:t>Творческое развитие доступно каждому ребёнку</a:t>
            </a:r>
            <a:r>
              <a:rPr b="0" i="1" lang="ru-RU" sz="2500" spc="-1" strike="noStrike">
                <a:solidFill>
                  <a:srgbClr val="7030a0"/>
                </a:solidFill>
                <a:latin typeface="Bodoni MT Black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Содержимое 5" descr="28131967.jpg"/>
          <p:cNvPicPr/>
          <p:nvPr/>
        </p:nvPicPr>
        <p:blipFill>
          <a:blip r:embed="rId2"/>
          <a:stretch/>
        </p:blipFill>
        <p:spPr>
          <a:xfrm>
            <a:off x="7066080" y="404640"/>
            <a:ext cx="1739880" cy="18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8T14:16:32Z</dcterms:created>
  <dc:creator>Ната</dc:creator>
  <dc:description/>
  <dc:language>en-US</dc:language>
  <cp:lastModifiedBy>Валентина</cp:lastModifiedBy>
  <dcterms:modified xsi:type="dcterms:W3CDTF">2018-06-18T11:01:46Z</dcterms:modified>
  <cp:revision>61</cp:revision>
  <dc:subject/>
  <dc:title>Развитие творческих способностей учащихся  на уроках математики</dc:title>
</cp:coreProperties>
</file>