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5.jpeg" ContentType="image/jpeg"/>
  <Override PartName="/ppt/media/image8.jpeg" ContentType="image/jpeg"/>
  <Override PartName="/ppt/media/image23.jpeg" ContentType="image/jpeg"/>
  <Override PartName="/ppt/media/image22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6151-5ED6-464D-94E1-FC16591EB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9275-835B-4392-9A7B-F3A3708F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E3C8-7152-48FD-BE28-64FFCB034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1FE3-EEA4-4F2C-BA64-7EE2AA0AE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C0C0-4B10-460A-A825-274F1544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B153-8ECC-4D31-86E3-CACA630B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B5D5-2EDF-4B91-837A-B535E683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0B29-6211-4E41-81AE-6B5441AB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5863-A73F-46FB-85C3-77AE6FB9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491E-DA58-4969-A152-DD807B9F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5B7C-6E75-431A-A74A-A7333921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275E-E7FD-453E-8959-DCDFE0F4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6E43-DDCE-4F0F-AB99-C82F81C4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B739-07E9-418C-BFE4-3E390123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7D43-B196-422B-9CFE-7F4934AD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0278-A243-4614-8D8F-BB729A585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31FC-4023-47DE-A7CF-F43E90D81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E7FE1-29AA-4D93-9373-8407E1766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BC4ED-BCEE-4189-85FB-325ABD11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88103-EC75-45D9-8B69-6AF58440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ADCEC-20C4-42C6-96D9-A99066DE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8B911-FBCB-4EA1-B064-B488FF3E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8604-05D9-4F69-9047-6F7C12B1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0D7FA-E812-43FA-9681-C3EA6E7E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D0493-A325-4C2C-B480-A7C659A0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FBC94-2373-47CB-8A8D-3FCE9C08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DA005-B049-45B5-8A86-627865AD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58804-AB64-47C2-8F77-B5B0F2D0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9D3D6-ACF9-45D0-A89C-4241C99CE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DA381-9304-4668-96E0-DDEB194D5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00820-F482-4CDB-AFB6-7F2829DC0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DDCB7-07C7-4A59-BF09-CEA7DD9B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FEB2C-C3B6-4212-BA98-1737DEF6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162D-30E1-492D-A066-25F8F6B1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DD72B-411B-4DF9-BF34-7EE67546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5F1D2-D0D3-4AC1-A019-43183450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5B78E-D4A8-48E8-81DA-5B83C1AB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95E4A-51CF-4E1A-84C8-C2B95602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DB1BA-C52A-46DA-9ED3-C0DCA94E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F3F62-BA51-4A2F-8CB0-E74F88C0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D4192-40C1-4201-A9F4-F1A7337B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21CD4-DD4D-4599-BC44-1B33E88C8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3CD12-8FBE-4E1A-B040-224CE8B45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EF8E4-3979-4ED6-A9A7-2461D1FB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5BD9-C455-47E8-9E43-C6E7CE32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DDBDC-1279-4CFB-845D-DDA9D97B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19E8F-E6D3-445D-991F-23DF5E50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A00ED-7845-4B93-8657-F5B6E126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666AA-861F-4AA8-8E03-D43CF97C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5C9EA-F5E3-4299-82D0-4C9AF7BB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592C8-55DB-477C-90C2-F6D4A86A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9007E-1097-463A-BC73-947BC9EE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823F6-B644-4B5E-AF14-09B9A61C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396DD-4B79-47B6-A6C9-0CCACE18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83703-5C44-4B7D-BB07-74DB86A22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F312-5E6B-44DF-8F83-DEE8018F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63C17-0C8C-4AFF-A0CA-14C10E4CC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D5AB9-5660-422E-8393-C3C3A137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A5DAA-D3FB-4638-A42A-299807A2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87E44-4B2C-4123-9649-F76874E3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C05C4-E671-4425-9A69-2F5E14FB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0271D-BFED-41B6-B138-82627B24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EE5EF-3616-45DA-A965-89AF4D4D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4F59A-07E4-465D-8991-66633EE1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3AA1E-1505-4A99-B482-47A91A31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B8107-40B3-4BE9-92CC-6744B615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7218-4055-4750-975D-2E0248A5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92DBF-B9E7-44AF-8906-7315238C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87F35-E26D-4179-8759-277DB5674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7DDB1-6919-4AAA-B166-DB6232C0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DEE5C-A072-4E3D-B0BA-87FE4D07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85CE2-C051-40AF-8595-76D76027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66190-C19F-4821-96E4-B4B5CFB7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6BEA4-BA51-46F3-85C7-B753244E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3BDA2-D1E4-4CC7-A692-D5A85247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1716E-EBC3-4821-A815-E5DBAF34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F0959-1060-4B68-A4B3-B1F71055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5581-FA17-4460-90D9-134C597F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3ED12-4002-4DB6-A565-AEACA64E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E6E09-FE16-4C73-9925-9E4780CA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B9FBF-591F-42F5-8013-55EA91DD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7D49D-5594-414B-9DD5-9D79A905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613FE-7AB4-42BB-B35D-A18ADDE0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2E284-3236-4086-AF90-E7751B05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7DFEA-5A9F-4F3C-974F-7C309A1F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C7B7C-9D6A-40CE-9ED1-BBEA8DB1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A9C5F-A23C-4FE6-93E4-C43DB517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8011C-A49A-42A9-96EF-7FB4C376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10DB-91E8-4841-8875-5D1EA037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70CCF-544B-4E5B-B4A6-59D7C8BF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F2709-2740-4FA3-A4CE-F8852FB9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B5946-B4BB-4D5A-8D59-D6E6713F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C82BB-F94A-4B17-B025-E95251F1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784A8-0CAA-4AB9-9803-54F37554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BCC8E-0201-4C97-9465-49E95CA9B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1CB06-A18E-4B25-ABD2-421FA3132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2383-5D73-49EE-A22D-8352B7630F1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7B2D-E7BC-47F6-A38F-B622A3BE3AD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80E0-69C0-4462-87E0-DDDD90D3AFE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85CC-1CAD-442A-AC33-5BFFE6830CD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8F19-9691-4B5C-B6F6-3314DA61210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1FAF-36C7-4133-B075-748F85FFDD2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13F9-A19B-41CB-BA8D-24F6E313B49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6286-9D02-4846-8FA7-AA2D43906E8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AutoShape 2" descr=""/>
          <p:cNvPicPr/>
          <p:nvPr/>
        </p:nvPicPr>
        <p:blipFill>
          <a:blip r:embed="rId1"/>
          <a:stretch/>
        </p:blipFill>
        <p:spPr>
          <a:xfrm>
            <a:off x="768240" y="549360"/>
            <a:ext cx="8382240" cy="26701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708000" y="4508280"/>
            <a:ext cx="5111640" cy="20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Lucida Sans Unicode"/>
              </a:rPr>
              <a:t>Презентацию  подготовила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Lucida Sans Unicode"/>
              </a:rPr>
              <a:t>учитель   математики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Lucida Sans Unicode"/>
              </a:rPr>
              <a:t>МБОУ   ЛСОШ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Lucida Sans Unicode"/>
              </a:rPr>
              <a:t>Титова Валентина Юрьевн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2" descr="C:\Users\user\Downloads\i (3).jpg"/>
          <p:cNvPicPr/>
          <p:nvPr/>
        </p:nvPicPr>
        <p:blipFill>
          <a:blip r:embed="rId2"/>
          <a:stretch/>
        </p:blipFill>
        <p:spPr>
          <a:xfrm>
            <a:off x="826920" y="3716280"/>
            <a:ext cx="230220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4365360"/>
            <a:ext cx="8229600" cy="150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c00000"/>
                </a:solidFill>
                <a:latin typeface="Lucida Sans Unicode"/>
              </a:rPr>
              <a:t>В.А.Сухомлинский писал 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c00000"/>
                </a:solidFill>
                <a:latin typeface="Lucida Sans Unicode"/>
              </a:rPr>
              <a:t>«Игра – это искра, зажигающая огонек пытливости и любознательности»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304920" y="615960"/>
            <a:ext cx="8400960" cy="32497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"/>
          <p:cNvPicPr/>
          <p:nvPr/>
        </p:nvPicPr>
        <p:blipFill>
          <a:blip r:embed="rId2"/>
          <a:stretch/>
        </p:blipFill>
        <p:spPr>
          <a:xfrm>
            <a:off x="1452600" y="3213000"/>
            <a:ext cx="70070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Заголовок 1" descr=""/>
          <p:cNvPicPr/>
          <p:nvPr/>
        </p:nvPicPr>
        <p:blipFill>
          <a:blip r:embed="rId1"/>
          <a:stretch/>
        </p:blipFill>
        <p:spPr>
          <a:xfrm>
            <a:off x="133200" y="615960"/>
            <a:ext cx="9017280" cy="8524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-360" y="1557000"/>
            <a:ext cx="8642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Урок-конкурс ( соревнования, КВН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Урок-игра ( эл.пособие 5-6 кл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Урок-путешестви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Урок- исследовани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Урок-решение проблемных ситуаци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Урок- зачет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Практическая  работ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Лабораторная работ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Picture 6" descr=""/>
          <p:cNvPicPr/>
          <p:nvPr/>
        </p:nvPicPr>
        <p:blipFill>
          <a:blip r:embed="rId2"/>
          <a:stretch/>
        </p:blipFill>
        <p:spPr>
          <a:xfrm>
            <a:off x="395280" y="4149720"/>
            <a:ext cx="1851120" cy="138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Задания на составления текстов задач, примеров, уравнений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Разработка наглядного пособия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Составление  кроссворда или ребус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Составление  кластер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Решение  заданий ( с выбором количества  заданий ) по тем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Составление презентаций к конкретным темам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31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Заголовок 3" descr=""/>
          <p:cNvPicPr/>
          <p:nvPr/>
        </p:nvPicPr>
        <p:blipFill>
          <a:blip r:embed="rId1"/>
          <a:stretch/>
        </p:blipFill>
        <p:spPr>
          <a:xfrm>
            <a:off x="-208080" y="152280"/>
            <a:ext cx="8358480" cy="7621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0" y="98100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Работа  над развитием творческих способностей у детей должна быть </a:t>
            </a:r>
            <a:r>
              <a:rPr b="0" lang="ru-RU" sz="2400" spc="-1" strike="noStrike">
                <a:solidFill>
                  <a:srgbClr val="c00000"/>
                </a:solidFill>
                <a:latin typeface="Lucida Sans Unicode"/>
              </a:rPr>
              <a:t>длительной и целенаправленной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Эпизодическое использование  творческих задач не принесет желаемого результата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Результаты надёжны лишь тогда, когда введение в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область математических  знаний  совершается  в легкой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и приятной форме, на предметах и примерах обыденной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и повседневной обстановки, подобранные с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надлежащим остроумием и занимательностью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just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68360" y="11966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“…</a:t>
            </a:r>
            <a:r>
              <a:rPr b="0" lang="ru-RU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бёнок черпает то, что ему доступно, и теми средствами, которыми он владеет, поэтому, чем культурно богаче окружение ребёнка, тем больше он создаёт стимулов к овладению более сложными культурными средствами и позволяет ему шире использовать это окружение”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П. Блонски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139680" y="268200"/>
            <a:ext cx="8553600" cy="115884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4"/>
          <p:cNvSpPr/>
          <p:nvPr/>
        </p:nvSpPr>
        <p:spPr>
          <a:xfrm>
            <a:off x="-4227480" y="2697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267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Роль педагога, в данном случае, заключается в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том, чтобы направить процесс познания в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русло открытия нового, культурно обогащая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окружение ребёнка. Исследование нового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должно стать неотъемлемой частью познания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Здесь мы сталкиваемся с движением от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простого к сложному, от интуиции к творчеству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97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68360" y="1125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00000"/>
                </a:solidFill>
                <a:latin typeface="Lucida Sans Unicode"/>
              </a:rPr>
              <a:t>Задача учителя не только в том, чтобы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00000"/>
                </a:solidFill>
                <a:latin typeface="Lucida Sans Unicode"/>
              </a:rPr>
              <a:t>дать ученикам максимум знаний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00000"/>
                </a:solidFill>
                <a:latin typeface="Lucida Sans Unicode"/>
              </a:rPr>
              <a:t>но и в том, чтобы привить им интерес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00000"/>
                </a:solidFill>
                <a:latin typeface="Lucida Sans Unicode"/>
              </a:rPr>
              <a:t>к самостоятельному поиску знаний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00000"/>
                </a:solidFill>
                <a:latin typeface="Lucida Sans Unicode"/>
              </a:rPr>
              <a:t>научить добывать знания и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00000"/>
                </a:solidFill>
                <a:latin typeface="Lucida Sans Unicode"/>
              </a:rPr>
              <a:t>пользоваться им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Lucida Sans Unicode"/>
              </a:rPr>
              <a:t>Константин Кушнер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42560" y="253080"/>
            <a:ext cx="764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06" name="Picture 4" descr="images"/>
          <p:cNvPicPr/>
          <p:nvPr/>
        </p:nvPicPr>
        <p:blipFill>
          <a:blip r:embed="rId1"/>
          <a:stretch/>
        </p:blipFill>
        <p:spPr>
          <a:xfrm>
            <a:off x="395280" y="3860640"/>
            <a:ext cx="151272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олько через преодоление трудностей, решение проблем, ребенок может войти в мир творчества. А в наше время только творческий человек, нестандартно мыслящий, может достичь успех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Прямоугольник 1"/>
          <p:cNvSpPr/>
          <p:nvPr/>
        </p:nvSpPr>
        <p:spPr>
          <a:xfrm>
            <a:off x="395280" y="907920"/>
            <a:ext cx="86407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Если ученик в школе не научился сам ничего творить, то и в жизни он всегда будет только подражать, копировать, так как мало таких, которые бы, научившись копировать, умели сделать самостоятельное приложение этих сведений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 Н. Толст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Lucida Sans Unicode"/>
              </a:rPr>
              <a:t>« Учение не должно сводиться к беспрерывному накоплению знаний. к тренировке памяти … хочется . Чтобы дети были путешественниками, открывателями и творцами в этом мире»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.А. Сухомлинский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557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Творчество (креативность) – способность удивляться и познавать, умение находить выход в нестандартных ситуациях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Творчество – это нацеленность на открытие нового и способность к осознанию своего опыта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Творчество — это порождение новых идей, стремление научиться большему, думать о деле иначе и делать его лучше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Творчество – это человеческая потребность. Замечено, что творческие люди обладают большой жизненной энергией до глубокой старости, а люди ко всему равнодушные, ничем не увлеченные чаще болеют и быстрее стареют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268200" y="450720"/>
            <a:ext cx="8425080" cy="89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ндивидуально- психологические особенности личност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Lucida Sans Unicode"/>
              </a:rPr>
              <a:t>Творческая деятельность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отношение субъекта деятельности к своему труду и процесс решения творческих задач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052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-  </a:t>
            </a: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повышать уровень познавательной активности и учебную мотивацию учащихся по математике;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- привить навыки  самостоятельной работы  учащихся при изучении данного предмета;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- стимулировать познавательные интересы школьников;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-  дать учащимся качественное образование;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- раскрыть способности, интеллектуальный, творческий потенциал каждого ученика;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- использовать инновационные педагогические технологии;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- совершенствовать формы  и методы организации учебной и внеурочной  деятельности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281160" y="396720"/>
            <a:ext cx="8424720" cy="8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тр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Чересчур высокая самокритичность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Лень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AutoShape 2" descr=""/>
          <p:cNvPicPr/>
          <p:nvPr/>
        </p:nvPicPr>
        <p:blipFill>
          <a:blip r:embed="rId1"/>
          <a:stretch/>
        </p:blipFill>
        <p:spPr>
          <a:xfrm>
            <a:off x="79200" y="420840"/>
            <a:ext cx="8156880" cy="78552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914400" y="134136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А) Свободная атмосфера в школе и классе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Б) Доверие и уважение к ученикам со стороны учителя, помощь детям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В) Высокий уровень познавательных интересов среди учащихся, игровые методики учителя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Г) Внимание к интересам каждого ученика, его склонностям,   здоровью, к его способностям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Д) Поощрение высказывания оригинальных идей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Е) Использование личного примера творческого подхода к решению проблемы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AutoShape 2" descr=""/>
          <p:cNvPicPr/>
          <p:nvPr/>
        </p:nvPicPr>
        <p:blipFill>
          <a:blip r:embed="rId1"/>
          <a:stretch/>
        </p:blipFill>
        <p:spPr>
          <a:xfrm>
            <a:off x="444600" y="291960"/>
            <a:ext cx="8705880" cy="6955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0" y="2060640"/>
            <a:ext cx="8569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64646"/>
                </a:solidFill>
                <a:latin typeface="Lucida Sans Unicode"/>
              </a:rPr>
              <a:t>Подготовительный</a:t>
            </a: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(элементы творчества в обычной, исполнительской деятельности, например, игры «Четвертый лишний»)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64646"/>
                </a:solidFill>
                <a:latin typeface="Lucida Sans Unicode"/>
              </a:rPr>
              <a:t>Исследовательский  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(творчество в изучении предмета, через решение проблемных ситуаций, например, игры «Продолжи ряд…»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64646"/>
                </a:solidFill>
                <a:latin typeface="Lucida Sans Unicode"/>
              </a:rPr>
              <a:t>Самовыражение 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через различные виды деятельности (например, сочинение «хитрых» задач, математических сказок, составление математических кроссвордов, закономерностей, ребусов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Bodoni MT Black"/>
              </a:rPr>
              <a:t>      </a:t>
            </a:r>
            <a:r>
              <a:rPr b="1" i="1" lang="ru-RU" sz="2500" spc="-1" strike="noStrike">
                <a:solidFill>
                  <a:srgbClr val="7030a0"/>
                </a:solidFill>
                <a:latin typeface="Bodoni MT Black"/>
              </a:rPr>
              <a:t>Творческое развитие доступно каждому ребёнку</a:t>
            </a:r>
            <a:r>
              <a:rPr b="0" i="1" lang="ru-RU" sz="2500" spc="-1" strike="noStrike">
                <a:solidFill>
                  <a:srgbClr val="7030a0"/>
                </a:solidFill>
                <a:latin typeface="Bodoni MT Black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Содержимое 5" descr="28131967.jpg"/>
          <p:cNvPicPr/>
          <p:nvPr/>
        </p:nvPicPr>
        <p:blipFill>
          <a:blip r:embed="rId2"/>
          <a:stretch/>
        </p:blipFill>
        <p:spPr>
          <a:xfrm>
            <a:off x="7066080" y="404640"/>
            <a:ext cx="1739880" cy="18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8T14:16:32Z</dcterms:created>
  <dc:creator>Ната</dc:creator>
  <dc:description/>
  <dc:language>en-US</dc:language>
  <cp:lastModifiedBy>Валентина</cp:lastModifiedBy>
  <dcterms:modified xsi:type="dcterms:W3CDTF">2018-06-18T11:01:46Z</dcterms:modified>
  <cp:revision>61</cp:revision>
  <dc:subject/>
  <dc:title>Развитие творческих способностей учащихся  на уроках математики</dc:title>
</cp:coreProperties>
</file>