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130F-D9ED-468A-8087-7E16791710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2AFB-1538-43FE-8F05-C8684B8ACB9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A6B-71DE-4E99-A54C-821E71C5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AD89-C4E7-42C2-9D8D-26427379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5C6F-C948-47CF-AF1D-651DE913C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12C4-E4D8-4EC9-B8EB-0ADC4107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228F-4370-466D-9DEF-54B1CAAF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03A86-306F-4FF2-BAD8-227566C1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BF6F4-D912-49EF-B76D-DB93033C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FD14-8BCF-42BF-A0CB-9422FCAE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9E4F-DAC2-47EF-B840-265F736B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1241-FD79-4F2F-A425-1E0D5880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48F8-0BEE-4E07-A27A-D046CAB9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CE4-85DA-4FBE-8634-DC733251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BFE3-F8AD-4A6C-A273-30B2C2E1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F94B-745A-48E7-A4DF-EFFDBD0F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6D39-2FD0-4F86-85CF-A941C76F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8F6D-A478-47C0-A7C3-6D8110D9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C351-5F6C-44BD-B78A-C18C1697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8AA78-7231-47FF-B563-82FDC12DB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47875-1507-417A-BE86-1B44A7AC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5DE20-1EC9-4B08-A86C-A5DB194E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32644-D3F4-4C31-8517-AEFE3EA5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51A04-280D-4061-9578-6288B673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E2CA-DE36-4B7E-B25A-B78D0F53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8FB75-A659-4BD3-AD1D-F6190DEDB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15E19-80F0-4BE8-B306-EC45A3F9D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E1ACC-DBEA-4A2B-B04F-6A6495B6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A4572-5F4B-4F24-B980-011F7BF1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BBDC9-B0EF-43D4-A78A-251CE0C31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2685-B90C-4C5F-9915-504C83564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559D4-2328-466E-BCB4-B6C9A82CB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09CE9-E4D9-4F71-9EEB-CDFB73E41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E2E3B-94EC-40C7-B3DE-CD9969B2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66B35-303A-4AD4-8B58-9D240905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D39-B59A-44D8-8CAD-3864A09B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D63D3-B893-4591-96E2-171111E4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7FCB5-2561-4526-BEBA-1F30283F1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2DB1B-22FD-4150-B260-F142F95C1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2792-C357-48BD-B1A4-73A1E9CE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8CEA4-6158-4A52-AA03-C40E2E41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C435C-8197-45C1-A825-2A4F66DF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DC034-0346-4329-AE6A-0AC4D0BC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6CBF0-BBBB-4D79-9EBE-F72343CC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D61FA-1978-4F9F-97F6-1057F1430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168F-8DC5-48F1-B2F6-6650CDE4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22AF-7A18-46D3-8989-7A37131F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ABE9-0EDB-4792-B689-822E44C5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6F7E-6EF3-4AD0-94AD-CFBF0019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B40A-D6BA-47F3-AFED-B7E45AB6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A76E-6AE7-45A1-8369-34C31890E39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65" descr=""/>
          <p:cNvPicPr/>
          <p:nvPr/>
        </p:nvPicPr>
        <p:blipFill>
          <a:blip r:embed="rId4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800320" y="540972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900080" y="5409720"/>
            <a:ext cx="384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914960" y="5409720"/>
            <a:ext cx="579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FF36-DD0F-4CA3-A5C1-A9D3FAB4FB6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47"/>
          <p:cNvSpPr/>
          <p:nvPr/>
        </p:nvSpPr>
        <p:spPr>
          <a:xfrm>
            <a:off x="696960" y="71928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48"/>
          <p:cNvSpPr/>
          <p:nvPr/>
        </p:nvSpPr>
        <p:spPr>
          <a:xfrm>
            <a:off x="7816680" y="27655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D62C-AAAC-492A-A513-47D320B629F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137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CA74A-62D9-4809-91CB-E2339B6CD4B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4240" y="333000"/>
            <a:ext cx="803448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РОДИТЕЛЬСКОЕ СОБРАНИЕ В 1 КЛАССЕ «Д»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ТЕМА: «УПРАЖНЕНИЯ ДЛЯ ТРЕНИРОВКИ ПАМЯТИ УЧАЩИХСЯ ДОМА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071720" y="421488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ffff"/>
                </a:solidFill>
                <a:latin typeface="Tw Cen MT"/>
              </a:rPr>
              <a:t>ПОДГОТОВИЛА: УЧИТЕЛЬ НАЧАЛЬНЫХ КЛАССОВ МАОУ ДСОШ №1 ИСАЙКИНА Н.Н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9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Предложите ребенку ряды слов, между которыми смысловые связи отсутствуют. Вы зачитываете пару слов, а ребенок должен запомнить второе слово этой пары, стараясь при этом установить между словами какую-нибудь смысловую связь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Через 10 минут после первого прочтения вы читаете слова из первого столбика,  а ребенок называет второе слово этой пары. Чем больше слов воспроизводит ребенок, тем лучше у него развито умение устанавливать смысловые связи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10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w Cen MT"/>
              </a:rPr>
              <a:t>     </a:t>
            </a:r>
            <a:r>
              <a:rPr b="0" lang="ru-RU" sz="1500" spc="-1" strike="noStrike">
                <a:solidFill>
                  <a:srgbClr val="ffff00"/>
                </a:solidFill>
                <a:latin typeface="Tw Cen MT"/>
              </a:rPr>
              <a:t>Дайте ребенку лист бумаги, разделенный на 20 клеток (5 клеток по горизонтали 4 клетки по вертикали). Он должен запомнить 20 слов и словосочетаний конкретного и абстрактного содержания, которые вы будете произносить с интервалом в 7-10 секунд. </a:t>
            </a:r>
            <a:endParaRPr b="0" lang="en-US" sz="1500" spc="-1" strike="noStrike">
              <a:solidFill>
                <a:srgbClr val="ffffff"/>
              </a:solidFill>
              <a:latin typeface="Tw Cen MT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w Cen MT"/>
              </a:rPr>
              <a:t>     </a:t>
            </a:r>
            <a:r>
              <a:rPr b="0" lang="ru-RU" sz="1500" spc="-1" strike="noStrike">
                <a:solidFill>
                  <a:srgbClr val="ffff00"/>
                </a:solidFill>
                <a:latin typeface="Tw Cen MT"/>
              </a:rPr>
              <a:t>При этом ребенок должен в каждой клеточке последовательно в соответствии с называемым словом или словосочетанием рисовать его рисуночное обозначение- пиктограмму. Цифры и буквы использовать нельзя.</a:t>
            </a:r>
            <a:endParaRPr b="0" lang="en-US" sz="1500" spc="-1" strike="noStrike">
              <a:solidFill>
                <a:srgbClr val="ffffff"/>
              </a:solidFill>
              <a:latin typeface="Tw Cen MT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w Cen MT"/>
              </a:rPr>
              <a:t>     </a:t>
            </a:r>
            <a:r>
              <a:rPr b="0" lang="ru-RU" sz="1500" spc="-1" strike="noStrike">
                <a:solidFill>
                  <a:srgbClr val="ffff00"/>
                </a:solidFill>
                <a:latin typeface="Tw Cen MT"/>
              </a:rPr>
              <a:t>Через 10-15 минут, глядя на свои пиктограммы, ребенок должен вспомнить как можно больше слов и словосочетаний и записать их в нижней части клетки под соответствую- щей пиктограммой. </a:t>
            </a:r>
            <a:endParaRPr b="0" lang="en-US" sz="15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ПРИМЕРНЫЙ НАБОР СЛОВ: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20" name="Содержимое 2" descr=""/>
          <p:cNvPicPr/>
          <p:nvPr/>
        </p:nvPicPr>
        <p:blipFill>
          <a:blip r:embed="rId1"/>
          <a:stretch/>
        </p:blipFill>
        <p:spPr>
          <a:xfrm>
            <a:off x="853920" y="2249640"/>
            <a:ext cx="74311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СПИСОК ЛИТЕРАТУРЫ: 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22" name="Содержимое 2" descr=""/>
          <p:cNvPicPr/>
          <p:nvPr/>
        </p:nvPicPr>
        <p:blipFill>
          <a:blip r:embed="rId1"/>
          <a:stretch/>
        </p:blipFill>
        <p:spPr>
          <a:xfrm>
            <a:off x="853920" y="2249640"/>
            <a:ext cx="74311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1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Tw Cen MT"/>
              </a:rPr>
              <a:t>   </a:t>
            </a:r>
            <a:r>
              <a:rPr b="0" lang="ru-RU" sz="3100" spc="-1" strike="noStrike">
                <a:solidFill>
                  <a:srgbClr val="ffff00"/>
                </a:solidFill>
                <a:latin typeface="Tw Cen MT"/>
              </a:rPr>
              <a:t>Предложите ребенку закрыть глаза и по памяти назвать все предметы, которые стоят в его комнате. Затем пусть он откроет глаза и проверит, верно ли были им названы предметы.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2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Напечатайте тексты диктантов для начальной школы и размножьте их. Повесьте текст в комнате и попросите ребенка переписать его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419040" indent="-3826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Для этого он должен встать из-за стола, подбежать к листочку с текстом, прочитать предложение или несколько предложений, запомнить их, вернуться на свое рабочее место и записать то, что запомнил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419040" indent="-3826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Такое упражнение можно повторять несколько раз в неделю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3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Tw Cen MT"/>
              </a:rPr>
              <a:t>   </a:t>
            </a:r>
            <a:r>
              <a:rPr b="0" lang="ru-RU" sz="3100" spc="-1" strike="noStrike">
                <a:solidFill>
                  <a:srgbClr val="ffff00"/>
                </a:solidFill>
                <a:latin typeface="Tw Cen MT"/>
              </a:rPr>
              <a:t>Разложите на столе спички в виде своеобразного узора. Ребенок должен внимательно посмотреть на узор, затем он закрывает глаза, а вы изменяете узор на столе. В его задачу входит восстановление узора в первоначальном виде.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4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Прочтите ребенку диктант из сборника или из учебника.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419040" indent="-3826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В первый раз читайте весь диктант полностью. Во второй раз в каждом предложении пропускайте одно-два слова. В задачу ребенка входит восстановление содержания всего диктанта самостоятельно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419040" indent="-3826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После написания диктанта он должен самостоятельно сверить свой текст с оригиналом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5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400" y="1571760"/>
            <a:ext cx="74674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w Cen MT"/>
              </a:rPr>
              <a:t>    </a:t>
            </a:r>
            <a:r>
              <a:rPr b="0" lang="ru-RU" sz="2300" spc="-1" strike="noStrike">
                <a:solidFill>
                  <a:srgbClr val="ffff00"/>
                </a:solidFill>
                <a:latin typeface="Tw Cen MT"/>
              </a:rPr>
              <a:t>Предложите ребенку внимательно посмотреть на слова в рамках в течение 10 секунд. Затем он должен самостоятельно начертить рамки и вписать туда слова в соответствии с рисунком.</a:t>
            </a: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928800" y="3500280"/>
            <a:ext cx="1071360" cy="42876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6"/>
          <p:cNvSpPr/>
          <p:nvPr/>
        </p:nvSpPr>
        <p:spPr>
          <a:xfrm>
            <a:off x="2571840" y="3500280"/>
            <a:ext cx="1071360" cy="42876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Ле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7"/>
          <p:cNvSpPr/>
          <p:nvPr/>
        </p:nvSpPr>
        <p:spPr>
          <a:xfrm>
            <a:off x="1714680" y="4286160"/>
            <a:ext cx="1071360" cy="42876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Ст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8"/>
          <p:cNvSpPr/>
          <p:nvPr/>
        </p:nvSpPr>
        <p:spPr>
          <a:xfrm>
            <a:off x="928800" y="5000760"/>
            <a:ext cx="1071360" cy="42840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Ле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9"/>
          <p:cNvSpPr/>
          <p:nvPr/>
        </p:nvSpPr>
        <p:spPr>
          <a:xfrm>
            <a:off x="2571840" y="5000760"/>
            <a:ext cx="1071360" cy="42840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Кл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10"/>
          <p:cNvSpPr/>
          <p:nvPr/>
        </p:nvSpPr>
        <p:spPr>
          <a:xfrm>
            <a:off x="4857840" y="3500280"/>
            <a:ext cx="1071360" cy="42876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11"/>
          <p:cNvSpPr/>
          <p:nvPr/>
        </p:nvSpPr>
        <p:spPr>
          <a:xfrm>
            <a:off x="6929280" y="3500280"/>
            <a:ext cx="1071720" cy="42876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З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12"/>
          <p:cNvSpPr/>
          <p:nvPr/>
        </p:nvSpPr>
        <p:spPr>
          <a:xfrm>
            <a:off x="4857840" y="4214880"/>
            <a:ext cx="1071360" cy="42840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По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3"/>
          <p:cNvSpPr/>
          <p:nvPr/>
        </p:nvSpPr>
        <p:spPr>
          <a:xfrm>
            <a:off x="6929280" y="4214880"/>
            <a:ext cx="1071720" cy="42840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Ма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14"/>
          <p:cNvSpPr/>
          <p:nvPr/>
        </p:nvSpPr>
        <p:spPr>
          <a:xfrm>
            <a:off x="6000840" y="5000760"/>
            <a:ext cx="1071360" cy="42840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Пож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6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w Cen MT"/>
              </a:rPr>
              <a:t>   </a:t>
            </a:r>
            <a:r>
              <a:rPr b="0" lang="ru-RU" sz="4000" spc="-1" strike="noStrike">
                <a:solidFill>
                  <a:srgbClr val="ffff00"/>
                </a:solidFill>
                <a:latin typeface="Tw Cen MT"/>
              </a:rPr>
              <a:t>Нарисуйте на листочке бумаги рисунок, покажите его ребенку и попросите нарисовать такой же рисунок по памяти.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7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    </a:t>
            </a:r>
            <a:r>
              <a:rPr b="0" lang="ru-RU" sz="3100" spc="-1" strike="noStrike">
                <a:solidFill>
                  <a:srgbClr val="ffff00"/>
                </a:solidFill>
                <a:latin typeface="Tw Cen MT"/>
              </a:rPr>
              <a:t>Прочитайте текст вслух один раз. Затем прочитайте его, допуская в каждом предложении неточности. Попросите ребенка вас исправить. Пусть он перескажет весь текст без допущенных вами ошибок.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8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w Cen MT"/>
              </a:rPr>
              <a:t>Для расширения объема восприятия предложите ребенку поиграть в игру. Напишите на листок в столбик слова, состоящие из четырех букв, и закройте их сверху листом бумаги. Быстро открывайте и закрывайте слова, а ребенок пусть читает их до тех пор, пока не научиться их схватывать за одно мгновение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6:39:14Z</dcterms:created>
  <dc:creator>Admin</dc:creator>
  <dc:description/>
  <dc:language>en-US</dc:language>
  <cp:lastModifiedBy>Пользователь</cp:lastModifiedBy>
  <dcterms:modified xsi:type="dcterms:W3CDTF">2018-06-18T06:38:09Z</dcterms:modified>
  <cp:revision>9</cp:revision>
  <dc:subject/>
  <dc:title>Упражнения для тренировки памяти учащихся дома</dc:title>
</cp:coreProperties>
</file>