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A859F-EBA1-4E0B-8146-6C27837A0D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03F-FA1A-415C-BBC3-BE3F50D26162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73E4-351D-44A2-80AA-ADCFF0B25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1CE5-BC6F-48D2-8C08-89CA0CEE5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061E-5209-4CDA-B6C2-5D3AC6FF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CA75-EC59-4B51-9EC4-2A527146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00791-78D6-45D5-8754-F0E96909E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DC010-7298-4AF2-99EA-7BE360E8B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8A8C-1CCB-4E60-A724-6ECF96D1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52F2-F49A-40E6-854B-9517DB7CA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E6277-9B90-43E5-B0E4-BEFF639DC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9969-8651-4116-B74A-E0503A953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EF43-53A2-482A-8CF7-CF68A203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7A9B-5BD0-44AD-8B13-DB4864EF5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7E76-7419-4EF2-8715-0DE63F65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F0E4-4AF2-4013-9EE1-83A5A690A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23B7-2251-4E36-9F37-990B9144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F909-2656-4B1C-B12C-20EB3C3D6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00441-7888-4327-8430-22FE4751F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A7183-6F50-4C63-A9F9-F8E620FEC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910D-11FA-4294-9863-788788463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B8816-9205-4B9D-BF41-CB74EBB0F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42E04-F436-4840-90C7-C1ADEA24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306F0-862A-4278-88CA-E63C7752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13B6-0215-409C-B730-C84F88087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19B90-59D1-4728-8F8F-AFE46F45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79EB12-4E3E-4F5D-88CF-EB109B21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3FD54-2151-4C45-B8F2-C84EFB19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736DD-F444-4927-9F9E-F2D03124F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DDA00-1726-4DE8-BF6C-340A33B15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E405-59FD-4C90-8366-6D4C69CD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2F6BE-D08F-47F9-811A-2C292482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BC32D-769E-47BB-B927-4F5C27C3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289B9-4A89-4DEB-B888-7B1B46BB7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D6851-6810-45AA-8F3B-8F0EF04AD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F6B-3E6F-4B13-878F-4DD1BA42B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747AB-35BA-4E69-9927-F21A315B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88818-282A-4144-84CE-F26BFF61F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B5B34-F684-49F8-9140-13CFD927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93399-0575-4778-A5F1-8004A0A5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F9DD3-A745-41F6-8D36-ECCDAA799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85766-5812-44A6-949B-ED5CEF0B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7C58F-7B7E-4771-901F-FB40E6E2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54EB8-439A-447F-BA1E-B9A8C0774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36708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879160" y="224964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8553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36708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5879160" y="4099680"/>
            <a:ext cx="23918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4986E-8E54-43A3-AF59-82FA45C4A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5A6-5C60-4DBE-99D0-EE38D39E3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55360" y="618840"/>
            <a:ext cx="7429320" cy="68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D312-96E2-4212-962E-DAE0EC077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604A-B309-4EF4-AD6D-DDB1BDE2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2360" y="409968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BD5E-62E1-4C6D-BFDB-2F3E83A48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55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2360" y="2249640"/>
            <a:ext cx="362520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55360" y="4099680"/>
            <a:ext cx="742932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182F-35D4-4A37-AB44-00E63AF0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2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67E1-D2C4-4597-A1EE-5EFEE3D4B39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6" name="Group 65" descr=""/>
          <p:cNvPicPr/>
          <p:nvPr/>
        </p:nvPicPr>
        <p:blipFill>
          <a:blip r:embed="rId4"/>
          <a:stretch/>
        </p:blipFill>
        <p:spPr>
          <a:xfrm>
            <a:off x="0" y="0"/>
            <a:ext cx="22986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800320" y="540972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900080" y="5409720"/>
            <a:ext cx="384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914960" y="5409720"/>
            <a:ext cx="579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3276-FFEC-4224-9B9C-8352E2C9FCA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90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TextBox 47"/>
          <p:cNvSpPr/>
          <p:nvPr/>
        </p:nvSpPr>
        <p:spPr>
          <a:xfrm>
            <a:off x="696960" y="71928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48"/>
          <p:cNvSpPr/>
          <p:nvPr/>
        </p:nvSpPr>
        <p:spPr>
          <a:xfrm>
            <a:off x="7816680" y="27655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Tw Cen MT"/>
                <a:ea typeface="Trebuchet MS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9B00-E045-4AA7-B203-F58B19E6A4F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\\DROBO-FS\QuickDrops\JB\PPTX NG\Droplets\Lighting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6" name="Group 7"/>
          <p:cNvGrpSpPr/>
          <p:nvPr/>
        </p:nvGrpSpPr>
        <p:grpSpPr>
          <a:xfrm>
            <a:off x="-14400" y="0"/>
            <a:ext cx="9042480" cy="6858000"/>
            <a:chOff x="-14400" y="0"/>
            <a:chExt cx="9042480" cy="6858000"/>
          </a:xfrm>
        </p:grpSpPr>
        <p:pic>
          <p:nvPicPr>
            <p:cNvPr id="137" name="Group 8" descr=""/>
            <p:cNvPicPr/>
            <p:nvPr/>
          </p:nvPicPr>
          <p:blipFill>
            <a:blip r:embed="rId4"/>
            <a:stretch/>
          </p:blipFill>
          <p:spPr>
            <a:xfrm>
              <a:off x="-14400" y="0"/>
              <a:ext cx="12132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Group 9" descr=""/>
            <p:cNvPicPr/>
            <p:nvPr/>
          </p:nvPicPr>
          <p:blipFill>
            <a:blip r:embed="rId5"/>
            <a:stretch/>
          </p:blipFill>
          <p:spPr>
            <a:xfrm>
              <a:off x="8357400" y="0"/>
              <a:ext cx="670680" cy="6846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20556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1" marL="61704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2" marL="102852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3" marL="144000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4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5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lvl="6" marL="1851480" indent="-20556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559224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855720" y="5882760"/>
            <a:ext cx="4680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7706880" y="5882760"/>
            <a:ext cx="577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6016-860D-486D-AF06-182E5F21774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14240" y="333000"/>
            <a:ext cx="8034480" cy="2808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РОДИТЕЛЬСКОЕ СОБРАНИЕ В 1 КЛАССЕ «Д» 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w Cen MT"/>
              </a:rPr>
              <a:t>ТЕМА: «УПРАЖНЕНИЯ ДЛЯ ТРЕНИРОВКИ ПАМЯТИ УЧАЩИХСЯ ДОМА»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071720" y="421488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2ffff"/>
                </a:solidFill>
                <a:latin typeface="Tw Cen MT"/>
              </a:rPr>
              <a:t>ПОДГОТОВИЛА: УЧИТЕЛЬ НАЧАЛЬНЫХ КЛАССОВ МАОУ ДСОШ №1 ИСАЙКИНА Н.Н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9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редложите ребенку ряды слов, между которыми смысловые связи отсутствуют. Вы зачитываете пару слов, а ребенок должен запомнить второе слово этой пары, стараясь при этом установить между словами какую-нибудь смысловую связь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Через 10 минут после первого прочтения вы читаете слова из первого столбика,  а ребенок называет второе слово этой пары. Чем больше слов воспроизводит ребенок, тем лучше у него развито умение устанавливать смысловые связи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10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Дайте ребенку лист бумаги, разделенный на 20 клеток (5 клеток по горизонтали 4 клетки по вертикали). Он должен запомнить 20 слов и словосочетаний конкретного и абстрактного содержания, которые вы будете произносить с интервалом в 7-10 секунд. 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При этом ребенок должен в каждой клеточке последовательно в соответствии с называемым словом или словосочетанием рисовать его рисуночное обозначение- пиктограмму. Цифры и буквы использовать нельзя.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     </a:t>
            </a:r>
            <a:r>
              <a:rPr b="0" lang="ru-RU" sz="1500" spc="-1" strike="noStrike">
                <a:solidFill>
                  <a:srgbClr val="ffff00"/>
                </a:solidFill>
                <a:latin typeface="Tw Cen MT"/>
              </a:rPr>
              <a:t>Через 10-15 минут, глядя на свои пиктограммы, ребенок должен вспомнить как можно больше слов и словосочетаний и записать их в нижней части клетки под соответствую- щей пиктограммой. </a:t>
            </a:r>
            <a:endParaRPr b="0" lang="en-US" sz="15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ПРИМЕРНЫЙ НАБОР СЛОВ: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20" name="Содержимое 2" descr=""/>
          <p:cNvPicPr/>
          <p:nvPr/>
        </p:nvPicPr>
        <p:blipFill>
          <a:blip r:embed="rId1"/>
          <a:stretch/>
        </p:blipFill>
        <p:spPr>
          <a:xfrm>
            <a:off x="853920" y="2249640"/>
            <a:ext cx="743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СПИСОК ЛИТЕРАТУРЫ: 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222" name="Содержимое 2" descr=""/>
          <p:cNvPicPr/>
          <p:nvPr/>
        </p:nvPicPr>
        <p:blipFill>
          <a:blip r:embed="rId1"/>
          <a:stretch/>
        </p:blipFill>
        <p:spPr>
          <a:xfrm>
            <a:off x="853920" y="2249640"/>
            <a:ext cx="743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1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Предложите ребенку закрыть глаза и по памяти назвать все предметы, которые стоят в его комнате. Затем пусть он откроет глаза и проверит, верно ли были им названы предметы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2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Напечатайте тексты диктантов для начальной школы и размножьте их. Повесьте текст в комнате и попросите ребенка переписать его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Для этого он должен встать из-за стола, подбежать к листочку с текстом, прочитать предложение или несколько предложений, запомнить их, вернуться на свое рабочее место и записать то, что запомнил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Такое упражнение можно повторять несколько раз в неделю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3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Разложите на столе спички в виде своеобразного узора. Ребенок должен внимательно посмотреть на узор, затем он закрывает глаза, а вы изменяете узор на столе. В его задачу входит восстановление узора в первоначальном виде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4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рочтите ребенку диктант из сборника или из учебника.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В первый раз читайте весь диктант полностью. Во второй раз в каждом предложении пропускайте одно-два слова. В задачу ребенка входит восстановление содержания всего диктанта самостоятельно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419040" indent="-38268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000" spc="-1" strike="noStrike">
                <a:solidFill>
                  <a:srgbClr val="ffff00"/>
                </a:solidFill>
                <a:latin typeface="Tw Cen MT"/>
              </a:rPr>
              <a:t>После написания диктанта он должен самостоятельно сверить свой текст с оригиналом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 </a:t>
            </a: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5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400" y="1571760"/>
            <a:ext cx="74674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2300" spc="-1" strike="noStrike">
                <a:solidFill>
                  <a:srgbClr val="ffff00"/>
                </a:solidFill>
                <a:latin typeface="Tw Cen MT"/>
              </a:rPr>
              <a:t>Предложите ребенку внимательно посмотреть на слова в рамках в течение 10 секунд. Затем он должен самостоятельно начертить рамки и вписать туда слова в соответствии с рисунком.</a:t>
            </a: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Прямоугольник 4"/>
          <p:cNvSpPr/>
          <p:nvPr/>
        </p:nvSpPr>
        <p:spPr>
          <a:xfrm>
            <a:off x="92880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Прямоугольник 6"/>
          <p:cNvSpPr/>
          <p:nvPr/>
        </p:nvSpPr>
        <p:spPr>
          <a:xfrm>
            <a:off x="257184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Ле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Прямоугольник 7"/>
          <p:cNvSpPr/>
          <p:nvPr/>
        </p:nvSpPr>
        <p:spPr>
          <a:xfrm>
            <a:off x="1714680" y="428616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Ст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Прямоугольник 8"/>
          <p:cNvSpPr/>
          <p:nvPr/>
        </p:nvSpPr>
        <p:spPr>
          <a:xfrm>
            <a:off x="92880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Ле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Прямоугольник 9"/>
          <p:cNvSpPr/>
          <p:nvPr/>
        </p:nvSpPr>
        <p:spPr>
          <a:xfrm>
            <a:off x="257184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Клес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Прямоугольник 10"/>
          <p:cNvSpPr/>
          <p:nvPr/>
        </p:nvSpPr>
        <p:spPr>
          <a:xfrm>
            <a:off x="4857840" y="3500280"/>
            <a:ext cx="107136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Д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6929280" y="3500280"/>
            <a:ext cx="1071720" cy="42876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Зи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Прямоугольник 12"/>
          <p:cNvSpPr/>
          <p:nvPr/>
        </p:nvSpPr>
        <p:spPr>
          <a:xfrm>
            <a:off x="4857840" y="421488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ол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3"/>
          <p:cNvSpPr/>
          <p:nvPr/>
        </p:nvSpPr>
        <p:spPr>
          <a:xfrm>
            <a:off x="6929280" y="4214880"/>
            <a:ext cx="107172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Ма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4"/>
          <p:cNvSpPr/>
          <p:nvPr/>
        </p:nvSpPr>
        <p:spPr>
          <a:xfrm>
            <a:off x="6000840" y="5000760"/>
            <a:ext cx="1071360" cy="428400"/>
          </a:xfrm>
          <a:prstGeom prst="rect">
            <a:avLst/>
          </a:prstGeom>
          <a:solidFill>
            <a:srgbClr val="9acd4c"/>
          </a:solidFill>
          <a:ln w="15840">
            <a:solidFill>
              <a:srgbClr val="7096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w Cen MT"/>
              </a:rPr>
              <a:t>Пожа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out" orient="horz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6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w Cen MT"/>
              </a:rPr>
              <a:t>   </a:t>
            </a:r>
            <a:r>
              <a:rPr b="0" lang="ru-RU" sz="4000" spc="-1" strike="noStrike">
                <a:solidFill>
                  <a:srgbClr val="ffff00"/>
                </a:solidFill>
                <a:latin typeface="Tw Cen MT"/>
              </a:rPr>
              <a:t>Нарисуйте на листочке бумаги рисунок, покажите его ребенку и попросите нарисовать такой же рисунок по памяти.</a:t>
            </a:r>
            <a:endParaRPr b="0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7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w Cen MT"/>
              </a:rPr>
              <a:t>    </a:t>
            </a:r>
            <a:r>
              <a:rPr b="0" lang="ru-RU" sz="3100" spc="-1" strike="noStrike">
                <a:solidFill>
                  <a:srgbClr val="ffff00"/>
                </a:solidFill>
                <a:latin typeface="Tw Cen MT"/>
              </a:rPr>
              <a:t>Прочитайте текст вслух один раз. Затем прочитайте его, допуская в каждом предложении неточности. Попросите ребенка вас исправить. Пусть он перескажет весь текст без допущенных вами ошибок.</a:t>
            </a:r>
            <a:endParaRPr b="0" lang="en-US" sz="31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55360" y="618840"/>
            <a:ext cx="742932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w Cen MT"/>
              </a:rPr>
              <a:t>УПРАЖНЕНИЕ 8</a:t>
            </a:r>
            <a:endParaRPr b="0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855360" y="2249640"/>
            <a:ext cx="7429320" cy="35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Tw Cen MT"/>
              </a:rPr>
              <a:t>    </a:t>
            </a:r>
            <a:r>
              <a:rPr b="0" lang="ru-RU" sz="2400" spc="-1" strike="noStrike">
                <a:solidFill>
                  <a:srgbClr val="ffff00"/>
                </a:solidFill>
                <a:latin typeface="Tw Cen MT"/>
              </a:rPr>
              <a:t>Для расширения объема восприятия предложите ребенку поиграть в игру. Напишите на листок в столбик слова, состоящие из четырех букв, и закройте их сверху листом бумаги. Быстро открывайте и закрывайте слова, а ребенок пусть читает их до тех пор, пока не научиться их схватывать за одно мгновение.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>
    <p:split dir="out" orient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6:39:14Z</dcterms:created>
  <dc:creator>Admin</dc:creator>
  <dc:description/>
  <dc:language>en-US</dc:language>
  <cp:lastModifiedBy>Пользователь</cp:lastModifiedBy>
  <dcterms:modified xsi:type="dcterms:W3CDTF">2018-06-18T06:38:09Z</dcterms:modified>
  <cp:revision>9</cp:revision>
  <dc:subject/>
  <dc:title>Упражнения для тренировки памяти учащихся дома</dc:title>
</cp:coreProperties>
</file>