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png" ContentType="image/png"/>
  <Override PartName="/ppt/media/image12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FA5-702F-42A3-BA32-806B70F8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7C5-DA12-4C51-B1BC-222973AA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F57-0E7F-4E09-A066-23151E69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1B7-EBBE-49A3-ADEA-0960E666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B0CB-876F-4943-9011-862A3AAD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856B-A698-458B-B448-96E8337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390C-0E82-4E51-ABF4-EAA47042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AE3-9B83-4E7A-BAB6-30C225B6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EDE4-7F1E-48E1-AE98-6B0CA431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0E74-15CC-46ED-8D91-F9C78824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A2C8-CFD3-4294-A705-4095F01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0A9-3A10-41E5-8032-5CD85778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BC5C-1C1A-4142-8B0D-ED185593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C359-1BAD-4424-9E04-C30FD7D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CAB4-10BF-4605-9A8D-459329D0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273A-2745-4AD8-827B-BBF5A507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101A-63B1-46F8-97C1-8E530444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5F2-03D4-4DA7-B417-E60439CB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D8F-813D-457F-8429-AF5853B1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D1A-2538-42B9-B7D9-AA81C744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B40-0279-4CDA-AAA9-9413EAD3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813-7AD6-407B-8772-751C1376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C97-6BD7-4F57-A6BB-DB7BFAD8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1CF-D367-49D7-8AF1-3F8888D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1E97-C0EC-4960-AC9D-8CBC6864938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5A96-D620-4F0B-AB2E-BEC65E6044F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5e3c"/>
                </a:solidFill>
                <a:latin typeface="Calibri"/>
              </a:rPr>
              <a:t>Родительское собрание во 2 классе</a:t>
            </a:r>
            <a:br>
              <a:rPr sz="4400"/>
            </a:br>
            <a:r>
              <a:rPr b="0" lang="ru-RU" sz="4400" spc="-1" strike="noStrike">
                <a:solidFill>
                  <a:srgbClr val="4f5e3c"/>
                </a:solidFill>
                <a:latin typeface="Calibri"/>
              </a:rPr>
              <a:t> Тема: «Чтение – это важ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Подготовила: учитель начальных классов МАОУ ДСОШ №1 Исайкина Н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буждает к нравственным поступ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Жизнь, окружающая действительность не всегда «изобилует» уроками высокой нравственности. И вера в доброе, светлое, поддерживается образами любимых героев, на которых хочется походить, поступки которых восхищ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нига – ценный источник знаний о нормах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929120" y="1785960"/>
            <a:ext cx="3500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воспитать книгоче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У каждого своя высота, и то, что для одного – обычное дело, для другого – рекорд и подви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Не всё получается с первых попыток, причина неудачи может корениться не в идее, а в её ре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Лучше не заставлять, а показывать приме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ежде, чем сдаваться, попробуй победи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Родитель сделает – ребёнок повтори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Нет своих идей – посоветуйся с сосед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облемы наших детей – продолжение наших проблем, только они более замет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Если мы прощаем себе лень, ошибки, то и к детям нужно быть снисходительны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http://www.president-school.ru/files/picter_rassilka/img422.jpg"/>
          <p:cNvPicPr/>
          <p:nvPr/>
        </p:nvPicPr>
        <p:blipFill>
          <a:blip r:embed="rId1"/>
          <a:stretch/>
        </p:blipFill>
        <p:spPr>
          <a:xfrm>
            <a:off x="928800" y="1000080"/>
            <a:ext cx="7572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C:\Documents and Settings\СОШ №2 к. биологии\Мои документы\Мои рисунки\фоны\GE089_72A.jpg"/>
          <p:cNvPicPr/>
          <p:nvPr/>
        </p:nvPicPr>
        <p:blipFill>
          <a:blip r:embed="rId1"/>
          <a:stretch/>
        </p:blipFill>
        <p:spPr>
          <a:xfrm>
            <a:off x="785880" y="588960"/>
            <a:ext cx="7691400" cy="5769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f5e3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00"/>
              </a:solidFill>
              <a:latin typeface="Calibri"/>
            </a:endParaRPr>
          </a:p>
        </p:txBody>
      </p:sp>
      <p:pic>
        <p:nvPicPr>
          <p:cNvPr id="98" name="Picture 4" descr="91263"/>
          <p:cNvPicPr/>
          <p:nvPr/>
        </p:nvPicPr>
        <p:blipFill>
          <a:blip r:embed="rId2"/>
          <a:stretch/>
        </p:blipFill>
        <p:spPr>
          <a:xfrm>
            <a:off x="0" y="357120"/>
            <a:ext cx="8858160" cy="592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92149"/>
          <p:cNvPicPr/>
          <p:nvPr/>
        </p:nvPicPr>
        <p:blipFill>
          <a:blip r:embed="rId3"/>
          <a:stretch/>
        </p:blipFill>
        <p:spPr>
          <a:xfrm>
            <a:off x="5778360" y="-365040"/>
            <a:ext cx="3657600" cy="463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77910"/>
          <p:cNvPicPr/>
          <p:nvPr/>
        </p:nvPicPr>
        <p:blipFill>
          <a:blip r:embed="rId4"/>
          <a:stretch/>
        </p:blipFill>
        <p:spPr>
          <a:xfrm>
            <a:off x="1671480" y="1785960"/>
            <a:ext cx="5926320" cy="392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mage1136"/>
          <p:cNvPicPr/>
          <p:nvPr/>
        </p:nvPicPr>
        <p:blipFill>
          <a:blip r:embed="rId5"/>
          <a:stretch/>
        </p:blipFill>
        <p:spPr>
          <a:xfrm>
            <a:off x="-6480" y="4206960"/>
            <a:ext cx="2365560" cy="2657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689"/>
          <p:cNvPicPr/>
          <p:nvPr/>
        </p:nvPicPr>
        <p:blipFill>
          <a:blip r:embed="rId6"/>
          <a:stretch/>
        </p:blipFill>
        <p:spPr>
          <a:xfrm>
            <a:off x="357120" y="214200"/>
            <a:ext cx="38530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тении языком стати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* Человек воспринимает глазами 20%  информации, из них 70% - посредством чт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* К 1980 году объём информации удваивался  каждые 5-7 лет, к 1990 году удвоение происходило ежегод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* К 2013 году объём информации по сравнению с 1990 годом возрос в 4 раза, к 2040 году – в 32 раз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*Утверждается , что наш современник, для того, чтобы быть в курсе научных новостей, в год должен прочитывать столько, сколько раньше он прочитывал за всю жизн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 95% людей читают очень медленно 180-200 слов  в минуту (1 страницу за 1,5-2 минут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 Средняя скорость чтения старшеклассников – 90-100 слов в минуту, студентов – 120-180, специалистов с высшим образованием – 200- 250 (степень усвоения при этом колеблется в пределах 20-6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 Глаза человека со средними навыками чтения делают на одной книжной странице 12-16 останов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У традиционно читающего человека объём одномоментной фиксации  составляет 10 печатных знаков – 1,5-2 слова  одной стро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– это важ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вышает интелл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ебёнок систематически не читает, то он упускает около 14% доступной ем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ение сегодня – способ соответствовать времени, его скоростям и жёстким требова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57880" y="1549440"/>
            <a:ext cx="3214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могает в учё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рошо читающий ребёнок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быстро улавливает смысл прочитанного, выделяет главно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лучше отвечает на вопросы по прочитанном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меет большую орфографическую «зоркость»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бладает большим объёмом информаци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лучше ориентируется во всех предметах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меет навыки поиска и обобщения информ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219560" y="1857240"/>
            <a:ext cx="381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ги формируют самообразовательные нав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щившись к чтению, ребёнок освобождается от зависимости и опеки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знает, какой бы вопрос не возник, ответ можно найти в волшебнице-книге, которая мудрее все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хема 3" descr=""/>
          <p:cNvPicPr/>
          <p:nvPr/>
        </p:nvPicPr>
        <p:blipFill>
          <a:blip r:embed="rId1"/>
          <a:stretch/>
        </p:blipFill>
        <p:spPr>
          <a:xfrm>
            <a:off x="847800" y="2286000"/>
            <a:ext cx="61196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10:34Z</dcterms:created>
  <dc:creator>Лена</dc:creator>
  <dc:description/>
  <dc:language>en-US</dc:language>
  <cp:lastModifiedBy>Пользователь</cp:lastModifiedBy>
  <dcterms:modified xsi:type="dcterms:W3CDTF">2018-06-18T10:30:03Z</dcterms:modified>
  <cp:revision>44</cp:revision>
  <dc:subject/>
  <dc:title>Семейное чтение</dc:title>
</cp:coreProperties>
</file>