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png" ContentType="image/png"/>
  <Override PartName="/ppt/media/image12.png" ContentType="image/png"/>
  <Override PartName="/ppt/media/image15.png" ContentType="image/png"/>
  <Override PartName="/ppt/media/image14.wmf" ContentType="image/x-wmf"/>
  <Override PartName="/ppt/media/image5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6.wmf" ContentType="image/x-wmf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50E3-A66B-4B30-94C5-7E17DCD9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9E8-9F11-4A62-84B1-D29E1BD3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CB2-BA96-451D-8D48-29D50A7D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231-6060-4310-8D15-FDBEF406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E503-869A-4C9A-AF20-93C0EE33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1F04-B8C4-44E2-B65C-A1F13E9D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9634-497B-4CEA-B45D-E095EF1A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4B4B-EFB1-4085-964F-B1859942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4BFB-3615-4AEA-A1D9-2A337681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1F3E-0E43-4928-AB46-A2984563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78D3-2558-4BBB-AFE2-E9033CC3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24E-8BC0-46C3-A426-FB7D4124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95F6-AC38-4030-9C65-ED19971D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371D-1B45-4232-B3E2-E9FCA8D5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847A-BD84-4BB7-8D04-3A4AD057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2396-0E9B-430C-AE18-8A6E0471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F973-B356-46E5-96AC-1F30ABBD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780B-88E3-4E81-B461-C36904EB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FFF-7A42-4AEB-8C81-F0FAC96A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E0D3-92BB-44ED-8E41-DDA85502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149-B49E-4ADD-9900-1429730D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1687-43CD-4301-9E93-582CD528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5B0-2CD5-4242-A482-9CDC7613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C46D-BF28-43DE-A33F-513748A5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0A4F-C63A-4CF3-AFA8-3000BD639861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a_e2d893b5.jpg"/>
          <p:cNvPicPr/>
          <p:nvPr/>
        </p:nvPicPr>
        <p:blipFill>
          <a:blip r:embed="rId5"/>
          <a:stretch/>
        </p:blipFill>
        <p:spPr>
          <a:xfrm>
            <a:off x="142920" y="142920"/>
            <a:ext cx="1428840" cy="1896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3864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5328-C392-4EE0-B8E7-8EF6ABBD0B95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5e3c"/>
                </a:solidFill>
                <a:latin typeface="Calibri"/>
              </a:rPr>
              <a:t>Родительское собрание во 2 классе</a:t>
            </a:r>
            <a:br>
              <a:rPr sz="4400"/>
            </a:br>
            <a:r>
              <a:rPr b="0" lang="ru-RU" sz="4400" spc="-1" strike="noStrike">
                <a:solidFill>
                  <a:srgbClr val="4f5e3c"/>
                </a:solidFill>
                <a:latin typeface="Calibri"/>
              </a:rPr>
              <a:t> Тема: «Чтение – это важн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Подготовила: учитель начальных классов МАОУ ДСОШ №1 Исайкина Н.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побуждает к нравственным поступк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Жизнь, окружающая действительность не всегда «изобилует» уроками высокой нравственности. И вера в доброе, светлое, поддерживается образами любимых героев, на которых хочется походить, поступки которых восхища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Книга – ценный источник знаний о нормах пове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929120" y="1785960"/>
            <a:ext cx="35006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воспитать книгоче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У каждого своя высота, и то, что для одного – обычное дело, для другого – рекорд и подви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Не всё получается с первых попыток, причина неудачи может корениться не в идее, а в её реализ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Лучше не заставлять, а показывать пример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ежде, чем сдаваться, попробуй победит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Родитель сделает – ребёнок повтори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Нет своих идей – посоветуйся с сосед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облемы наших детей – продолжение наших проблем, только они более заметн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Если мы прощаем себе лень, ошибки, то и к детям нужно быть снисходительны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http://www.president-school.ru/files/picter_rassilka/img422.jpg"/>
          <p:cNvPicPr/>
          <p:nvPr/>
        </p:nvPicPr>
        <p:blipFill>
          <a:blip r:embed="rId1"/>
          <a:stretch/>
        </p:blipFill>
        <p:spPr>
          <a:xfrm>
            <a:off x="928800" y="1000080"/>
            <a:ext cx="75722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C:\Documents and Settings\СОШ №2 к. биологии\Мои документы\Мои рисунки\фоны\GE089_72A.jpg"/>
          <p:cNvPicPr/>
          <p:nvPr/>
        </p:nvPicPr>
        <p:blipFill>
          <a:blip r:embed="rId1"/>
          <a:stretch/>
        </p:blipFill>
        <p:spPr>
          <a:xfrm>
            <a:off x="785880" y="588960"/>
            <a:ext cx="7691400" cy="5769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f5e3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00"/>
              </a:solidFill>
              <a:latin typeface="Calibri"/>
            </a:endParaRPr>
          </a:p>
        </p:txBody>
      </p:sp>
      <p:pic>
        <p:nvPicPr>
          <p:cNvPr id="98" name="Picture 4" descr="91263"/>
          <p:cNvPicPr/>
          <p:nvPr/>
        </p:nvPicPr>
        <p:blipFill>
          <a:blip r:embed="rId2"/>
          <a:stretch/>
        </p:blipFill>
        <p:spPr>
          <a:xfrm>
            <a:off x="0" y="357120"/>
            <a:ext cx="8858160" cy="5929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92149"/>
          <p:cNvPicPr/>
          <p:nvPr/>
        </p:nvPicPr>
        <p:blipFill>
          <a:blip r:embed="rId3"/>
          <a:stretch/>
        </p:blipFill>
        <p:spPr>
          <a:xfrm>
            <a:off x="5778360" y="-365040"/>
            <a:ext cx="3657600" cy="4638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77910"/>
          <p:cNvPicPr/>
          <p:nvPr/>
        </p:nvPicPr>
        <p:blipFill>
          <a:blip r:embed="rId4"/>
          <a:stretch/>
        </p:blipFill>
        <p:spPr>
          <a:xfrm>
            <a:off x="1671480" y="1785960"/>
            <a:ext cx="5926320" cy="3929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image1136"/>
          <p:cNvPicPr/>
          <p:nvPr/>
        </p:nvPicPr>
        <p:blipFill>
          <a:blip r:embed="rId5"/>
          <a:stretch/>
        </p:blipFill>
        <p:spPr>
          <a:xfrm>
            <a:off x="-6480" y="4206960"/>
            <a:ext cx="2365560" cy="2657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689"/>
          <p:cNvPicPr/>
          <p:nvPr/>
        </p:nvPicPr>
        <p:blipFill>
          <a:blip r:embed="rId6"/>
          <a:stretch/>
        </p:blipFill>
        <p:spPr>
          <a:xfrm>
            <a:off x="357120" y="214200"/>
            <a:ext cx="385308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 чтении языком статис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* Человек воспринимает глазами 20%  информации, из них 70% - посредством чт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* К 1980 году объём информации удваивался  каждые 5-7 лет, к 1990 году удвоение происходило ежегодн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* К 2013 году объём информации по сравнению с 1990 годом возрос в 4 раза, к 2040 году – в 32 раз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*Утверждается , что наш современник, для того, чтобы быть в курсе научных новостей, в год должен прочитывать столько, сколько раньше он прочитывал за всю жизн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* 95% людей читают очень медленно 180-200 слов  в минуту (1 страницу за 1,5-2 минуты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* Средняя скорость чтения старшеклассников – 90-100 слов в минуту, студентов – 120-180, специалистов с высшим образованием – 200- 250 (степень усвоения при этом колеблется в пределах 20-60%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* Глаза человека со средними навыками чтения делают на одной книжной странице 12-16 останово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*У традиционно читающего человека объём одномоментной фиксации  составляет 10 печатных знаков – 1,5-2 слова  одной стро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– это важ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82296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повышает интелле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ребёнок систематически не читает, то он упускает около 14% доступной ему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ение сегодня – способ соответствовать времени, его скоростям и жёстким требован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357880" y="1549440"/>
            <a:ext cx="32148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ение помогает в учё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орошо читающий ребёнок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быстро улавливает смысл прочитанного, выделяет главное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лучше отвечает на вопросы по прочитанному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имеет большую орфографическую «зоркость»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обладает большим объёмом информаци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лучше ориентируется во всех предметах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имеет навыки поиска и обобщения информ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219560" y="1857240"/>
            <a:ext cx="3817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ниги формируют самообразовательные навы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общившись к чтению, ребёнок освобождается от зависимости и опеки взросл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бёнок знает, какой бы вопрос не возник, ответ можно найти в волшебнице-книге, которая мудрее все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хема 3" descr=""/>
          <p:cNvPicPr/>
          <p:nvPr/>
        </p:nvPicPr>
        <p:blipFill>
          <a:blip r:embed="rId1"/>
          <a:stretch/>
        </p:blipFill>
        <p:spPr>
          <a:xfrm>
            <a:off x="847800" y="2286000"/>
            <a:ext cx="61196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8:10:34Z</dcterms:created>
  <dc:creator>Лена</dc:creator>
  <dc:description/>
  <dc:language>en-US</dc:language>
  <cp:lastModifiedBy>Пользователь</cp:lastModifiedBy>
  <dcterms:modified xsi:type="dcterms:W3CDTF">2018-06-18T10:30:03Z</dcterms:modified>
  <cp:revision>44</cp:revision>
  <dc:subject/>
  <dc:title>Семейное чтение</dc:title>
</cp:coreProperties>
</file>