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6F7-C8A1-40A1-B2AA-F295FB20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D58-8E8A-4049-A3FD-B565C8C1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FBF-7BAB-415D-A1A5-08AE73F0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B69-DEE6-4FEE-88E2-FA2B25E0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FED-2EDC-48B0-BA17-30203FE3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53ED-EBDD-4163-94C6-3BF026A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BA4D-6D70-46E0-A11B-4CDD34B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719-AD86-4D57-8E48-D638611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7DC0-6904-4498-9B33-E456A0F3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3AB-F123-47B0-9106-CA4A7685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041A-A5A2-4060-8E8B-DDBC217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859-4EF5-4D36-8543-FC7FDC30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BB19-F5B3-4F55-B3AA-208F2A9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1D76-FC9A-49D1-974F-0FCFFCC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248-4C0D-4ACE-9CBC-5DA92B8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AF3-3D67-4EE5-808F-F49185EE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BBB5-10ED-4DC4-98E9-639F96ED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A2C-CD88-44B8-8B87-418DB45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89-AC8C-44E1-B59A-B9C6ABB2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EB5-F72C-4BBA-BA7C-0B9DD8B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E58-19AE-4B9A-9DFD-1134FEF5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8D0-AD20-472B-8AD7-00F25E7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B1F-F4F0-4790-A790-3B0219D5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5A8-3606-4D07-9E01-539BEBE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264-6A9A-4AA5-9F01-89CB3BF987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0D4E-34E4-4E08-8A96-6C13C43D58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inter is white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pringtime is gre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ummer is golden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nd autumn is flam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 lovely seasons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o make up a year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ng them by colour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nd sing them by nam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tch the second part of these question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How many seasons are there in a ye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Are there 30 days in Ju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What are the spring months in Great Britain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How many winter months are there in Great Brit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There are three winter months in our country aren’t t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Are there 12 months in a yea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When does summer begin in Great Brit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.What holidays do English people celebrate in December, in Apri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tch the words from the column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mas         is       on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cember.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               is       late March or early April.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ear          is      on the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c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’s Day    is    in M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oween          is   on the 3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of October.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Fool’s Day  is on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pr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90520"/>
            <a:ext cx="80787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sten to the song and complete the sentences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rees are green and forests are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rass is green and 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good to walk in the 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listen to little birds’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rees are --------- and forests are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are covered with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good to be out-of-doors and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, I ------ it s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3080" y="112536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20000" y="148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198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24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29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3500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08720" y="35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400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450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440" y="5013360"/>
            <a:ext cx="83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Right or Wrong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lve months in a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reat Britain there are thre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30 days in Ju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comes after Augu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reat Britain May is the first summer mon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nty-eight days in Jan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enty-eight or twenty-nine days in Febru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seasons in Great Brit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winter in Great Britain it rains and sno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is the coldest season of th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ell your friend about any season you like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vourite  season is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like it very much because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elebrate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14:25Z</dcterms:created>
  <dc:creator>atto</dc:creator>
  <dc:description/>
  <dc:language>en-US</dc:language>
  <cp:lastModifiedBy>atto</cp:lastModifiedBy>
  <dcterms:modified xsi:type="dcterms:W3CDTF">2011-01-26T18:26:26Z</dcterms:modified>
  <cp:revision>27</cp:revision>
  <dc:subject/>
  <dc:title>seasons</dc:title>
</cp:coreProperties>
</file>