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8FB-20C3-4516-8E86-A461DE8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083-F53B-4CDE-8187-2FDBECFF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739-6121-4027-8C2E-588AFAFE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3E5-1F3C-42C9-AC5E-C0F7F6AF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C4DD-C6F7-4C43-9051-C1183742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CAA8-F608-41CD-B67B-604A296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C143-497D-4A25-A2CB-604AFF3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94D6-AEB1-4E7F-B8CE-AB0B369F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D7A1-B5E7-40FA-ABCC-F53190AF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1A6-4678-4E22-8E9E-42306917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DE76-C53F-4DC4-8995-2087610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DF7-A001-4F3E-AE20-68AC090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87D3-AF62-45D4-9E95-050C055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F555-BED9-4C04-BC03-04D692BB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F22-B55B-40A5-9E3F-5D8353D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FC8B-4153-4BE3-A079-EB27464A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2B52-33D9-4140-8211-14B9F3A1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14A-4A8A-4DCA-B4DD-5933FEE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583-3DB3-4CB8-9AD8-893E1727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F09-C322-4CCA-920D-1A74C04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E2A-BE68-40BF-89F1-C1ABA7C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214-D22C-4775-A79D-7B61986C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A66-90C4-477D-A90E-7CFCD72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60C-9296-49BC-BFAB-6225BE5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B65F-7673-4203-835F-2E716B3D52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791-01A0-4106-99A0-C4B4900B37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inter is white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pringtime is gre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ummer is golden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nd autumn is flam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our lovely seasons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o make up a year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ing them by colour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nd sing them by nam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tch the second part of these question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How many seasons are there in a ye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Are there 30 days in Ju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What are the spring months in Great Britai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How many winter months are there in Great Brit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There are three winter months in our country aren’t t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Are there 12 months in a yea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When does summer begin in Great Brit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What holidays do English people celebrate in December, in Apri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tch the words from the column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mas         is       on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ecember.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               is       late March or early April.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ear          is      on the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ec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’s Day    is    in M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oween          is   on the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of October.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Fool’s Day  is o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pr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90520"/>
            <a:ext cx="80787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sten to the song and complete the sentence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rees are green and forests are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rass is green and 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good to walk in the 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isten to little birds’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rees are --------- and forests are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are covered with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good to be out-of-doors and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, I ------ it s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3080" y="1125360"/>
            <a:ext cx="1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148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198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24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3500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08720" y="35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400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450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440" y="5013360"/>
            <a:ext cx="83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ight or Wrong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elve months in a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reat Britain there are thre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30 days in Ju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e comes after Augu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reat Britain May is the first summer mon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enty-eight days in Jan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enty-eight or twenty-nine days in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o seasons in Great Brit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winter in Great Britain it rains and sno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is the coldest season of th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ell your friend about any season you like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vourite  season is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ike it very much because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an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elebrate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14:25Z</dcterms:created>
  <dc:creator>atto</dc:creator>
  <dc:description/>
  <dc:language>en-US</dc:language>
  <cp:lastModifiedBy>atto</cp:lastModifiedBy>
  <dcterms:modified xsi:type="dcterms:W3CDTF">2011-01-26T18:26:26Z</dcterms:modified>
  <cp:revision>27</cp:revision>
  <dc:subject/>
  <dc:title>seasons</dc:title>
</cp:coreProperties>
</file>